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EDA2-FA37-4E68-B636-EF7BAF0D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A57-B6F9-4A81-A426-FF22DCF7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019B-4544-4AE7-836E-FC9A5556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4C8-CC8C-4EA0-B47C-926B4D7F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7645-4301-4841-BA21-2BF9308C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618E-0E9D-46A8-90B1-1D806A4F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0CD1-B5DE-44AC-8525-CB421489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B44A-DC3D-41D9-8739-5B08C092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A4DE-D835-4F15-A5EB-F8CC6A5B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B4C8-7861-4AD6-A949-C384F1CC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B800-3436-4748-BA81-8C034C27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B5D8-7D72-48FE-B9F3-4F15E2FA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F835-B6BE-43F0-A148-D6BA83C487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1141000">
            <a:off x="4191120" y="22093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1270600">
            <a:off x="3885840" y="32004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404400">
            <a:off x="4038480" y="3809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382200">
            <a:off x="3276360" y="4419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Валерий Г. Костин</cp:lastModifiedBy>
  <dcterms:modified xsi:type="dcterms:W3CDTF">2002-12-12T13:40:06Z</dcterms:modified>
  <cp:revision>8</cp:revision>
  <dc:subject/>
  <dc:title>ПРЕДСТАВЛЕНИЕ ЗНАНИЙ</dc:title>
</cp:coreProperties>
</file>