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938D-D2AC-45DB-A6A9-7C4B04611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D3DC-E909-4E26-ACBD-B76E73E2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90C2-466A-4DEA-85B1-128669E6A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9916-380F-4AE7-BA82-4FE11D1FD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F606-CB70-40C4-9F23-7A7FFEBD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7A8C-61CB-4F77-B8D1-A2B43856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9FB3-7702-496F-BFE4-1201259B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B06B-8F29-49DB-864F-63746EE6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798F-AB32-4A50-9E75-EF6452AE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5079-D0F2-433E-998F-D76EBF0B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9B91-FB32-4FB2-B50A-F9412DA0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8FFF-DCD8-40B4-8AD3-CF2BAE30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34E1-38FC-41E9-8F15-C1BF14133A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83808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ИДЕ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838080" y="1523880"/>
            <a:ext cx="7391520" cy="4419720"/>
            <a:chOff x="838080" y="1523880"/>
            <a:chExt cx="7391520" cy="4419720"/>
          </a:xfrm>
        </p:grpSpPr>
        <p:sp>
          <p:nvSpPr>
            <p:cNvPr id="45" name=""/>
            <p:cNvSpPr/>
            <p:nvPr/>
          </p:nvSpPr>
          <p:spPr>
            <a:xfrm>
              <a:off x="838080" y="1600200"/>
              <a:ext cx="3200400" cy="558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876920" y="1523880"/>
              <a:ext cx="3276360" cy="83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952880" y="3276720"/>
              <a:ext cx="3276720" cy="838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952880" y="5105520"/>
              <a:ext cx="3276720" cy="838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5334120"/>
              <a:ext cx="3200400" cy="558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14400" y="1676520"/>
              <a:ext cx="289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ЭКСПЕРТ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43000" y="5410080"/>
              <a:ext cx="26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ПОЛЬЗОВАТЕЛ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29200" y="160020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БАЗА ЗНАНИ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105520" y="3352680"/>
              <a:ext cx="297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МАШИНА ВЫВОД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105520" y="518148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ИНТЕРФЕЙ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962520" y="182880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77120" y="220968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77120" y="403848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62520" y="563868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76520" y="914400"/>
            <a:ext cx="6019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ПРАВДОПОДОБНЫЕ РАССУЖД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457200" y="1568520"/>
            <a:ext cx="8153280" cy="1327680"/>
            <a:chOff x="457200" y="1568520"/>
            <a:chExt cx="8153280" cy="1327680"/>
          </a:xfrm>
        </p:grpSpPr>
        <p:sp>
          <p:nvSpPr>
            <p:cNvPr id="655" name=""/>
            <p:cNvSpPr/>
            <p:nvPr/>
          </p:nvSpPr>
          <p:spPr>
            <a:xfrm>
              <a:off x="457200" y="2070000"/>
              <a:ext cx="190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ИНДУКТИВ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057400" y="25588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АНАЛОГИ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581280" y="2101680"/>
              <a:ext cx="22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ВЕРОЯТНОСТ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562720" y="25588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НЕЧЁТК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81680" y="21016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ДРУГИЕ ТИП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1980720" y="1568520"/>
              <a:ext cx="1295640" cy="3045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3048120" y="1568520"/>
              <a:ext cx="838080" cy="838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800600" y="1568520"/>
              <a:ext cx="0" cy="4568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10080" y="1568520"/>
              <a:ext cx="914400" cy="838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67280" y="1568520"/>
              <a:ext cx="1600200" cy="4568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380880" y="3427560"/>
            <a:ext cx="8457840" cy="2669760"/>
            <a:chOff x="380880" y="3427560"/>
            <a:chExt cx="8457840" cy="2669760"/>
          </a:xfrm>
        </p:grpSpPr>
        <p:sp>
          <p:nvSpPr>
            <p:cNvPr id="666" name=""/>
            <p:cNvSpPr/>
            <p:nvPr/>
          </p:nvSpPr>
          <p:spPr>
            <a:xfrm>
              <a:off x="1676520" y="3427560"/>
              <a:ext cx="60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НЕОПРЕДЕЛЁННОСТИ РАЗНЫХ ТИПО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380880" y="4174920"/>
              <a:ext cx="8457840" cy="1922400"/>
              <a:chOff x="380880" y="4174920"/>
              <a:chExt cx="8457840" cy="1922400"/>
            </a:xfrm>
          </p:grpSpPr>
          <p:sp>
            <p:nvSpPr>
              <p:cNvPr id="668" name=""/>
              <p:cNvSpPr/>
              <p:nvPr/>
            </p:nvSpPr>
            <p:spPr>
              <a:xfrm>
                <a:off x="380880" y="4174920"/>
                <a:ext cx="153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точн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025280" y="4936680"/>
                <a:ext cx="153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знание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669680" y="5698440"/>
                <a:ext cx="273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определённ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972320" y="5698440"/>
                <a:ext cx="217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субъективн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938920" y="5012640"/>
                <a:ext cx="153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полнота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583680" y="4326840"/>
                <a:ext cx="225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расплывчат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 flipH="1">
              <a:off x="1828440" y="3946320"/>
              <a:ext cx="609480" cy="3045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2057040" y="3946320"/>
              <a:ext cx="1219320" cy="9903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3200400" y="3946320"/>
              <a:ext cx="838080" cy="17521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495680" y="3946320"/>
              <a:ext cx="838440" cy="16761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334120" y="3870000"/>
              <a:ext cx="990360" cy="10666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477120" y="3870000"/>
              <a:ext cx="685800" cy="4568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04920" y="7621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ЦЕНИ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2666880" y="1600200"/>
            <a:ext cx="3505320" cy="1219320"/>
            <a:chOff x="2666880" y="1600200"/>
            <a:chExt cx="3505320" cy="1219320"/>
          </a:xfrm>
        </p:grpSpPr>
        <p:sp>
          <p:nvSpPr>
            <p:cNvPr id="684" name=""/>
            <p:cNvSpPr/>
            <p:nvPr/>
          </p:nvSpPr>
          <p:spPr>
            <a:xfrm>
              <a:off x="2666880" y="1981440"/>
              <a:ext cx="134640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105520" y="1981440"/>
              <a:ext cx="106668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013280" y="1981440"/>
              <a:ext cx="109224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90800" y="198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003480" y="198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733920" y="198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068720" y="2048040"/>
              <a:ext cx="11224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ГРУБ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029200" y="2057400"/>
              <a:ext cx="11192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ТОЧ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064040" y="1600200"/>
              <a:ext cx="3240" cy="121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048120" y="2057400"/>
              <a:ext cx="604800" cy="381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124080" y="2057400"/>
              <a:ext cx="551160" cy="276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(…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1219320" y="12193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фак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72200" y="127944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Цепочек прави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429000" y="12193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рави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609480" y="2057400"/>
            <a:ext cx="380880" cy="412560"/>
            <a:chOff x="609480" y="2057400"/>
            <a:chExt cx="380880" cy="412560"/>
          </a:xfrm>
        </p:grpSpPr>
        <p:sp>
          <p:nvSpPr>
            <p:cNvPr id="699" name=""/>
            <p:cNvSpPr/>
            <p:nvPr/>
          </p:nvSpPr>
          <p:spPr>
            <a:xfrm>
              <a:off x="609480" y="205740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09480" y="2133720"/>
              <a:ext cx="38088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1143000" y="2057400"/>
            <a:ext cx="380880" cy="412560"/>
            <a:chOff x="1143000" y="2057400"/>
            <a:chExt cx="380880" cy="412560"/>
          </a:xfrm>
        </p:grpSpPr>
        <p:sp>
          <p:nvSpPr>
            <p:cNvPr id="702" name=""/>
            <p:cNvSpPr/>
            <p:nvPr/>
          </p:nvSpPr>
          <p:spPr>
            <a:xfrm>
              <a:off x="1143000" y="205740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143000" y="2133720"/>
              <a:ext cx="38088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1905120" y="2057400"/>
            <a:ext cx="380880" cy="412560"/>
            <a:chOff x="1905120" y="2057400"/>
            <a:chExt cx="380880" cy="412560"/>
          </a:xfrm>
        </p:grpSpPr>
        <p:sp>
          <p:nvSpPr>
            <p:cNvPr id="705" name=""/>
            <p:cNvSpPr/>
            <p:nvPr/>
          </p:nvSpPr>
          <p:spPr>
            <a:xfrm>
              <a:off x="1905120" y="205740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905120" y="2133720"/>
              <a:ext cx="38088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7" name=""/>
          <p:cNvSpPr/>
          <p:nvPr/>
        </p:nvSpPr>
        <p:spPr>
          <a:xfrm rot="5479800">
            <a:off x="1294560" y="99036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6324480" y="1981080"/>
            <a:ext cx="2210040" cy="381240"/>
            <a:chOff x="6324480" y="1981080"/>
            <a:chExt cx="2210040" cy="381240"/>
          </a:xfrm>
        </p:grpSpPr>
        <p:sp>
          <p:nvSpPr>
            <p:cNvPr id="709" name=""/>
            <p:cNvSpPr/>
            <p:nvPr/>
          </p:nvSpPr>
          <p:spPr>
            <a:xfrm>
              <a:off x="6324480" y="1981080"/>
              <a:ext cx="848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862040" y="1981080"/>
              <a:ext cx="6724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73360" y="1981080"/>
              <a:ext cx="68832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465600" y="1981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536520" y="1981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996960" y="1981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564600" y="2035080"/>
              <a:ext cx="381240" cy="272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612480" y="2035080"/>
              <a:ext cx="347400" cy="274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6324480" y="2438280"/>
            <a:ext cx="2210040" cy="381240"/>
            <a:chOff x="6324480" y="2438280"/>
            <a:chExt cx="2210040" cy="381240"/>
          </a:xfrm>
        </p:grpSpPr>
        <p:sp>
          <p:nvSpPr>
            <p:cNvPr id="718" name=""/>
            <p:cNvSpPr/>
            <p:nvPr/>
          </p:nvSpPr>
          <p:spPr>
            <a:xfrm>
              <a:off x="6324480" y="2438280"/>
              <a:ext cx="848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862040" y="2438280"/>
              <a:ext cx="6724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73360" y="2438280"/>
              <a:ext cx="68832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46560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53652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99696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564600" y="2492280"/>
              <a:ext cx="381240" cy="272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612480" y="2492280"/>
              <a:ext cx="347400" cy="274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6324480" y="3124080"/>
            <a:ext cx="2210040" cy="381240"/>
            <a:chOff x="6324480" y="3124080"/>
            <a:chExt cx="2210040" cy="381240"/>
          </a:xfrm>
        </p:grpSpPr>
        <p:sp>
          <p:nvSpPr>
            <p:cNvPr id="727" name=""/>
            <p:cNvSpPr/>
            <p:nvPr/>
          </p:nvSpPr>
          <p:spPr>
            <a:xfrm>
              <a:off x="6324480" y="3124080"/>
              <a:ext cx="848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862040" y="3124080"/>
              <a:ext cx="6724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173360" y="3124080"/>
              <a:ext cx="68832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46560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53652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99696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564600" y="3178080"/>
              <a:ext cx="381240" cy="272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612480" y="3178080"/>
              <a:ext cx="347400" cy="274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6324480" y="29718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457200" y="2743200"/>
            <a:ext cx="5105160" cy="915120"/>
            <a:chOff x="457200" y="2743200"/>
            <a:chExt cx="5105160" cy="915120"/>
          </a:xfrm>
        </p:grpSpPr>
        <p:sp>
          <p:nvSpPr>
            <p:cNvPr id="737" name=""/>
            <p:cNvSpPr/>
            <p:nvPr/>
          </p:nvSpPr>
          <p:spPr>
            <a:xfrm>
              <a:off x="1242720" y="3321000"/>
              <a:ext cx="431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50021"/>
                  </a:solidFill>
                  <a:latin typeface="Times New Roman"/>
                </a:rPr>
                <a:t>Фактор достоверности  =  </a:t>
              </a:r>
              <a:r>
                <a:rPr b="1" lang="en-US" sz="1600" spc="-1" strike="noStrike">
                  <a:solidFill>
                    <a:srgbClr val="a50021"/>
                  </a:solidFill>
                  <a:latin typeface="Times New Roman"/>
                </a:rPr>
                <a:t>X + Y - X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57200" y="2743200"/>
              <a:ext cx="227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50021"/>
                  </a:solidFill>
                  <a:latin typeface="Times New Roman"/>
                </a:rPr>
                <a:t>Достоверность фактов   </a:t>
              </a:r>
              <a:r>
                <a:rPr b="1" lang="en-US" sz="1400" spc="-1" strike="noStrike">
                  <a:solidFill>
                    <a:srgbClr val="a50021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970720" y="2743200"/>
              <a:ext cx="243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50021"/>
                  </a:solidFill>
                  <a:latin typeface="Times New Roman"/>
                </a:rPr>
                <a:t>Достоверность правила   </a:t>
              </a:r>
              <a:r>
                <a:rPr b="1" lang="en-US" sz="1400" spc="-1" strike="noStrike">
                  <a:solidFill>
                    <a:srgbClr val="a50021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380880" y="4251240"/>
            <a:ext cx="8382240" cy="1999440"/>
            <a:chOff x="380880" y="4251240"/>
            <a:chExt cx="8382240" cy="1999440"/>
          </a:xfrm>
        </p:grpSpPr>
        <p:sp>
          <p:nvSpPr>
            <p:cNvPr id="741" name=""/>
            <p:cNvSpPr/>
            <p:nvPr/>
          </p:nvSpPr>
          <p:spPr>
            <a:xfrm>
              <a:off x="380880" y="4267080"/>
              <a:ext cx="8382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33520" y="4251240"/>
              <a:ext cx="304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a50021"/>
                  </a:solidFill>
                  <a:latin typeface="Times New Roman"/>
                </a:rPr>
                <a:t>Как считать</a:t>
              </a: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57200" y="48006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X=P(Ф)/P(Ф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676520" y="5105520"/>
              <a:ext cx="228600" cy="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124080" y="4800600"/>
              <a:ext cx="411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Y= </a:t>
              </a:r>
              <a:r>
                <a:rPr b="1" lang="ru-RU" sz="2000" spc="-1" strike="noStrike">
                  <a:solidFill>
                    <a:srgbClr val="a50021"/>
                  </a:solidFill>
                  <a:latin typeface="Times New Roman"/>
                </a:rPr>
                <a:t>мера доверия-мера недовер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62520" y="43434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Ф   </a:t>
              </a:r>
              <a:r>
                <a:rPr b="0" lang="ru-RU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1676520" y="5486400"/>
              <a:ext cx="2286000" cy="687960"/>
              <a:chOff x="1676520" y="5486400"/>
              <a:chExt cx="2286000" cy="687960"/>
            </a:xfrm>
          </p:grpSpPr>
          <p:sp>
            <p:nvSpPr>
              <p:cNvPr id="748" name=""/>
              <p:cNvSpPr/>
              <p:nvPr/>
            </p:nvSpPr>
            <p:spPr>
              <a:xfrm>
                <a:off x="1676520" y="5486400"/>
                <a:ext cx="2286000" cy="30708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Max(P(H | </a:t>
                </a:r>
                <a:r>
                  <a:rPr b="1" lang="ru-RU" sz="1400" spc="-1" strike="noStrike">
                    <a:solidFill>
                      <a:srgbClr val="a50021"/>
                    </a:solidFill>
                    <a:latin typeface="Times New Roman"/>
                  </a:rPr>
                  <a:t>Ф),</a:t>
                </a: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P(H))-P(H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9" name=""/>
              <p:cNvGrpSpPr/>
              <p:nvPr/>
            </p:nvGrpSpPr>
            <p:grpSpPr>
              <a:xfrm>
                <a:off x="1676520" y="5791320"/>
                <a:ext cx="1981080" cy="383040"/>
                <a:chOff x="1676520" y="5791320"/>
                <a:chExt cx="1981080" cy="38304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1676520" y="5791320"/>
                  <a:ext cx="1981080" cy="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2286000" y="5867280"/>
                  <a:ext cx="1066680" cy="307080"/>
                </a:xfrm>
                <a:prstGeom prst="rect">
                  <a:avLst/>
                </a:prstGeom>
                <a:noFill/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a50021"/>
                      </a:solidFill>
                      <a:latin typeface="Times New Roman"/>
                    </a:rPr>
                    <a:t>1 - P(H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52" name=""/>
            <p:cNvSpPr/>
            <p:nvPr/>
          </p:nvSpPr>
          <p:spPr>
            <a:xfrm flipH="1">
              <a:off x="3733560" y="5257800"/>
              <a:ext cx="533160" cy="3049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638680" y="5181480"/>
              <a:ext cx="304920" cy="3049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5791320" y="5562720"/>
              <a:ext cx="2286000" cy="687960"/>
              <a:chOff x="5791320" y="5562720"/>
              <a:chExt cx="2286000" cy="687960"/>
            </a:xfrm>
          </p:grpSpPr>
          <p:sp>
            <p:nvSpPr>
              <p:cNvPr id="755" name=""/>
              <p:cNvSpPr/>
              <p:nvPr/>
            </p:nvSpPr>
            <p:spPr>
              <a:xfrm>
                <a:off x="5791320" y="5562720"/>
                <a:ext cx="2286000" cy="30708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P(H) - Min(P(H | </a:t>
                </a:r>
                <a:r>
                  <a:rPr b="1" lang="ru-RU" sz="1400" spc="-1" strike="noStrike">
                    <a:solidFill>
                      <a:srgbClr val="a50021"/>
                    </a:solidFill>
                    <a:latin typeface="Times New Roman"/>
                  </a:rPr>
                  <a:t>Ф),</a:t>
                </a: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P(H)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6" name=""/>
              <p:cNvGrpSpPr/>
              <p:nvPr/>
            </p:nvGrpSpPr>
            <p:grpSpPr>
              <a:xfrm>
                <a:off x="5791320" y="5867640"/>
                <a:ext cx="1981080" cy="383040"/>
                <a:chOff x="5791320" y="5867640"/>
                <a:chExt cx="1981080" cy="38304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5791320" y="5867640"/>
                  <a:ext cx="1981080" cy="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6400800" y="5943600"/>
                  <a:ext cx="1066680" cy="307080"/>
                </a:xfrm>
                <a:prstGeom prst="rect">
                  <a:avLst/>
                </a:prstGeom>
                <a:noFill/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a50021"/>
                      </a:solidFill>
                      <a:latin typeface="Times New Roman"/>
                    </a:rPr>
                    <a:t> </a:t>
                  </a:r>
                  <a:r>
                    <a:rPr b="1" lang="en-US" sz="1400" spc="-1" strike="noStrike">
                      <a:solidFill>
                        <a:srgbClr val="a50021"/>
                      </a:solidFill>
                      <a:latin typeface="Times New Roman"/>
                    </a:rPr>
                    <a:t>P(H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124080" y="8380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ЯС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33520" y="255888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ДОКАЗАТЕЛЬСТВ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124080" y="252720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АРГУМЕНТ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43600" y="25588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ОБОСНОВ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209680" y="144792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«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ВЫВОД» ОБЪЯСНЯЕМОГО ИЗ ОСНОВ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2209680" y="175248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962520" y="1828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029200" y="182880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33520" y="3352680"/>
            <a:ext cx="16761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1.Деду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2.Инду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3.Дете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172200" y="344160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Убедить в разумности действ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5800" y="4800600"/>
            <a:ext cx="236232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1. {a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, a}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2 {a, {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}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(a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3. {a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, b}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3276720" y="3124080"/>
            <a:ext cx="3047760" cy="3050280"/>
            <a:chOff x="3276720" y="3124080"/>
            <a:chExt cx="3047760" cy="3050280"/>
          </a:xfrm>
        </p:grpSpPr>
        <p:sp>
          <p:nvSpPr>
            <p:cNvPr id="773" name=""/>
            <p:cNvSpPr/>
            <p:nvPr/>
          </p:nvSpPr>
          <p:spPr>
            <a:xfrm>
              <a:off x="3276720" y="31240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Убедить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4" name=""/>
            <p:cNvGrpSpPr/>
            <p:nvPr/>
          </p:nvGrpSpPr>
          <p:grpSpPr>
            <a:xfrm>
              <a:off x="3276720" y="3429000"/>
              <a:ext cx="2895480" cy="2288160"/>
              <a:chOff x="3276720" y="3429000"/>
              <a:chExt cx="2895480" cy="2288160"/>
            </a:xfrm>
          </p:grpSpPr>
          <p:sp>
            <p:nvSpPr>
              <p:cNvPr id="775" name=""/>
              <p:cNvSpPr/>
              <p:nvPr/>
            </p:nvSpPr>
            <p:spPr>
              <a:xfrm>
                <a:off x="3581280" y="3733920"/>
                <a:ext cx="0" cy="152388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505320" y="5181480"/>
                <a:ext cx="2133360" cy="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809880" y="3886200"/>
                <a:ext cx="1371600" cy="11430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191120" y="3886200"/>
                <a:ext cx="1440" cy="1143000"/>
              </a:xfrm>
              <a:prstGeom prst="line">
                <a:avLst/>
              </a:prstGeom>
              <a:ln w="9360">
                <a:solidFill>
                  <a:srgbClr val="a50021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876920" y="3886200"/>
                <a:ext cx="1440" cy="1143000"/>
              </a:xfrm>
              <a:prstGeom prst="line">
                <a:avLst/>
              </a:prstGeom>
              <a:ln w="9360">
                <a:solidFill>
                  <a:srgbClr val="a5002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V="1">
                <a:off x="3809880" y="4190760"/>
                <a:ext cx="1371600" cy="68580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029200" y="541008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бежден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276720" y="3429000"/>
                <a:ext cx="83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вер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3" name=""/>
            <p:cNvSpPr/>
            <p:nvPr/>
          </p:nvSpPr>
          <p:spPr>
            <a:xfrm>
              <a:off x="3505320" y="5867280"/>
              <a:ext cx="281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епень(Убеждение + вера) =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124080" y="8380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ЯС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371600" y="1295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ЦЕ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010280" y="19051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АДРЕСА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895480" y="18288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ЕК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876920" y="18288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ПОСО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2514600" y="12193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3580920" y="12193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343400" y="12193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952880" y="1219320"/>
            <a:ext cx="22100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533520" y="1676520"/>
            <a:ext cx="1980360" cy="1752480"/>
            <a:chOff x="533520" y="1676520"/>
            <a:chExt cx="1980360" cy="1752480"/>
          </a:xfrm>
        </p:grpSpPr>
        <p:sp>
          <p:nvSpPr>
            <p:cNvPr id="796" name=""/>
            <p:cNvSpPr/>
            <p:nvPr/>
          </p:nvSpPr>
          <p:spPr>
            <a:xfrm>
              <a:off x="533520" y="1676520"/>
              <a:ext cx="1901880" cy="1752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612360" y="1717920"/>
              <a:ext cx="1901520" cy="1600200"/>
              <a:chOff x="612360" y="1717920"/>
              <a:chExt cx="1901520" cy="1600200"/>
            </a:xfrm>
          </p:grpSpPr>
          <p:sp>
            <p:nvSpPr>
              <p:cNvPr id="798" name=""/>
              <p:cNvSpPr/>
              <p:nvPr/>
            </p:nvSpPr>
            <p:spPr>
              <a:xfrm>
                <a:off x="612360" y="1717920"/>
                <a:ext cx="1347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1.ПОЛУЧИТЬ РЕШЕН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12360" y="2125440"/>
                <a:ext cx="1822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2.СОКРАТИТЬ ТРУДОЕМКОСТ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12360" y="2492280"/>
                <a:ext cx="19015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3.ПОВЫСИТЬ КВАЛИФИКАЦИЮ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12360" y="2859120"/>
                <a:ext cx="1267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4.ПОВЫСИТЬ ДОВЕР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2" name=""/>
          <p:cNvGrpSpPr/>
          <p:nvPr/>
        </p:nvGrpSpPr>
        <p:grpSpPr>
          <a:xfrm>
            <a:off x="1301760" y="3657600"/>
            <a:ext cx="3498840" cy="2590920"/>
            <a:chOff x="1301760" y="3657600"/>
            <a:chExt cx="3498840" cy="2590920"/>
          </a:xfrm>
        </p:grpSpPr>
        <p:sp>
          <p:nvSpPr>
            <p:cNvPr id="803" name=""/>
            <p:cNvSpPr/>
            <p:nvPr/>
          </p:nvSpPr>
          <p:spPr>
            <a:xfrm>
              <a:off x="1301760" y="3657600"/>
              <a:ext cx="3429000" cy="2590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84200" y="3719520"/>
              <a:ext cx="3416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ОБЛАСТЬ ИНТЕРПРЕТАЦИИ: приложения,система, язык, пользовател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84200" y="4319640"/>
              <a:ext cx="3346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66"/>
                  </a:solidFill>
                  <a:latin typeface="Times New Roman"/>
                </a:rPr>
                <a:t>УРОВЕНЬ ОБЩНОСТИ: конкретные факты, абстрактные факты, метафакты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384200" y="4862520"/>
              <a:ext cx="3270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ТИП СУЩНОСТИ: процессы, объекты, и.т.д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378080" y="5405400"/>
              <a:ext cx="3276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СВОЙСТВА И ЗНАЧЕНИЯ СУЩНОСТИ: статические, динамические, точные, приближенные, полные, неполны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8" name=""/>
          <p:cNvSpPr/>
          <p:nvPr/>
        </p:nvSpPr>
        <p:spPr>
          <a:xfrm flipH="1">
            <a:off x="2666880" y="2286000"/>
            <a:ext cx="6098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5105520" y="2590920"/>
            <a:ext cx="1828800" cy="2590560"/>
            <a:chOff x="5105520" y="2590920"/>
            <a:chExt cx="1828800" cy="2590560"/>
          </a:xfrm>
        </p:grpSpPr>
        <p:sp>
          <p:nvSpPr>
            <p:cNvPr id="810" name=""/>
            <p:cNvSpPr/>
            <p:nvPr/>
          </p:nvSpPr>
          <p:spPr>
            <a:xfrm>
              <a:off x="5105520" y="2590920"/>
              <a:ext cx="1828800" cy="2590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181480" y="2678040"/>
              <a:ext cx="17528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1.ТИП ОБЪЯСНЕНИЯ: причинные, закон, функциональные (цель, мотив), структурные, генетическ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181480" y="4038480"/>
              <a:ext cx="1752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2.УРОВЕНЬ ДЕТАЛЬНОСТИ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181480" y="449568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3. ЯЗЫК ОБЪЯСНЕН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124080" y="8380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ЯС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838080" y="1905120"/>
            <a:ext cx="1752840" cy="609480"/>
            <a:chOff x="838080" y="1905120"/>
            <a:chExt cx="1752840" cy="609480"/>
          </a:xfrm>
        </p:grpSpPr>
        <p:sp>
          <p:nvSpPr>
            <p:cNvPr id="818" name=""/>
            <p:cNvSpPr/>
            <p:nvPr/>
          </p:nvSpPr>
          <p:spPr>
            <a:xfrm>
              <a:off x="838080" y="1905120"/>
              <a:ext cx="175284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914400" y="19810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Записанны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1066680" y="3048120"/>
            <a:ext cx="20574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1.Встроенные в коды как сообще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2.Типа «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HELP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3505320" y="1905120"/>
            <a:ext cx="2209320" cy="609480"/>
            <a:chOff x="3505320" y="1905120"/>
            <a:chExt cx="2209320" cy="609480"/>
          </a:xfrm>
        </p:grpSpPr>
        <p:sp>
          <p:nvSpPr>
            <p:cNvPr id="822" name=""/>
            <p:cNvSpPr/>
            <p:nvPr/>
          </p:nvSpPr>
          <p:spPr>
            <a:xfrm>
              <a:off x="3505320" y="1905120"/>
              <a:ext cx="22093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601440" y="1981080"/>
              <a:ext cx="201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Генерируемы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6172200" y="1905120"/>
            <a:ext cx="2590920" cy="838080"/>
            <a:chOff x="6172200" y="1905120"/>
            <a:chExt cx="2590920" cy="838080"/>
          </a:xfrm>
        </p:grpSpPr>
        <p:sp>
          <p:nvSpPr>
            <p:cNvPr id="825" name=""/>
            <p:cNvSpPr/>
            <p:nvPr/>
          </p:nvSpPr>
          <p:spPr>
            <a:xfrm>
              <a:off x="6172200" y="1905120"/>
              <a:ext cx="2590920" cy="838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248520" y="1905120"/>
              <a:ext cx="2396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Ориентированные на обучени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"/>
          <p:cNvSpPr/>
          <p:nvPr/>
        </p:nvSpPr>
        <p:spPr>
          <a:xfrm>
            <a:off x="3809880" y="3048120"/>
            <a:ext cx="16765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1.Протокол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2.Трассировка исполн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248520" y="3124080"/>
            <a:ext cx="2286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1.Моделировани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2.Имита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4197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733920" y="4572000"/>
            <a:ext cx="22096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1.Базовое действ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2.Запоминать тре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3.Каркас визуализ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4.Средства анали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2209680" y="1219320"/>
            <a:ext cx="1371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191120" y="1219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029200" y="1295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АРГУМ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28600" y="762120"/>
            <a:ext cx="8686800" cy="586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2895480" y="990720"/>
            <a:ext cx="2514600" cy="609480"/>
            <a:chOff x="2895480" y="990720"/>
            <a:chExt cx="2514600" cy="609480"/>
          </a:xfrm>
        </p:grpSpPr>
        <p:sp>
          <p:nvSpPr>
            <p:cNvPr id="837" name=""/>
            <p:cNvSpPr/>
            <p:nvPr/>
          </p:nvSpPr>
          <p:spPr>
            <a:xfrm>
              <a:off x="2895480" y="990720"/>
              <a:ext cx="25146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124080" y="1143000"/>
              <a:ext cx="213372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БОСНОВА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609480" y="2819520"/>
            <a:ext cx="4038480" cy="609480"/>
            <a:chOff x="609480" y="2819520"/>
            <a:chExt cx="4038480" cy="609480"/>
          </a:xfrm>
        </p:grpSpPr>
        <p:sp>
          <p:nvSpPr>
            <p:cNvPr id="840" name=""/>
            <p:cNvSpPr/>
            <p:nvPr/>
          </p:nvSpPr>
          <p:spPr>
            <a:xfrm>
              <a:off x="609480" y="2819520"/>
              <a:ext cx="403848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976320" y="2971800"/>
              <a:ext cx="3426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4648320" y="2057400"/>
            <a:ext cx="4190400" cy="609480"/>
            <a:chOff x="4648320" y="2057400"/>
            <a:chExt cx="4190400" cy="609480"/>
          </a:xfrm>
        </p:grpSpPr>
        <p:sp>
          <p:nvSpPr>
            <p:cNvPr id="843" name=""/>
            <p:cNvSpPr/>
            <p:nvPr/>
          </p:nvSpPr>
          <p:spPr>
            <a:xfrm>
              <a:off x="4648320" y="2057400"/>
              <a:ext cx="41904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029200" y="2209680"/>
              <a:ext cx="355572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Р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838080" y="5562720"/>
            <a:ext cx="2742840" cy="609480"/>
            <a:chOff x="838080" y="5562720"/>
            <a:chExt cx="2742840" cy="609480"/>
          </a:xfrm>
        </p:grpSpPr>
        <p:sp>
          <p:nvSpPr>
            <p:cNvPr id="846" name=""/>
            <p:cNvSpPr/>
            <p:nvPr/>
          </p:nvSpPr>
          <p:spPr>
            <a:xfrm>
              <a:off x="838080" y="5562720"/>
              <a:ext cx="274284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087200" y="5715000"/>
              <a:ext cx="232740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Г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762120" y="4191120"/>
            <a:ext cx="2818800" cy="609480"/>
            <a:chOff x="762120" y="4191120"/>
            <a:chExt cx="2818800" cy="609480"/>
          </a:xfrm>
        </p:grpSpPr>
        <p:sp>
          <p:nvSpPr>
            <p:cNvPr id="849" name=""/>
            <p:cNvSpPr/>
            <p:nvPr/>
          </p:nvSpPr>
          <p:spPr>
            <a:xfrm>
              <a:off x="762120" y="4191120"/>
              <a:ext cx="28188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018080" y="4343400"/>
              <a:ext cx="2391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5257800" y="4191120"/>
            <a:ext cx="3047760" cy="609480"/>
            <a:chOff x="5257800" y="4191120"/>
            <a:chExt cx="3047760" cy="609480"/>
          </a:xfrm>
        </p:grpSpPr>
        <p:sp>
          <p:nvSpPr>
            <p:cNvPr id="852" name=""/>
            <p:cNvSpPr/>
            <p:nvPr/>
          </p:nvSpPr>
          <p:spPr>
            <a:xfrm>
              <a:off x="5257800" y="4191120"/>
              <a:ext cx="304776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534640" y="4343400"/>
              <a:ext cx="25862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Е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4648320" y="5562720"/>
            <a:ext cx="3123720" cy="609480"/>
            <a:chOff x="4648320" y="5562720"/>
            <a:chExt cx="3123720" cy="609480"/>
          </a:xfrm>
        </p:grpSpPr>
        <p:sp>
          <p:nvSpPr>
            <p:cNvPr id="855" name=""/>
            <p:cNvSpPr/>
            <p:nvPr/>
          </p:nvSpPr>
          <p:spPr>
            <a:xfrm>
              <a:off x="4648320" y="5562720"/>
              <a:ext cx="31237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932000" y="5715000"/>
              <a:ext cx="26506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БЛЕМАТИЧ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 flipH="1">
            <a:off x="3124080" y="1752480"/>
            <a:ext cx="609840" cy="9144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2514240" y="3581280"/>
            <a:ext cx="30492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962520" y="3657600"/>
            <a:ext cx="10666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962520" y="1752480"/>
            <a:ext cx="53316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1828800" y="4952880"/>
            <a:ext cx="3808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895480" y="4952880"/>
            <a:ext cx="1600200" cy="6858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АРГУМ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04920" y="838080"/>
            <a:ext cx="8686800" cy="586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3276720" y="2743200"/>
            <a:ext cx="2971440" cy="990720"/>
            <a:chOff x="3276720" y="2743200"/>
            <a:chExt cx="2971440" cy="990720"/>
          </a:xfrm>
        </p:grpSpPr>
        <p:sp>
          <p:nvSpPr>
            <p:cNvPr id="866" name=""/>
            <p:cNvSpPr/>
            <p:nvPr/>
          </p:nvSpPr>
          <p:spPr>
            <a:xfrm>
              <a:off x="3276720" y="2743200"/>
              <a:ext cx="2971440" cy="9907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771720" y="3048120"/>
              <a:ext cx="198108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РГУМЕНТАЦ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762120" y="1523880"/>
            <a:ext cx="2514600" cy="533520"/>
            <a:chOff x="762120" y="1523880"/>
            <a:chExt cx="2514600" cy="533520"/>
          </a:xfrm>
        </p:grpSpPr>
        <p:sp>
          <p:nvSpPr>
            <p:cNvPr id="869" name=""/>
            <p:cNvSpPr/>
            <p:nvPr/>
          </p:nvSpPr>
          <p:spPr>
            <a:xfrm>
              <a:off x="762120" y="152388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38440" y="160020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ДОКАЗАТЕЛЬСТВ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5715000" y="4343400"/>
            <a:ext cx="2514600" cy="533520"/>
            <a:chOff x="5715000" y="4343400"/>
            <a:chExt cx="2514600" cy="533520"/>
          </a:xfrm>
        </p:grpSpPr>
        <p:sp>
          <p:nvSpPr>
            <p:cNvPr id="872" name=""/>
            <p:cNvSpPr/>
            <p:nvPr/>
          </p:nvSpPr>
          <p:spPr>
            <a:xfrm>
              <a:off x="5715000" y="434340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791320" y="441972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ИНТЕРПРЕТАЦ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838080" y="4343400"/>
            <a:ext cx="2514600" cy="533520"/>
            <a:chOff x="838080" y="4343400"/>
            <a:chExt cx="2514600" cy="533520"/>
          </a:xfrm>
        </p:grpSpPr>
        <p:sp>
          <p:nvSpPr>
            <p:cNvPr id="875" name=""/>
            <p:cNvSpPr/>
            <p:nvPr/>
          </p:nvSpPr>
          <p:spPr>
            <a:xfrm>
              <a:off x="838080" y="434340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914400" y="441972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ОБЪЯСН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457200" y="2971800"/>
            <a:ext cx="2286000" cy="533520"/>
            <a:chOff x="457200" y="2971800"/>
            <a:chExt cx="2286000" cy="533520"/>
          </a:xfrm>
        </p:grpSpPr>
        <p:sp>
          <p:nvSpPr>
            <p:cNvPr id="878" name=""/>
            <p:cNvSpPr/>
            <p:nvPr/>
          </p:nvSpPr>
          <p:spPr>
            <a:xfrm>
              <a:off x="457200" y="2971800"/>
              <a:ext cx="22860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26320" y="3048120"/>
              <a:ext cx="21474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ПОДТВЕРЖД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6781680" y="2895480"/>
            <a:ext cx="1981440" cy="533520"/>
            <a:chOff x="6781680" y="2895480"/>
            <a:chExt cx="1981440" cy="533520"/>
          </a:xfrm>
        </p:grpSpPr>
        <p:sp>
          <p:nvSpPr>
            <p:cNvPr id="881" name=""/>
            <p:cNvSpPr/>
            <p:nvPr/>
          </p:nvSpPr>
          <p:spPr>
            <a:xfrm>
              <a:off x="6781680" y="2895480"/>
              <a:ext cx="198144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841800" y="2971800"/>
              <a:ext cx="18612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ОЗРАЖ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5486400" y="1523880"/>
            <a:ext cx="2514600" cy="533520"/>
            <a:chOff x="5486400" y="1523880"/>
            <a:chExt cx="2514600" cy="533520"/>
          </a:xfrm>
        </p:grpSpPr>
        <p:sp>
          <p:nvSpPr>
            <p:cNvPr id="884" name=""/>
            <p:cNvSpPr/>
            <p:nvPr/>
          </p:nvSpPr>
          <p:spPr>
            <a:xfrm>
              <a:off x="5486400" y="152388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562720" y="160020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ОПРОВЕРЖ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3505320" y="5791320"/>
            <a:ext cx="2514600" cy="533160"/>
            <a:chOff x="3505320" y="5791320"/>
            <a:chExt cx="2514600" cy="533160"/>
          </a:xfrm>
        </p:grpSpPr>
        <p:sp>
          <p:nvSpPr>
            <p:cNvPr id="887" name=""/>
            <p:cNvSpPr/>
            <p:nvPr/>
          </p:nvSpPr>
          <p:spPr>
            <a:xfrm>
              <a:off x="3505320" y="5791320"/>
              <a:ext cx="251460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581640" y="586728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ОПРАВД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3352680" y="2286000"/>
            <a:ext cx="381240" cy="30492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5257800" y="2209320"/>
            <a:ext cx="457200" cy="3812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2819520" y="3200400"/>
            <a:ext cx="30456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324480" y="3200400"/>
            <a:ext cx="30492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3276720" y="3809880"/>
            <a:ext cx="304560" cy="3812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495680" y="3962520"/>
            <a:ext cx="0" cy="16002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105520" y="3962520"/>
            <a:ext cx="457200" cy="30456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АРГУМ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28600" y="762120"/>
            <a:ext cx="8686800" cy="586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2895480" y="990720"/>
            <a:ext cx="2514600" cy="609480"/>
            <a:chOff x="2895480" y="990720"/>
            <a:chExt cx="2514600" cy="609480"/>
          </a:xfrm>
        </p:grpSpPr>
        <p:sp>
          <p:nvSpPr>
            <p:cNvPr id="899" name=""/>
            <p:cNvSpPr/>
            <p:nvPr/>
          </p:nvSpPr>
          <p:spPr>
            <a:xfrm>
              <a:off x="2895480" y="990720"/>
              <a:ext cx="25146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124080" y="1143000"/>
              <a:ext cx="213372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БОСНОВА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609480" y="2819520"/>
            <a:ext cx="4038480" cy="609480"/>
            <a:chOff x="609480" y="2819520"/>
            <a:chExt cx="4038480" cy="609480"/>
          </a:xfrm>
        </p:grpSpPr>
        <p:sp>
          <p:nvSpPr>
            <p:cNvPr id="902" name=""/>
            <p:cNvSpPr/>
            <p:nvPr/>
          </p:nvSpPr>
          <p:spPr>
            <a:xfrm>
              <a:off x="609480" y="2819520"/>
              <a:ext cx="403848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976320" y="2971800"/>
              <a:ext cx="3426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4648320" y="2057400"/>
            <a:ext cx="4190400" cy="609480"/>
            <a:chOff x="4648320" y="2057400"/>
            <a:chExt cx="4190400" cy="609480"/>
          </a:xfrm>
        </p:grpSpPr>
        <p:sp>
          <p:nvSpPr>
            <p:cNvPr id="905" name=""/>
            <p:cNvSpPr/>
            <p:nvPr/>
          </p:nvSpPr>
          <p:spPr>
            <a:xfrm>
              <a:off x="4648320" y="2057400"/>
              <a:ext cx="41904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029200" y="2209680"/>
              <a:ext cx="355572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Р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838080" y="5562720"/>
            <a:ext cx="2742840" cy="609480"/>
            <a:chOff x="838080" y="5562720"/>
            <a:chExt cx="2742840" cy="609480"/>
          </a:xfrm>
        </p:grpSpPr>
        <p:sp>
          <p:nvSpPr>
            <p:cNvPr id="908" name=""/>
            <p:cNvSpPr/>
            <p:nvPr/>
          </p:nvSpPr>
          <p:spPr>
            <a:xfrm>
              <a:off x="838080" y="5562720"/>
              <a:ext cx="274284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087200" y="5715000"/>
              <a:ext cx="232740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Г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762120" y="4191120"/>
            <a:ext cx="2818800" cy="609480"/>
            <a:chOff x="762120" y="4191120"/>
            <a:chExt cx="2818800" cy="609480"/>
          </a:xfrm>
        </p:grpSpPr>
        <p:sp>
          <p:nvSpPr>
            <p:cNvPr id="911" name=""/>
            <p:cNvSpPr/>
            <p:nvPr/>
          </p:nvSpPr>
          <p:spPr>
            <a:xfrm>
              <a:off x="762120" y="4191120"/>
              <a:ext cx="28188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018080" y="4343400"/>
              <a:ext cx="2391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5257800" y="4191120"/>
            <a:ext cx="3047760" cy="609480"/>
            <a:chOff x="5257800" y="4191120"/>
            <a:chExt cx="3047760" cy="609480"/>
          </a:xfrm>
        </p:grpSpPr>
        <p:sp>
          <p:nvSpPr>
            <p:cNvPr id="914" name=""/>
            <p:cNvSpPr/>
            <p:nvPr/>
          </p:nvSpPr>
          <p:spPr>
            <a:xfrm>
              <a:off x="5257800" y="4191120"/>
              <a:ext cx="304776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534640" y="4343400"/>
              <a:ext cx="25862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Е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4648320" y="5562720"/>
            <a:ext cx="3123720" cy="609480"/>
            <a:chOff x="4648320" y="5562720"/>
            <a:chExt cx="3123720" cy="609480"/>
          </a:xfrm>
        </p:grpSpPr>
        <p:sp>
          <p:nvSpPr>
            <p:cNvPr id="917" name=""/>
            <p:cNvSpPr/>
            <p:nvPr/>
          </p:nvSpPr>
          <p:spPr>
            <a:xfrm>
              <a:off x="4648320" y="5562720"/>
              <a:ext cx="31237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932000" y="5715000"/>
              <a:ext cx="26506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БЛЕМАТИЧ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 flipH="1">
            <a:off x="3124080" y="1752480"/>
            <a:ext cx="609840" cy="9144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2514240" y="3581280"/>
            <a:ext cx="30492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962520" y="3657600"/>
            <a:ext cx="10666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962520" y="1752480"/>
            <a:ext cx="53316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1828800" y="4952880"/>
            <a:ext cx="3808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895480" y="4952880"/>
            <a:ext cx="1600200" cy="6858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83808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ЕЦЕДЕНТЫ  ЭКСПЕР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80880" y="1295280"/>
            <a:ext cx="4495320" cy="2438280"/>
            <a:chOff x="380880" y="1295280"/>
            <a:chExt cx="4495320" cy="2438280"/>
          </a:xfrm>
        </p:grpSpPr>
        <p:grpSp>
          <p:nvGrpSpPr>
            <p:cNvPr id="63" name=""/>
            <p:cNvGrpSpPr/>
            <p:nvPr/>
          </p:nvGrpSpPr>
          <p:grpSpPr>
            <a:xfrm>
              <a:off x="380880" y="1295280"/>
              <a:ext cx="4013640" cy="1981080"/>
              <a:chOff x="380880" y="1295280"/>
              <a:chExt cx="4013640" cy="1981080"/>
            </a:xfrm>
          </p:grpSpPr>
          <p:sp>
            <p:nvSpPr>
              <p:cNvPr id="64" name=""/>
              <p:cNvSpPr/>
              <p:nvPr/>
            </p:nvSpPr>
            <p:spPr>
              <a:xfrm>
                <a:off x="380880" y="1295280"/>
                <a:ext cx="401364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479880" y="1357200"/>
                <a:ext cx="1975320" cy="270720"/>
                <a:chOff x="479880" y="1357200"/>
                <a:chExt cx="1975320" cy="27072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479880" y="13766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576360" y="13572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628560" y="144504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659880" y="13766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835920" y="137664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894600" y="138060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189520" y="137664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365920" y="13806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1005120" y="162864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370960" y="162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496240" y="162864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005840" y="1879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284840" y="187632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451880" y="18795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1510200" y="1876320"/>
                <a:ext cx="1874160" cy="185400"/>
                <a:chOff x="1510200" y="1876320"/>
                <a:chExt cx="1874160" cy="18540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1510200" y="187884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638000" y="187884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081600" y="187632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256920" y="187884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" name=""/>
              <p:cNvSpPr/>
              <p:nvPr/>
            </p:nvSpPr>
            <p:spPr>
              <a:xfrm>
                <a:off x="1006200" y="212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285560" y="212400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617120" y="212868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50760" y="212868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" name=""/>
              <p:cNvGrpSpPr/>
              <p:nvPr/>
            </p:nvGrpSpPr>
            <p:grpSpPr>
              <a:xfrm>
                <a:off x="2714400" y="2124000"/>
                <a:ext cx="1477440" cy="249480"/>
                <a:chOff x="2714400" y="2124000"/>
                <a:chExt cx="1477440" cy="2494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714400" y="212652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784320" y="21240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849840" y="219060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924000" y="212400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102560" y="21265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" name=""/>
              <p:cNvSpPr/>
              <p:nvPr/>
            </p:nvSpPr>
            <p:spPr>
              <a:xfrm>
                <a:off x="1459800" y="237636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310760" y="2373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292120" y="23763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337120" y="23763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556360" y="2376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645280" y="237636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1658520" y="2373120"/>
                <a:ext cx="2148840" cy="185400"/>
                <a:chOff x="1658520" y="2373120"/>
                <a:chExt cx="2148840" cy="18540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1658520" y="237564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486240" y="237312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718080" y="23756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" name=""/>
              <p:cNvSpPr/>
              <p:nvPr/>
            </p:nvSpPr>
            <p:spPr>
              <a:xfrm>
                <a:off x="554760" y="262548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082160" y="2625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01400" y="2622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388520" y="2625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476000" y="26254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538280" y="262548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246400" y="262548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1720" y="28749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333800" y="2871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431000" y="2874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515600" y="287496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01240" y="287496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517560" y="287172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764520" y="2939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829320" y="287172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998160" y="28749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568160" y="195264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541440" y="1447560"/>
              <a:ext cx="4013280" cy="1981080"/>
              <a:chOff x="541440" y="1447560"/>
              <a:chExt cx="4013280" cy="1981080"/>
            </a:xfrm>
          </p:grpSpPr>
          <p:sp>
            <p:nvSpPr>
              <p:cNvPr id="123" name=""/>
              <p:cNvSpPr/>
              <p:nvPr/>
            </p:nvSpPr>
            <p:spPr>
              <a:xfrm>
                <a:off x="541440" y="1447560"/>
                <a:ext cx="401328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640440" y="1509480"/>
                <a:ext cx="1974240" cy="270720"/>
                <a:chOff x="640440" y="1509480"/>
                <a:chExt cx="1974240" cy="2707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640440" y="15289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36200" y="150948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89120" y="159732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20080" y="152892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996120" y="152892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053360" y="153288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350080" y="152892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525400" y="153288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" name=""/>
              <p:cNvSpPr/>
              <p:nvPr/>
            </p:nvSpPr>
            <p:spPr>
              <a:xfrm>
                <a:off x="1165680" y="178092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531520" y="17776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656440" y="178092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166400" y="203184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445400" y="202860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612080" y="203184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1670760" y="2028600"/>
                <a:ext cx="1873800" cy="185400"/>
                <a:chOff x="1670760" y="2028600"/>
                <a:chExt cx="1873800" cy="1854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1670760" y="203112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798560" y="203112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241440" y="202860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417120" y="203112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1166040" y="2280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446120" y="227628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776600" y="22809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010240" y="228096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2874600" y="2276280"/>
                <a:ext cx="1477080" cy="249480"/>
                <a:chOff x="2874600" y="2276280"/>
                <a:chExt cx="1477080" cy="2494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2874600" y="227880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944520" y="227628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010040" y="23428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082040" y="227628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262400" y="22788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1620000" y="252864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470960" y="2525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451960" y="25286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497680" y="25286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716920" y="2528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805480" y="252864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1819080" y="2525400"/>
                <a:ext cx="2148840" cy="185400"/>
                <a:chOff x="1819080" y="2525400"/>
                <a:chExt cx="2148840" cy="18540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1819080" y="252792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646800" y="252540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878640" y="25279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715320" y="277776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241640" y="27777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461240" y="2774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548720" y="27777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636560" y="2777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698840" y="277776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406960" y="277776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051200" y="302724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494360" y="3024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591200" y="30272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675800" y="302724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161800" y="302724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675960" y="302400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924000" y="3092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988800" y="302400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158360" y="302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728720" y="210492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702000" y="1600200"/>
              <a:ext cx="4013280" cy="1981080"/>
              <a:chOff x="702000" y="1600200"/>
              <a:chExt cx="4013280" cy="1981080"/>
            </a:xfrm>
          </p:grpSpPr>
          <p:sp>
            <p:nvSpPr>
              <p:cNvPr id="182" name=""/>
              <p:cNvSpPr/>
              <p:nvPr/>
            </p:nvSpPr>
            <p:spPr>
              <a:xfrm>
                <a:off x="702000" y="1600200"/>
                <a:ext cx="401328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801000" y="1662120"/>
                <a:ext cx="1974240" cy="270720"/>
                <a:chOff x="801000" y="1662120"/>
                <a:chExt cx="1974240" cy="2707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801000" y="16815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896040" y="16621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948240" y="174996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980640" y="168156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156680" y="168156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213920" y="168552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510640" y="168156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685960" y="16855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1326240" y="193356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691360" y="19303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817000" y="193356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326960" y="218448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605960" y="218124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771920" y="21844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1831320" y="2181240"/>
                <a:ext cx="1873800" cy="185400"/>
                <a:chOff x="1831320" y="2181240"/>
                <a:chExt cx="1873800" cy="18540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1831320" y="218376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958040" y="218376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402000" y="218124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577680" y="218376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" name=""/>
              <p:cNvSpPr/>
              <p:nvPr/>
            </p:nvSpPr>
            <p:spPr>
              <a:xfrm>
                <a:off x="1326600" y="2433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606680" y="242892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937160" y="243360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170800" y="243360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3035160" y="2428920"/>
                <a:ext cx="1476000" cy="249480"/>
                <a:chOff x="3035160" y="2428920"/>
                <a:chExt cx="1476000" cy="2494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035160" y="243144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105080" y="24289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170600" y="24955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242600" y="242892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421880" y="24314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1779840" y="268128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630800" y="2678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612520" y="2681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658240" y="26812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877480" y="2681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966040" y="268128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1979640" y="2678040"/>
                <a:ext cx="2148840" cy="185400"/>
                <a:chOff x="1979640" y="2678040"/>
                <a:chExt cx="2148840" cy="18540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1979640" y="268056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807360" y="267804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039200" y="26805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3" name=""/>
              <p:cNvSpPr/>
              <p:nvPr/>
            </p:nvSpPr>
            <p:spPr>
              <a:xfrm>
                <a:off x="875160" y="293040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402200" y="29304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21800" y="29275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708560" y="2930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797120" y="2930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859400" y="293040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67520" y="293040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1760" y="31798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653840" y="3176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751760" y="3179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835640" y="317988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322360" y="317988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836520" y="317664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084560" y="32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149360" y="317664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318920" y="3179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889280" y="225756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862560" y="1752480"/>
              <a:ext cx="4013640" cy="1981080"/>
              <a:chOff x="862560" y="1752480"/>
              <a:chExt cx="4013640" cy="1981080"/>
            </a:xfrm>
          </p:grpSpPr>
          <p:sp>
            <p:nvSpPr>
              <p:cNvPr id="241" name=""/>
              <p:cNvSpPr/>
              <p:nvPr/>
            </p:nvSpPr>
            <p:spPr>
              <a:xfrm>
                <a:off x="862560" y="1752480"/>
                <a:ext cx="401364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2" name=""/>
              <p:cNvGrpSpPr/>
              <p:nvPr/>
            </p:nvGrpSpPr>
            <p:grpSpPr>
              <a:xfrm>
                <a:off x="960480" y="1814400"/>
                <a:ext cx="1975320" cy="270720"/>
                <a:chOff x="960480" y="1814400"/>
                <a:chExt cx="1975320" cy="2707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960480" y="1833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056600" y="18144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108440" y="190224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141200" y="18338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316520" y="183384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374480" y="183780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2671200" y="183384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2846520" y="18378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1" name=""/>
              <p:cNvSpPr/>
              <p:nvPr/>
            </p:nvSpPr>
            <p:spPr>
              <a:xfrm>
                <a:off x="1486800" y="208584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851920" y="20826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977920" y="208584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487520" y="23367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766520" y="233352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932480" y="23367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1991160" y="2333520"/>
                <a:ext cx="1873440" cy="185400"/>
                <a:chOff x="1991160" y="2333520"/>
                <a:chExt cx="1873440" cy="18540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991160" y="233604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118960" y="233604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562920" y="233352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737160" y="233604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2" name=""/>
              <p:cNvSpPr/>
              <p:nvPr/>
            </p:nvSpPr>
            <p:spPr>
              <a:xfrm>
                <a:off x="1487160" y="2585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767240" y="258120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098080" y="258588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331720" y="258588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3196080" y="2581200"/>
                <a:ext cx="1476360" cy="249480"/>
                <a:chOff x="3196080" y="2581200"/>
                <a:chExt cx="1476360" cy="2494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196080" y="258372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4265280" y="25812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330800" y="264780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4403880" y="258120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583160" y="25837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1940760" y="283356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791720" y="28303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772360" y="2833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818800" y="28335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037320" y="2833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126960" y="283356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2140200" y="2830320"/>
                <a:ext cx="2148840" cy="185400"/>
                <a:chOff x="2140200" y="2830320"/>
                <a:chExt cx="2148840" cy="18540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140200" y="283284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967920" y="283032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199760" y="28328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1035720" y="308268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562760" y="30826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782360" y="3079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869120" y="308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57680" y="30826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19960" y="308268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728080" y="308268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372320" y="33321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14400" y="3328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11960" y="33321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996200" y="333216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482920" y="333216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997080" y="332892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244760" y="3396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309560" y="332892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479120" y="33321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49840" y="240984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9" name=""/>
          <p:cNvSpPr/>
          <p:nvPr/>
        </p:nvSpPr>
        <p:spPr>
          <a:xfrm>
            <a:off x="380880" y="396252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ОВТОРНОЕ ИСПОЛНЕНИЕ ПОЛЬЗОВАТЕЛЕ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029200" y="990720"/>
            <a:ext cx="3733920" cy="5333760"/>
            <a:chOff x="5029200" y="990720"/>
            <a:chExt cx="3733920" cy="5333760"/>
          </a:xfrm>
        </p:grpSpPr>
        <p:sp>
          <p:nvSpPr>
            <p:cNvPr id="301" name=""/>
            <p:cNvSpPr/>
            <p:nvPr/>
          </p:nvSpPr>
          <p:spPr>
            <a:xfrm>
              <a:off x="5410080" y="990720"/>
              <a:ext cx="3353040" cy="5333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5029200" y="1600200"/>
              <a:ext cx="3580920" cy="4495320"/>
              <a:chOff x="5029200" y="1600200"/>
              <a:chExt cx="3580920" cy="4495320"/>
            </a:xfrm>
          </p:grpSpPr>
          <p:sp>
            <p:nvSpPr>
              <p:cNvPr id="303" name=""/>
              <p:cNvSpPr/>
              <p:nvPr/>
            </p:nvSpPr>
            <p:spPr>
              <a:xfrm>
                <a:off x="5029200" y="4038120"/>
                <a:ext cx="819360" cy="485640"/>
              </a:xfrm>
              <a:prstGeom prst="leftArrow">
                <a:avLst>
                  <a:gd name="adj1" fmla="val 50000"/>
                  <a:gd name="adj2" fmla="val 42179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860440" y="1600200"/>
                <a:ext cx="2749680" cy="4495320"/>
              </a:xfrm>
              <a:prstGeom prst="rect">
                <a:avLst/>
              </a:prstGeom>
              <a:solidFill>
                <a:srgbClr val="ff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307920" y="1904760"/>
                <a:ext cx="2174400" cy="359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ОДЕЛЬ ОПЫТ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- СИСТЕМ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РЕДСТАВЛЕНИЯ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РЕЦЕДЕНТОВ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ЛЯ ИХ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ОВТОРНОГО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ИСПОЛЬЗОВАНИЯ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РАЦИОНАЛЬНОСТЬ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В ОТНОШЕНИЯ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С ОКРУЖАЮЩИМ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ИРОМ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ЭВРИСТИК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232960" y="2590560"/>
                <a:ext cx="691200" cy="485280"/>
              </a:xfrm>
              <a:prstGeom prst="rightArrow">
                <a:avLst>
                  <a:gd name="adj1" fmla="val 50000"/>
                  <a:gd name="adj2" fmla="val 35608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5715000" y="1218960"/>
              <a:ext cx="28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НАЯ СИСТЕМ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609480" y="4419720"/>
            <a:ext cx="4114440" cy="1981080"/>
            <a:chOff x="609480" y="4419720"/>
            <a:chExt cx="4114440" cy="1981080"/>
          </a:xfrm>
        </p:grpSpPr>
        <p:sp>
          <p:nvSpPr>
            <p:cNvPr id="309" name=""/>
            <p:cNvSpPr/>
            <p:nvPr/>
          </p:nvSpPr>
          <p:spPr>
            <a:xfrm>
              <a:off x="609480" y="4419720"/>
              <a:ext cx="4114440" cy="1981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711000" y="4481640"/>
              <a:ext cx="2020320" cy="270720"/>
              <a:chOff x="711000" y="4481640"/>
              <a:chExt cx="2020320" cy="270720"/>
            </a:xfrm>
          </p:grpSpPr>
          <p:sp>
            <p:nvSpPr>
              <p:cNvPr id="311" name=""/>
              <p:cNvSpPr/>
              <p:nvPr/>
            </p:nvSpPr>
            <p:spPr>
              <a:xfrm>
                <a:off x="711000" y="450108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11080" y="44816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862560" y="4569480"/>
                <a:ext cx="43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95680" y="450108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077480" y="4501080"/>
                <a:ext cx="5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135080" y="4505040"/>
                <a:ext cx="11239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ак как [мотивы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463840" y="4501080"/>
                <a:ext cx="144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642040" y="450504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1249560" y="4753080"/>
              <a:ext cx="1184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поскольку  [цели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49240" y="4749840"/>
              <a:ext cx="1105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78120" y="4753080"/>
              <a:ext cx="892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50280" y="5004000"/>
              <a:ext cx="30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536480" y="5000760"/>
              <a:ext cx="83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707840" y="50040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1767960" y="5000760"/>
              <a:ext cx="1916280" cy="185400"/>
              <a:chOff x="1767960" y="5000760"/>
              <a:chExt cx="1916280" cy="185400"/>
            </a:xfrm>
          </p:grpSpPr>
          <p:sp>
            <p:nvSpPr>
              <p:cNvPr id="326" name=""/>
              <p:cNvSpPr/>
              <p:nvPr/>
            </p:nvSpPr>
            <p:spPr>
              <a:xfrm>
                <a:off x="1767960" y="5003280"/>
                <a:ext cx="1152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8280" y="5003280"/>
                <a:ext cx="12427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если [пред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377880" y="5000760"/>
                <a:ext cx="153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556800" y="5003280"/>
                <a:ext cx="1274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1250640" y="52531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536120" y="5248440"/>
              <a:ext cx="157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ы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876320" y="5253120"/>
              <a:ext cx="153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115360" y="5253120"/>
              <a:ext cx="11055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3002040" y="5248440"/>
              <a:ext cx="1508760" cy="249480"/>
              <a:chOff x="3002040" y="5248440"/>
              <a:chExt cx="1508760" cy="249480"/>
            </a:xfrm>
          </p:grpSpPr>
          <p:sp>
            <p:nvSpPr>
              <p:cNvPr id="335" name=""/>
              <p:cNvSpPr/>
              <p:nvPr/>
            </p:nvSpPr>
            <p:spPr>
              <a:xfrm>
                <a:off x="3002040" y="5250960"/>
                <a:ext cx="8665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о   [реакция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096800" y="52484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164480" y="531504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240080" y="524844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421520" y="525096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1715040" y="5500800"/>
              <a:ext cx="6483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61680" y="549756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б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568240" y="55008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15040" y="550080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38960" y="55008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930040" y="5500800"/>
              <a:ext cx="2293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1919520" y="5497560"/>
              <a:ext cx="2198160" cy="185400"/>
              <a:chOff x="1919520" y="5497560"/>
              <a:chExt cx="2198160" cy="185400"/>
            </a:xfrm>
          </p:grpSpPr>
          <p:sp>
            <p:nvSpPr>
              <p:cNvPr id="347" name=""/>
              <p:cNvSpPr/>
              <p:nvPr/>
            </p:nvSpPr>
            <p:spPr>
              <a:xfrm>
                <a:off x="1919520" y="5500080"/>
                <a:ext cx="158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из-за чего [пост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792600" y="5497560"/>
                <a:ext cx="1958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028400" y="550008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786600" y="5749920"/>
              <a:ext cx="4579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328040" y="574992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551600" y="574704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42320" y="57499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731600" y="5749920"/>
              <a:ext cx="511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796040" y="5749920"/>
              <a:ext cx="6040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----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521080" y="5749920"/>
              <a:ext cx="630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 --- 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33640" y="59994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85440" y="599616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85520" y="59994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73000" y="5999400"/>
              <a:ext cx="419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70520" y="5999400"/>
              <a:ext cx="13114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были альтернативы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22840" y="5996160"/>
              <a:ext cx="21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[ {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076640" y="606420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42880" y="5996160"/>
              <a:ext cx="148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} 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17120" y="59994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826640" y="5077080"/>
              <a:ext cx="186840" cy="1098360"/>
            </a:xfrm>
            <a:custGeom>
              <a:avLst/>
              <a:gdLst/>
              <a:ahLst/>
              <a:rect l="l" t="t" r="r" b="b"/>
              <a:pathLst>
                <a:path w="230" h="1701">
                  <a:moveTo>
                    <a:pt x="230" y="0"/>
                  </a:moveTo>
                  <a:lnTo>
                    <a:pt x="207" y="4"/>
                  </a:lnTo>
                  <a:lnTo>
                    <a:pt x="186" y="12"/>
                  </a:lnTo>
                  <a:lnTo>
                    <a:pt x="167" y="25"/>
                  </a:lnTo>
                  <a:lnTo>
                    <a:pt x="150" y="43"/>
                  </a:lnTo>
                  <a:lnTo>
                    <a:pt x="134" y="64"/>
                  </a:lnTo>
                  <a:lnTo>
                    <a:pt x="125" y="87"/>
                  </a:lnTo>
                  <a:lnTo>
                    <a:pt x="117" y="114"/>
                  </a:lnTo>
                  <a:lnTo>
                    <a:pt x="115" y="143"/>
                  </a:lnTo>
                  <a:lnTo>
                    <a:pt x="115" y="711"/>
                  </a:lnTo>
                  <a:lnTo>
                    <a:pt x="113" y="740"/>
                  </a:lnTo>
                  <a:lnTo>
                    <a:pt x="105" y="764"/>
                  </a:lnTo>
                  <a:lnTo>
                    <a:pt x="96" y="789"/>
                  </a:lnTo>
                  <a:lnTo>
                    <a:pt x="80" y="811"/>
                  </a:lnTo>
                  <a:lnTo>
                    <a:pt x="65" y="826"/>
                  </a:lnTo>
                  <a:lnTo>
                    <a:pt x="44" y="839"/>
                  </a:lnTo>
                  <a:lnTo>
                    <a:pt x="23" y="849"/>
                  </a:lnTo>
                  <a:lnTo>
                    <a:pt x="0" y="851"/>
                  </a:lnTo>
                  <a:lnTo>
                    <a:pt x="23" y="855"/>
                  </a:lnTo>
                  <a:lnTo>
                    <a:pt x="44" y="862"/>
                  </a:lnTo>
                  <a:lnTo>
                    <a:pt x="65" y="876"/>
                  </a:lnTo>
                  <a:lnTo>
                    <a:pt x="80" y="893"/>
                  </a:lnTo>
                  <a:lnTo>
                    <a:pt x="96" y="914"/>
                  </a:lnTo>
                  <a:lnTo>
                    <a:pt x="105" y="937"/>
                  </a:lnTo>
                  <a:lnTo>
                    <a:pt x="113" y="964"/>
                  </a:lnTo>
                  <a:lnTo>
                    <a:pt x="115" y="993"/>
                  </a:lnTo>
                  <a:lnTo>
                    <a:pt x="115" y="1559"/>
                  </a:lnTo>
                  <a:lnTo>
                    <a:pt x="117" y="1588"/>
                  </a:lnTo>
                  <a:lnTo>
                    <a:pt x="125" y="1615"/>
                  </a:lnTo>
                  <a:lnTo>
                    <a:pt x="134" y="1638"/>
                  </a:lnTo>
                  <a:lnTo>
                    <a:pt x="150" y="1659"/>
                  </a:lnTo>
                  <a:lnTo>
                    <a:pt x="167" y="1676"/>
                  </a:lnTo>
                  <a:lnTo>
                    <a:pt x="186" y="1690"/>
                  </a:lnTo>
                  <a:lnTo>
                    <a:pt x="207" y="1699"/>
                  </a:lnTo>
                  <a:lnTo>
                    <a:pt x="230" y="1701"/>
                  </a:lnTo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5228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4572000" y="5029200"/>
            <a:ext cx="3886200" cy="1295280"/>
            <a:chOff x="4572000" y="5029200"/>
            <a:chExt cx="3886200" cy="1295280"/>
          </a:xfrm>
        </p:grpSpPr>
        <p:sp>
          <p:nvSpPr>
            <p:cNvPr id="370" name=""/>
            <p:cNvSpPr/>
            <p:nvPr/>
          </p:nvSpPr>
          <p:spPr>
            <a:xfrm>
              <a:off x="4572000" y="5029200"/>
              <a:ext cx="3886200" cy="1295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95880" y="5105160"/>
              <a:ext cx="228600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ЕСЛИ двигатель не заводится  И         стартёр не работает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ТО      неполадки в системе    электропитания стартёр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24280" y="5105160"/>
              <a:ext cx="106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дукц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04920" y="914400"/>
            <a:ext cx="8458200" cy="5077080"/>
            <a:chOff x="304920" y="914400"/>
            <a:chExt cx="8458200" cy="5077080"/>
          </a:xfrm>
        </p:grpSpPr>
        <p:sp>
          <p:nvSpPr>
            <p:cNvPr id="374" name=""/>
            <p:cNvSpPr/>
            <p:nvPr/>
          </p:nvSpPr>
          <p:spPr>
            <a:xfrm>
              <a:off x="6553080" y="3673440"/>
              <a:ext cx="221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ЗАЖИГАН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304920" y="914400"/>
              <a:ext cx="7619760" cy="5077080"/>
              <a:chOff x="304920" y="914400"/>
              <a:chExt cx="7619760" cy="5077080"/>
            </a:xfrm>
          </p:grpSpPr>
          <p:sp>
            <p:nvSpPr>
              <p:cNvPr id="376" name=""/>
              <p:cNvSpPr/>
              <p:nvPr/>
            </p:nvSpPr>
            <p:spPr>
              <a:xfrm>
                <a:off x="3200400" y="914400"/>
                <a:ext cx="2209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АВТОМОБИЛ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066680" y="1752480"/>
                <a:ext cx="1371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ИСТЕМА ОХЛАЖДЕНИЯ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362320" y="2205000"/>
                <a:ext cx="22096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ИСТЕМА ЭЛЕКТРОПИТАНИЯ СТАРТЁР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572000" y="2205000"/>
                <a:ext cx="1371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ИСТЕМА ПОДАЧИ ТОПЛИВ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400800" y="1828800"/>
                <a:ext cx="1523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ОРМОЗНАЯ СИСТЕМ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33520" y="4149720"/>
                <a:ext cx="2209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АККУМУЛЯТ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590920" y="3611520"/>
                <a:ext cx="220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ЕГУЛЯТОР НАПРЯЖЕНИЯ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24280" y="4149720"/>
                <a:ext cx="2210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СПРЕДЕЛИТЕЛ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2514600" y="1228680"/>
                <a:ext cx="1371600" cy="62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3885840" y="1228680"/>
                <a:ext cx="304920" cy="93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419720" y="1228680"/>
                <a:ext cx="685800" cy="87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800600" y="1228680"/>
                <a:ext cx="2057400" cy="56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>
                <a:off x="1600200" y="2859120"/>
                <a:ext cx="1447920" cy="125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352680" y="2859120"/>
                <a:ext cx="0" cy="75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581280" y="2859120"/>
                <a:ext cx="1905120" cy="125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886200" y="2859120"/>
                <a:ext cx="3048120" cy="87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04920" y="4803840"/>
                <a:ext cx="1447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УРОВЕНЬ ЭЛЕКТРОЛИТ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676520" y="5715000"/>
                <a:ext cx="1295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КОНТАКТЫ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666880" y="4802040"/>
                <a:ext cx="1524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ЗАРЯЖЕН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447920" y="4425840"/>
                <a:ext cx="0" cy="37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133720" y="4425840"/>
                <a:ext cx="838080" cy="37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828800" y="4419720"/>
                <a:ext cx="38088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8" name=""/>
          <p:cNvSpPr/>
          <p:nvPr/>
        </p:nvSpPr>
        <p:spPr>
          <a:xfrm>
            <a:off x="533520" y="914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57200" y="914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Х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80880" y="2057400"/>
            <a:ext cx="8305920" cy="3352320"/>
            <a:chOff x="380880" y="2057400"/>
            <a:chExt cx="8305920" cy="3352320"/>
          </a:xfrm>
        </p:grpSpPr>
        <p:sp>
          <p:nvSpPr>
            <p:cNvPr id="403" name=""/>
            <p:cNvSpPr/>
            <p:nvPr/>
          </p:nvSpPr>
          <p:spPr>
            <a:xfrm>
              <a:off x="5257800" y="2057400"/>
              <a:ext cx="179856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57800" y="3352680"/>
              <a:ext cx="179856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57800" y="4724280"/>
              <a:ext cx="179856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43800" y="3276360"/>
              <a:ext cx="106668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46480" y="3352680"/>
              <a:ext cx="144792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51200" y="2209680"/>
              <a:ext cx="685800" cy="2971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514600" y="373356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48320" y="37335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10280" y="37335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91120" y="3962160"/>
              <a:ext cx="1218960" cy="9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34320" y="2438280"/>
              <a:ext cx="990360" cy="9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4114440" y="2438280"/>
              <a:ext cx="1143000" cy="99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7010280" y="4114440"/>
              <a:ext cx="9144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00200" y="2742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600200" y="35812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600200" y="464796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7200" y="236196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7200" y="327636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ЖЕНЕР-КОГНИТОЛО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880" y="434304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ЛЬЗОВАТЕЛ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57400" y="2285640"/>
              <a:ext cx="533520" cy="29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276720" y="342864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БОЧАЯ ОБЛАС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334120" y="20574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ЪЯСН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34120" y="3504960"/>
              <a:ext cx="1676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ИНТЕРПРЕТАЦ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10080" y="480024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ИОБРЕТЕНИЕ ЗНА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20120" y="342864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А ЗНА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600200" y="1143000"/>
            <a:ext cx="5638320" cy="2286000"/>
            <a:chOff x="1600200" y="1143000"/>
            <a:chExt cx="5638320" cy="2286000"/>
          </a:xfrm>
        </p:grpSpPr>
        <p:sp>
          <p:nvSpPr>
            <p:cNvPr id="431" name=""/>
            <p:cNvSpPr/>
            <p:nvPr/>
          </p:nvSpPr>
          <p:spPr>
            <a:xfrm>
              <a:off x="1828440" y="1828800"/>
              <a:ext cx="3276360" cy="457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00200" y="1676520"/>
              <a:ext cx="3885840" cy="11430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724280" y="1143000"/>
              <a:ext cx="2514240" cy="1066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47960" y="2438280"/>
              <a:ext cx="2590560" cy="990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800240" y="1160640"/>
              <a:ext cx="2438280" cy="1057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ЖЕНЕР-КОГНИТОЛОГ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ЗВЛЕЧЕНИЕ ЗНАНИЙ, ИХ ОРГАНИЗАЦ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24280" y="2743200"/>
              <a:ext cx="2437920" cy="631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ЗНАНИЯ, ОБРАБОТ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752480" y="1828800"/>
              <a:ext cx="2818800" cy="631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ЛЬЗОВАТЕЛЬ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КТИВНОСТЬ, ОБЩ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457200" y="83808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ЧЕЛОВЕЧЕСКИЙ ФАКТ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838080" y="3733920"/>
            <a:ext cx="7391520" cy="2749320"/>
            <a:chOff x="838080" y="3733920"/>
            <a:chExt cx="7391520" cy="2749320"/>
          </a:xfrm>
        </p:grpSpPr>
        <p:sp>
          <p:nvSpPr>
            <p:cNvPr id="440" name=""/>
            <p:cNvSpPr/>
            <p:nvPr/>
          </p:nvSpPr>
          <p:spPr>
            <a:xfrm>
              <a:off x="838080" y="3733920"/>
              <a:ext cx="29718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МАШИННАЯ ЧАСТ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48120" y="5105520"/>
              <a:ext cx="3276360" cy="1295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4191120"/>
              <a:ext cx="2590920" cy="1295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91320" y="4267080"/>
              <a:ext cx="2438280" cy="1295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19320" y="4343400"/>
              <a:ext cx="2209680" cy="1057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А ЗНАНИЙ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ФАКТЫ, ПРАВИЛА, КОЭФФИЦИЕНТЫ ОПРЕДЕЛЁННОСТ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124080" y="5638680"/>
              <a:ext cx="3200400" cy="844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ТЕРФЕЙС ПОЛЬЗОВАТЕЛЯ: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ВЗАИМОДЕЙСТВИЕ, СООБЩ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943600" y="4495680"/>
              <a:ext cx="2286000" cy="844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МАШИНА ВЫВОДА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ЛОГИКА, ЗАКЛЮЧ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304920" y="1371600"/>
            <a:ext cx="8762760" cy="3812400"/>
            <a:chOff x="304920" y="1371600"/>
            <a:chExt cx="8762760" cy="3812400"/>
          </a:xfrm>
        </p:grpSpPr>
        <p:grpSp>
          <p:nvGrpSpPr>
            <p:cNvPr id="450" name=""/>
            <p:cNvGrpSpPr/>
            <p:nvPr/>
          </p:nvGrpSpPr>
          <p:grpSpPr>
            <a:xfrm>
              <a:off x="457200" y="1371600"/>
              <a:ext cx="1828800" cy="533520"/>
              <a:chOff x="457200" y="1371600"/>
              <a:chExt cx="1828800" cy="533520"/>
            </a:xfrm>
          </p:grpSpPr>
          <p:sp>
            <p:nvSpPr>
              <p:cNvPr id="451" name=""/>
              <p:cNvSpPr/>
              <p:nvPr/>
            </p:nvSpPr>
            <p:spPr>
              <a:xfrm>
                <a:off x="45720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5720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ЗАДАЧ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2590920" y="1371600"/>
              <a:ext cx="1828800" cy="533520"/>
              <a:chOff x="2590920" y="1371600"/>
              <a:chExt cx="1828800" cy="533520"/>
            </a:xfrm>
          </p:grpSpPr>
          <p:sp>
            <p:nvSpPr>
              <p:cNvPr id="454" name=""/>
              <p:cNvSpPr/>
              <p:nvPr/>
            </p:nvSpPr>
            <p:spPr>
              <a:xfrm>
                <a:off x="259092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59092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ВРЕМЯ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4876920" y="1371600"/>
              <a:ext cx="1828800" cy="533520"/>
              <a:chOff x="4876920" y="1371600"/>
              <a:chExt cx="1828800" cy="533520"/>
            </a:xfrm>
          </p:grpSpPr>
          <p:sp>
            <p:nvSpPr>
              <p:cNvPr id="457" name=""/>
              <p:cNvSpPr/>
              <p:nvPr/>
            </p:nvSpPr>
            <p:spPr>
              <a:xfrm>
                <a:off x="487692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87692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КОМПЬЮТЕР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6934320" y="1371600"/>
              <a:ext cx="1828800" cy="533520"/>
              <a:chOff x="6934320" y="1371600"/>
              <a:chExt cx="1828800" cy="533520"/>
            </a:xfrm>
          </p:grpSpPr>
          <p:sp>
            <p:nvSpPr>
              <p:cNvPr id="460" name=""/>
              <p:cNvSpPr/>
              <p:nvPr/>
            </p:nvSpPr>
            <p:spPr>
              <a:xfrm>
                <a:off x="693432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93432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ИНТЕГРАЦИЯ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30492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АГНОСТИ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04920" y="30481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ЕКТИР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04920" y="358128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ГНОЗИР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04920" y="41911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ЛАНИР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04920" y="48769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УЧ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43828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АТ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95288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УПЕР  ЭВМ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438280" y="3048120"/>
              <a:ext cx="2438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ВАЗИ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438280" y="3581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952880" y="30481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РЕДНЯ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952880" y="358128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ИМВОЛЬНЫЙ ПРОЦЕССО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52880" y="419112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БОЧАЯ СТАНЦИЯ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952880" y="48769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ЭВМ         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1028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ВТОНОМ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10280" y="297180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ГИБРИД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438280" y="22096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800600" y="213372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010280" y="22096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28600" y="762120"/>
            <a:ext cx="876312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80880" y="1905120"/>
            <a:ext cx="8458200" cy="3733200"/>
            <a:chOff x="380880" y="1905120"/>
            <a:chExt cx="8458200" cy="3733200"/>
          </a:xfrm>
        </p:grpSpPr>
        <p:grpSp>
          <p:nvGrpSpPr>
            <p:cNvPr id="483" name=""/>
            <p:cNvGrpSpPr/>
            <p:nvPr/>
          </p:nvGrpSpPr>
          <p:grpSpPr>
            <a:xfrm>
              <a:off x="914400" y="3429000"/>
              <a:ext cx="1523880" cy="914040"/>
              <a:chOff x="914400" y="3429000"/>
              <a:chExt cx="1523880" cy="914040"/>
            </a:xfrm>
          </p:grpSpPr>
          <p:sp>
            <p:nvSpPr>
              <p:cNvPr id="484" name=""/>
              <p:cNvSpPr/>
              <p:nvPr/>
            </p:nvSpPr>
            <p:spPr>
              <a:xfrm>
                <a:off x="914400" y="342900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914400" y="3581280"/>
                <a:ext cx="152388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ЫБОРК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2971800" y="3429000"/>
              <a:ext cx="1599840" cy="914040"/>
              <a:chOff x="2971800" y="3429000"/>
              <a:chExt cx="1599840" cy="914040"/>
            </a:xfrm>
          </p:grpSpPr>
          <p:sp>
            <p:nvSpPr>
              <p:cNvPr id="487" name=""/>
              <p:cNvSpPr/>
              <p:nvPr/>
            </p:nvSpPr>
            <p:spPr>
              <a:xfrm>
                <a:off x="2971800" y="3429000"/>
                <a:ext cx="159984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971800" y="3581280"/>
                <a:ext cx="159984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ОПОСТАВЛЕН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5105520" y="3429000"/>
              <a:ext cx="1523880" cy="914040"/>
              <a:chOff x="5105520" y="3429000"/>
              <a:chExt cx="1523880" cy="914040"/>
            </a:xfrm>
          </p:grpSpPr>
          <p:sp>
            <p:nvSpPr>
              <p:cNvPr id="490" name=""/>
              <p:cNvSpPr/>
              <p:nvPr/>
            </p:nvSpPr>
            <p:spPr>
              <a:xfrm>
                <a:off x="5105520" y="342900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105520" y="3581280"/>
                <a:ext cx="152388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ЗРЕШЕНИЕ КОНФЛИКТО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7162920" y="3429000"/>
              <a:ext cx="1523880" cy="914040"/>
              <a:chOff x="7162920" y="3429000"/>
              <a:chExt cx="1523880" cy="914040"/>
            </a:xfrm>
          </p:grpSpPr>
          <p:sp>
            <p:nvSpPr>
              <p:cNvPr id="493" name=""/>
              <p:cNvSpPr/>
              <p:nvPr/>
            </p:nvSpPr>
            <p:spPr>
              <a:xfrm>
                <a:off x="7162920" y="342900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162920" y="3581280"/>
                <a:ext cx="152388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ЫПОЛНЕН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457200" y="4724280"/>
              <a:ext cx="1523880" cy="914040"/>
              <a:chOff x="457200" y="4724280"/>
              <a:chExt cx="1523880" cy="914040"/>
            </a:xfrm>
          </p:grpSpPr>
          <p:sp>
            <p:nvSpPr>
              <p:cNvPr id="496" name=""/>
              <p:cNvSpPr/>
              <p:nvPr/>
            </p:nvSpPr>
            <p:spPr>
              <a:xfrm>
                <a:off x="457200" y="472428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57200" y="4876560"/>
                <a:ext cx="152388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АЗА ЗНАНИЙ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2362320" y="4724280"/>
              <a:ext cx="1523880" cy="914040"/>
              <a:chOff x="2362320" y="4724280"/>
              <a:chExt cx="1523880" cy="914040"/>
            </a:xfrm>
          </p:grpSpPr>
          <p:sp>
            <p:nvSpPr>
              <p:cNvPr id="499" name=""/>
              <p:cNvSpPr/>
              <p:nvPr/>
            </p:nvSpPr>
            <p:spPr>
              <a:xfrm>
                <a:off x="2362320" y="472428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362320" y="4876560"/>
                <a:ext cx="152388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ЕЛЕВАНТНЫЙ НАБ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4343400" y="4724280"/>
              <a:ext cx="1523880" cy="914040"/>
              <a:chOff x="4343400" y="4724280"/>
              <a:chExt cx="1523880" cy="914040"/>
            </a:xfrm>
          </p:grpSpPr>
          <p:sp>
            <p:nvSpPr>
              <p:cNvPr id="502" name=""/>
              <p:cNvSpPr/>
              <p:nvPr/>
            </p:nvSpPr>
            <p:spPr>
              <a:xfrm>
                <a:off x="4343400" y="472428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343400" y="4876560"/>
                <a:ext cx="152388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КОНФЛИКТНЫЙ НАБ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6324480" y="4724280"/>
              <a:ext cx="1524240" cy="914040"/>
              <a:chOff x="6324480" y="4724280"/>
              <a:chExt cx="1524240" cy="914040"/>
            </a:xfrm>
          </p:grpSpPr>
          <p:sp>
            <p:nvSpPr>
              <p:cNvPr id="505" name=""/>
              <p:cNvSpPr/>
              <p:nvPr/>
            </p:nvSpPr>
            <p:spPr>
              <a:xfrm>
                <a:off x="6324480" y="4724280"/>
                <a:ext cx="152424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324480" y="4876560"/>
                <a:ext cx="152424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ТБ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3048120" y="1905120"/>
              <a:ext cx="3123360" cy="609480"/>
              <a:chOff x="3048120" y="1905120"/>
              <a:chExt cx="3123360" cy="609480"/>
            </a:xfrm>
          </p:grpSpPr>
          <p:sp>
            <p:nvSpPr>
              <p:cNvPr id="508" name=""/>
              <p:cNvSpPr/>
              <p:nvPr/>
            </p:nvSpPr>
            <p:spPr>
              <a:xfrm>
                <a:off x="3048120" y="1905120"/>
                <a:ext cx="31233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048120" y="2006640"/>
                <a:ext cx="312336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БОЧАЯ ПАМЯТ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 flipV="1">
              <a:off x="685800" y="40384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85800" y="4038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80880" y="3886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85800" y="213336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5800" y="3657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685800" y="2133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2438280" y="3962160"/>
              <a:ext cx="152640" cy="761760"/>
              <a:chOff x="2438280" y="3962160"/>
              <a:chExt cx="152640" cy="761760"/>
            </a:xfrm>
          </p:grpSpPr>
          <p:sp>
            <p:nvSpPr>
              <p:cNvPr id="517" name=""/>
              <p:cNvSpPr/>
              <p:nvPr/>
            </p:nvSpPr>
            <p:spPr>
              <a:xfrm>
                <a:off x="2438280" y="396216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590920" y="396216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4572000" y="3962160"/>
              <a:ext cx="152280" cy="761760"/>
              <a:chOff x="4572000" y="3962160"/>
              <a:chExt cx="152280" cy="761760"/>
            </a:xfrm>
          </p:grpSpPr>
          <p:sp>
            <p:nvSpPr>
              <p:cNvPr id="520" name=""/>
              <p:cNvSpPr/>
              <p:nvPr/>
            </p:nvSpPr>
            <p:spPr>
              <a:xfrm>
                <a:off x="4572000" y="39621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724280" y="396216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6629400" y="3962160"/>
              <a:ext cx="152280" cy="761760"/>
              <a:chOff x="6629400" y="3962160"/>
              <a:chExt cx="152280" cy="761760"/>
            </a:xfrm>
          </p:grpSpPr>
          <p:sp>
            <p:nvSpPr>
              <p:cNvPr id="523" name=""/>
              <p:cNvSpPr/>
              <p:nvPr/>
            </p:nvSpPr>
            <p:spPr>
              <a:xfrm>
                <a:off x="6629400" y="39621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781680" y="396216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2819520" y="3733200"/>
              <a:ext cx="228240" cy="990360"/>
              <a:chOff x="2819520" y="3733200"/>
              <a:chExt cx="228240" cy="990360"/>
            </a:xfrm>
          </p:grpSpPr>
          <p:sp>
            <p:nvSpPr>
              <p:cNvPr id="526" name=""/>
              <p:cNvSpPr/>
              <p:nvPr/>
            </p:nvSpPr>
            <p:spPr>
              <a:xfrm flipV="1">
                <a:off x="2819520" y="37332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819520" y="37335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4952880" y="3733200"/>
              <a:ext cx="228240" cy="990360"/>
              <a:chOff x="4952880" y="3733200"/>
              <a:chExt cx="228240" cy="990360"/>
            </a:xfrm>
          </p:grpSpPr>
          <p:sp>
            <p:nvSpPr>
              <p:cNvPr id="529" name=""/>
              <p:cNvSpPr/>
              <p:nvPr/>
            </p:nvSpPr>
            <p:spPr>
              <a:xfrm flipV="1">
                <a:off x="4952880" y="37332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952880" y="37335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7010280" y="3733200"/>
              <a:ext cx="228240" cy="990360"/>
              <a:chOff x="7010280" y="3733200"/>
              <a:chExt cx="228240" cy="990360"/>
            </a:xfrm>
          </p:grpSpPr>
          <p:sp>
            <p:nvSpPr>
              <p:cNvPr id="532" name=""/>
              <p:cNvSpPr/>
              <p:nvPr/>
            </p:nvSpPr>
            <p:spPr>
              <a:xfrm flipV="1">
                <a:off x="7010280" y="37332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010280" y="37335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6095880" y="220968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839080" y="220968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8610120" y="3809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609480" y="9144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ЦИКЛ РАБО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24080" y="1066680"/>
            <a:ext cx="3048120" cy="1676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914400" y="3809880"/>
            <a:ext cx="2971800" cy="228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1143000" y="4343040"/>
            <a:ext cx="2514600" cy="688680"/>
            <a:chOff x="1143000" y="4343040"/>
            <a:chExt cx="2514600" cy="688680"/>
          </a:xfrm>
        </p:grpSpPr>
        <p:grpSp>
          <p:nvGrpSpPr>
            <p:cNvPr id="543" name=""/>
            <p:cNvGrpSpPr/>
            <p:nvPr/>
          </p:nvGrpSpPr>
          <p:grpSpPr>
            <a:xfrm>
              <a:off x="1143000" y="4572000"/>
              <a:ext cx="2514600" cy="459720"/>
              <a:chOff x="1143000" y="4572000"/>
              <a:chExt cx="2514600" cy="459720"/>
            </a:xfrm>
          </p:grpSpPr>
          <p:sp>
            <p:nvSpPr>
              <p:cNvPr id="544" name=""/>
              <p:cNvSpPr/>
              <p:nvPr/>
            </p:nvSpPr>
            <p:spPr>
              <a:xfrm>
                <a:off x="114300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67652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51460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27672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133720" y="4572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895480" y="4572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0" name=""/>
            <p:cNvSpPr/>
            <p:nvPr/>
          </p:nvSpPr>
          <p:spPr>
            <a:xfrm rot="16200000">
              <a:off x="2247840" y="3390480"/>
              <a:ext cx="228600" cy="21337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1066680" y="39625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А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66680" y="5257800"/>
            <a:ext cx="2514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РАБОЧАЯ ПАМЯ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(БАЗА ДАННЫХ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952880" y="2971800"/>
            <a:ext cx="3657600" cy="3352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5105520" y="3505320"/>
            <a:ext cx="3352680" cy="2286000"/>
            <a:chOff x="5105520" y="3505320"/>
            <a:chExt cx="3352680" cy="2286000"/>
          </a:xfrm>
        </p:grpSpPr>
        <p:grpSp>
          <p:nvGrpSpPr>
            <p:cNvPr id="555" name=""/>
            <p:cNvGrpSpPr/>
            <p:nvPr/>
          </p:nvGrpSpPr>
          <p:grpSpPr>
            <a:xfrm>
              <a:off x="5105520" y="3505320"/>
              <a:ext cx="3352680" cy="533520"/>
              <a:chOff x="5105520" y="3505320"/>
              <a:chExt cx="3352680" cy="533520"/>
            </a:xfrm>
          </p:grpSpPr>
          <p:sp>
            <p:nvSpPr>
              <p:cNvPr id="556" name=""/>
              <p:cNvSpPr/>
              <p:nvPr/>
            </p:nvSpPr>
            <p:spPr>
              <a:xfrm>
                <a:off x="5105520" y="3505320"/>
                <a:ext cx="335268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7" name=""/>
              <p:cNvGrpSpPr/>
              <p:nvPr/>
            </p:nvGrpSpPr>
            <p:grpSpPr>
              <a:xfrm>
                <a:off x="5791320" y="3581640"/>
                <a:ext cx="1218960" cy="380880"/>
                <a:chOff x="5791320" y="3581640"/>
                <a:chExt cx="1218960" cy="38088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791320" y="35816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855400" y="35816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ЕСЛИ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St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7162920" y="3581640"/>
                <a:ext cx="1218960" cy="380880"/>
                <a:chOff x="7162920" y="3581640"/>
                <a:chExt cx="1218960" cy="38088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7162920" y="35816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227000" y="35816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ТО  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3" name=""/>
              <p:cNvSpPr/>
              <p:nvPr/>
            </p:nvSpPr>
            <p:spPr>
              <a:xfrm>
                <a:off x="5181480" y="358164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5105520" y="4191120"/>
              <a:ext cx="3352680" cy="533520"/>
              <a:chOff x="5105520" y="4191120"/>
              <a:chExt cx="3352680" cy="533520"/>
            </a:xfrm>
          </p:grpSpPr>
          <p:sp>
            <p:nvSpPr>
              <p:cNvPr id="565" name=""/>
              <p:cNvSpPr/>
              <p:nvPr/>
            </p:nvSpPr>
            <p:spPr>
              <a:xfrm>
                <a:off x="5105520" y="4191120"/>
                <a:ext cx="335268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6" name=""/>
              <p:cNvGrpSpPr/>
              <p:nvPr/>
            </p:nvGrpSpPr>
            <p:grpSpPr>
              <a:xfrm>
                <a:off x="5791320" y="4267440"/>
                <a:ext cx="1218960" cy="380880"/>
                <a:chOff x="5791320" y="4267440"/>
                <a:chExt cx="1218960" cy="38088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5791320" y="42674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5855400" y="42674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ЕСЛИ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St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7162920" y="4267440"/>
                <a:ext cx="1218960" cy="380880"/>
                <a:chOff x="7162920" y="4267440"/>
                <a:chExt cx="1218960" cy="38088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7162920" y="42674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7227000" y="42674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ТО  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2" name=""/>
              <p:cNvSpPr/>
              <p:nvPr/>
            </p:nvSpPr>
            <p:spPr>
              <a:xfrm>
                <a:off x="5181480" y="426744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5105520" y="5258160"/>
              <a:ext cx="3352680" cy="533160"/>
              <a:chOff x="5105520" y="5258160"/>
              <a:chExt cx="3352680" cy="533160"/>
            </a:xfrm>
          </p:grpSpPr>
          <p:sp>
            <p:nvSpPr>
              <p:cNvPr id="574" name=""/>
              <p:cNvSpPr/>
              <p:nvPr/>
            </p:nvSpPr>
            <p:spPr>
              <a:xfrm>
                <a:off x="5105520" y="5258160"/>
                <a:ext cx="3352680" cy="5331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5" name=""/>
              <p:cNvGrpSpPr/>
              <p:nvPr/>
            </p:nvGrpSpPr>
            <p:grpSpPr>
              <a:xfrm>
                <a:off x="5791320" y="5334120"/>
                <a:ext cx="1218960" cy="380520"/>
                <a:chOff x="5791320" y="5334120"/>
                <a:chExt cx="1218960" cy="38052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5791320" y="5334120"/>
                  <a:ext cx="1218960" cy="3805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855400" y="533412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ЕСЛИ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St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7162920" y="5334120"/>
                <a:ext cx="1218960" cy="380520"/>
                <a:chOff x="7162920" y="5334120"/>
                <a:chExt cx="1218960" cy="38052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7162920" y="5334120"/>
                  <a:ext cx="1218960" cy="3805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7227000" y="533412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ТО  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"/>
              <p:cNvSpPr/>
              <p:nvPr/>
            </p:nvSpPr>
            <p:spPr>
              <a:xfrm>
                <a:off x="5181480" y="533412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2" name=""/>
          <p:cNvSpPr/>
          <p:nvPr/>
        </p:nvSpPr>
        <p:spPr>
          <a:xfrm>
            <a:off x="5105520" y="304812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БАЗА ЗНА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486400" y="5943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(ПРЕЦЕДЕНТЫ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352680" y="1905120"/>
            <a:ext cx="259092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2025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АМЯТЬ СОСТОЯ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00400" y="12193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ИНТЕРПРЕТАТО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2666880" y="2666880"/>
            <a:ext cx="914400" cy="1219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5181120" y="2666520"/>
            <a:ext cx="381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04920" y="9144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УПРАВ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28600" y="533520"/>
            <a:ext cx="8686800" cy="6172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33520" y="68580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ТРУКТУРА ПРОДУК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1523880" y="1219320"/>
            <a:ext cx="7010640" cy="533160"/>
            <a:chOff x="1523880" y="1219320"/>
            <a:chExt cx="7010640" cy="533160"/>
          </a:xfrm>
        </p:grpSpPr>
        <p:sp>
          <p:nvSpPr>
            <p:cNvPr id="594" name=""/>
            <p:cNvSpPr/>
            <p:nvPr/>
          </p:nvSpPr>
          <p:spPr>
            <a:xfrm>
              <a:off x="1523880" y="1219320"/>
              <a:ext cx="701064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676520" y="1325880"/>
              <a:ext cx="22860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СЛУЖЕБНА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648320" y="1325880"/>
              <a:ext cx="36576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ИНФОРМАЦИОННА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267080" y="1219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533520" y="3886200"/>
            <a:ext cx="5486400" cy="533520"/>
            <a:chOff x="533520" y="3886200"/>
            <a:chExt cx="5486400" cy="533520"/>
          </a:xfrm>
        </p:grpSpPr>
        <p:sp>
          <p:nvSpPr>
            <p:cNvPr id="599" name=""/>
            <p:cNvSpPr/>
            <p:nvPr/>
          </p:nvSpPr>
          <p:spPr>
            <a:xfrm>
              <a:off x="533520" y="3886200"/>
              <a:ext cx="1828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91120" y="3886200"/>
              <a:ext cx="1828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362320" y="3886200"/>
              <a:ext cx="1828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3844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99072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916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438640" y="3952440"/>
              <a:ext cx="152388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ГРУБ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343760" y="4019400"/>
              <a:ext cx="152388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ТОЧН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2743200" y="3367080"/>
            <a:ext cx="28195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НАСТРОЙ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62120" y="3367080"/>
            <a:ext cx="15238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ДОСТУ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400800" y="1828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4114800" y="2286000"/>
            <a:ext cx="4495680" cy="762120"/>
            <a:chOff x="4114800" y="2286000"/>
            <a:chExt cx="4495680" cy="762120"/>
          </a:xfrm>
        </p:grpSpPr>
        <p:sp>
          <p:nvSpPr>
            <p:cNvPr id="611" name=""/>
            <p:cNvSpPr/>
            <p:nvPr/>
          </p:nvSpPr>
          <p:spPr>
            <a:xfrm>
              <a:off x="4114800" y="2286000"/>
              <a:ext cx="4495680" cy="762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495680" y="2557080"/>
              <a:ext cx="365760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БИБЛИОТЕК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2590920" y="19810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838080" y="4876920"/>
            <a:ext cx="2895840" cy="457200"/>
            <a:chOff x="838080" y="4876920"/>
            <a:chExt cx="2895840" cy="457200"/>
          </a:xfrm>
        </p:grpSpPr>
        <p:sp>
          <p:nvSpPr>
            <p:cNvPr id="615" name=""/>
            <p:cNvSpPr/>
            <p:nvPr/>
          </p:nvSpPr>
          <p:spPr>
            <a:xfrm>
              <a:off x="838080" y="4876920"/>
              <a:ext cx="289584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838080" y="4876920"/>
              <a:ext cx="609840" cy="457200"/>
              <a:chOff x="838080" y="4876920"/>
              <a:chExt cx="609840" cy="457200"/>
            </a:xfrm>
          </p:grpSpPr>
          <p:sp>
            <p:nvSpPr>
              <p:cNvPr id="617" name=""/>
              <p:cNvSpPr/>
              <p:nvPr/>
            </p:nvSpPr>
            <p:spPr>
              <a:xfrm>
                <a:off x="838080" y="487692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914400" y="494208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1447920" y="4876920"/>
              <a:ext cx="609480" cy="457200"/>
              <a:chOff x="1447920" y="4876920"/>
              <a:chExt cx="609480" cy="457200"/>
            </a:xfrm>
          </p:grpSpPr>
          <p:sp>
            <p:nvSpPr>
              <p:cNvPr id="620" name=""/>
              <p:cNvSpPr/>
              <p:nvPr/>
            </p:nvSpPr>
            <p:spPr>
              <a:xfrm>
                <a:off x="1447920" y="487692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523880" y="4942080"/>
                <a:ext cx="45684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2286000" y="4876920"/>
              <a:ext cx="609480" cy="457200"/>
              <a:chOff x="2286000" y="4876920"/>
              <a:chExt cx="609480" cy="457200"/>
            </a:xfrm>
          </p:grpSpPr>
          <p:sp>
            <p:nvSpPr>
              <p:cNvPr id="623" name=""/>
              <p:cNvSpPr/>
              <p:nvPr/>
            </p:nvSpPr>
            <p:spPr>
              <a:xfrm>
                <a:off x="2286000" y="487692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361960" y="4942080"/>
                <a:ext cx="45684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3124080" y="4876920"/>
              <a:ext cx="609840" cy="457200"/>
              <a:chOff x="3124080" y="4876920"/>
              <a:chExt cx="609840" cy="457200"/>
            </a:xfrm>
          </p:grpSpPr>
          <p:sp>
            <p:nvSpPr>
              <p:cNvPr id="626" name=""/>
              <p:cNvSpPr/>
              <p:nvPr/>
            </p:nvSpPr>
            <p:spPr>
              <a:xfrm>
                <a:off x="3124080" y="487692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200400" y="494208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8" name=""/>
          <p:cNvSpPr/>
          <p:nvPr/>
        </p:nvSpPr>
        <p:spPr>
          <a:xfrm>
            <a:off x="1066680" y="45720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838080" y="5638680"/>
            <a:ext cx="2895840" cy="457200"/>
            <a:chOff x="838080" y="5638680"/>
            <a:chExt cx="2895840" cy="457200"/>
          </a:xfrm>
        </p:grpSpPr>
        <p:sp>
          <p:nvSpPr>
            <p:cNvPr id="630" name=""/>
            <p:cNvSpPr/>
            <p:nvPr/>
          </p:nvSpPr>
          <p:spPr>
            <a:xfrm>
              <a:off x="838080" y="5638680"/>
              <a:ext cx="289584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838080" y="5638680"/>
              <a:ext cx="609840" cy="457200"/>
              <a:chOff x="838080" y="5638680"/>
              <a:chExt cx="609840" cy="457200"/>
            </a:xfrm>
          </p:grpSpPr>
          <p:sp>
            <p:nvSpPr>
              <p:cNvPr id="632" name=""/>
              <p:cNvSpPr/>
              <p:nvPr/>
            </p:nvSpPr>
            <p:spPr>
              <a:xfrm>
                <a:off x="838080" y="563868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914400" y="5703840"/>
                <a:ext cx="45720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1447920" y="5638680"/>
              <a:ext cx="609480" cy="457200"/>
              <a:chOff x="1447920" y="5638680"/>
              <a:chExt cx="609480" cy="457200"/>
            </a:xfrm>
          </p:grpSpPr>
          <p:sp>
            <p:nvSpPr>
              <p:cNvPr id="635" name=""/>
              <p:cNvSpPr/>
              <p:nvPr/>
            </p:nvSpPr>
            <p:spPr>
              <a:xfrm>
                <a:off x="1447920" y="563868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523880" y="5703840"/>
                <a:ext cx="45684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2286000" y="5638680"/>
              <a:ext cx="609480" cy="457200"/>
              <a:chOff x="2286000" y="5638680"/>
              <a:chExt cx="609480" cy="457200"/>
            </a:xfrm>
          </p:grpSpPr>
          <p:sp>
            <p:nvSpPr>
              <p:cNvPr id="638" name=""/>
              <p:cNvSpPr/>
              <p:nvPr/>
            </p:nvSpPr>
            <p:spPr>
              <a:xfrm>
                <a:off x="2286000" y="563868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361960" y="5703840"/>
                <a:ext cx="45684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3124080" y="5638680"/>
              <a:ext cx="609840" cy="457200"/>
              <a:chOff x="3124080" y="5638680"/>
              <a:chExt cx="609840" cy="457200"/>
            </a:xfrm>
          </p:grpSpPr>
          <p:sp>
            <p:nvSpPr>
              <p:cNvPr id="641" name=""/>
              <p:cNvSpPr/>
              <p:nvPr/>
            </p:nvSpPr>
            <p:spPr>
              <a:xfrm>
                <a:off x="3124080" y="563868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200400" y="5703840"/>
                <a:ext cx="45720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3" name=""/>
          <p:cNvSpPr/>
          <p:nvPr/>
        </p:nvSpPr>
        <p:spPr>
          <a:xfrm>
            <a:off x="609480" y="617220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КАЦИОННЫЙ РАСПРО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121932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190512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2743200" y="518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81280" y="5105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2743200" y="4267080"/>
            <a:ext cx="4572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15000" y="4191120"/>
            <a:ext cx="53352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952880" y="51055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СОПОСТАВЛЕНИЕ ФОРМУ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30T18:38:28Z</dcterms:created>
  <dc:creator>Петр Соснин</dc:creator>
  <dc:description/>
  <dc:language>en-US</dc:language>
  <cp:lastModifiedBy>Валерий Г. Костин</cp:lastModifiedBy>
  <dcterms:modified xsi:type="dcterms:W3CDTF">2002-12-12T13:34:49Z</dcterms:modified>
  <cp:revision>16</cp:revision>
  <dc:subject/>
  <dc:title>ЭКСПЕРТНЫЕ СИСТЕМЫ</dc:title>
</cp:coreProperties>
</file>