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D5E4-1AF8-4CB7-99EC-B8E232A11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FFD7-A66D-4F6A-991F-DD0E64DE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59AA-14C9-4E43-B380-9A53779B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17AB-E738-4FF7-8C42-12EF69886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6D31-A8C7-4EC5-A928-450B4DBC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5E79-EFD4-4193-853A-F0565B1A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DAB5-A07B-44E2-9FD0-7EA5C9FD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1F7D-E2F5-4729-864B-03D727B3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9E24-AAD3-4375-B197-AB4BC96A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4122-8727-4C58-9E4B-31F72CD8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1602-11F0-44B9-AA7C-9017C7E2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F268-8761-481E-8304-0D08DDEA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415A-FA7B-43D3-8286-1D5C77A842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2.5.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533520"/>
            <a:ext cx="685800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ФОРМАЛЬНЫЕ ТЕ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ЯЗЫК ТЕОР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1.Алфави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2.Словар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авила слово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онтроль на принадлежность словар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3.Предлож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авила 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онтроль синтакси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1447920"/>
            <a:ext cx="6858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105520" y="1523880"/>
            <a:ext cx="3504600" cy="838440"/>
            <a:chOff x="5105520" y="1523880"/>
            <a:chExt cx="35046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5943240" y="1523880"/>
              <a:ext cx="914040" cy="838080"/>
              <a:chOff x="5943240" y="1523880"/>
              <a:chExt cx="914040" cy="838080"/>
            </a:xfrm>
          </p:grpSpPr>
          <p:sp>
            <p:nvSpPr>
              <p:cNvPr id="47" name=""/>
              <p:cNvSpPr/>
              <p:nvPr/>
            </p:nvSpPr>
            <p:spPr>
              <a:xfrm>
                <a:off x="6171480" y="1523880"/>
                <a:ext cx="68544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943240" y="1752480"/>
                <a:ext cx="914040" cy="6094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5105520" y="2133720"/>
              <a:ext cx="68544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24680" y="1752480"/>
              <a:ext cx="68544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010280" y="1752480"/>
              <a:ext cx="91404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952880" y="2819520"/>
            <a:ext cx="3353040" cy="990360"/>
            <a:chOff x="4952880" y="2819520"/>
            <a:chExt cx="3353040" cy="990360"/>
          </a:xfrm>
        </p:grpSpPr>
        <p:sp>
          <p:nvSpPr>
            <p:cNvPr id="53" name=""/>
            <p:cNvSpPr/>
            <p:nvPr/>
          </p:nvSpPr>
          <p:spPr>
            <a:xfrm>
              <a:off x="4952880" y="3276720"/>
              <a:ext cx="175284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19920" y="2819520"/>
              <a:ext cx="2286000" cy="68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3276720"/>
              <a:ext cx="6858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85800" y="4267080"/>
            <a:ext cx="8153280" cy="2304360"/>
            <a:chOff x="685800" y="4267080"/>
            <a:chExt cx="8153280" cy="2304360"/>
          </a:xfrm>
        </p:grpSpPr>
        <p:sp>
          <p:nvSpPr>
            <p:cNvPr id="57" name=""/>
            <p:cNvSpPr/>
            <p:nvPr/>
          </p:nvSpPr>
          <p:spPr>
            <a:xfrm>
              <a:off x="685800" y="4495680"/>
              <a:ext cx="8153280" cy="20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.АКСИО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.ПРАВИЛА ВЫВОДА = правила  образова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СЕМАНТИЧЕСКИ ПРАВИЛЬНЫЕ ПРЕДЛОЖЕ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1. Лем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2.Теоре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2819520" y="4267080"/>
              <a:ext cx="4038480" cy="457200"/>
              <a:chOff x="2819520" y="4267080"/>
              <a:chExt cx="4038480" cy="45720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2819520" y="4495680"/>
                <a:ext cx="1371600" cy="228600"/>
                <a:chOff x="2819520" y="4495680"/>
                <a:chExt cx="1371600" cy="22860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2819520" y="44956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505320" y="44956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3505320" y="4267080"/>
                <a:ext cx="68580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4800600" y="4267080"/>
                <a:ext cx="2057400" cy="457200"/>
                <a:chOff x="4800600" y="4267080"/>
                <a:chExt cx="2057400" cy="4572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6172200" y="42670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" name=""/>
                <p:cNvGrpSpPr/>
                <p:nvPr/>
              </p:nvGrpSpPr>
              <p:grpSpPr>
                <a:xfrm>
                  <a:off x="4800600" y="4495680"/>
                  <a:ext cx="1371600" cy="228600"/>
                  <a:chOff x="4800600" y="4495680"/>
                  <a:chExt cx="1371600" cy="22860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4800600" y="4495680"/>
                    <a:ext cx="68580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5486400" y="4495680"/>
                    <a:ext cx="68580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" name=""/>
                <p:cNvSpPr/>
                <p:nvPr/>
              </p:nvSpPr>
              <p:spPr>
                <a:xfrm>
                  <a:off x="5486400" y="42670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685800" y="3581280"/>
            <a:ext cx="7315200" cy="2819520"/>
            <a:chOff x="685800" y="3581280"/>
            <a:chExt cx="7315200" cy="2819520"/>
          </a:xfrm>
        </p:grpSpPr>
        <p:sp>
          <p:nvSpPr>
            <p:cNvPr id="402" name=""/>
            <p:cNvSpPr/>
            <p:nvPr/>
          </p:nvSpPr>
          <p:spPr>
            <a:xfrm>
              <a:off x="6477120" y="38862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752480" y="3581280"/>
              <a:ext cx="617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В  А  Р  И  А  Н  Т  Ы               М  О  Д  Е  Л  Е  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685800" y="4267080"/>
              <a:ext cx="2209680" cy="1928880"/>
              <a:chOff x="685800" y="4267080"/>
              <a:chExt cx="2209680" cy="1928880"/>
            </a:xfrm>
          </p:grpSpPr>
          <p:sp>
            <p:nvSpPr>
              <p:cNvPr id="405" name=""/>
              <p:cNvSpPr/>
              <p:nvPr/>
            </p:nvSpPr>
            <p:spPr>
              <a:xfrm>
                <a:off x="685800" y="4267080"/>
                <a:ext cx="2209680" cy="192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1:  P1      P2      P3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2:  P1              P2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3   P1               P3,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4:  P2            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5:     P3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6:     P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6" name=""/>
              <p:cNvGrpSpPr/>
              <p:nvPr/>
            </p:nvGrpSpPr>
            <p:grpSpPr>
              <a:xfrm>
                <a:off x="1523880" y="5257440"/>
                <a:ext cx="205920" cy="152640"/>
                <a:chOff x="1523880" y="5257440"/>
                <a:chExt cx="205920" cy="15264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523880" y="52578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V="1">
                  <a:off x="1626840" y="52574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1523880" y="4952880"/>
                <a:ext cx="205920" cy="152640"/>
                <a:chOff x="1523880" y="4952880"/>
                <a:chExt cx="205920" cy="15264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523880" y="4952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V="1">
                  <a:off x="1626840" y="4952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1523880" y="4647960"/>
                <a:ext cx="205920" cy="152640"/>
                <a:chOff x="1523880" y="4647960"/>
                <a:chExt cx="205920" cy="15264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1523880" y="464832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V="1">
                  <a:off x="1626840" y="464796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1828800" y="4343040"/>
                <a:ext cx="205920" cy="152640"/>
                <a:chOff x="1828800" y="4343040"/>
                <a:chExt cx="205920" cy="1526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1828800" y="43434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V="1">
                  <a:off x="1931760" y="43430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1371600" y="4343040"/>
                <a:ext cx="205920" cy="152640"/>
                <a:chOff x="1371600" y="4343040"/>
                <a:chExt cx="205920" cy="1526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1371600" y="43434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V="1">
                  <a:off x="1474560" y="43430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>
                <a:off x="1143000" y="4572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981080" y="45720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143000" y="4876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981080" y="487692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981080" y="52578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143000" y="52578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3733920" y="3962520"/>
              <a:ext cx="4038480" cy="304560"/>
              <a:chOff x="3733920" y="3962520"/>
              <a:chExt cx="4038480" cy="304560"/>
            </a:xfrm>
          </p:grpSpPr>
          <p:sp>
            <p:nvSpPr>
              <p:cNvPr id="428" name=""/>
              <p:cNvSpPr/>
              <p:nvPr/>
            </p:nvSpPr>
            <p:spPr>
              <a:xfrm>
                <a:off x="3733920" y="396252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733920" y="426708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5791320" y="3962520"/>
              <a:ext cx="0" cy="2438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14800" y="4343400"/>
              <a:ext cx="129528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24280" y="45720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91120" y="518148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48320" y="518148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91120" y="48769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67280" y="4343400"/>
              <a:ext cx="213372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,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57200" y="806400"/>
            <a:ext cx="7467480" cy="2471040"/>
            <a:chOff x="457200" y="806400"/>
            <a:chExt cx="7467480" cy="2471040"/>
          </a:xfrm>
        </p:grpSpPr>
        <p:sp>
          <p:nvSpPr>
            <p:cNvPr id="438" name=""/>
            <p:cNvSpPr/>
            <p:nvPr/>
          </p:nvSpPr>
          <p:spPr>
            <a:xfrm>
              <a:off x="457200" y="806400"/>
              <a:ext cx="396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СЕМАНТИЧЕСКИЕ ДЕРЕВЬ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52880" y="1111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29000" y="17971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24480" y="1797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029200" y="1263600"/>
              <a:ext cx="0" cy="3049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05320" y="1568520"/>
              <a:ext cx="28954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05320" y="1568520"/>
              <a:ext cx="0" cy="7617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400800" y="1568520"/>
              <a:ext cx="0" cy="7617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38280" y="2330280"/>
              <a:ext cx="17528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486400" y="2330280"/>
              <a:ext cx="19051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3828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3392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4320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6272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78168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1905120" y="2908080"/>
              <a:ext cx="990360" cy="337320"/>
              <a:chOff x="1905120" y="2908080"/>
              <a:chExt cx="990360" cy="337320"/>
            </a:xfrm>
          </p:grpSpPr>
          <p:sp>
            <p:nvSpPr>
              <p:cNvPr id="454" name=""/>
              <p:cNvSpPr/>
              <p:nvPr/>
            </p:nvSpPr>
            <p:spPr>
              <a:xfrm>
                <a:off x="2438280" y="290808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905120" y="290808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5486400" y="11113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14800" y="11113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105520" y="29401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562720" y="11113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267080" y="2863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43800" y="2863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809880" y="19494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010280" y="2863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9112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48640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9152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5029200" y="2940120"/>
              <a:ext cx="990360" cy="337320"/>
              <a:chOff x="5029200" y="2940120"/>
              <a:chExt cx="990360" cy="337320"/>
            </a:xfrm>
          </p:grpSpPr>
          <p:sp>
            <p:nvSpPr>
              <p:cNvPr id="468" name=""/>
              <p:cNvSpPr/>
              <p:nvPr/>
            </p:nvSpPr>
            <p:spPr>
              <a:xfrm>
                <a:off x="5562360" y="294012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29200" y="294012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3581280" y="2863800"/>
              <a:ext cx="990360" cy="337320"/>
              <a:chOff x="3581280" y="2863800"/>
              <a:chExt cx="990360" cy="337320"/>
            </a:xfrm>
          </p:grpSpPr>
          <p:sp>
            <p:nvSpPr>
              <p:cNvPr id="471" name=""/>
              <p:cNvSpPr/>
              <p:nvPr/>
            </p:nvSpPr>
            <p:spPr>
              <a:xfrm>
                <a:off x="4114440" y="28638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581280" y="286380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6934320" y="2863800"/>
              <a:ext cx="990360" cy="337320"/>
              <a:chOff x="6934320" y="2863800"/>
              <a:chExt cx="990360" cy="337320"/>
            </a:xfrm>
          </p:grpSpPr>
          <p:sp>
            <p:nvSpPr>
              <p:cNvPr id="474" name=""/>
              <p:cNvSpPr/>
              <p:nvPr/>
            </p:nvSpPr>
            <p:spPr>
              <a:xfrm>
                <a:off x="7467480" y="28638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934320" y="286380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800600" y="990720"/>
            <a:ext cx="2819520" cy="3581280"/>
          </a:xfrm>
          <a:prstGeom prst="flowChartExtra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19320" y="990720"/>
            <a:ext cx="2819160" cy="3581280"/>
          </a:xfrm>
          <a:prstGeom prst="flowChartExtra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447920" y="1066680"/>
            <a:ext cx="2361960" cy="2895840"/>
          </a:xfrm>
          <a:prstGeom prst="flowChartExtra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600200" y="1066680"/>
            <a:ext cx="2057400" cy="2590920"/>
          </a:xfrm>
          <a:prstGeom prst="flowChartExtra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590920" y="914400"/>
            <a:ext cx="75960" cy="763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172200" y="914400"/>
            <a:ext cx="76320" cy="763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14800" y="220968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685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51814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резолю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914400" y="5715000"/>
            <a:ext cx="7086600" cy="510120"/>
            <a:chOff x="914400" y="5715000"/>
            <a:chExt cx="7086600" cy="510120"/>
          </a:xfrm>
        </p:grpSpPr>
        <p:grpSp>
          <p:nvGrpSpPr>
            <p:cNvPr id="488" name=""/>
            <p:cNvGrpSpPr/>
            <p:nvPr/>
          </p:nvGrpSpPr>
          <p:grpSpPr>
            <a:xfrm>
              <a:off x="914400" y="5715000"/>
              <a:ext cx="2514600" cy="510120"/>
              <a:chOff x="914400" y="5715000"/>
              <a:chExt cx="2514600" cy="510120"/>
            </a:xfrm>
          </p:grpSpPr>
          <p:sp>
            <p:nvSpPr>
              <p:cNvPr id="489" name=""/>
              <p:cNvSpPr/>
              <p:nvPr/>
            </p:nvSpPr>
            <p:spPr>
              <a:xfrm>
                <a:off x="91440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P(…)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1828800" y="5867280"/>
                <a:ext cx="152280" cy="152640"/>
                <a:chOff x="1828800" y="5867280"/>
                <a:chExt cx="152280" cy="15264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182880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V="1">
                  <a:off x="190512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3" name=""/>
            <p:cNvGrpSpPr/>
            <p:nvPr/>
          </p:nvGrpSpPr>
          <p:grpSpPr>
            <a:xfrm>
              <a:off x="2895840" y="5715000"/>
              <a:ext cx="2514600" cy="510120"/>
              <a:chOff x="2895840" y="5715000"/>
              <a:chExt cx="2514600" cy="510120"/>
            </a:xfrm>
          </p:grpSpPr>
          <p:sp>
            <p:nvSpPr>
              <p:cNvPr id="494" name=""/>
              <p:cNvSpPr/>
              <p:nvPr/>
            </p:nvSpPr>
            <p:spPr>
              <a:xfrm>
                <a:off x="289584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P(…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5" name=""/>
              <p:cNvGrpSpPr/>
              <p:nvPr/>
            </p:nvGrpSpPr>
            <p:grpSpPr>
              <a:xfrm>
                <a:off x="3810240" y="5867280"/>
                <a:ext cx="152280" cy="152640"/>
                <a:chOff x="3810240" y="5867280"/>
                <a:chExt cx="152280" cy="15264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381024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V="1">
                  <a:off x="388656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8" name=""/>
            <p:cNvSpPr/>
            <p:nvPr/>
          </p:nvSpPr>
          <p:spPr>
            <a:xfrm>
              <a:off x="4114800" y="5715000"/>
              <a:ext cx="152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953240" y="594360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5486400" y="5715000"/>
              <a:ext cx="2514600" cy="510120"/>
              <a:chOff x="5486400" y="5715000"/>
              <a:chExt cx="2514600" cy="510120"/>
            </a:xfrm>
          </p:grpSpPr>
          <p:sp>
            <p:nvSpPr>
              <p:cNvPr id="501" name=""/>
              <p:cNvSpPr/>
              <p:nvPr/>
            </p:nvSpPr>
            <p:spPr>
              <a:xfrm>
                <a:off x="548640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2" name=""/>
              <p:cNvGrpSpPr/>
              <p:nvPr/>
            </p:nvGrpSpPr>
            <p:grpSpPr>
              <a:xfrm>
                <a:off x="6400800" y="5867280"/>
                <a:ext cx="152280" cy="152640"/>
                <a:chOff x="6400800" y="5867280"/>
                <a:chExt cx="152280" cy="15264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640080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V="1">
                  <a:off x="647712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52280" y="45720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0880" y="8380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Метод резолю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14400" y="1523880"/>
            <a:ext cx="7543800" cy="27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.Для  множества предложений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 =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{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найти пару, допускающую вывод по резолюции, произвести вывод (обозначим результат вывода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Если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результат вывода равен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il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то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оказательство завершено,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наче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включить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множество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и перейти к пункту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28800" y="46483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тратегии перебора множества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и стратегии вывода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533520" y="882720"/>
            <a:ext cx="3886200" cy="1175400"/>
            <a:chOff x="533520" y="882720"/>
            <a:chExt cx="3886200" cy="1175400"/>
          </a:xfrm>
        </p:grpSpPr>
        <p:sp>
          <p:nvSpPr>
            <p:cNvPr id="513" name=""/>
            <p:cNvSpPr/>
            <p:nvPr/>
          </p:nvSpPr>
          <p:spPr>
            <a:xfrm>
              <a:off x="533520" y="882720"/>
              <a:ext cx="388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{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438640" y="1066680"/>
              <a:ext cx="228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86160" y="172080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1880" y="1339560"/>
              <a:ext cx="21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1796760"/>
              <a:ext cx="129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4876920" y="882720"/>
            <a:ext cx="3886200" cy="1175400"/>
            <a:chOff x="4876920" y="882720"/>
            <a:chExt cx="3886200" cy="1175400"/>
          </a:xfrm>
        </p:grpSpPr>
        <p:sp>
          <p:nvSpPr>
            <p:cNvPr id="519" name=""/>
            <p:cNvSpPr/>
            <p:nvPr/>
          </p:nvSpPr>
          <p:spPr>
            <a:xfrm>
              <a:off x="4876920" y="882720"/>
              <a:ext cx="388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29200" y="172080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75280" y="1339920"/>
              <a:ext cx="21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05520" y="179712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29200" y="91440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6477120" y="914040"/>
              <a:ext cx="152280" cy="228960"/>
              <a:chOff x="6477120" y="914040"/>
              <a:chExt cx="152280" cy="228960"/>
            </a:xfrm>
          </p:grpSpPr>
          <p:sp>
            <p:nvSpPr>
              <p:cNvPr id="525" name=""/>
              <p:cNvSpPr/>
              <p:nvPr/>
            </p:nvSpPr>
            <p:spPr>
              <a:xfrm>
                <a:off x="6477120" y="990720"/>
                <a:ext cx="75960" cy="152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553080" y="914040"/>
                <a:ext cx="7632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038480" y="13716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685800" y="2362320"/>
            <a:ext cx="7848720" cy="3736080"/>
            <a:chOff x="685800" y="2362320"/>
            <a:chExt cx="7848720" cy="3736080"/>
          </a:xfrm>
        </p:grpSpPr>
        <p:grpSp>
          <p:nvGrpSpPr>
            <p:cNvPr id="529" name=""/>
            <p:cNvGrpSpPr/>
            <p:nvPr/>
          </p:nvGrpSpPr>
          <p:grpSpPr>
            <a:xfrm>
              <a:off x="1600200" y="2889360"/>
              <a:ext cx="6934320" cy="3209040"/>
              <a:chOff x="1600200" y="2889360"/>
              <a:chExt cx="6934320" cy="3209040"/>
            </a:xfrm>
          </p:grpSpPr>
          <p:sp>
            <p:nvSpPr>
              <p:cNvPr id="530" name=""/>
              <p:cNvSpPr/>
              <p:nvPr/>
            </p:nvSpPr>
            <p:spPr>
              <a:xfrm>
                <a:off x="1600200" y="2889360"/>
                <a:ext cx="335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0066"/>
                    </a:solidFill>
                    <a:latin typeface="Times New Roman"/>
                  </a:rPr>
                  <a:t>в(Cидоров, x)         в(Петров, x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638680" y="2889360"/>
                <a:ext cx="289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(Петров, x)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715000" y="2889360"/>
                <a:ext cx="1066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3" name=""/>
              <p:cNvGrpSpPr/>
              <p:nvPr/>
            </p:nvGrpSpPr>
            <p:grpSpPr>
              <a:xfrm>
                <a:off x="3048120" y="2951640"/>
                <a:ext cx="152280" cy="187200"/>
                <a:chOff x="3048120" y="2951640"/>
                <a:chExt cx="152280" cy="18720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3048120" y="2951640"/>
                  <a:ext cx="76320" cy="18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V="1">
                  <a:off x="3124440" y="2951640"/>
                  <a:ext cx="75960" cy="18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6" name=""/>
              <p:cNvSpPr/>
              <p:nvPr/>
            </p:nvSpPr>
            <p:spPr>
              <a:xfrm>
                <a:off x="2438280" y="3264120"/>
                <a:ext cx="609840" cy="93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3352680" y="3201480"/>
                <a:ext cx="2438640" cy="9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057400" y="4389120"/>
                <a:ext cx="190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0066"/>
                    </a:solidFill>
                    <a:latin typeface="Times New Roman"/>
                  </a:rPr>
                  <a:t>в(Cидоров, x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72000" y="4425480"/>
                <a:ext cx="320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(Сидоров, институт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743200" y="4638600"/>
                <a:ext cx="914400" cy="9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3733560" y="4763880"/>
                <a:ext cx="1447560" cy="87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352680" y="5638680"/>
                <a:ext cx="129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ni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685800" y="236232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Граф опроверж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638680" y="1581120"/>
            <a:ext cx="3505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(Петров, x)          в(Петров, x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33520" y="838080"/>
            <a:ext cx="7238880" cy="5106240"/>
            <a:chOff x="533520" y="838080"/>
            <a:chExt cx="7238880" cy="5106240"/>
          </a:xfrm>
        </p:grpSpPr>
        <p:sp>
          <p:nvSpPr>
            <p:cNvPr id="548" name=""/>
            <p:cNvSpPr/>
            <p:nvPr/>
          </p:nvSpPr>
          <p:spPr>
            <a:xfrm>
              <a:off x="1600200" y="1581120"/>
              <a:ext cx="335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15000" y="1581120"/>
              <a:ext cx="10666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3048120" y="1669680"/>
              <a:ext cx="152280" cy="263520"/>
              <a:chOff x="3048120" y="1669680"/>
              <a:chExt cx="152280" cy="263520"/>
            </a:xfrm>
          </p:grpSpPr>
          <p:sp>
            <p:nvSpPr>
              <p:cNvPr id="551" name=""/>
              <p:cNvSpPr/>
              <p:nvPr/>
            </p:nvSpPr>
            <p:spPr>
              <a:xfrm>
                <a:off x="3048120" y="167004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3124440" y="166968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2438280" y="2109960"/>
              <a:ext cx="609840" cy="132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3352680" y="2022480"/>
              <a:ext cx="2438640" cy="14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3520" y="3697200"/>
              <a:ext cx="342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  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572000" y="374976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743200" y="4051440"/>
              <a:ext cx="914400" cy="14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3733560" y="4227480"/>
              <a:ext cx="1447560" cy="12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743200" y="5607000"/>
              <a:ext cx="38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Петров, институт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5800" y="83808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Вывод отве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7010280" y="1599840"/>
              <a:ext cx="152280" cy="263520"/>
              <a:chOff x="7010280" y="1599840"/>
              <a:chExt cx="152280" cy="263520"/>
            </a:xfrm>
          </p:grpSpPr>
          <p:sp>
            <p:nvSpPr>
              <p:cNvPr id="562" name=""/>
              <p:cNvSpPr/>
              <p:nvPr/>
            </p:nvSpPr>
            <p:spPr>
              <a:xfrm>
                <a:off x="7010280" y="160020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7086600" y="159984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2057400" y="3809520"/>
              <a:ext cx="152280" cy="263520"/>
              <a:chOff x="2057400" y="3809520"/>
              <a:chExt cx="152280" cy="263520"/>
            </a:xfrm>
          </p:grpSpPr>
          <p:sp>
            <p:nvSpPr>
              <p:cNvPr id="565" name=""/>
              <p:cNvSpPr/>
              <p:nvPr/>
            </p:nvSpPr>
            <p:spPr>
              <a:xfrm>
                <a:off x="2057400" y="380988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V="1">
                <a:off x="2133720" y="380952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28600" y="762120"/>
            <a:ext cx="868680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2590920"/>
            <a:ext cx="3962160" cy="1066680"/>
            <a:chOff x="533520" y="2590920"/>
            <a:chExt cx="3962160" cy="1066680"/>
          </a:xfrm>
        </p:grpSpPr>
        <p:grpSp>
          <p:nvGrpSpPr>
            <p:cNvPr id="571" name=""/>
            <p:cNvGrpSpPr/>
            <p:nvPr/>
          </p:nvGrpSpPr>
          <p:grpSpPr>
            <a:xfrm>
              <a:off x="533520" y="3505320"/>
              <a:ext cx="3962160" cy="152280"/>
              <a:chOff x="533520" y="3505320"/>
              <a:chExt cx="3962160" cy="152280"/>
            </a:xfrm>
          </p:grpSpPr>
          <p:sp>
            <p:nvSpPr>
              <p:cNvPr id="572" name=""/>
              <p:cNvSpPr/>
              <p:nvPr/>
            </p:nvSpPr>
            <p:spPr>
              <a:xfrm>
                <a:off x="533520" y="3505320"/>
                <a:ext cx="396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53352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761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990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1218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447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1676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1904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2133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2361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2590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2819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3276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3504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3733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3962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4190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3047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1447560" y="2590920"/>
              <a:ext cx="533160" cy="457200"/>
              <a:chOff x="1447560" y="2590920"/>
              <a:chExt cx="533160" cy="457200"/>
            </a:xfrm>
          </p:grpSpPr>
          <p:sp>
            <p:nvSpPr>
              <p:cNvPr id="591" name=""/>
              <p:cNvSpPr/>
              <p:nvPr/>
            </p:nvSpPr>
            <p:spPr>
              <a:xfrm>
                <a:off x="1447560" y="2590920"/>
                <a:ext cx="53316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447560" y="25909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1447560" y="3048120"/>
              <a:ext cx="533160" cy="457200"/>
              <a:chOff x="1447560" y="3048120"/>
              <a:chExt cx="533160" cy="457200"/>
            </a:xfrm>
          </p:grpSpPr>
          <p:sp>
            <p:nvSpPr>
              <p:cNvPr id="594" name=""/>
              <p:cNvSpPr/>
              <p:nvPr/>
            </p:nvSpPr>
            <p:spPr>
              <a:xfrm>
                <a:off x="1447560" y="3048120"/>
                <a:ext cx="53316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447560" y="30481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895480" y="3048120"/>
              <a:ext cx="532800" cy="457200"/>
              <a:chOff x="2895480" y="3048120"/>
              <a:chExt cx="532800" cy="457200"/>
            </a:xfrm>
          </p:grpSpPr>
          <p:sp>
            <p:nvSpPr>
              <p:cNvPr id="597" name=""/>
              <p:cNvSpPr/>
              <p:nvPr/>
            </p:nvSpPr>
            <p:spPr>
              <a:xfrm>
                <a:off x="2895480" y="3048120"/>
                <a:ext cx="53280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895480" y="3048120"/>
                <a:ext cx="53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9" name=""/>
          <p:cNvSpPr/>
          <p:nvPr/>
        </p:nvSpPr>
        <p:spPr>
          <a:xfrm>
            <a:off x="457200" y="1219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90720" y="3962520"/>
            <a:ext cx="2209680" cy="24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C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2819520" y="1219320"/>
            <a:ext cx="609480" cy="685800"/>
            <a:chOff x="2819520" y="1219320"/>
            <a:chExt cx="609480" cy="685800"/>
          </a:xfrm>
        </p:grpSpPr>
        <p:sp>
          <p:nvSpPr>
            <p:cNvPr id="602" name=""/>
            <p:cNvSpPr/>
            <p:nvPr/>
          </p:nvSpPr>
          <p:spPr>
            <a:xfrm>
              <a:off x="3124080" y="1219320"/>
              <a:ext cx="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19520" y="1676520"/>
              <a:ext cx="609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819520" y="167652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429000" y="167652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3657600" y="1066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15000" y="3962520"/>
            <a:ext cx="2209680" cy="20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C,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B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4800240" y="1143000"/>
            <a:ext cx="3962880" cy="2514600"/>
            <a:chOff x="4800240" y="1143000"/>
            <a:chExt cx="3962880" cy="2514600"/>
          </a:xfrm>
        </p:grpSpPr>
        <p:grpSp>
          <p:nvGrpSpPr>
            <p:cNvPr id="609" name=""/>
            <p:cNvGrpSpPr/>
            <p:nvPr/>
          </p:nvGrpSpPr>
          <p:grpSpPr>
            <a:xfrm>
              <a:off x="4800240" y="3505320"/>
              <a:ext cx="3962880" cy="152280"/>
              <a:chOff x="4800240" y="3505320"/>
              <a:chExt cx="3962880" cy="152280"/>
            </a:xfrm>
          </p:grpSpPr>
          <p:sp>
            <p:nvSpPr>
              <p:cNvPr id="610" name=""/>
              <p:cNvSpPr/>
              <p:nvPr/>
            </p:nvSpPr>
            <p:spPr>
              <a:xfrm>
                <a:off x="4800600" y="35053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4800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5028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5257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5486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5714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5943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6171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6400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6629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6857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7086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7543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7772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8000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8229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8457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7314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6172200" y="2133720"/>
              <a:ext cx="533160" cy="1371600"/>
              <a:chOff x="6172200" y="2133720"/>
              <a:chExt cx="533160" cy="1371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6172200" y="2590920"/>
                <a:ext cx="533160" cy="457200"/>
                <a:chOff x="6172200" y="2590920"/>
                <a:chExt cx="533160" cy="45720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6172200" y="25909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6172200" y="25909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172200" y="3048120"/>
                <a:ext cx="533160" cy="457200"/>
                <a:chOff x="6172200" y="3048120"/>
                <a:chExt cx="533160" cy="45720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172200" y="30481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172200" y="30481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6172200" y="2133720"/>
                <a:ext cx="533160" cy="457200"/>
                <a:chOff x="6172200" y="2133720"/>
                <a:chExt cx="533160" cy="45720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6172200" y="21337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6172200" y="21337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8" name=""/>
            <p:cNvSpPr/>
            <p:nvPr/>
          </p:nvSpPr>
          <p:spPr>
            <a:xfrm>
              <a:off x="4876920" y="1295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b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7162920" y="1295280"/>
              <a:ext cx="609480" cy="685800"/>
              <a:chOff x="7162920" y="1295280"/>
              <a:chExt cx="609480" cy="685800"/>
            </a:xfrm>
          </p:grpSpPr>
          <p:sp>
            <p:nvSpPr>
              <p:cNvPr id="640" name=""/>
              <p:cNvSpPr/>
              <p:nvPr/>
            </p:nvSpPr>
            <p:spPr>
              <a:xfrm>
                <a:off x="7467480" y="1295280"/>
                <a:ext cx="0" cy="45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162920" y="1752480"/>
                <a:ext cx="609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162920" y="1752480"/>
                <a:ext cx="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772400" y="1752480"/>
                <a:ext cx="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800100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533520" y="762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ИМ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52280" y="838080"/>
            <a:ext cx="891540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" y="9907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ДЕЙСТВ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04920" y="1447920"/>
            <a:ext cx="4267080" cy="2438280"/>
            <a:chOff x="304920" y="1447920"/>
            <a:chExt cx="4267080" cy="2438280"/>
          </a:xfrm>
        </p:grpSpPr>
        <p:sp>
          <p:nvSpPr>
            <p:cNvPr id="651" name=""/>
            <p:cNvSpPr/>
            <p:nvPr/>
          </p:nvSpPr>
          <p:spPr>
            <a:xfrm>
              <a:off x="304920" y="1447920"/>
              <a:ext cx="4196160" cy="2438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4920" y="1523880"/>
              <a:ext cx="4267080" cy="19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pickup(x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Предусловия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&amp;HANDEMPTY&amp;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Список вычеркиваний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,HANDEMPTY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Формула добавлений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4724280" y="1752480"/>
            <a:ext cx="4267080" cy="1676520"/>
            <a:chOff x="4724280" y="1752480"/>
            <a:chExt cx="4267080" cy="1676520"/>
          </a:xfrm>
        </p:grpSpPr>
        <p:sp>
          <p:nvSpPr>
            <p:cNvPr id="654" name=""/>
            <p:cNvSpPr/>
            <p:nvPr/>
          </p:nvSpPr>
          <p:spPr>
            <a:xfrm>
              <a:off x="4724280" y="1752480"/>
              <a:ext cx="4267080" cy="1676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01680" y="1905120"/>
              <a:ext cx="410724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putdown(x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,HANDEMPTY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04920" y="4191120"/>
            <a:ext cx="3657600" cy="1752480"/>
            <a:chOff x="304920" y="4191120"/>
            <a:chExt cx="3657600" cy="1752480"/>
          </a:xfrm>
        </p:grpSpPr>
        <p:sp>
          <p:nvSpPr>
            <p:cNvPr id="657" name=""/>
            <p:cNvSpPr/>
            <p:nvPr/>
          </p:nvSpPr>
          <p:spPr>
            <a:xfrm>
              <a:off x="304920" y="4191120"/>
              <a:ext cx="3657600" cy="1752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0880" y="4492800"/>
              <a:ext cx="35053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tack(x,y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,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CLEAR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HANDEMPTY,ON(x,y)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724280" y="4191120"/>
            <a:ext cx="4195800" cy="1676160"/>
            <a:chOff x="4724280" y="4191120"/>
            <a:chExt cx="4195800" cy="1676160"/>
          </a:xfrm>
        </p:grpSpPr>
        <p:sp>
          <p:nvSpPr>
            <p:cNvPr id="660" name=""/>
            <p:cNvSpPr/>
            <p:nvPr/>
          </p:nvSpPr>
          <p:spPr>
            <a:xfrm>
              <a:off x="4724280" y="4191120"/>
              <a:ext cx="4195800" cy="1676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800600" y="4583160"/>
              <a:ext cx="3962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unstack(x,y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 HANDEMPTY,ON(x,y)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HOLDING(x),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CLEAR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304920" y="609480"/>
            <a:ext cx="8610480" cy="5867640"/>
            <a:chOff x="304920" y="609480"/>
            <a:chExt cx="8610480" cy="5867640"/>
          </a:xfrm>
        </p:grpSpPr>
        <p:grpSp>
          <p:nvGrpSpPr>
            <p:cNvPr id="665" name=""/>
            <p:cNvGrpSpPr/>
            <p:nvPr/>
          </p:nvGrpSpPr>
          <p:grpSpPr>
            <a:xfrm>
              <a:off x="1600200" y="1523880"/>
              <a:ext cx="1295280" cy="838080"/>
              <a:chOff x="1600200" y="1523880"/>
              <a:chExt cx="1295280" cy="838080"/>
            </a:xfrm>
          </p:grpSpPr>
          <p:sp>
            <p:nvSpPr>
              <p:cNvPr id="666" name=""/>
              <p:cNvSpPr/>
              <p:nvPr/>
            </p:nvSpPr>
            <p:spPr>
              <a:xfrm>
                <a:off x="1600200" y="15238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676160" y="16002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1600200" y="2286000"/>
              <a:ext cx="1295280" cy="838080"/>
              <a:chOff x="1600200" y="2286000"/>
              <a:chExt cx="1295280" cy="838080"/>
            </a:xfrm>
          </p:grpSpPr>
          <p:sp>
            <p:nvSpPr>
              <p:cNvPr id="669" name=""/>
              <p:cNvSpPr/>
              <p:nvPr/>
            </p:nvSpPr>
            <p:spPr>
              <a:xfrm>
                <a:off x="1600200" y="22860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76160" y="23623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1600200" y="3124080"/>
              <a:ext cx="1295280" cy="838080"/>
              <a:chOff x="1600200" y="3124080"/>
              <a:chExt cx="1295280" cy="838080"/>
            </a:xfrm>
          </p:grpSpPr>
          <p:sp>
            <p:nvSpPr>
              <p:cNvPr id="672" name=""/>
              <p:cNvSpPr/>
              <p:nvPr/>
            </p:nvSpPr>
            <p:spPr>
              <a:xfrm>
                <a:off x="1600200" y="31240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676160" y="32004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1600200" y="3962520"/>
              <a:ext cx="1295280" cy="838080"/>
              <a:chOff x="1600200" y="3962520"/>
              <a:chExt cx="1295280" cy="838080"/>
            </a:xfrm>
          </p:grpSpPr>
          <p:sp>
            <p:nvSpPr>
              <p:cNvPr id="675" name=""/>
              <p:cNvSpPr/>
              <p:nvPr/>
            </p:nvSpPr>
            <p:spPr>
              <a:xfrm>
                <a:off x="160020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676160" y="403884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1600200" y="4800600"/>
              <a:ext cx="1295280" cy="838080"/>
              <a:chOff x="1600200" y="4800600"/>
              <a:chExt cx="1295280" cy="838080"/>
            </a:xfrm>
          </p:grpSpPr>
          <p:sp>
            <p:nvSpPr>
              <p:cNvPr id="678" name=""/>
              <p:cNvSpPr/>
              <p:nvPr/>
            </p:nvSpPr>
            <p:spPr>
              <a:xfrm>
                <a:off x="160020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676160" y="48769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1600200" y="5638680"/>
              <a:ext cx="1295280" cy="838080"/>
              <a:chOff x="1600200" y="5638680"/>
              <a:chExt cx="1295280" cy="838080"/>
            </a:xfrm>
          </p:grpSpPr>
          <p:sp>
            <p:nvSpPr>
              <p:cNvPr id="681" name=""/>
              <p:cNvSpPr/>
              <p:nvPr/>
            </p:nvSpPr>
            <p:spPr>
              <a:xfrm>
                <a:off x="160020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676160" y="57150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2895480" y="2286000"/>
              <a:ext cx="1295640" cy="838080"/>
              <a:chOff x="2895480" y="2286000"/>
              <a:chExt cx="1295640" cy="838080"/>
            </a:xfrm>
          </p:grpSpPr>
          <p:sp>
            <p:nvSpPr>
              <p:cNvPr id="684" name=""/>
              <p:cNvSpPr/>
              <p:nvPr/>
            </p:nvSpPr>
            <p:spPr>
              <a:xfrm>
                <a:off x="2895480" y="22860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971800" y="236232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ANDEMP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2895480" y="3124080"/>
              <a:ext cx="1295640" cy="838080"/>
              <a:chOff x="2895480" y="3124080"/>
              <a:chExt cx="1295640" cy="838080"/>
            </a:xfrm>
          </p:grpSpPr>
          <p:sp>
            <p:nvSpPr>
              <p:cNvPr id="687" name=""/>
              <p:cNvSpPr/>
              <p:nvPr/>
            </p:nvSpPr>
            <p:spPr>
              <a:xfrm>
                <a:off x="2895480" y="31240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971800" y="320040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2895480" y="3962520"/>
              <a:ext cx="1295640" cy="838080"/>
              <a:chOff x="2895480" y="3962520"/>
              <a:chExt cx="1295640" cy="838080"/>
            </a:xfrm>
          </p:grpSpPr>
          <p:sp>
            <p:nvSpPr>
              <p:cNvPr id="690" name=""/>
              <p:cNvSpPr/>
              <p:nvPr/>
            </p:nvSpPr>
            <p:spPr>
              <a:xfrm>
                <a:off x="2895480" y="396252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971800" y="403884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2895480" y="4800600"/>
              <a:ext cx="1295640" cy="838080"/>
              <a:chOff x="2895480" y="4800600"/>
              <a:chExt cx="1295640" cy="838080"/>
            </a:xfrm>
          </p:grpSpPr>
          <p:sp>
            <p:nvSpPr>
              <p:cNvPr id="693" name=""/>
              <p:cNvSpPr/>
              <p:nvPr/>
            </p:nvSpPr>
            <p:spPr>
              <a:xfrm>
                <a:off x="2895480" y="48006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971800" y="487692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2895480" y="5638680"/>
              <a:ext cx="1295640" cy="838080"/>
              <a:chOff x="2895480" y="5638680"/>
              <a:chExt cx="1295640" cy="838080"/>
            </a:xfrm>
          </p:grpSpPr>
          <p:sp>
            <p:nvSpPr>
              <p:cNvPr id="696" name=""/>
              <p:cNvSpPr/>
              <p:nvPr/>
            </p:nvSpPr>
            <p:spPr>
              <a:xfrm>
                <a:off x="2895480" y="56386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971800" y="571500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4191120" y="3124080"/>
              <a:ext cx="1295280" cy="838080"/>
              <a:chOff x="4191120" y="3124080"/>
              <a:chExt cx="1295280" cy="838080"/>
            </a:xfrm>
          </p:grpSpPr>
          <p:sp>
            <p:nvSpPr>
              <p:cNvPr id="699" name=""/>
              <p:cNvSpPr/>
              <p:nvPr/>
            </p:nvSpPr>
            <p:spPr>
              <a:xfrm>
                <a:off x="4191120" y="31240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267080" y="32004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4191120" y="3962520"/>
              <a:ext cx="1295280" cy="838080"/>
              <a:chOff x="4191120" y="3962520"/>
              <a:chExt cx="1295280" cy="838080"/>
            </a:xfrm>
          </p:grpSpPr>
          <p:sp>
            <p:nvSpPr>
              <p:cNvPr id="702" name=""/>
              <p:cNvSpPr/>
              <p:nvPr/>
            </p:nvSpPr>
            <p:spPr>
              <a:xfrm>
                <a:off x="419112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267080" y="403884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4191120" y="4800600"/>
              <a:ext cx="1295280" cy="838080"/>
              <a:chOff x="4191120" y="4800600"/>
              <a:chExt cx="1295280" cy="838080"/>
            </a:xfrm>
          </p:grpSpPr>
          <p:sp>
            <p:nvSpPr>
              <p:cNvPr id="705" name=""/>
              <p:cNvSpPr/>
              <p:nvPr/>
            </p:nvSpPr>
            <p:spPr>
              <a:xfrm>
                <a:off x="419112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267080" y="48769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4191120" y="5638680"/>
              <a:ext cx="1295280" cy="838080"/>
              <a:chOff x="4191120" y="5638680"/>
              <a:chExt cx="1295280" cy="838080"/>
            </a:xfrm>
          </p:grpSpPr>
          <p:sp>
            <p:nvSpPr>
              <p:cNvPr id="708" name=""/>
              <p:cNvSpPr/>
              <p:nvPr/>
            </p:nvSpPr>
            <p:spPr>
              <a:xfrm>
                <a:off x="419112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267080" y="57150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486400" y="3962520"/>
              <a:ext cx="1295280" cy="838080"/>
              <a:chOff x="5486400" y="3962520"/>
              <a:chExt cx="1295280" cy="838080"/>
            </a:xfrm>
          </p:grpSpPr>
          <p:sp>
            <p:nvSpPr>
              <p:cNvPr id="711" name=""/>
              <p:cNvSpPr/>
              <p:nvPr/>
            </p:nvSpPr>
            <p:spPr>
              <a:xfrm>
                <a:off x="548640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562360" y="4038840"/>
                <a:ext cx="1218960" cy="4629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ANDEMP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5486400" y="4800600"/>
              <a:ext cx="1295280" cy="838080"/>
              <a:chOff x="5486400" y="4800600"/>
              <a:chExt cx="1295280" cy="838080"/>
            </a:xfrm>
          </p:grpSpPr>
          <p:sp>
            <p:nvSpPr>
              <p:cNvPr id="714" name=""/>
              <p:cNvSpPr/>
              <p:nvPr/>
            </p:nvSpPr>
            <p:spPr>
              <a:xfrm>
                <a:off x="548640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562360" y="4876920"/>
                <a:ext cx="1218960" cy="5086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5486400" y="5638680"/>
              <a:ext cx="1295280" cy="838080"/>
              <a:chOff x="5486400" y="5638680"/>
              <a:chExt cx="1295280" cy="838080"/>
            </a:xfrm>
          </p:grpSpPr>
          <p:sp>
            <p:nvSpPr>
              <p:cNvPr id="717" name=""/>
              <p:cNvSpPr/>
              <p:nvPr/>
            </p:nvSpPr>
            <p:spPr>
              <a:xfrm>
                <a:off x="548640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562360" y="57150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ON(B,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6781680" y="4800600"/>
              <a:ext cx="1295640" cy="838080"/>
              <a:chOff x="6781680" y="4800600"/>
              <a:chExt cx="1295640" cy="838080"/>
            </a:xfrm>
          </p:grpSpPr>
          <p:sp>
            <p:nvSpPr>
              <p:cNvPr id="720" name=""/>
              <p:cNvSpPr/>
              <p:nvPr/>
            </p:nvSpPr>
            <p:spPr>
              <a:xfrm>
                <a:off x="6781680" y="48006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858000" y="487692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6781680" y="5638680"/>
              <a:ext cx="1295640" cy="838080"/>
              <a:chOff x="6781680" y="5638680"/>
              <a:chExt cx="1295640" cy="838080"/>
            </a:xfrm>
          </p:grpSpPr>
          <p:sp>
            <p:nvSpPr>
              <p:cNvPr id="723" name=""/>
              <p:cNvSpPr/>
              <p:nvPr/>
            </p:nvSpPr>
            <p:spPr>
              <a:xfrm>
                <a:off x="6781680" y="56386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858000" y="571500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304920" y="685800"/>
              <a:ext cx="1295280" cy="5790960"/>
              <a:chOff x="304920" y="685800"/>
              <a:chExt cx="1295280" cy="5790960"/>
            </a:xfrm>
          </p:grpSpPr>
          <p:grpSp>
            <p:nvGrpSpPr>
              <p:cNvPr id="726" name=""/>
              <p:cNvGrpSpPr/>
              <p:nvPr/>
            </p:nvGrpSpPr>
            <p:grpSpPr>
              <a:xfrm>
                <a:off x="304920" y="685800"/>
                <a:ext cx="1295280" cy="838080"/>
                <a:chOff x="304920" y="685800"/>
                <a:chExt cx="1295280" cy="83808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304920" y="6858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80880" y="762120"/>
                  <a:ext cx="1218960" cy="6951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HANDEMPT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CLEAR(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(C,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304920" y="1523880"/>
                <a:ext cx="1295280" cy="838080"/>
                <a:chOff x="304920" y="1523880"/>
                <a:chExt cx="1295280" cy="83808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304920" y="15238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380880" y="16002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304920" y="2286000"/>
                <a:ext cx="1295280" cy="838080"/>
                <a:chOff x="304920" y="2286000"/>
                <a:chExt cx="1295280" cy="83808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20" y="22860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80880" y="2362320"/>
                  <a:ext cx="1218960" cy="4629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TABLE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CLEAR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304920" y="3124080"/>
                <a:ext cx="1295280" cy="838080"/>
                <a:chOff x="304920" y="3124080"/>
                <a:chExt cx="1295280" cy="83808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304920" y="31240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380880" y="32004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304920" y="3962520"/>
                <a:ext cx="1295280" cy="838080"/>
                <a:chOff x="304920" y="3962520"/>
                <a:chExt cx="1295280" cy="83808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304920" y="396252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80880" y="4038840"/>
                  <a:ext cx="1218960" cy="2307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TABLE(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304920" y="4800600"/>
                <a:ext cx="1295280" cy="838080"/>
                <a:chOff x="304920" y="4800600"/>
                <a:chExt cx="1295280" cy="83808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20" y="48006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80880" y="487692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304920" y="5638680"/>
                <a:ext cx="1295280" cy="838080"/>
                <a:chOff x="304920" y="5638680"/>
                <a:chExt cx="1295280" cy="83808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304920" y="56386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380880" y="57150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8077320" y="5638680"/>
              <a:ext cx="838080" cy="83844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001000" y="57913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ON(A,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276720" y="60948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УПРАВЛЯЮЩАЯ ТАБЛИЦ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1676520" y="11430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Unstack(C,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0" y="44197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ickup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562720" y="3581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Sack(B,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971800" y="1905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utdown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267080" y="2743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ickup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077320" y="5334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stack(A,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9160" y="584280"/>
            <a:ext cx="7683480" cy="6019560"/>
          </a:xfrm>
          <a:custGeom>
            <a:avLst/>
            <a:gdLst/>
            <a:ahLst/>
            <a:rect l="l" t="t" r="r" b="b"/>
            <a:pathLst>
              <a:path w="4840" h="3792">
                <a:moveTo>
                  <a:pt x="1640" y="160"/>
                </a:moveTo>
                <a:cubicBezTo>
                  <a:pt x="1088" y="160"/>
                  <a:pt x="488" y="128"/>
                  <a:pt x="248" y="400"/>
                </a:cubicBezTo>
                <a:cubicBezTo>
                  <a:pt x="8" y="672"/>
                  <a:pt x="240" y="1448"/>
                  <a:pt x="200" y="1792"/>
                </a:cubicBezTo>
                <a:cubicBezTo>
                  <a:pt x="160" y="2136"/>
                  <a:pt x="16" y="2240"/>
                  <a:pt x="8" y="2464"/>
                </a:cubicBezTo>
                <a:cubicBezTo>
                  <a:pt x="0" y="2688"/>
                  <a:pt x="88" y="2952"/>
                  <a:pt x="152" y="3136"/>
                </a:cubicBezTo>
                <a:cubicBezTo>
                  <a:pt x="216" y="3320"/>
                  <a:pt x="120" y="3504"/>
                  <a:pt x="392" y="3568"/>
                </a:cubicBezTo>
                <a:cubicBezTo>
                  <a:pt x="664" y="3632"/>
                  <a:pt x="1344" y="3504"/>
                  <a:pt x="1784" y="3520"/>
                </a:cubicBezTo>
                <a:cubicBezTo>
                  <a:pt x="2224" y="3536"/>
                  <a:pt x="2792" y="3664"/>
                  <a:pt x="3032" y="3664"/>
                </a:cubicBezTo>
                <a:cubicBezTo>
                  <a:pt x="3272" y="3664"/>
                  <a:pt x="3072" y="3544"/>
                  <a:pt x="3224" y="3520"/>
                </a:cubicBezTo>
                <a:cubicBezTo>
                  <a:pt x="3376" y="3496"/>
                  <a:pt x="3736" y="3496"/>
                  <a:pt x="3944" y="3520"/>
                </a:cubicBezTo>
                <a:cubicBezTo>
                  <a:pt x="4152" y="3544"/>
                  <a:pt x="4328" y="3792"/>
                  <a:pt x="4472" y="3664"/>
                </a:cubicBezTo>
                <a:cubicBezTo>
                  <a:pt x="4616" y="3536"/>
                  <a:pt x="4840" y="2992"/>
                  <a:pt x="4808" y="2752"/>
                </a:cubicBezTo>
                <a:cubicBezTo>
                  <a:pt x="4776" y="2512"/>
                  <a:pt x="4376" y="2456"/>
                  <a:pt x="4280" y="2224"/>
                </a:cubicBezTo>
                <a:cubicBezTo>
                  <a:pt x="4184" y="1992"/>
                  <a:pt x="4208" y="1704"/>
                  <a:pt x="4232" y="1360"/>
                </a:cubicBezTo>
                <a:cubicBezTo>
                  <a:pt x="4256" y="1016"/>
                  <a:pt x="4536" y="320"/>
                  <a:pt x="4424" y="160"/>
                </a:cubicBezTo>
                <a:cubicBezTo>
                  <a:pt x="4312" y="0"/>
                  <a:pt x="4032" y="408"/>
                  <a:pt x="3560" y="400"/>
                </a:cubicBezTo>
                <a:cubicBezTo>
                  <a:pt x="3088" y="392"/>
                  <a:pt x="2192" y="160"/>
                  <a:pt x="1640" y="16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1523880"/>
            <a:ext cx="5029200" cy="441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133720" y="2743200"/>
            <a:ext cx="4495680" cy="3048120"/>
            <a:chOff x="2133720" y="2743200"/>
            <a:chExt cx="4495680" cy="3048120"/>
          </a:xfrm>
        </p:grpSpPr>
        <p:sp>
          <p:nvSpPr>
            <p:cNvPr id="74" name=""/>
            <p:cNvSpPr/>
            <p:nvPr/>
          </p:nvSpPr>
          <p:spPr>
            <a:xfrm>
              <a:off x="2133720" y="2743200"/>
              <a:ext cx="4495680" cy="304812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90920" y="4191120"/>
              <a:ext cx="1676520" cy="10666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43200" y="44956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Аксиом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90920" y="3292560"/>
              <a:ext cx="388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Семантически правильно построенные формул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362320" y="175248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интаксически правильно построенные форму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990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остроенные форму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81280" y="4191120"/>
            <a:ext cx="6858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50292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763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609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ВЫВОД и ДОКАЗАТЕЛЬ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00200" y="914400"/>
            <a:ext cx="6248160" cy="2719800"/>
            <a:chOff x="1600200" y="914400"/>
            <a:chExt cx="6248160" cy="2719800"/>
          </a:xfrm>
        </p:grpSpPr>
        <p:sp>
          <p:nvSpPr>
            <p:cNvPr id="86" name=""/>
            <p:cNvSpPr/>
            <p:nvPr/>
          </p:nvSpPr>
          <p:spPr>
            <a:xfrm>
              <a:off x="1600200" y="1981080"/>
              <a:ext cx="5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176920" y="1523880"/>
              <a:ext cx="961200" cy="53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76920" y="2285640"/>
              <a:ext cx="865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76920" y="2438280"/>
              <a:ext cx="86508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38120" y="2666880"/>
              <a:ext cx="768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38120" y="19810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38120" y="12952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714840" y="1142640"/>
              <a:ext cx="11534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14840" y="1599840"/>
              <a:ext cx="105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11320" y="1904760"/>
              <a:ext cx="9608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07080" y="2285640"/>
              <a:ext cx="86508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811320" y="2819160"/>
              <a:ext cx="86508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07080" y="3124080"/>
              <a:ext cx="76896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25600" y="1066680"/>
              <a:ext cx="0" cy="2514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64760" y="22096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64760" y="26668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64760" y="31240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64760" y="167616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64760" y="12952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64760" y="91440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75520" y="152388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02320" y="1904760"/>
              <a:ext cx="67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406560" y="1676160"/>
              <a:ext cx="6724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3714480" y="1828440"/>
              <a:ext cx="86508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272680" y="2133360"/>
              <a:ext cx="6728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905120" y="3733920"/>
            <a:ext cx="5486400" cy="967320"/>
            <a:chOff x="1905120" y="3733920"/>
            <a:chExt cx="5486400" cy="967320"/>
          </a:xfrm>
        </p:grpSpPr>
        <p:sp>
          <p:nvSpPr>
            <p:cNvPr id="112" name=""/>
            <p:cNvSpPr/>
            <p:nvPr/>
          </p:nvSpPr>
          <p:spPr>
            <a:xfrm>
              <a:off x="3048120" y="373392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трасса или граф до </a:t>
              </a: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1905120" y="4191120"/>
              <a:ext cx="5486400" cy="510120"/>
              <a:chOff x="1905120" y="4191120"/>
              <a:chExt cx="5486400" cy="510120"/>
            </a:xfrm>
          </p:grpSpPr>
          <p:sp>
            <p:nvSpPr>
              <p:cNvPr id="114" name=""/>
              <p:cNvSpPr/>
              <p:nvPr/>
            </p:nvSpPr>
            <p:spPr>
              <a:xfrm>
                <a:off x="1905120" y="4191120"/>
                <a:ext cx="5486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 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 ...  &amp;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J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…&amp; 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        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639040" y="44197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80880" y="4648320"/>
            <a:ext cx="7925040" cy="891000"/>
            <a:chOff x="380880" y="4648320"/>
            <a:chExt cx="7925040" cy="891000"/>
          </a:xfrm>
        </p:grpSpPr>
        <p:sp>
          <p:nvSpPr>
            <p:cNvPr id="117" name=""/>
            <p:cNvSpPr/>
            <p:nvPr/>
          </p:nvSpPr>
          <p:spPr>
            <a:xfrm>
              <a:off x="1371600" y="5029200"/>
              <a:ext cx="693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...  &amp;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…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&amp; T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ИСТИ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880" y="46483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прям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80880" y="5486400"/>
            <a:ext cx="7925040" cy="967320"/>
            <a:chOff x="380880" y="5486400"/>
            <a:chExt cx="7925040" cy="967320"/>
          </a:xfrm>
        </p:grpSpPr>
        <p:sp>
          <p:nvSpPr>
            <p:cNvPr id="120" name=""/>
            <p:cNvSpPr/>
            <p:nvPr/>
          </p:nvSpPr>
          <p:spPr>
            <a:xfrm>
              <a:off x="1371600" y="5943600"/>
              <a:ext cx="693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...  &amp;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…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&amp; T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ЛОЖ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86400" y="60199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880" y="548640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от противног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7621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ЯЗЫК ЛОГИКИ  ПРЕДИКАТОВ (ЛОГИКИ СКАЗУЕМЫХ, 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10666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простое предложение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1600200"/>
            <a:ext cx="8077320" cy="1113480"/>
            <a:chOff x="457200" y="1600200"/>
            <a:chExt cx="8077320" cy="1113480"/>
          </a:xfrm>
        </p:grpSpPr>
        <p:grpSp>
          <p:nvGrpSpPr>
            <p:cNvPr id="128" name=""/>
            <p:cNvGrpSpPr/>
            <p:nvPr/>
          </p:nvGrpSpPr>
          <p:grpSpPr>
            <a:xfrm>
              <a:off x="1066680" y="1665720"/>
              <a:ext cx="3911760" cy="1047960"/>
              <a:chOff x="1066680" y="1665720"/>
              <a:chExt cx="3911760" cy="104796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1066680" y="1665720"/>
                <a:ext cx="3911760" cy="337320"/>
                <a:chOff x="1066680" y="1665720"/>
                <a:chExt cx="3911760" cy="33732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1066680" y="1665720"/>
                  <a:ext cx="3911760" cy="27324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08880" y="1665720"/>
                  <a:ext cx="3769200" cy="3373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ПОДЛЕЖАЩЕЕ         СКАЗУЕМО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3200400" y="1993680"/>
                <a:ext cx="1440" cy="327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1066680" y="2376360"/>
                <a:ext cx="3911760" cy="337320"/>
                <a:chOff x="1066680" y="2376360"/>
                <a:chExt cx="3911760" cy="3373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1066680" y="2376360"/>
                  <a:ext cx="3911760" cy="2732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208880" y="2376360"/>
                  <a:ext cx="3769200" cy="33732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СКАЗУЕМОЕ   (ПОДЛЕЖАЩЕЕ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" name=""/>
              <p:cNvSpPr/>
              <p:nvPr/>
            </p:nvSpPr>
            <p:spPr>
              <a:xfrm>
                <a:off x="3429000" y="2047320"/>
                <a:ext cx="129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Times New Roman"/>
                  </a:rPr>
                  <a:t>ПЕРЕВОД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457200" y="16002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а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00600" y="17967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38680" y="1600200"/>
              <a:ext cx="289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СВОЙСТВО, ПРИЗНА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33520" y="2971800"/>
            <a:ext cx="8001000" cy="1640880"/>
            <a:chOff x="533520" y="2971800"/>
            <a:chExt cx="8001000" cy="1640880"/>
          </a:xfrm>
        </p:grpSpPr>
        <p:sp>
          <p:nvSpPr>
            <p:cNvPr id="141" name=""/>
            <p:cNvSpPr/>
            <p:nvPr/>
          </p:nvSpPr>
          <p:spPr>
            <a:xfrm>
              <a:off x="533520" y="2971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b</a:t>
              </a: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066680" y="3105000"/>
              <a:ext cx="5257080" cy="1047600"/>
              <a:chOff x="1066680" y="3105000"/>
              <a:chExt cx="5257080" cy="104760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1066680" y="3105000"/>
                <a:ext cx="5257080" cy="337320"/>
                <a:chOff x="1066680" y="3105000"/>
                <a:chExt cx="5257080" cy="3373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1066680" y="3105000"/>
                  <a:ext cx="5257080" cy="27324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255680" y="3105000"/>
                  <a:ext cx="5068080" cy="3373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ПОДЛЕЖАЩЕЕ   СКАЗУЕМОЕ   ДОПОЛ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" name=""/>
              <p:cNvSpPr/>
              <p:nvPr/>
            </p:nvSpPr>
            <p:spPr>
              <a:xfrm>
                <a:off x="3934440" y="3432960"/>
                <a:ext cx="1800" cy="327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1066680" y="3815280"/>
                <a:ext cx="5257080" cy="337320"/>
                <a:chOff x="1066680" y="3815280"/>
                <a:chExt cx="5257080" cy="3373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066680" y="3815280"/>
                  <a:ext cx="5257080" cy="2732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255680" y="3815280"/>
                  <a:ext cx="5068080" cy="33732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СКАЗУЕМОЕ   (ПОДЛЕЖАЩЕЕ, ДОПОЛНЕНИЕ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" name=""/>
              <p:cNvSpPr/>
              <p:nvPr/>
            </p:nvSpPr>
            <p:spPr>
              <a:xfrm>
                <a:off x="4241520" y="3488400"/>
                <a:ext cx="1740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Times New Roman"/>
                  </a:rPr>
                  <a:t>ПЕРЕВОД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3962520" y="4105440"/>
              <a:ext cx="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10080" y="4105440"/>
              <a:ext cx="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62520" y="443916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05720" y="41724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95280" y="43056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ОТНОШ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57400" y="4105440"/>
              <a:ext cx="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990720" y="4648320"/>
            <a:ext cx="7543800" cy="1763640"/>
            <a:chOff x="990720" y="4648320"/>
            <a:chExt cx="7543800" cy="1763640"/>
          </a:xfrm>
        </p:grpSpPr>
        <p:sp>
          <p:nvSpPr>
            <p:cNvPr id="158" name=""/>
            <p:cNvSpPr/>
            <p:nvPr/>
          </p:nvSpPr>
          <p:spPr>
            <a:xfrm>
              <a:off x="1523880" y="4648320"/>
              <a:ext cx="6019920" cy="7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КАТЕГОРИЧЕСКИЕ ВЫСКАЗЫВАНИЯ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Все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S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есть P.       Некоторые S естьP.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90720" y="5396040"/>
              <a:ext cx="7543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S(x) 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и 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P(x) , кванторы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- All ,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- Exist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SaP 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x (S(x)    P(x)),       SiP: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x (S(x)&amp;P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24080" y="640080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838080"/>
            <a:ext cx="8077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«Нет столь великой вещи, которую не превзошла бы величиной ещё большая. Нет вещи столь малой, в которую не поместилась бы меньшая»   Козьма Прут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85800" y="3124080"/>
            <a:ext cx="8153280" cy="1679040"/>
            <a:chOff x="685800" y="3124080"/>
            <a:chExt cx="8153280" cy="1679040"/>
          </a:xfrm>
        </p:grpSpPr>
        <p:sp>
          <p:nvSpPr>
            <p:cNvPr id="165" name=""/>
            <p:cNvSpPr/>
            <p:nvPr/>
          </p:nvSpPr>
          <p:spPr>
            <a:xfrm>
              <a:off x="685800" y="3124080"/>
              <a:ext cx="815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Вещи:                 ... ,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, … , y, …,v, …, w,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71600" y="3962520"/>
              <a:ext cx="5867280" cy="0"/>
            </a:xfrm>
            <a:prstGeom prst="line">
              <a:avLst/>
            </a:prstGeom>
            <a:ln w="9360">
              <a:solidFill>
                <a:srgbClr val="990000"/>
              </a:solidFill>
              <a:prstDash val="lgDashDot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5268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9112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7692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1500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66680" y="42670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меньш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00800" y="43434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больш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143000" y="52578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- v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w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больше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,v)} &amp;{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y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еньше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,y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)}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700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Пример перев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1219320"/>
            <a:ext cx="29718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идоров и Петров друзь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Они всегда вмес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идоров в институ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де Петров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3273480"/>
            <a:ext cx="35812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едметные единицы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onst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идоров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,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етров, институт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классы: друзья, он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873680"/>
            <a:ext cx="3733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едикаты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находиться_в(персона, место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в(персона, место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581280" y="2209680"/>
            <a:ext cx="4724640" cy="718560"/>
            <a:chOff x="3581280" y="2209680"/>
            <a:chExt cx="4724640" cy="718560"/>
          </a:xfrm>
        </p:grpSpPr>
        <p:sp>
          <p:nvSpPr>
            <p:cNvPr id="181" name=""/>
            <p:cNvSpPr/>
            <p:nvPr/>
          </p:nvSpPr>
          <p:spPr>
            <a:xfrm>
              <a:off x="5334120" y="2590920"/>
              <a:ext cx="297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81280" y="2209680"/>
              <a:ext cx="1752840" cy="3812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819520" y="2590920"/>
            <a:ext cx="5715000" cy="1632600"/>
            <a:chOff x="2819520" y="2590920"/>
            <a:chExt cx="5715000" cy="1632600"/>
          </a:xfrm>
        </p:grpSpPr>
        <p:sp>
          <p:nvSpPr>
            <p:cNvPr id="184" name=""/>
            <p:cNvSpPr/>
            <p:nvPr/>
          </p:nvSpPr>
          <p:spPr>
            <a:xfrm>
              <a:off x="2819520" y="2590920"/>
              <a:ext cx="274320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15000" y="3886200"/>
              <a:ext cx="281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429000" y="1523880"/>
            <a:ext cx="5257800" cy="337320"/>
            <a:chOff x="3429000" y="1523880"/>
            <a:chExt cx="5257800" cy="337320"/>
          </a:xfrm>
        </p:grpSpPr>
        <p:sp>
          <p:nvSpPr>
            <p:cNvPr id="187" name=""/>
            <p:cNvSpPr/>
            <p:nvPr/>
          </p:nvSpPr>
          <p:spPr>
            <a:xfrm>
              <a:off x="4952880" y="152388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{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29000" y="17524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038480" y="1066680"/>
            <a:ext cx="3124440" cy="780120"/>
            <a:chOff x="4038480" y="1066680"/>
            <a:chExt cx="3124440" cy="780120"/>
          </a:xfrm>
        </p:grpSpPr>
        <p:grpSp>
          <p:nvGrpSpPr>
            <p:cNvPr id="190" name=""/>
            <p:cNvGrpSpPr/>
            <p:nvPr/>
          </p:nvGrpSpPr>
          <p:grpSpPr>
            <a:xfrm>
              <a:off x="4038480" y="1295280"/>
              <a:ext cx="3124440" cy="551520"/>
              <a:chOff x="4038480" y="1295280"/>
              <a:chExt cx="3124440" cy="551520"/>
            </a:xfrm>
          </p:grpSpPr>
          <p:sp>
            <p:nvSpPr>
              <p:cNvPr id="191" name=""/>
              <p:cNvSpPr/>
              <p:nvPr/>
            </p:nvSpPr>
            <p:spPr>
              <a:xfrm>
                <a:off x="4038480" y="1295280"/>
                <a:ext cx="28958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934320" y="1295280"/>
                <a:ext cx="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81680" y="144792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66"/>
                    </a:solidFill>
                    <a:latin typeface="Times New Roman"/>
                  </a:rPr>
                  <a:t>&amp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6705720" y="1066680"/>
              <a:ext cx="304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724280" y="5029200"/>
            <a:ext cx="3810240" cy="762120"/>
            <a:chOff x="4724280" y="5029200"/>
            <a:chExt cx="3810240" cy="762120"/>
          </a:xfrm>
        </p:grpSpPr>
        <p:sp>
          <p:nvSpPr>
            <p:cNvPr id="196" name=""/>
            <p:cNvSpPr/>
            <p:nvPr/>
          </p:nvSpPr>
          <p:spPr>
            <a:xfrm>
              <a:off x="4724280" y="5029200"/>
              <a:ext cx="99072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43800" y="5029200"/>
              <a:ext cx="9907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43600" y="5105520"/>
              <a:ext cx="1371600" cy="4572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19920" y="51814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ерево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00600" y="51814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r>
                <a:rPr b="1" lang="ru-RU" sz="2000" spc="-1" strike="noStrike" baseline="30000">
                  <a:solidFill>
                    <a:srgbClr val="ff0066"/>
                  </a:solidFill>
                  <a:latin typeface="Times New Roman"/>
                </a:rPr>
                <a:t>Е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96080" y="51055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r>
                <a:rPr b="1" lang="ru-RU" sz="2000" spc="-1" strike="noStrike" baseline="30000">
                  <a:solidFill>
                    <a:srgbClr val="ff0066"/>
                  </a:solidFill>
                  <a:latin typeface="Times New Roman"/>
                </a:rPr>
                <a:t>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858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ЯЗЫК ЛОГИКИ  ПРЕДИКАТОВ (стандарт и приме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143000"/>
            <a:ext cx="8229600" cy="53341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295280"/>
            <a:ext cx="78487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1.Предметные константы (имена объект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a,b,34, -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2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едметные переменные(имена класс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,y,z,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3.Функции (преобразования объект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20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a+y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4.Предикатные константы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P, Q, больше, меньше, равно;P1,P2,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5.Логические знаки и кванторы : &amp;, </a:t>
            </a:r>
            <a:r>
              <a:rPr b="1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, …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6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Атомы (литералы): больше(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,5), not (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равно(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y,z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7.Предложения: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371600" y="4572000"/>
            <a:ext cx="7010280" cy="1882440"/>
            <a:chOff x="1371600" y="4572000"/>
            <a:chExt cx="7010280" cy="1882440"/>
          </a:xfrm>
        </p:grpSpPr>
        <p:sp>
          <p:nvSpPr>
            <p:cNvPr id="208" name=""/>
            <p:cNvSpPr/>
            <p:nvPr/>
          </p:nvSpPr>
          <p:spPr>
            <a:xfrm>
              <a:off x="1371600" y="4572000"/>
              <a:ext cx="7010280" cy="18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- аксио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P1 | P2 | P3   , P1      ~ P2 ,   P1         ~ P3,     P2          ~ P3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-формул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y{P1(x,y)&amp;P3(x,y)         P2(x,y)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3276720" y="5257800"/>
              <a:ext cx="3657600" cy="0"/>
              <a:chOff x="3276720" y="5257800"/>
              <a:chExt cx="3657600" cy="0"/>
            </a:xfrm>
          </p:grpSpPr>
          <p:sp>
            <p:nvSpPr>
              <p:cNvPr id="210" name=""/>
              <p:cNvSpPr/>
              <p:nvPr/>
            </p:nvSpPr>
            <p:spPr>
              <a:xfrm>
                <a:off x="32767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7057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8769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4724280" y="6248520"/>
              <a:ext cx="3812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990720"/>
            <a:ext cx="7619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685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НОРМАТИВНЫЕ ПРЕ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33360" y="1143000"/>
            <a:ext cx="4238640" cy="5523480"/>
            <a:chOff x="333360" y="1143000"/>
            <a:chExt cx="4238640" cy="5523480"/>
          </a:xfrm>
        </p:grpSpPr>
        <p:sp>
          <p:nvSpPr>
            <p:cNvPr id="219" name=""/>
            <p:cNvSpPr/>
            <p:nvPr/>
          </p:nvSpPr>
          <p:spPr>
            <a:xfrm>
              <a:off x="333360" y="1143000"/>
              <a:ext cx="4238640" cy="55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1.Исключение импликац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  X          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Ограничение отрицан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          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X         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          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X         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3. Разделение переменны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P(x) &amp;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Q(x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) </a:t>
              </a:r>
              <a:r>
                <a:rPr b="0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P(x) &amp;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Q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4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ение кванторов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Q(x,y)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Q(x,f(x)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5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реобразовать в предварённую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...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z {Q(x)&amp; P(y)&amp;…&amp; R(z)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6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реобразовать в конъюнкт.норм.форму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7.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ить кванторы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...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z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8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ить символы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9.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ереименовать перемен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2666880" y="1599840"/>
              <a:ext cx="205920" cy="152640"/>
              <a:chOff x="2666880" y="1599840"/>
              <a:chExt cx="205920" cy="152640"/>
            </a:xfrm>
          </p:grpSpPr>
          <p:sp>
            <p:nvSpPr>
              <p:cNvPr id="221" name=""/>
              <p:cNvSpPr/>
              <p:nvPr/>
            </p:nvSpPr>
            <p:spPr>
              <a:xfrm>
                <a:off x="2666880" y="16002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2769840" y="15998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2308320" y="1523880"/>
              <a:ext cx="206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1336680" y="2361960"/>
              <a:ext cx="186480" cy="152640"/>
              <a:chOff x="1336680" y="2361960"/>
              <a:chExt cx="186480" cy="152640"/>
            </a:xfrm>
          </p:grpSpPr>
          <p:sp>
            <p:nvSpPr>
              <p:cNvPr id="225" name=""/>
              <p:cNvSpPr/>
              <p:nvPr/>
            </p:nvSpPr>
            <p:spPr>
              <a:xfrm>
                <a:off x="1336680" y="236232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1429920" y="236196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2410920" y="2362320"/>
              <a:ext cx="187560" cy="152280"/>
              <a:chOff x="2410920" y="2362320"/>
              <a:chExt cx="187560" cy="15228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2410920" y="236232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04520" y="2362320"/>
                <a:ext cx="93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2098800" y="2286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84600" y="2286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52560" y="2209680"/>
              <a:ext cx="10285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2384280" y="2666880"/>
              <a:ext cx="205920" cy="152640"/>
              <a:chOff x="2384280" y="2666880"/>
              <a:chExt cx="205920" cy="152640"/>
            </a:xfrm>
          </p:grpSpPr>
          <p:sp>
            <p:nvSpPr>
              <p:cNvPr id="234" name=""/>
              <p:cNvSpPr/>
              <p:nvPr/>
            </p:nvSpPr>
            <p:spPr>
              <a:xfrm>
                <a:off x="2384280" y="2666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2487240" y="2666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315800" y="2743200"/>
              <a:ext cx="207720" cy="152280"/>
              <a:chOff x="1315800" y="2743200"/>
              <a:chExt cx="207720" cy="15228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315800" y="2743200"/>
                <a:ext cx="10332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19480" y="2743200"/>
                <a:ext cx="1040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2133720" y="2666880"/>
              <a:ext cx="2077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65520" y="2666880"/>
              <a:ext cx="206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90720" y="2590920"/>
              <a:ext cx="9144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00200" y="4267080"/>
              <a:ext cx="304920" cy="7632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ffff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791320" y="3657600"/>
            <a:ext cx="2514600" cy="2824920"/>
            <a:chOff x="5791320" y="3657600"/>
            <a:chExt cx="2514600" cy="2824920"/>
          </a:xfrm>
        </p:grpSpPr>
        <p:sp>
          <p:nvSpPr>
            <p:cNvPr id="244" name=""/>
            <p:cNvSpPr/>
            <p:nvPr/>
          </p:nvSpPr>
          <p:spPr>
            <a:xfrm>
              <a:off x="5791320" y="3657600"/>
              <a:ext cx="2514600" cy="28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одготов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1:  P1      P2      P3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2:  P1              P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3   P1               P3,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4:  P2               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T:     P3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           P1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       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&amp;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      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65880" y="449568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67480" y="449568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08880" y="487692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7480" y="533412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467480" y="571500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24480" y="487692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533412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00800" y="5715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6858000" y="4571640"/>
              <a:ext cx="205920" cy="152640"/>
              <a:chOff x="6858000" y="4571640"/>
              <a:chExt cx="205920" cy="152640"/>
            </a:xfrm>
          </p:grpSpPr>
          <p:sp>
            <p:nvSpPr>
              <p:cNvPr id="254" name=""/>
              <p:cNvSpPr/>
              <p:nvPr/>
            </p:nvSpPr>
            <p:spPr>
              <a:xfrm>
                <a:off x="6858000" y="45720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6960960" y="45716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6858000" y="4952880"/>
              <a:ext cx="205920" cy="152640"/>
              <a:chOff x="6858000" y="4952880"/>
              <a:chExt cx="205920" cy="152640"/>
            </a:xfrm>
          </p:grpSpPr>
          <p:sp>
            <p:nvSpPr>
              <p:cNvPr id="257" name=""/>
              <p:cNvSpPr/>
              <p:nvPr/>
            </p:nvSpPr>
            <p:spPr>
              <a:xfrm>
                <a:off x="685800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696096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6858000" y="5333760"/>
              <a:ext cx="205920" cy="152640"/>
              <a:chOff x="6858000" y="5333760"/>
              <a:chExt cx="205920" cy="152640"/>
            </a:xfrm>
          </p:grpSpPr>
          <p:sp>
            <p:nvSpPr>
              <p:cNvPr id="260" name=""/>
              <p:cNvSpPr/>
              <p:nvPr/>
            </p:nvSpPr>
            <p:spPr>
              <a:xfrm>
                <a:off x="6858000" y="53341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6960960" y="53337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6934320" y="5790960"/>
              <a:ext cx="205920" cy="152640"/>
              <a:chOff x="6934320" y="5790960"/>
              <a:chExt cx="205920" cy="152640"/>
            </a:xfrm>
          </p:grpSpPr>
          <p:sp>
            <p:nvSpPr>
              <p:cNvPr id="263" name=""/>
              <p:cNvSpPr/>
              <p:nvPr/>
            </p:nvSpPr>
            <p:spPr>
              <a:xfrm>
                <a:off x="6934320" y="57913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7037280" y="57909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7238880" y="4114440"/>
              <a:ext cx="205920" cy="152640"/>
              <a:chOff x="7238880" y="4114440"/>
              <a:chExt cx="205920" cy="152640"/>
            </a:xfrm>
          </p:grpSpPr>
          <p:sp>
            <p:nvSpPr>
              <p:cNvPr id="266" name=""/>
              <p:cNvSpPr/>
              <p:nvPr/>
            </p:nvSpPr>
            <p:spPr>
              <a:xfrm>
                <a:off x="7238880" y="4114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7341840" y="4114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6705720" y="4114440"/>
              <a:ext cx="205920" cy="152640"/>
              <a:chOff x="6705720" y="4114440"/>
              <a:chExt cx="205920" cy="152640"/>
            </a:xfrm>
          </p:grpSpPr>
          <p:sp>
            <p:nvSpPr>
              <p:cNvPr id="269" name=""/>
              <p:cNvSpPr/>
              <p:nvPr/>
            </p:nvSpPr>
            <p:spPr>
              <a:xfrm>
                <a:off x="6705720" y="4114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6808680" y="4114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6400800" y="5638680"/>
              <a:ext cx="1295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030640" y="1066680"/>
            <a:ext cx="2970360" cy="2843280"/>
            <a:chOff x="5030640" y="1066680"/>
            <a:chExt cx="2970360" cy="2843280"/>
          </a:xfrm>
        </p:grpSpPr>
        <p:grpSp>
          <p:nvGrpSpPr>
            <p:cNvPr id="273" name=""/>
            <p:cNvGrpSpPr/>
            <p:nvPr/>
          </p:nvGrpSpPr>
          <p:grpSpPr>
            <a:xfrm>
              <a:off x="5562720" y="1066680"/>
              <a:ext cx="2438280" cy="2843280"/>
              <a:chOff x="5562720" y="1066680"/>
              <a:chExt cx="2438280" cy="284328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5562720" y="1066680"/>
                <a:ext cx="2438280" cy="2843280"/>
                <a:chOff x="5562720" y="1066680"/>
                <a:chExt cx="2438280" cy="2843280"/>
              </a:xfrm>
            </p:grpSpPr>
            <p:grpSp>
              <p:nvGrpSpPr>
                <p:cNvPr id="275" name=""/>
                <p:cNvGrpSpPr/>
                <p:nvPr/>
              </p:nvGrpSpPr>
              <p:grpSpPr>
                <a:xfrm>
                  <a:off x="5639040" y="1455480"/>
                  <a:ext cx="2361960" cy="2454480"/>
                  <a:chOff x="5639040" y="1455480"/>
                  <a:chExt cx="2361960" cy="245448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5639040" y="1455480"/>
                    <a:ext cx="2361960" cy="24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1:  P1       P2        P3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2:  P1              P2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3   P1               P3,   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4:  P2               P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T:     P3</a:t>
                    </a: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             P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6629400" y="207288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6629400" y="24537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6629400" y="28346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6629400" y="32918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1" name=""/>
                <p:cNvSpPr/>
                <p:nvPr/>
              </p:nvSpPr>
              <p:spPr>
                <a:xfrm>
                  <a:off x="5562720" y="1066680"/>
                  <a:ext cx="175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1" lang="en-US" sz="2000" spc="-1" strike="noStrike">
                      <a:solidFill>
                        <a:srgbClr val="ff0066"/>
                      </a:solidFill>
                      <a:latin typeface="Times New Roman"/>
                    </a:rPr>
                    <a:t>приме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7261200" y="1523880"/>
                <a:ext cx="205920" cy="152640"/>
                <a:chOff x="7261200" y="1523880"/>
                <a:chExt cx="205920" cy="1526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26120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736416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553080" y="1523880"/>
                <a:ext cx="205920" cy="152640"/>
                <a:chOff x="6553080" y="1523880"/>
                <a:chExt cx="205920" cy="1526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655308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665604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" name=""/>
              <p:cNvSpPr/>
              <p:nvPr/>
            </p:nvSpPr>
            <p:spPr>
              <a:xfrm>
                <a:off x="7315200" y="312408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315200" y="274320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315200" y="228600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315200" y="190512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5030640" y="1523880"/>
              <a:ext cx="3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676520" y="990720"/>
            <a:ext cx="6172200" cy="3352320"/>
            <a:chOff x="1676520" y="990720"/>
            <a:chExt cx="6172200" cy="3352320"/>
          </a:xfrm>
        </p:grpSpPr>
        <p:grpSp>
          <p:nvGrpSpPr>
            <p:cNvPr id="296" name=""/>
            <p:cNvGrpSpPr/>
            <p:nvPr/>
          </p:nvGrpSpPr>
          <p:grpSpPr>
            <a:xfrm>
              <a:off x="2133720" y="990720"/>
              <a:ext cx="5105160" cy="2133000"/>
              <a:chOff x="2133720" y="990720"/>
              <a:chExt cx="5105160" cy="2133000"/>
            </a:xfrm>
          </p:grpSpPr>
          <p:sp>
            <p:nvSpPr>
              <p:cNvPr id="297" name=""/>
              <p:cNvSpPr/>
              <p:nvPr/>
            </p:nvSpPr>
            <p:spPr>
              <a:xfrm>
                <a:off x="4724280" y="9907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200400" y="1676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095880" y="167616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8620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3372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81480" y="2666880"/>
                <a:ext cx="15264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08660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800600" y="1143000"/>
                <a:ext cx="0" cy="3042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76720" y="1447560"/>
                <a:ext cx="28954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1447560"/>
                <a:ext cx="0" cy="7617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172200" y="1447560"/>
                <a:ext cx="0" cy="7617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09680" y="2209680"/>
                <a:ext cx="17528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257800" y="2209680"/>
                <a:ext cx="190512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20968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96252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25780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16292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6477120" y="3886200"/>
              <a:ext cx="7617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0532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1676520" y="3124080"/>
              <a:ext cx="990360" cy="380520"/>
              <a:chOff x="1676520" y="3124080"/>
              <a:chExt cx="990360" cy="380520"/>
            </a:xfrm>
          </p:grpSpPr>
          <p:sp>
            <p:nvSpPr>
              <p:cNvPr id="317" name=""/>
              <p:cNvSpPr/>
              <p:nvPr/>
            </p:nvSpPr>
            <p:spPr>
              <a:xfrm>
                <a:off x="16765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6765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6668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3505320" y="3124080"/>
              <a:ext cx="990360" cy="380520"/>
              <a:chOff x="3505320" y="3124080"/>
              <a:chExt cx="990360" cy="380520"/>
            </a:xfrm>
          </p:grpSpPr>
          <p:sp>
            <p:nvSpPr>
              <p:cNvPr id="321" name=""/>
              <p:cNvSpPr/>
              <p:nvPr/>
            </p:nvSpPr>
            <p:spPr>
              <a:xfrm>
                <a:off x="35053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053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4956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4800600" y="3124080"/>
              <a:ext cx="990360" cy="380520"/>
              <a:chOff x="4800600" y="3124080"/>
              <a:chExt cx="990360" cy="380520"/>
            </a:xfrm>
          </p:grpSpPr>
          <p:sp>
            <p:nvSpPr>
              <p:cNvPr id="325" name=""/>
              <p:cNvSpPr/>
              <p:nvPr/>
            </p:nvSpPr>
            <p:spPr>
              <a:xfrm>
                <a:off x="480060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80060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096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6705720" y="3124080"/>
              <a:ext cx="990360" cy="380520"/>
              <a:chOff x="6705720" y="3124080"/>
              <a:chExt cx="990360" cy="380520"/>
            </a:xfrm>
          </p:grpSpPr>
          <p:sp>
            <p:nvSpPr>
              <p:cNvPr id="329" name=""/>
              <p:cNvSpPr/>
              <p:nvPr/>
            </p:nvSpPr>
            <p:spPr>
              <a:xfrm>
                <a:off x="67057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057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6960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251460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3412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623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5308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76520" y="2787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57800" y="990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86200" y="990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911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053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72428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8640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5308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915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752480" y="358128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  А  Р  И  А  Н  Т  Ы               М  О  Д  Е  Л  Е  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85800" y="4267080"/>
            <a:ext cx="2209680" cy="1928880"/>
            <a:chOff x="685800" y="4267080"/>
            <a:chExt cx="2209680" cy="1928880"/>
          </a:xfrm>
        </p:grpSpPr>
        <p:sp>
          <p:nvSpPr>
            <p:cNvPr id="347" name=""/>
            <p:cNvSpPr/>
            <p:nvPr/>
          </p:nvSpPr>
          <p:spPr>
            <a:xfrm>
              <a:off x="685800" y="4267080"/>
              <a:ext cx="2209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1:  P1      P2      P3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2:  P1              P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3   P1               P3,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4:  P2         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:     P3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6:     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1523880" y="5257440"/>
              <a:ext cx="205920" cy="152640"/>
              <a:chOff x="1523880" y="5257440"/>
              <a:chExt cx="205920" cy="152640"/>
            </a:xfrm>
          </p:grpSpPr>
          <p:sp>
            <p:nvSpPr>
              <p:cNvPr id="349" name=""/>
              <p:cNvSpPr/>
              <p:nvPr/>
            </p:nvSpPr>
            <p:spPr>
              <a:xfrm>
                <a:off x="1523880" y="5257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1626840" y="5257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1523880" y="4952880"/>
              <a:ext cx="205920" cy="152640"/>
              <a:chOff x="1523880" y="4952880"/>
              <a:chExt cx="205920" cy="152640"/>
            </a:xfrm>
          </p:grpSpPr>
          <p:sp>
            <p:nvSpPr>
              <p:cNvPr id="352" name=""/>
              <p:cNvSpPr/>
              <p:nvPr/>
            </p:nvSpPr>
            <p:spPr>
              <a:xfrm>
                <a:off x="152388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162684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523880" y="4647960"/>
              <a:ext cx="205920" cy="152640"/>
              <a:chOff x="1523880" y="4647960"/>
              <a:chExt cx="205920" cy="152640"/>
            </a:xfrm>
          </p:grpSpPr>
          <p:sp>
            <p:nvSpPr>
              <p:cNvPr id="355" name=""/>
              <p:cNvSpPr/>
              <p:nvPr/>
            </p:nvSpPr>
            <p:spPr>
              <a:xfrm>
                <a:off x="1523880" y="46483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626840" y="46479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828800" y="4343040"/>
              <a:ext cx="205920" cy="152640"/>
              <a:chOff x="1828800" y="4343040"/>
              <a:chExt cx="205920" cy="152640"/>
            </a:xfrm>
          </p:grpSpPr>
          <p:sp>
            <p:nvSpPr>
              <p:cNvPr id="358" name=""/>
              <p:cNvSpPr/>
              <p:nvPr/>
            </p:nvSpPr>
            <p:spPr>
              <a:xfrm>
                <a:off x="1828800" y="43434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1931760" y="43430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1371600" y="4343040"/>
              <a:ext cx="205920" cy="152640"/>
              <a:chOff x="1371600" y="4343040"/>
              <a:chExt cx="205920" cy="152640"/>
            </a:xfrm>
          </p:grpSpPr>
          <p:sp>
            <p:nvSpPr>
              <p:cNvPr id="361" name=""/>
              <p:cNvSpPr/>
              <p:nvPr/>
            </p:nvSpPr>
            <p:spPr>
              <a:xfrm>
                <a:off x="1371600" y="43434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1474560" y="43430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1143000" y="45720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81080" y="45720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43000" y="48769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981080" y="487692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981080" y="5257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43000" y="5257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733920" y="3962520"/>
            <a:ext cx="4267080" cy="2615760"/>
            <a:chOff x="3733920" y="3962520"/>
            <a:chExt cx="4267080" cy="2615760"/>
          </a:xfrm>
        </p:grpSpPr>
        <p:grpSp>
          <p:nvGrpSpPr>
            <p:cNvPr id="370" name=""/>
            <p:cNvGrpSpPr/>
            <p:nvPr/>
          </p:nvGrpSpPr>
          <p:grpSpPr>
            <a:xfrm>
              <a:off x="3733920" y="3962520"/>
              <a:ext cx="4038480" cy="304560"/>
              <a:chOff x="3733920" y="3962520"/>
              <a:chExt cx="4038480" cy="304560"/>
            </a:xfrm>
          </p:grpSpPr>
          <p:sp>
            <p:nvSpPr>
              <p:cNvPr id="371" name=""/>
              <p:cNvSpPr/>
              <p:nvPr/>
            </p:nvSpPr>
            <p:spPr>
              <a:xfrm>
                <a:off x="3733920" y="396252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33920" y="426708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5791320" y="3962520"/>
              <a:ext cx="0" cy="2438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4114800" y="4343400"/>
              <a:ext cx="1295280" cy="2234880"/>
              <a:chOff x="4114800" y="4343400"/>
              <a:chExt cx="1295280" cy="2234880"/>
            </a:xfrm>
          </p:grpSpPr>
          <p:sp>
            <p:nvSpPr>
              <p:cNvPr id="375" name=""/>
              <p:cNvSpPr/>
              <p:nvPr/>
            </p:nvSpPr>
            <p:spPr>
              <a:xfrm>
                <a:off x="4114800" y="4343400"/>
                <a:ext cx="1295280" cy="22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876920" y="4572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95680" y="518148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76920" y="518148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191120" y="541008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00600" y="5715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267080" y="57150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495680" y="487692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572000" y="6019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191120" y="6019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7692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57200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19112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5867280" y="4343400"/>
              <a:ext cx="2133720" cy="22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2 ,С3, С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2, 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4 ,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, 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1 , С5 ,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228600" y="685800"/>
            <a:ext cx="7391520" cy="2057400"/>
            <a:chOff x="228600" y="685800"/>
            <a:chExt cx="7391520" cy="2057400"/>
          </a:xfrm>
        </p:grpSpPr>
        <p:sp>
          <p:nvSpPr>
            <p:cNvPr id="390" name=""/>
            <p:cNvSpPr/>
            <p:nvPr/>
          </p:nvSpPr>
          <p:spPr>
            <a:xfrm>
              <a:off x="228600" y="685800"/>
              <a:ext cx="396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СЕМАНТИЧЕСКИЕ ДЕРЕВЬ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67080" y="27432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14600" y="27432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81280" y="1828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62720" y="27432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34120" y="9907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29400" y="1828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67480" y="27432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0:27:43Z</dcterms:created>
  <dc:creator>.Соснин Д.П.</dc:creator>
  <dc:description/>
  <dc:language>en-US</dc:language>
  <cp:lastModifiedBy>Валерий Г. Костин</cp:lastModifiedBy>
  <dcterms:modified xsi:type="dcterms:W3CDTF">2002-12-12T13:25:31Z</dcterms:modified>
  <cp:revision>12</cp:revision>
  <dc:subject/>
  <dc:title>РЕШЕНИЕ ЗАДАЧ В ФОРМАЛЬНЫХ ТЕОРИЯХ</dc:title>
</cp:coreProperties>
</file>