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7B7-79DD-4B2E-849E-8CB6C058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73D5-9324-462C-B025-2A98079D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31A-105A-4EBF-A4CE-F02BD633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374-96CE-48F1-8EAB-AF789128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FAA0-FA80-436F-A55A-976AF21F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04D-40C0-4F83-8945-C0460C27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1369-8CF0-4301-B68E-F8D9B4D7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B6FA-1AD2-4265-B9E1-A831E7B2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425-DD23-45A8-96DA-4A863AF3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09F-11B0-4341-87F7-33262317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D7A-E4EA-4B5F-8B5A-F686D04D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FDE2-912D-4AAC-A9E1-66BDF917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2764-12C3-43A9-A3FA-CB55FD736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22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Феномен прир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Шкалирование: прошлое настоящее будущее (А-систем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раньше, позже (В-системы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895480"/>
            <a:ext cx="388620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Основные свойств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аправл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Линей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прерыв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оканчиваем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Гомог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1371600"/>
            <a:ext cx="624816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териорные, задающие местоположение объекта перед други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ом или ориентир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стериорные, определяющие положение объекта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видимой (тыльной) стороны другого объе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ппозитивные, определяющие местоположение объекта в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воположении к другому объекту или локализатор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вальные,   задающие   местоположение   объекта    межд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умя други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ппроксимативные,   задающие   приблизительное   положенш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а в пространстве относительно расстояния или направления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где-то в парк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рективные, определяющие направление движения или де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ия над объектом относительно пространственного ориентира ил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а координ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ициальные, указывающие направление при фиксированн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905120"/>
            <a:ext cx="632448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рминальные, указывающие направление при фиксирован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неч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имитативные, указывающие направление при фиксиров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и конечной то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клюзивные, задающие перемещение или действие, происх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ящее внутри некоторого объекта или ЛО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клюзивные,  задающие перемещение  или  действие,  проис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ходящее по  направлению внутрь некоторого объекта  или  Л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рансверсальные,  указывающие  на   пересекаемый 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ый ориентир  («перейти через улицу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тинеративные, указывающие на маршрут движения или пер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щения или фиксирующие ЛОК, в котором совершается действи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идти по улице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1600200"/>
            <a:ext cx="3962520" cy="3124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00200"/>
            <a:ext cx="4190760" cy="312408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в естественном язы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981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981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Англий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19560" y="2514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2514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505320"/>
            <a:ext cx="15242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505320"/>
            <a:ext cx="1523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4756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3623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952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Заполненность отрезка времени действ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5410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Единичность или повторяем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5791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Завершённость действия или незаверш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62485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Одновремённость или разновремё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-2666880" y="990720"/>
            <a:ext cx="15086520" cy="3276000"/>
            <a:chOff x="-2666880" y="990720"/>
            <a:chExt cx="15086520" cy="3276000"/>
          </a:xfrm>
        </p:grpSpPr>
        <p:sp>
          <p:nvSpPr>
            <p:cNvPr id="70" name=""/>
            <p:cNvSpPr/>
            <p:nvPr/>
          </p:nvSpPr>
          <p:spPr>
            <a:xfrm>
              <a:off x="1676520" y="99072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3366"/>
                  </a:solidFill>
                  <a:latin typeface="Times New Roman"/>
                </a:rPr>
                <a:t>Время в лигвиститк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9480" y="3123720"/>
              <a:ext cx="7924680" cy="0"/>
              <a:chOff x="609480" y="3123720"/>
              <a:chExt cx="7924680" cy="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609480" y="3123720"/>
                <a:ext cx="2113200" cy="0"/>
                <a:chOff x="609480" y="3123720"/>
                <a:chExt cx="2113200" cy="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60948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13796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6608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19420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2723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511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792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077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362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6436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928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209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490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7792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006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80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479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09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576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8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483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220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1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487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1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2666880" y="1752480"/>
              <a:ext cx="700992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43400" y="1676520"/>
              <a:ext cx="80762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1371600"/>
              <a:ext cx="3276720" cy="1600200"/>
            </a:xfrm>
            <a:custGeom>
              <a:avLst/>
              <a:gdLst/>
              <a:ahLst/>
              <a:rect l="l" t="t" r="r" b="b"/>
              <a:pathLst>
                <a:path w="2016" h="616">
                  <a:moveTo>
                    <a:pt x="0" y="616"/>
                  </a:moveTo>
                  <a:cubicBezTo>
                    <a:pt x="0" y="496"/>
                    <a:pt x="0" y="376"/>
                    <a:pt x="96" y="280"/>
                  </a:cubicBezTo>
                  <a:cubicBezTo>
                    <a:pt x="192" y="184"/>
                    <a:pt x="448" y="80"/>
                    <a:pt x="576" y="40"/>
                  </a:cubicBezTo>
                  <a:cubicBezTo>
                    <a:pt x="704" y="0"/>
                    <a:pt x="728" y="24"/>
                    <a:pt x="864" y="40"/>
                  </a:cubicBezTo>
                  <a:cubicBezTo>
                    <a:pt x="1000" y="56"/>
                    <a:pt x="1240" y="88"/>
                    <a:pt x="1392" y="136"/>
                  </a:cubicBezTo>
                  <a:cubicBezTo>
                    <a:pt x="1544" y="184"/>
                    <a:pt x="1672" y="248"/>
                    <a:pt x="1776" y="328"/>
                  </a:cubicBezTo>
                  <a:cubicBezTo>
                    <a:pt x="1880" y="408"/>
                    <a:pt x="1976" y="568"/>
                    <a:pt x="2016" y="6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198108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600" y="18288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21337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4114800"/>
            <a:ext cx="8458200" cy="2516760"/>
            <a:chOff x="533520" y="4114800"/>
            <a:chExt cx="8458200" cy="2516760"/>
          </a:xfrm>
        </p:grpSpPr>
        <p:sp>
          <p:nvSpPr>
            <p:cNvPr id="111" name=""/>
            <p:cNvSpPr/>
            <p:nvPr/>
          </p:nvSpPr>
          <p:spPr>
            <a:xfrm>
              <a:off x="533520" y="411480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 – давн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520" y="49528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 - пред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520" y="54100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 – после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791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П близк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411480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Times New Roman"/>
                </a:rPr>
                <a:t>ДН - давнонастоящ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45720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50292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 момент отсчё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410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 - близк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5867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 - 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63244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148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  - близк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480" y="457200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 -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480" y="49528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0800" y="53341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0800" y="579132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 – далёко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и челов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523880"/>
            <a:ext cx="236196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3733920"/>
            <a:ext cx="7772400" cy="1066680"/>
            <a:chOff x="838080" y="3733920"/>
            <a:chExt cx="7772400" cy="1066680"/>
          </a:xfrm>
        </p:grpSpPr>
        <p:sp>
          <p:nvSpPr>
            <p:cNvPr id="131" name=""/>
            <p:cNvSpPr/>
            <p:nvPr/>
          </p:nvSpPr>
          <p:spPr>
            <a:xfrm>
              <a:off x="838080" y="4267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19720" y="4191120"/>
              <a:ext cx="75960" cy="759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38098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080" y="3733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19320" y="42670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426708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0532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5638680"/>
            <a:ext cx="6248520" cy="304560"/>
            <a:chOff x="1371600" y="5638680"/>
            <a:chExt cx="6248520" cy="304560"/>
          </a:xfrm>
        </p:grpSpPr>
        <p:sp>
          <p:nvSpPr>
            <p:cNvPr id="140" name=""/>
            <p:cNvSpPr/>
            <p:nvPr/>
          </p:nvSpPr>
          <p:spPr>
            <a:xfrm>
              <a:off x="137160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59432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97144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5943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5638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59432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8204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9240" y="5943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интерв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81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точе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97180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32767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6668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3505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9144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точеч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676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одновременно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событием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0574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раньш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24382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позж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962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t*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4290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) 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ит раньше на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105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5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295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048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144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интерваль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76520"/>
            <a:ext cx="571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1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441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следует за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438280"/>
            <a:ext cx="396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495288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4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(t*,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и продолжается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3600"/>
            <a:ext cx="5105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5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295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5410080"/>
            <a:ext cx="159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429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563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Частные случа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: 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0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4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5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124080"/>
            <a:ext cx="487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7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епосредственно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редшествует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733920"/>
            <a:ext cx="5715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038480"/>
            <a:ext cx="6324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пересекается 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чала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495680"/>
            <a:ext cx="624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3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концы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Формальн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676520"/>
            <a:ext cx="807732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ПФ языка будем строить по следующим правил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.    Любой элемент из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.    Выражения вида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,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есть ПП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.    Если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то (а&amp; р) —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4.      Выражения     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 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— ППФ,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{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4 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5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5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} t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T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5.      Выражения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4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,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— ППФ 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      Других ППФ н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219320"/>
            <a:ext cx="533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={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………..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1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равила вы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029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  &amp;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55520"/>
            <a:ext cx="73915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е группы средств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ксические (наречия и их конструкции, предлоги, имена существительные и именные группы, глаголы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правленного действия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рамматико-морфологические (падежн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ые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значения предлогов, которые управляют падежной формой существительных, а также местоимений и числительных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21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Естественный язы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948040"/>
            <a:ext cx="38862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ы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ход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доех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р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рог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б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са),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прята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ес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камейку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857680"/>
            <a:ext cx="3276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рас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устам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л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ол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лет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оро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лете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находи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сягаем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ж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реп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агазин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мина).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635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Times New Roman"/>
              </a:rPr>
              <a:t>Предло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066680"/>
            <a:ext cx="59436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териорные, определяющие положение объекта во внешне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 относительно некоторого начала координат,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ого  ориентира,   или  локализатора   (например,  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ОКа с именем Париж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иорные, определяющие положение объекта во внутре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м  пространстве относительно начала координат или некотор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нного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спозитивные,   задающие   местоположение   объекта   в  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анстве в самом общем виде («где-то на север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упериорные, указывающие местоположение объекта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верхней поверхности некоторого локализатора, или ориент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фериорные,  характеризующие положение объекта 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нижней поверхности локализатора или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инантные, указывающие местоположение объекта над н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торым   локализатором   или   ориентиром,   когда   нет   в   наличи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с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6:28:45Z</dcterms:created>
  <dc:creator>.</dc:creator>
  <dc:description/>
  <dc:language>en-US</dc:language>
  <cp:lastModifiedBy>Peter Sosnin</cp:lastModifiedBy>
  <dcterms:modified xsi:type="dcterms:W3CDTF">2005-11-28T06:52:25Z</dcterms:modified>
  <cp:revision>9</cp:revision>
  <dc:subject/>
  <dc:title>ЛОГИКА ВРЕМЕНИ</dc:title>
</cp:coreProperties>
</file>