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C17E-4B84-4289-B5BF-AE656F85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E8E5-7B61-4AD9-AC87-B45C9C5A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AB08-E2C2-4531-BF2B-6D69B12F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546C-A952-4849-B2D0-B825918A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D2DE-F23F-4D91-B471-7281A1C5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65C-2DFD-4720-8F88-3E52B872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1BF6-AFCD-4CB0-B2B0-AA4B190D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C19E-7CDC-481B-A2D5-A1CA9054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765D-7C7E-4955-A4E3-F5FDC89B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80F4-4092-41F3-A2D4-141C9E56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7656-440E-49FE-8810-82BFBCE1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AA10-394D-49C3-8B38-7F40AB15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7BE9-4DFD-4136-BD5A-8ADB5C313E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8380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ДЕ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38080" y="1523880"/>
            <a:ext cx="7391520" cy="4419720"/>
            <a:chOff x="838080" y="1523880"/>
            <a:chExt cx="7391520" cy="4419720"/>
          </a:xfrm>
        </p:grpSpPr>
        <p:sp>
          <p:nvSpPr>
            <p:cNvPr id="45" name=""/>
            <p:cNvSpPr/>
            <p:nvPr/>
          </p:nvSpPr>
          <p:spPr>
            <a:xfrm>
              <a:off x="838080" y="160020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76920" y="1523880"/>
              <a:ext cx="3276360" cy="83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52880" y="32767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52880" y="51055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533412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167652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43000" y="541008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29200" y="160020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05520" y="335268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А ВЫВОД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05520" y="51814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ИНТЕРФЕЙ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62520" y="182880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22096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40384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56386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76520" y="914400"/>
            <a:ext cx="601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РАВДОПОДОБНЫЕ РАССУ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57200" y="1568520"/>
            <a:ext cx="8153280" cy="1327680"/>
            <a:chOff x="457200" y="1568520"/>
            <a:chExt cx="8153280" cy="1327680"/>
          </a:xfrm>
        </p:grpSpPr>
        <p:sp>
          <p:nvSpPr>
            <p:cNvPr id="655" name=""/>
            <p:cNvSpPr/>
            <p:nvPr/>
          </p:nvSpPr>
          <p:spPr>
            <a:xfrm>
              <a:off x="457200" y="207000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ИНДУКТИВ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5740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АНАЛОГ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81280" y="21016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ВЕРОЯТНОСТ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6272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НЕЧЁТК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81680" y="21016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ДРУГИЕ ТИП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980720" y="1568520"/>
              <a:ext cx="129564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048120" y="1568520"/>
              <a:ext cx="83808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00600" y="1568520"/>
              <a:ext cx="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10080" y="1568520"/>
              <a:ext cx="91440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67280" y="1568520"/>
              <a:ext cx="16002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80880" y="3427560"/>
            <a:ext cx="8457840" cy="2669760"/>
            <a:chOff x="380880" y="3427560"/>
            <a:chExt cx="8457840" cy="2669760"/>
          </a:xfrm>
        </p:grpSpPr>
        <p:sp>
          <p:nvSpPr>
            <p:cNvPr id="666" name=""/>
            <p:cNvSpPr/>
            <p:nvPr/>
          </p:nvSpPr>
          <p:spPr>
            <a:xfrm>
              <a:off x="1676520" y="342756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НЕОПРЕДЕЛЁННОСТИ РАЗНЫХ ТИП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380880" y="4174920"/>
              <a:ext cx="8457840" cy="1922400"/>
              <a:chOff x="380880" y="4174920"/>
              <a:chExt cx="8457840" cy="1922400"/>
            </a:xfrm>
          </p:grpSpPr>
          <p:sp>
            <p:nvSpPr>
              <p:cNvPr id="668" name=""/>
              <p:cNvSpPr/>
              <p:nvPr/>
            </p:nvSpPr>
            <p:spPr>
              <a:xfrm>
                <a:off x="380880" y="417492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точ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025280" y="4936680"/>
                <a:ext cx="153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знание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69680" y="5698440"/>
                <a:ext cx="27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определён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972320" y="5698440"/>
                <a:ext cx="217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субъектив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938920" y="501264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полнот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583680" y="4326840"/>
                <a:ext cx="225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расплывчат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 flipH="1">
              <a:off x="1828440" y="3946320"/>
              <a:ext cx="60948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057040" y="3946320"/>
              <a:ext cx="1219320" cy="99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3200400" y="3946320"/>
              <a:ext cx="838080" cy="17521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95680" y="3946320"/>
              <a:ext cx="838440" cy="16761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34120" y="3870000"/>
              <a:ext cx="990360" cy="10666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77120" y="3870000"/>
              <a:ext cx="6858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04920" y="762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ЦЕНИ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666880" y="1600200"/>
            <a:ext cx="3505320" cy="1219320"/>
            <a:chOff x="2666880" y="1600200"/>
            <a:chExt cx="3505320" cy="1219320"/>
          </a:xfrm>
        </p:grpSpPr>
        <p:sp>
          <p:nvSpPr>
            <p:cNvPr id="684" name=""/>
            <p:cNvSpPr/>
            <p:nvPr/>
          </p:nvSpPr>
          <p:spPr>
            <a:xfrm>
              <a:off x="2666880" y="1981440"/>
              <a:ext cx="13464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05520" y="1981440"/>
              <a:ext cx="106668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13280" y="1981440"/>
              <a:ext cx="10922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9080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0348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73392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68720" y="2048040"/>
              <a:ext cx="11224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29200" y="2057400"/>
              <a:ext cx="1119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64040" y="1600200"/>
              <a:ext cx="3240" cy="121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48120" y="2057400"/>
              <a:ext cx="60480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24080" y="2057400"/>
              <a:ext cx="551160" cy="27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(…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121932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ф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72200" y="1279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почек 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2900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609480" y="2057400"/>
            <a:ext cx="380880" cy="412560"/>
            <a:chOff x="609480" y="2057400"/>
            <a:chExt cx="380880" cy="412560"/>
          </a:xfrm>
        </p:grpSpPr>
        <p:sp>
          <p:nvSpPr>
            <p:cNvPr id="699" name=""/>
            <p:cNvSpPr/>
            <p:nvPr/>
          </p:nvSpPr>
          <p:spPr>
            <a:xfrm>
              <a:off x="60948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948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1143000" y="2057400"/>
            <a:ext cx="380880" cy="412560"/>
            <a:chOff x="1143000" y="2057400"/>
            <a:chExt cx="380880" cy="412560"/>
          </a:xfrm>
        </p:grpSpPr>
        <p:sp>
          <p:nvSpPr>
            <p:cNvPr id="702" name=""/>
            <p:cNvSpPr/>
            <p:nvPr/>
          </p:nvSpPr>
          <p:spPr>
            <a:xfrm>
              <a:off x="114300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14300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905120" y="2057400"/>
            <a:ext cx="380880" cy="412560"/>
            <a:chOff x="1905120" y="2057400"/>
            <a:chExt cx="380880" cy="412560"/>
          </a:xfrm>
        </p:grpSpPr>
        <p:sp>
          <p:nvSpPr>
            <p:cNvPr id="705" name=""/>
            <p:cNvSpPr/>
            <p:nvPr/>
          </p:nvSpPr>
          <p:spPr>
            <a:xfrm>
              <a:off x="190512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0512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 rot="5479800">
            <a:off x="1294560" y="99036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324480" y="1981080"/>
            <a:ext cx="2210040" cy="381240"/>
            <a:chOff x="6324480" y="1981080"/>
            <a:chExt cx="2210040" cy="381240"/>
          </a:xfrm>
        </p:grpSpPr>
        <p:sp>
          <p:nvSpPr>
            <p:cNvPr id="709" name=""/>
            <p:cNvSpPr/>
            <p:nvPr/>
          </p:nvSpPr>
          <p:spPr>
            <a:xfrm>
              <a:off x="6324480" y="1981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62040" y="1981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73360" y="1981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6560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3652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9696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564600" y="2035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12480" y="2035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6324480" y="2438280"/>
            <a:ext cx="2210040" cy="381240"/>
            <a:chOff x="6324480" y="2438280"/>
            <a:chExt cx="2210040" cy="381240"/>
          </a:xfrm>
        </p:grpSpPr>
        <p:sp>
          <p:nvSpPr>
            <p:cNvPr id="718" name=""/>
            <p:cNvSpPr/>
            <p:nvPr/>
          </p:nvSpPr>
          <p:spPr>
            <a:xfrm>
              <a:off x="6324480" y="24382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862040" y="24382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73360" y="24382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46560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3652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9696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64600" y="24922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12480" y="24922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324480" y="3124080"/>
            <a:ext cx="2210040" cy="381240"/>
            <a:chOff x="6324480" y="3124080"/>
            <a:chExt cx="2210040" cy="381240"/>
          </a:xfrm>
        </p:grpSpPr>
        <p:sp>
          <p:nvSpPr>
            <p:cNvPr id="727" name=""/>
            <p:cNvSpPr/>
            <p:nvPr/>
          </p:nvSpPr>
          <p:spPr>
            <a:xfrm>
              <a:off x="6324480" y="3124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862040" y="3124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3360" y="3124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6560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3652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9696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64600" y="3178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12480" y="3178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324480" y="29718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457200" y="2743200"/>
            <a:ext cx="5105160" cy="915120"/>
            <a:chOff x="457200" y="2743200"/>
            <a:chExt cx="5105160" cy="915120"/>
          </a:xfrm>
        </p:grpSpPr>
        <p:sp>
          <p:nvSpPr>
            <p:cNvPr id="737" name=""/>
            <p:cNvSpPr/>
            <p:nvPr/>
          </p:nvSpPr>
          <p:spPr>
            <a:xfrm>
              <a:off x="1242720" y="3321000"/>
              <a:ext cx="43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50021"/>
                  </a:solidFill>
                  <a:latin typeface="Times New Roman"/>
                </a:rPr>
                <a:t>Фактор достоверности  =  </a:t>
              </a: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</a:rPr>
                <a:t>X + Y - 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7200" y="2743200"/>
              <a:ext cx="227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фактов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970720" y="2743200"/>
              <a:ext cx="243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правила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380880" y="4251240"/>
            <a:ext cx="8382240" cy="1999440"/>
            <a:chOff x="380880" y="4251240"/>
            <a:chExt cx="8382240" cy="1999440"/>
          </a:xfrm>
        </p:grpSpPr>
        <p:sp>
          <p:nvSpPr>
            <p:cNvPr id="741" name=""/>
            <p:cNvSpPr/>
            <p:nvPr/>
          </p:nvSpPr>
          <p:spPr>
            <a:xfrm>
              <a:off x="380880" y="426708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3520" y="425124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Как считать</a:t>
              </a: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7200" y="48006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X=P(Ф)/P(Ф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76520" y="5105520"/>
              <a:ext cx="22860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24080" y="480060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Y= </a:t>
              </a: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мера доверия-мера недовер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62520" y="43434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   </a:t>
              </a: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676520" y="5486400"/>
              <a:ext cx="2286000" cy="687960"/>
              <a:chOff x="1676520" y="5486400"/>
              <a:chExt cx="2286000" cy="687960"/>
            </a:xfrm>
          </p:grpSpPr>
          <p:sp>
            <p:nvSpPr>
              <p:cNvPr id="748" name=""/>
              <p:cNvSpPr/>
              <p:nvPr/>
            </p:nvSpPr>
            <p:spPr>
              <a:xfrm>
                <a:off x="1676520" y="548640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Max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-P(H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9" name=""/>
              <p:cNvGrpSpPr/>
              <p:nvPr/>
            </p:nvGrpSpPr>
            <p:grpSpPr>
              <a:xfrm>
                <a:off x="1676520" y="5791320"/>
                <a:ext cx="1981080" cy="383040"/>
                <a:chOff x="1676520" y="5791320"/>
                <a:chExt cx="1981080" cy="38304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1676520" y="579132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2286000" y="586728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1 - 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2" name=""/>
            <p:cNvSpPr/>
            <p:nvPr/>
          </p:nvSpPr>
          <p:spPr>
            <a:xfrm flipH="1">
              <a:off x="3733560" y="5257800"/>
              <a:ext cx="53316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38680" y="5181480"/>
              <a:ext cx="30492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5791320" y="5562720"/>
              <a:ext cx="2286000" cy="687960"/>
              <a:chOff x="5791320" y="5562720"/>
              <a:chExt cx="2286000" cy="687960"/>
            </a:xfrm>
          </p:grpSpPr>
          <p:sp>
            <p:nvSpPr>
              <p:cNvPr id="755" name=""/>
              <p:cNvSpPr/>
              <p:nvPr/>
            </p:nvSpPr>
            <p:spPr>
              <a:xfrm>
                <a:off x="5791320" y="556272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 - Min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5791320" y="5867640"/>
                <a:ext cx="1981080" cy="383040"/>
                <a:chOff x="5791320" y="5867640"/>
                <a:chExt cx="1981080" cy="3830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5791320" y="586764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400800" y="594360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3520" y="25588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КАЗАТЕЛЬ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24080" y="25272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РГУМЕНТ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5588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БОСН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09680" y="14479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ВЫВОД» ОБЪЯСНЯЕМОГО ИЗ ОСНОВ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209680" y="17524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625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0292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520" y="3352680"/>
            <a:ext cx="1676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1.Де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2.Ин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3.Дете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34416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Убедить в разумности действ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4800600"/>
            <a:ext cx="23623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1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a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2 {a, {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(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3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b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276720" y="3124080"/>
            <a:ext cx="3047760" cy="3050280"/>
            <a:chOff x="3276720" y="3124080"/>
            <a:chExt cx="3047760" cy="3050280"/>
          </a:xfrm>
        </p:grpSpPr>
        <p:sp>
          <p:nvSpPr>
            <p:cNvPr id="773" name=""/>
            <p:cNvSpPr/>
            <p:nvPr/>
          </p:nvSpPr>
          <p:spPr>
            <a:xfrm>
              <a:off x="3276720" y="31240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Убедит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3276720" y="3429000"/>
              <a:ext cx="2895480" cy="2288160"/>
              <a:chOff x="3276720" y="3429000"/>
              <a:chExt cx="2895480" cy="2288160"/>
            </a:xfrm>
          </p:grpSpPr>
          <p:sp>
            <p:nvSpPr>
              <p:cNvPr id="775" name=""/>
              <p:cNvSpPr/>
              <p:nvPr/>
            </p:nvSpPr>
            <p:spPr>
              <a:xfrm>
                <a:off x="3581280" y="3733920"/>
                <a:ext cx="0" cy="152388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505320" y="5181480"/>
                <a:ext cx="21333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09880" y="3886200"/>
                <a:ext cx="1371600" cy="11430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1911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8769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3809880" y="4190760"/>
                <a:ext cx="1371600" cy="68580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29200" y="541008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бежде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276720" y="3429000"/>
                <a:ext cx="83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ер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3505320" y="5867280"/>
              <a:ext cx="281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епень(Убеждение + вера) 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71600" y="1295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19051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АДРЕС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95480" y="18288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7692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2514600" y="12193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580920" y="12193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343400" y="1219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52880" y="1219320"/>
            <a:ext cx="2210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533520" y="1676520"/>
            <a:ext cx="1980360" cy="1752480"/>
            <a:chOff x="533520" y="1676520"/>
            <a:chExt cx="1980360" cy="1752480"/>
          </a:xfrm>
        </p:grpSpPr>
        <p:sp>
          <p:nvSpPr>
            <p:cNvPr id="796" name=""/>
            <p:cNvSpPr/>
            <p:nvPr/>
          </p:nvSpPr>
          <p:spPr>
            <a:xfrm>
              <a:off x="533520" y="1676520"/>
              <a:ext cx="1901880" cy="1752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612360" y="1717920"/>
              <a:ext cx="1901520" cy="1600200"/>
              <a:chOff x="612360" y="1717920"/>
              <a:chExt cx="1901520" cy="1600200"/>
            </a:xfrm>
          </p:grpSpPr>
          <p:sp>
            <p:nvSpPr>
              <p:cNvPr id="798" name=""/>
              <p:cNvSpPr/>
              <p:nvPr/>
            </p:nvSpPr>
            <p:spPr>
              <a:xfrm>
                <a:off x="612360" y="1717920"/>
                <a:ext cx="1347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1.ПОЛУЧИТЬ РЕШ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2360" y="2125440"/>
                <a:ext cx="1822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2.СОКРАТИТЬ ТРУДОЕМКОС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12360" y="2492280"/>
                <a:ext cx="1901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3.ПОВЫСИТЬ КВАЛИФИКАЦИЮ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12360" y="2859120"/>
                <a:ext cx="1267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4.ПОВЫСИТЬ ДОВЕР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1301760" y="3657600"/>
            <a:ext cx="3498840" cy="2590920"/>
            <a:chOff x="1301760" y="3657600"/>
            <a:chExt cx="3498840" cy="2590920"/>
          </a:xfrm>
        </p:grpSpPr>
        <p:sp>
          <p:nvSpPr>
            <p:cNvPr id="803" name=""/>
            <p:cNvSpPr/>
            <p:nvPr/>
          </p:nvSpPr>
          <p:spPr>
            <a:xfrm>
              <a:off x="1301760" y="3657600"/>
              <a:ext cx="3429000" cy="25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84200" y="3719520"/>
              <a:ext cx="3416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БЛАСТЬ ИНТЕРПРЕТАЦИИ: приложения,система, язык, пользовател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84200" y="4319640"/>
              <a:ext cx="334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УРОВЕНЬ ОБЩНОСТИ: конкретные факты, абстрактные факты, метафакт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84200" y="4862520"/>
              <a:ext cx="327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ИП СУЩНОСТИ: процессы, объекты, и.т.д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78080" y="5405400"/>
              <a:ext cx="3276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СВОЙСТВА И ЗНАЧЕНИЯ СУЩНОСТИ: статические, динамические, точные, приближенные, полные, непол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 flipH="1">
            <a:off x="2666880" y="2286000"/>
            <a:ext cx="6098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105520" y="2590920"/>
            <a:ext cx="1828800" cy="2590560"/>
            <a:chOff x="5105520" y="2590920"/>
            <a:chExt cx="1828800" cy="2590560"/>
          </a:xfrm>
        </p:grpSpPr>
        <p:sp>
          <p:nvSpPr>
            <p:cNvPr id="810" name=""/>
            <p:cNvSpPr/>
            <p:nvPr/>
          </p:nvSpPr>
          <p:spPr>
            <a:xfrm>
              <a:off x="5105520" y="2590920"/>
              <a:ext cx="1828800" cy="259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81480" y="2678040"/>
              <a:ext cx="17528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1.ТИП ОБЪЯСНЕНИЯ: причинные, закон, функциональные (цель, мотив), структурные, генетическ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81480" y="4038480"/>
              <a:ext cx="175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2.УРОВЕНЬ ДЕТАЛЬНОСТИ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81480" y="449568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3. ЯЗЫК ОБЪЯС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838080" y="1905120"/>
            <a:ext cx="1752840" cy="609480"/>
            <a:chOff x="838080" y="1905120"/>
            <a:chExt cx="1752840" cy="609480"/>
          </a:xfrm>
        </p:grpSpPr>
        <p:sp>
          <p:nvSpPr>
            <p:cNvPr id="818" name=""/>
            <p:cNvSpPr/>
            <p:nvPr/>
          </p:nvSpPr>
          <p:spPr>
            <a:xfrm>
              <a:off x="838080" y="1905120"/>
              <a:ext cx="175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914400" y="1981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аписанн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1066680" y="3048120"/>
            <a:ext cx="20574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.Встроенные в коды как сообщ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2.Типа 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ELP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505320" y="1905120"/>
            <a:ext cx="2209320" cy="609480"/>
            <a:chOff x="3505320" y="1905120"/>
            <a:chExt cx="2209320" cy="609480"/>
          </a:xfrm>
        </p:grpSpPr>
        <p:sp>
          <p:nvSpPr>
            <p:cNvPr id="822" name=""/>
            <p:cNvSpPr/>
            <p:nvPr/>
          </p:nvSpPr>
          <p:spPr>
            <a:xfrm>
              <a:off x="3505320" y="1905120"/>
              <a:ext cx="22093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601440" y="1981080"/>
              <a:ext cx="201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Генерируем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6172200" y="1905120"/>
            <a:ext cx="2590920" cy="838080"/>
            <a:chOff x="6172200" y="1905120"/>
            <a:chExt cx="2590920" cy="838080"/>
          </a:xfrm>
        </p:grpSpPr>
        <p:sp>
          <p:nvSpPr>
            <p:cNvPr id="825" name=""/>
            <p:cNvSpPr/>
            <p:nvPr/>
          </p:nvSpPr>
          <p:spPr>
            <a:xfrm>
              <a:off x="6172200" y="1905120"/>
              <a:ext cx="259092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48520" y="1905120"/>
              <a:ext cx="239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Ориентированные на обуче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3809880" y="3048120"/>
            <a:ext cx="16765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Протоко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Трассировка испол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248520" y="3124080"/>
            <a:ext cx="228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Моделирова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Имит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4572000"/>
            <a:ext cx="22096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Базовое действ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Запоминать тре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3.Каркас визуализ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4.Средства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2209680" y="12193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9112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029200" y="1295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37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840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843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846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849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852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855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04920" y="838080"/>
            <a:ext cx="8686800" cy="586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3276720" y="2743200"/>
            <a:ext cx="2971440" cy="990720"/>
            <a:chOff x="3276720" y="2743200"/>
            <a:chExt cx="2971440" cy="990720"/>
          </a:xfrm>
        </p:grpSpPr>
        <p:sp>
          <p:nvSpPr>
            <p:cNvPr id="866" name=""/>
            <p:cNvSpPr/>
            <p:nvPr/>
          </p:nvSpPr>
          <p:spPr>
            <a:xfrm>
              <a:off x="3276720" y="2743200"/>
              <a:ext cx="2971440" cy="9907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71720" y="3048120"/>
              <a:ext cx="198108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РГУМЕН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62120" y="1523880"/>
            <a:ext cx="2514600" cy="533520"/>
            <a:chOff x="762120" y="1523880"/>
            <a:chExt cx="2514600" cy="533520"/>
          </a:xfrm>
        </p:grpSpPr>
        <p:sp>
          <p:nvSpPr>
            <p:cNvPr id="869" name=""/>
            <p:cNvSpPr/>
            <p:nvPr/>
          </p:nvSpPr>
          <p:spPr>
            <a:xfrm>
              <a:off x="76212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3844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ОКАЗАТЕЛЬСТВ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5715000" y="4343400"/>
            <a:ext cx="2514600" cy="533520"/>
            <a:chOff x="5715000" y="4343400"/>
            <a:chExt cx="2514600" cy="533520"/>
          </a:xfrm>
        </p:grpSpPr>
        <p:sp>
          <p:nvSpPr>
            <p:cNvPr id="872" name=""/>
            <p:cNvSpPr/>
            <p:nvPr/>
          </p:nvSpPr>
          <p:spPr>
            <a:xfrm>
              <a:off x="571500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9132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838080" y="4343400"/>
            <a:ext cx="2514600" cy="533520"/>
            <a:chOff x="838080" y="4343400"/>
            <a:chExt cx="2514600" cy="533520"/>
          </a:xfrm>
        </p:grpSpPr>
        <p:sp>
          <p:nvSpPr>
            <p:cNvPr id="875" name=""/>
            <p:cNvSpPr/>
            <p:nvPr/>
          </p:nvSpPr>
          <p:spPr>
            <a:xfrm>
              <a:off x="83808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1440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БЪЯСН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57200" y="2971800"/>
            <a:ext cx="2286000" cy="533520"/>
            <a:chOff x="457200" y="2971800"/>
            <a:chExt cx="2286000" cy="533520"/>
          </a:xfrm>
        </p:grpSpPr>
        <p:sp>
          <p:nvSpPr>
            <p:cNvPr id="878" name=""/>
            <p:cNvSpPr/>
            <p:nvPr/>
          </p:nvSpPr>
          <p:spPr>
            <a:xfrm>
              <a:off x="457200" y="2971800"/>
              <a:ext cx="22860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6320" y="3048120"/>
              <a:ext cx="21474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ПОДТВЕРЖ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6781680" y="2895480"/>
            <a:ext cx="1981440" cy="533520"/>
            <a:chOff x="6781680" y="2895480"/>
            <a:chExt cx="1981440" cy="533520"/>
          </a:xfrm>
        </p:grpSpPr>
        <p:sp>
          <p:nvSpPr>
            <p:cNvPr id="881" name=""/>
            <p:cNvSpPr/>
            <p:nvPr/>
          </p:nvSpPr>
          <p:spPr>
            <a:xfrm>
              <a:off x="6781680" y="2895480"/>
              <a:ext cx="198144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41800" y="2971800"/>
              <a:ext cx="18612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ОЗРА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486400" y="1523880"/>
            <a:ext cx="2514600" cy="533520"/>
            <a:chOff x="5486400" y="1523880"/>
            <a:chExt cx="2514600" cy="533520"/>
          </a:xfrm>
        </p:grpSpPr>
        <p:sp>
          <p:nvSpPr>
            <p:cNvPr id="884" name=""/>
            <p:cNvSpPr/>
            <p:nvPr/>
          </p:nvSpPr>
          <p:spPr>
            <a:xfrm>
              <a:off x="548640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6272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ОВЕР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3505320" y="5791320"/>
            <a:ext cx="2514600" cy="533160"/>
            <a:chOff x="3505320" y="5791320"/>
            <a:chExt cx="2514600" cy="533160"/>
          </a:xfrm>
        </p:grpSpPr>
        <p:sp>
          <p:nvSpPr>
            <p:cNvPr id="887" name=""/>
            <p:cNvSpPr/>
            <p:nvPr/>
          </p:nvSpPr>
          <p:spPr>
            <a:xfrm>
              <a:off x="3505320" y="5791320"/>
              <a:ext cx="25146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581640" y="586728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АВ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3352680" y="2286000"/>
            <a:ext cx="381240" cy="30492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5257800" y="2209320"/>
            <a:ext cx="45720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2819520" y="320040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24480" y="320040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3276720" y="3809880"/>
            <a:ext cx="30456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495680" y="3962520"/>
            <a:ext cx="0" cy="1600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05520" y="3962520"/>
            <a:ext cx="457200" cy="3045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99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902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905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908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911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914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917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380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ЕЦЕДЕНТЫ  ЭКСПЕР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880" y="1295280"/>
            <a:ext cx="4495320" cy="2438280"/>
            <a:chOff x="380880" y="1295280"/>
            <a:chExt cx="4495320" cy="2438280"/>
          </a:xfrm>
        </p:grpSpPr>
        <p:grpSp>
          <p:nvGrpSpPr>
            <p:cNvPr id="63" name=""/>
            <p:cNvGrpSpPr/>
            <p:nvPr/>
          </p:nvGrpSpPr>
          <p:grpSpPr>
            <a:xfrm>
              <a:off x="380880" y="1295280"/>
              <a:ext cx="4013640" cy="1981080"/>
              <a:chOff x="380880" y="1295280"/>
              <a:chExt cx="4013640" cy="1981080"/>
            </a:xfrm>
          </p:grpSpPr>
          <p:sp>
            <p:nvSpPr>
              <p:cNvPr id="64" name=""/>
              <p:cNvSpPr/>
              <p:nvPr/>
            </p:nvSpPr>
            <p:spPr>
              <a:xfrm>
                <a:off x="380880" y="12952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79880" y="1357200"/>
                <a:ext cx="1975320" cy="270720"/>
                <a:chOff x="479880" y="1357200"/>
                <a:chExt cx="1975320" cy="270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79880" y="1376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76360" y="1357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28560" y="14450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59880" y="13766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35920" y="13766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94600" y="13806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189520" y="13766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365920" y="1380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1005120" y="16286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370960" y="162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496240" y="16286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05840" y="1879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84840" y="18763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51880" y="18795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1510200" y="1876320"/>
                <a:ext cx="1874160" cy="185400"/>
                <a:chOff x="1510200" y="1876320"/>
                <a:chExt cx="1874160" cy="1854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510200" y="18788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638000" y="18788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081600" y="18763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56920" y="18788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1006200" y="212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285560" y="21240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17120" y="21286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50760" y="21286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2714400" y="2124000"/>
                <a:ext cx="1477440" cy="249480"/>
                <a:chOff x="2714400" y="2124000"/>
                <a:chExt cx="1477440" cy="2494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714400" y="21265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84320" y="21240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49840" y="2190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24000" y="21240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102560" y="2126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1459800" y="23763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10760" y="2373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92120" y="23763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37120" y="23763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56360" y="2376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45280" y="23763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658520" y="2373120"/>
                <a:ext cx="2148840" cy="185400"/>
                <a:chOff x="1658520" y="2373120"/>
                <a:chExt cx="2148840" cy="1854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658520" y="23756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486240" y="23731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718080" y="2375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554760" y="26254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82160" y="2625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01400" y="2622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88520" y="262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76000" y="262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38280" y="26254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46400" y="26254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1720" y="28749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33800" y="2871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31000" y="2874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15600" y="28749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01240" y="28749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517560" y="28717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64520" y="2939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29320" y="28717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98160" y="28749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68160" y="19526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41440" y="1447560"/>
              <a:ext cx="4013280" cy="1981080"/>
              <a:chOff x="541440" y="1447560"/>
              <a:chExt cx="4013280" cy="1981080"/>
            </a:xfrm>
          </p:grpSpPr>
          <p:sp>
            <p:nvSpPr>
              <p:cNvPr id="123" name=""/>
              <p:cNvSpPr/>
              <p:nvPr/>
            </p:nvSpPr>
            <p:spPr>
              <a:xfrm>
                <a:off x="541440" y="144756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40440" y="1509480"/>
                <a:ext cx="1974240" cy="270720"/>
                <a:chOff x="640440" y="1509480"/>
                <a:chExt cx="1974240" cy="270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40440" y="1528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36200" y="15094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89120" y="159732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20080" y="15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96120" y="152892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053360" y="153288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50080" y="152892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525400" y="1532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>
                <a:off x="1165680" y="178092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31520" y="1777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56440" y="178092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66400" y="20318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5400" y="202860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12080" y="20318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1670760" y="2028600"/>
                <a:ext cx="1873800" cy="185400"/>
                <a:chOff x="1670760" y="2028600"/>
                <a:chExt cx="1873800" cy="185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670760" y="203112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798560" y="203112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241440" y="202860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17120" y="203112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166040" y="228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46120" y="227628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76600" y="22809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10240" y="228096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2874600" y="2276280"/>
                <a:ext cx="1477080" cy="249480"/>
                <a:chOff x="2874600" y="2276280"/>
                <a:chExt cx="1477080" cy="2494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874600" y="227880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44520" y="22762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10040" y="2342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82040" y="22762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2400" y="2278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620000" y="252864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70960" y="2525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51960" y="25286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97680" y="25286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16920" y="2528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05480" y="252864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1819080" y="2525400"/>
                <a:ext cx="2148840" cy="185400"/>
                <a:chOff x="1819080" y="2525400"/>
                <a:chExt cx="2148840" cy="1854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819080" y="252792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646800" y="252540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878640" y="2527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715320" y="277776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41640" y="27777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61240" y="2774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48720" y="2777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36560" y="2777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698840" y="277776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06960" y="277776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51200" y="30272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94360" y="3024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91200" y="3027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75800" y="302724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61800" y="302724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75960" y="302400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24000" y="309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88800" y="302400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58360" y="302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28720" y="210492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02000" y="1600200"/>
              <a:ext cx="4013280" cy="1981080"/>
              <a:chOff x="702000" y="1600200"/>
              <a:chExt cx="4013280" cy="1981080"/>
            </a:xfrm>
          </p:grpSpPr>
          <p:sp>
            <p:nvSpPr>
              <p:cNvPr id="182" name=""/>
              <p:cNvSpPr/>
              <p:nvPr/>
            </p:nvSpPr>
            <p:spPr>
              <a:xfrm>
                <a:off x="702000" y="160020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801000" y="1662120"/>
                <a:ext cx="1974240" cy="270720"/>
                <a:chOff x="801000" y="1662120"/>
                <a:chExt cx="1974240" cy="2707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801000" y="1681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96040" y="16621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48240" y="17499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980640" y="16815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156680" y="16815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213920" y="16855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10640" y="16815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685960" y="1685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1326240" y="19335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691360" y="19303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17000" y="19335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26960" y="21844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05960" y="21812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71920" y="21844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1831320" y="2181240"/>
                <a:ext cx="1873800" cy="185400"/>
                <a:chOff x="1831320" y="2181240"/>
                <a:chExt cx="1873800" cy="1854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831320" y="21837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58040" y="21837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402000" y="21812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577680" y="21837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1326600" y="2433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06680" y="24289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37160" y="24336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70800" y="24336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3035160" y="2428920"/>
                <a:ext cx="1476000" cy="249480"/>
                <a:chOff x="3035160" y="2428920"/>
                <a:chExt cx="1476000" cy="2494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35160" y="24314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5080" y="24289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0600" y="24955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242600" y="24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21880" y="24314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779840" y="26812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30800" y="2678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12520" y="268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58240" y="26812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77480" y="268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66040" y="26812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1979640" y="2678040"/>
                <a:ext cx="2148840" cy="185400"/>
                <a:chOff x="1979640" y="2678040"/>
                <a:chExt cx="2148840" cy="1854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979640" y="26805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07360" y="26780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039200" y="2680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875160" y="29304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02200" y="293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21800" y="2927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08560" y="293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97120" y="2930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59400" y="29304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67520" y="29304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1760" y="3179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653840" y="3176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51760" y="3179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835640" y="31798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22360" y="31798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836520" y="31766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84560" y="32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49360" y="31766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18920" y="3179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889280" y="225756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862560" y="1752480"/>
              <a:ext cx="4013640" cy="1981080"/>
              <a:chOff x="862560" y="1752480"/>
              <a:chExt cx="4013640" cy="1981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62560" y="17524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960480" y="1814400"/>
                <a:ext cx="1975320" cy="270720"/>
                <a:chOff x="960480" y="1814400"/>
                <a:chExt cx="1975320" cy="2707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960480" y="1833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056600" y="18144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108440" y="19022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141200" y="18338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316520" y="18338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74480" y="18378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671200" y="18338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846520" y="1837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1486800" y="20858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51920" y="20826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77920" y="20858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487520" y="23367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66520" y="23335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32480" y="23367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1991160" y="2333520"/>
                <a:ext cx="1873440" cy="185400"/>
                <a:chOff x="1991160" y="2333520"/>
                <a:chExt cx="1873440" cy="1854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991160" y="23360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118960" y="23360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62920" y="23335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737160" y="23360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1487160" y="2585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67240" y="25812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098080" y="25858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331720" y="25858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196080" y="2581200"/>
                <a:ext cx="1476360" cy="249480"/>
                <a:chOff x="3196080" y="2581200"/>
                <a:chExt cx="1476360" cy="24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196080" y="25837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265280" y="2581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330800" y="26478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403880" y="25812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83160" y="25837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1940760" y="28335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91720" y="2830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72360" y="2833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18800" y="28335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37320" y="2833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26960" y="28335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2140200" y="2830320"/>
                <a:ext cx="2148840" cy="185400"/>
                <a:chOff x="2140200" y="2830320"/>
                <a:chExt cx="2148840" cy="1854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140200" y="28328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67920" y="28303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199760" y="2832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1035720" y="30826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562760" y="308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82360" y="307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869120" y="308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57680" y="308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19960" y="30826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28080" y="30826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2320" y="33321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14400" y="3328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11960" y="3332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96200" y="33321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82920" y="33321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97080" y="33289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44760" y="339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09560" y="33289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479120" y="33321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49840" y="24098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380880" y="396252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ОВТОРНОЕ ИСПОЛНЕНИЕ ПОЛЬЗОВАТЕЛЕ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029200" y="990720"/>
            <a:ext cx="3733920" cy="5333760"/>
            <a:chOff x="5029200" y="990720"/>
            <a:chExt cx="3733920" cy="5333760"/>
          </a:xfrm>
        </p:grpSpPr>
        <p:sp>
          <p:nvSpPr>
            <p:cNvPr id="301" name=""/>
            <p:cNvSpPr/>
            <p:nvPr/>
          </p:nvSpPr>
          <p:spPr>
            <a:xfrm>
              <a:off x="5410080" y="990720"/>
              <a:ext cx="3353040" cy="5333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029200" y="1600200"/>
              <a:ext cx="3580920" cy="4495320"/>
              <a:chOff x="5029200" y="1600200"/>
              <a:chExt cx="3580920" cy="4495320"/>
            </a:xfrm>
          </p:grpSpPr>
          <p:sp>
            <p:nvSpPr>
              <p:cNvPr id="303" name=""/>
              <p:cNvSpPr/>
              <p:nvPr/>
            </p:nvSpPr>
            <p:spPr>
              <a:xfrm>
                <a:off x="5029200" y="4038120"/>
                <a:ext cx="819360" cy="485640"/>
              </a:xfrm>
              <a:prstGeom prst="leftArrow">
                <a:avLst>
                  <a:gd name="adj1" fmla="val 50000"/>
                  <a:gd name="adj2" fmla="val 42179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60440" y="1600200"/>
                <a:ext cx="2749680" cy="449532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307920" y="1904760"/>
                <a:ext cx="2174400" cy="359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ПЫ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-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ЦЕД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ЛЯ ИХ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ВТОРНОГО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ИСПОЛЬЗОВА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РАЦИОНАЛЬНОСТЬ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 ОТНОШЕНИЯ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 ОКРУЖАЮЩИ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ИРОМ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ЭВРИСТИК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32960" y="2590560"/>
                <a:ext cx="691200" cy="485280"/>
              </a:xfrm>
              <a:prstGeom prst="rightArrow">
                <a:avLst>
                  <a:gd name="adj1" fmla="val 50000"/>
                  <a:gd name="adj2" fmla="val 35608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5715000" y="1218960"/>
              <a:ext cx="28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НАЯ СИСТЕМ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09480" y="4419720"/>
            <a:ext cx="4114440" cy="1981080"/>
            <a:chOff x="609480" y="4419720"/>
            <a:chExt cx="4114440" cy="1981080"/>
          </a:xfrm>
        </p:grpSpPr>
        <p:sp>
          <p:nvSpPr>
            <p:cNvPr id="309" name=""/>
            <p:cNvSpPr/>
            <p:nvPr/>
          </p:nvSpPr>
          <p:spPr>
            <a:xfrm>
              <a:off x="609480" y="4419720"/>
              <a:ext cx="411444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11000" y="4481640"/>
              <a:ext cx="2020320" cy="270720"/>
              <a:chOff x="711000" y="4481640"/>
              <a:chExt cx="2020320" cy="270720"/>
            </a:xfrm>
          </p:grpSpPr>
          <p:sp>
            <p:nvSpPr>
              <p:cNvPr id="311" name=""/>
              <p:cNvSpPr/>
              <p:nvPr/>
            </p:nvSpPr>
            <p:spPr>
              <a:xfrm>
                <a:off x="711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1108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6256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9568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07748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350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6384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4204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12495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4924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78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5028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3648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0784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767960" y="5000760"/>
              <a:ext cx="1916280" cy="185400"/>
              <a:chOff x="1767960" y="5000760"/>
              <a:chExt cx="1916280" cy="185400"/>
            </a:xfrm>
          </p:grpSpPr>
          <p:sp>
            <p:nvSpPr>
              <p:cNvPr id="326" name=""/>
              <p:cNvSpPr/>
              <p:nvPr/>
            </p:nvSpPr>
            <p:spPr>
              <a:xfrm>
                <a:off x="1767960" y="500328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8280" y="500328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7788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56800" y="500328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25064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3612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763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1536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3002040" y="5248440"/>
              <a:ext cx="1508760" cy="249480"/>
              <a:chOff x="3002040" y="5248440"/>
              <a:chExt cx="1508760" cy="249480"/>
            </a:xfrm>
          </p:grpSpPr>
          <p:sp>
            <p:nvSpPr>
              <p:cNvPr id="335" name=""/>
              <p:cNvSpPr/>
              <p:nvPr/>
            </p:nvSpPr>
            <p:spPr>
              <a:xfrm>
                <a:off x="30020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9680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448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24008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21520" y="525096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71504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6168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6824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1504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3896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300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919520" y="5497560"/>
              <a:ext cx="2198160" cy="185400"/>
              <a:chOff x="1919520" y="5497560"/>
              <a:chExt cx="2198160" cy="185400"/>
            </a:xfrm>
          </p:grpSpPr>
          <p:sp>
            <p:nvSpPr>
              <p:cNvPr id="347" name=""/>
              <p:cNvSpPr/>
              <p:nvPr/>
            </p:nvSpPr>
            <p:spPr>
              <a:xfrm>
                <a:off x="191952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9260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02840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78660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2804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5160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423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3160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9604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210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3364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8544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85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7300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705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2284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7664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28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712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26640" y="5077080"/>
              <a:ext cx="18684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572000" y="5029200"/>
            <a:ext cx="3886200" cy="1295280"/>
            <a:chOff x="4572000" y="5029200"/>
            <a:chExt cx="3886200" cy="1295280"/>
          </a:xfrm>
        </p:grpSpPr>
        <p:sp>
          <p:nvSpPr>
            <p:cNvPr id="370" name=""/>
            <p:cNvSpPr/>
            <p:nvPr/>
          </p:nvSpPr>
          <p:spPr>
            <a:xfrm>
              <a:off x="4572000" y="5029200"/>
              <a:ext cx="3886200" cy="129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5880" y="5105160"/>
              <a:ext cx="2286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ЕСЛИ двигатель не заводится  И         стартёр не работает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О      неполадки в системе    электропитания стартёр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24280" y="510516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дук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04920" y="914400"/>
            <a:ext cx="8458200" cy="5077080"/>
            <a:chOff x="304920" y="914400"/>
            <a:chExt cx="8458200" cy="5077080"/>
          </a:xfrm>
        </p:grpSpPr>
        <p:sp>
          <p:nvSpPr>
            <p:cNvPr id="374" name=""/>
            <p:cNvSpPr/>
            <p:nvPr/>
          </p:nvSpPr>
          <p:spPr>
            <a:xfrm>
              <a:off x="6553080" y="3673440"/>
              <a:ext cx="22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ЗАЖИГ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304920" y="914400"/>
              <a:ext cx="7619760" cy="5077080"/>
              <a:chOff x="304920" y="914400"/>
              <a:chExt cx="7619760" cy="5077080"/>
            </a:xfrm>
          </p:grpSpPr>
          <p:sp>
            <p:nvSpPr>
              <p:cNvPr id="376" name=""/>
              <p:cNvSpPr/>
              <p:nvPr/>
            </p:nvSpPr>
            <p:spPr>
              <a:xfrm>
                <a:off x="3200400" y="91440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ВТОМОБИ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066680" y="175248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ОХЛАЖД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362320" y="2205000"/>
                <a:ext cx="22096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ЭЛЕКТРОПИТАНИЯ СТАРТЁР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572000" y="2205000"/>
                <a:ext cx="1371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ПОДАЧИ ТОПЛИВ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400800" y="1828800"/>
                <a:ext cx="1523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РМОЗНАЯ СИСТЕМ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33520" y="414972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ККУМУЛЯТ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590920" y="3611520"/>
                <a:ext cx="220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ГУЛЯТОР НАПРЯЖ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24280" y="4149720"/>
                <a:ext cx="221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ПРЕДЕЛИТЕ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514600" y="1228680"/>
                <a:ext cx="1371600" cy="62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3885840" y="1228680"/>
                <a:ext cx="30492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19720" y="1228680"/>
                <a:ext cx="68580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00600" y="1228680"/>
                <a:ext cx="2057400" cy="56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1600200" y="2859120"/>
                <a:ext cx="14479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52680" y="2859120"/>
                <a:ext cx="0" cy="75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581280" y="2859120"/>
                <a:ext cx="19051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86200" y="2859120"/>
                <a:ext cx="304812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920" y="4803840"/>
                <a:ext cx="1447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УРОВЕНЬ ЭЛЕКТРОЛИТ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76520" y="571500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ТАКТ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666880" y="4802040"/>
                <a:ext cx="152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ЗАРЯЖЕН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47920" y="4425840"/>
                <a:ext cx="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33720" y="4425840"/>
                <a:ext cx="83808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28800" y="4419720"/>
                <a:ext cx="38088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533520" y="91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80880" y="2057400"/>
            <a:ext cx="8305920" cy="3352320"/>
            <a:chOff x="380880" y="2057400"/>
            <a:chExt cx="8305920" cy="3352320"/>
          </a:xfrm>
        </p:grpSpPr>
        <p:sp>
          <p:nvSpPr>
            <p:cNvPr id="403" name=""/>
            <p:cNvSpPr/>
            <p:nvPr/>
          </p:nvSpPr>
          <p:spPr>
            <a:xfrm>
              <a:off x="5257800" y="205740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57800" y="33526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57800" y="47242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3800" y="3276360"/>
              <a:ext cx="106668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46480" y="3352680"/>
              <a:ext cx="144792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51200" y="2209680"/>
              <a:ext cx="685800" cy="2971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14600" y="37335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48320" y="3733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0280" y="37335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91120" y="3962160"/>
              <a:ext cx="12189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34320" y="2438280"/>
              <a:ext cx="9903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114440" y="2438280"/>
              <a:ext cx="1143000" cy="99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010280" y="4114440"/>
              <a:ext cx="9144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00200" y="274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00200" y="3581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00200" y="46479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23619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7200" y="327636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880" y="43430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57400" y="2285640"/>
              <a:ext cx="533520" cy="29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76720" y="342864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ОБЛА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4120" y="2057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ЯС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34120" y="3504960"/>
              <a:ext cx="167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48002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ОБРЕТЕНИЕ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20120" y="342864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600200" y="1143000"/>
            <a:ext cx="5638320" cy="2286000"/>
            <a:chOff x="1600200" y="1143000"/>
            <a:chExt cx="5638320" cy="2286000"/>
          </a:xfrm>
        </p:grpSpPr>
        <p:sp>
          <p:nvSpPr>
            <p:cNvPr id="431" name=""/>
            <p:cNvSpPr/>
            <p:nvPr/>
          </p:nvSpPr>
          <p:spPr>
            <a:xfrm>
              <a:off x="1828440" y="1828800"/>
              <a:ext cx="3276360" cy="45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00200" y="1676520"/>
              <a:ext cx="3885840" cy="1143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24280" y="1143000"/>
              <a:ext cx="2514240" cy="1066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7960" y="2438280"/>
              <a:ext cx="2590560" cy="990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00240" y="1160640"/>
              <a:ext cx="24382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, ИХ ОРГАНИЗА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24280" y="2743200"/>
              <a:ext cx="243792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ЗНАНИЯ, ОБРАБОТ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52480" y="1828800"/>
              <a:ext cx="281880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, 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457200" y="8380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ЧЕСКИЙ ФАК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838080" y="3733920"/>
            <a:ext cx="7391520" cy="2749320"/>
            <a:chOff x="838080" y="3733920"/>
            <a:chExt cx="7391520" cy="2749320"/>
          </a:xfrm>
        </p:grpSpPr>
        <p:sp>
          <p:nvSpPr>
            <p:cNvPr id="440" name=""/>
            <p:cNvSpPr/>
            <p:nvPr/>
          </p:nvSpPr>
          <p:spPr>
            <a:xfrm>
              <a:off x="838080" y="3733920"/>
              <a:ext cx="29718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НАЯ ЧА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8120" y="5105520"/>
              <a:ext cx="327636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4191120"/>
              <a:ext cx="259092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91320" y="4267080"/>
              <a:ext cx="2438280" cy="1295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19320" y="4343400"/>
              <a:ext cx="22096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АКТЫ, ПРАВИЛА, КОЭФФИЦИЕНТЫ ОПРЕДЕЛЁННОСТ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24080" y="5638680"/>
              <a:ext cx="32004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ФЕЙС ПОЛЬЗОВАТЕЛЯ: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ЗАИМОДЕЙСТВИЕ, СО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43600" y="4495680"/>
              <a:ext cx="22860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АШИНА ВЫВОДА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ОГИКА, ЗАКЛЮЧ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04920" y="1371600"/>
            <a:ext cx="8762760" cy="3812400"/>
            <a:chOff x="304920" y="1371600"/>
            <a:chExt cx="8762760" cy="3812400"/>
          </a:xfrm>
        </p:grpSpPr>
        <p:grpSp>
          <p:nvGrpSpPr>
            <p:cNvPr id="450" name=""/>
            <p:cNvGrpSpPr/>
            <p:nvPr/>
          </p:nvGrpSpPr>
          <p:grpSpPr>
            <a:xfrm>
              <a:off x="457200" y="1371600"/>
              <a:ext cx="1828800" cy="533520"/>
              <a:chOff x="457200" y="1371600"/>
              <a:chExt cx="1828800" cy="533520"/>
            </a:xfrm>
          </p:grpSpPr>
          <p:sp>
            <p:nvSpPr>
              <p:cNvPr id="451" name=""/>
              <p:cNvSpPr/>
              <p:nvPr/>
            </p:nvSpPr>
            <p:spPr>
              <a:xfrm>
                <a:off x="45720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5720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ЗАДАЧ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590920" y="1371600"/>
              <a:ext cx="1828800" cy="533520"/>
              <a:chOff x="2590920" y="1371600"/>
              <a:chExt cx="1828800" cy="533520"/>
            </a:xfrm>
          </p:grpSpPr>
          <p:sp>
            <p:nvSpPr>
              <p:cNvPr id="454" name=""/>
              <p:cNvSpPr/>
              <p:nvPr/>
            </p:nvSpPr>
            <p:spPr>
              <a:xfrm>
                <a:off x="2590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90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РЕМ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4876920" y="1371600"/>
              <a:ext cx="1828800" cy="533520"/>
              <a:chOff x="4876920" y="1371600"/>
              <a:chExt cx="1828800" cy="533520"/>
            </a:xfrm>
          </p:grpSpPr>
          <p:sp>
            <p:nvSpPr>
              <p:cNvPr id="457" name=""/>
              <p:cNvSpPr/>
              <p:nvPr/>
            </p:nvSpPr>
            <p:spPr>
              <a:xfrm>
                <a:off x="4876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876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ОМПЬЮТЕР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6934320" y="1371600"/>
              <a:ext cx="1828800" cy="533520"/>
              <a:chOff x="6934320" y="1371600"/>
              <a:chExt cx="1828800" cy="533520"/>
            </a:xfrm>
          </p:grpSpPr>
          <p:sp>
            <p:nvSpPr>
              <p:cNvPr id="460" name=""/>
              <p:cNvSpPr/>
              <p:nvPr/>
            </p:nvSpPr>
            <p:spPr>
              <a:xfrm>
                <a:off x="69343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343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ИНТЕГРАЦИ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30492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АГНО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492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ЕКТ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920" y="35812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ГНОЗ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920" y="4191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492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УЧ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38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528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УПЕР  ЭВМ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38280" y="3048120"/>
              <a:ext cx="243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ВАЗИ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38280" y="3581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5288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НЯ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52880" y="35812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ИМВОЛЬНЫЙ ПРОЦЕССО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52880" y="419112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СТАНЦИЯ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5288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ЭВМ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10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ВТОНОМ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29718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ИБРИД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38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00600" y="21337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10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762120"/>
            <a:ext cx="876312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1905120"/>
            <a:ext cx="8458200" cy="3733200"/>
            <a:chOff x="380880" y="1905120"/>
            <a:chExt cx="8458200" cy="3733200"/>
          </a:xfrm>
        </p:grpSpPr>
        <p:grpSp>
          <p:nvGrpSpPr>
            <p:cNvPr id="483" name=""/>
            <p:cNvGrpSpPr/>
            <p:nvPr/>
          </p:nvGrpSpPr>
          <p:grpSpPr>
            <a:xfrm>
              <a:off x="914400" y="3429000"/>
              <a:ext cx="1523880" cy="914040"/>
              <a:chOff x="914400" y="3429000"/>
              <a:chExt cx="1523880" cy="914040"/>
            </a:xfrm>
          </p:grpSpPr>
          <p:sp>
            <p:nvSpPr>
              <p:cNvPr id="484" name=""/>
              <p:cNvSpPr/>
              <p:nvPr/>
            </p:nvSpPr>
            <p:spPr>
              <a:xfrm>
                <a:off x="91440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1440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БОРК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2971800" y="3429000"/>
              <a:ext cx="1599840" cy="914040"/>
              <a:chOff x="2971800" y="3429000"/>
              <a:chExt cx="1599840" cy="914040"/>
            </a:xfrm>
          </p:grpSpPr>
          <p:sp>
            <p:nvSpPr>
              <p:cNvPr id="487" name=""/>
              <p:cNvSpPr/>
              <p:nvPr/>
            </p:nvSpPr>
            <p:spPr>
              <a:xfrm>
                <a:off x="2971800" y="3429000"/>
                <a:ext cx="15998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71800" y="3581280"/>
                <a:ext cx="159984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ОПОСТАВЛ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105520" y="3429000"/>
              <a:ext cx="1523880" cy="914040"/>
              <a:chOff x="5105520" y="3429000"/>
              <a:chExt cx="1523880" cy="914040"/>
            </a:xfrm>
          </p:grpSpPr>
          <p:sp>
            <p:nvSpPr>
              <p:cNvPr id="490" name=""/>
              <p:cNvSpPr/>
              <p:nvPr/>
            </p:nvSpPr>
            <p:spPr>
              <a:xfrm>
                <a:off x="51055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105520" y="358128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ЗРЕШЕНИЕ КОНФЛИКТО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7162920" y="3429000"/>
              <a:ext cx="1523880" cy="914040"/>
              <a:chOff x="7162920" y="3429000"/>
              <a:chExt cx="1523880" cy="914040"/>
            </a:xfrm>
          </p:grpSpPr>
          <p:sp>
            <p:nvSpPr>
              <p:cNvPr id="493" name=""/>
              <p:cNvSpPr/>
              <p:nvPr/>
            </p:nvSpPr>
            <p:spPr>
              <a:xfrm>
                <a:off x="71629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6292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ПОЛН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457200" y="4724280"/>
              <a:ext cx="1523880" cy="914040"/>
              <a:chOff x="457200" y="4724280"/>
              <a:chExt cx="1523880" cy="914040"/>
            </a:xfrm>
          </p:grpSpPr>
          <p:sp>
            <p:nvSpPr>
              <p:cNvPr id="496" name=""/>
              <p:cNvSpPr/>
              <p:nvPr/>
            </p:nvSpPr>
            <p:spPr>
              <a:xfrm>
                <a:off x="4572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7200" y="487656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АЗА ЗНАНИ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2362320" y="4724280"/>
              <a:ext cx="1523880" cy="914040"/>
              <a:chOff x="2362320" y="4724280"/>
              <a:chExt cx="1523880" cy="914040"/>
            </a:xfrm>
          </p:grpSpPr>
          <p:sp>
            <p:nvSpPr>
              <p:cNvPr id="499" name=""/>
              <p:cNvSpPr/>
              <p:nvPr/>
            </p:nvSpPr>
            <p:spPr>
              <a:xfrm>
                <a:off x="236232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36232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ЛЕВАН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4343400" y="4724280"/>
              <a:ext cx="1523880" cy="914040"/>
              <a:chOff x="4343400" y="4724280"/>
              <a:chExt cx="1523880" cy="914040"/>
            </a:xfrm>
          </p:grpSpPr>
          <p:sp>
            <p:nvSpPr>
              <p:cNvPr id="502" name=""/>
              <p:cNvSpPr/>
              <p:nvPr/>
            </p:nvSpPr>
            <p:spPr>
              <a:xfrm>
                <a:off x="43434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34340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ФЛИК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324480" y="4724280"/>
              <a:ext cx="1524240" cy="914040"/>
              <a:chOff x="6324480" y="4724280"/>
              <a:chExt cx="1524240" cy="914040"/>
            </a:xfrm>
          </p:grpSpPr>
          <p:sp>
            <p:nvSpPr>
              <p:cNvPr id="505" name=""/>
              <p:cNvSpPr/>
              <p:nvPr/>
            </p:nvSpPr>
            <p:spPr>
              <a:xfrm>
                <a:off x="6324480" y="4724280"/>
                <a:ext cx="15242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24480" y="4876560"/>
                <a:ext cx="152424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Т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048120" y="1905120"/>
              <a:ext cx="3123360" cy="609480"/>
              <a:chOff x="3048120" y="1905120"/>
              <a:chExt cx="3123360" cy="609480"/>
            </a:xfrm>
          </p:grpSpPr>
          <p:sp>
            <p:nvSpPr>
              <p:cNvPr id="508" name=""/>
              <p:cNvSpPr/>
              <p:nvPr/>
            </p:nvSpPr>
            <p:spPr>
              <a:xfrm>
                <a:off x="3048120" y="1905120"/>
                <a:ext cx="31233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048120" y="2006640"/>
                <a:ext cx="312336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БОЧАЯ ПАМЯ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 flipV="1">
              <a:off x="685800" y="40384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580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08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800" y="21333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5800" y="3657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85800" y="2133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2438280" y="3962160"/>
              <a:ext cx="152640" cy="761760"/>
              <a:chOff x="2438280" y="3962160"/>
              <a:chExt cx="152640" cy="761760"/>
            </a:xfrm>
          </p:grpSpPr>
          <p:sp>
            <p:nvSpPr>
              <p:cNvPr id="517" name=""/>
              <p:cNvSpPr/>
              <p:nvPr/>
            </p:nvSpPr>
            <p:spPr>
              <a:xfrm>
                <a:off x="2438280" y="39621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59092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4572000" y="3962160"/>
              <a:ext cx="152280" cy="761760"/>
              <a:chOff x="4572000" y="3962160"/>
              <a:chExt cx="152280" cy="761760"/>
            </a:xfrm>
          </p:grpSpPr>
          <p:sp>
            <p:nvSpPr>
              <p:cNvPr id="520" name=""/>
              <p:cNvSpPr/>
              <p:nvPr/>
            </p:nvSpPr>
            <p:spPr>
              <a:xfrm>
                <a:off x="45720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7242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629400" y="3962160"/>
              <a:ext cx="152280" cy="761760"/>
              <a:chOff x="6629400" y="3962160"/>
              <a:chExt cx="152280" cy="761760"/>
            </a:xfrm>
          </p:grpSpPr>
          <p:sp>
            <p:nvSpPr>
              <p:cNvPr id="523" name=""/>
              <p:cNvSpPr/>
              <p:nvPr/>
            </p:nvSpPr>
            <p:spPr>
              <a:xfrm>
                <a:off x="66294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816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819520" y="3733200"/>
              <a:ext cx="228240" cy="990360"/>
              <a:chOff x="2819520" y="3733200"/>
              <a:chExt cx="228240" cy="99036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281952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81952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4952880" y="3733200"/>
              <a:ext cx="228240" cy="990360"/>
              <a:chOff x="4952880" y="3733200"/>
              <a:chExt cx="228240" cy="990360"/>
            </a:xfrm>
          </p:grpSpPr>
          <p:sp>
            <p:nvSpPr>
              <p:cNvPr id="529" name=""/>
              <p:cNvSpPr/>
              <p:nvPr/>
            </p:nvSpPr>
            <p:spPr>
              <a:xfrm flipV="1">
                <a:off x="49528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9528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7010280" y="3733200"/>
              <a:ext cx="228240" cy="990360"/>
              <a:chOff x="7010280" y="3733200"/>
              <a:chExt cx="228240" cy="99036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70102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102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6095880" y="22096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839080" y="220968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8610120" y="3809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09480" y="914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ИКЛ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066680"/>
            <a:ext cx="3048120" cy="167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14400" y="3809880"/>
            <a:ext cx="2971800" cy="228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143000" y="4343040"/>
            <a:ext cx="2514600" cy="688680"/>
            <a:chOff x="1143000" y="4343040"/>
            <a:chExt cx="2514600" cy="688680"/>
          </a:xfrm>
        </p:grpSpPr>
        <p:grpSp>
          <p:nvGrpSpPr>
            <p:cNvPr id="543" name=""/>
            <p:cNvGrpSpPr/>
            <p:nvPr/>
          </p:nvGrpSpPr>
          <p:grpSpPr>
            <a:xfrm>
              <a:off x="1143000" y="4572000"/>
              <a:ext cx="2514600" cy="459720"/>
              <a:chOff x="1143000" y="4572000"/>
              <a:chExt cx="2514600" cy="459720"/>
            </a:xfrm>
          </p:grpSpPr>
          <p:sp>
            <p:nvSpPr>
              <p:cNvPr id="544" name=""/>
              <p:cNvSpPr/>
              <p:nvPr/>
            </p:nvSpPr>
            <p:spPr>
              <a:xfrm>
                <a:off x="11430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6765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146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767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3372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9548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rot="16200000">
              <a:off x="2247840" y="3390480"/>
              <a:ext cx="228600" cy="21337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066680" y="3962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А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66680" y="5257800"/>
            <a:ext cx="2514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РАБОЧАЯ ПАМЯ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(БАЗА ДАННЫХ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952880" y="2971800"/>
            <a:ext cx="365760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105520" y="3505320"/>
            <a:ext cx="3352680" cy="2286000"/>
            <a:chOff x="5105520" y="3505320"/>
            <a:chExt cx="3352680" cy="2286000"/>
          </a:xfrm>
        </p:grpSpPr>
        <p:grpSp>
          <p:nvGrpSpPr>
            <p:cNvPr id="555" name=""/>
            <p:cNvGrpSpPr/>
            <p:nvPr/>
          </p:nvGrpSpPr>
          <p:grpSpPr>
            <a:xfrm>
              <a:off x="5105520" y="3505320"/>
              <a:ext cx="3352680" cy="533520"/>
              <a:chOff x="5105520" y="3505320"/>
              <a:chExt cx="3352680" cy="533520"/>
            </a:xfrm>
          </p:grpSpPr>
          <p:sp>
            <p:nvSpPr>
              <p:cNvPr id="556" name=""/>
              <p:cNvSpPr/>
              <p:nvPr/>
            </p:nvSpPr>
            <p:spPr>
              <a:xfrm>
                <a:off x="5105520" y="35053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5791320" y="3581640"/>
                <a:ext cx="1218960" cy="380880"/>
                <a:chOff x="5791320" y="3581640"/>
                <a:chExt cx="1218960" cy="3808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7913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8554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162920" y="3581640"/>
                <a:ext cx="1218960" cy="380880"/>
                <a:chOff x="7162920" y="3581640"/>
                <a:chExt cx="1218960" cy="3808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1629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2270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>
                <a:off x="5181480" y="35816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5105520" y="4191120"/>
              <a:ext cx="3352680" cy="533520"/>
              <a:chOff x="5105520" y="4191120"/>
              <a:chExt cx="3352680" cy="53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5105520" y="41911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5791320" y="4267440"/>
                <a:ext cx="1218960" cy="380880"/>
                <a:chOff x="5791320" y="4267440"/>
                <a:chExt cx="1218960" cy="3808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7913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8554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162920" y="4267440"/>
                <a:ext cx="1218960" cy="380880"/>
                <a:chOff x="7162920" y="4267440"/>
                <a:chExt cx="1218960" cy="3808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1629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2270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181480" y="42674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105520" y="5258160"/>
              <a:ext cx="3352680" cy="533160"/>
              <a:chOff x="5105520" y="5258160"/>
              <a:chExt cx="3352680" cy="533160"/>
            </a:xfrm>
          </p:grpSpPr>
          <p:sp>
            <p:nvSpPr>
              <p:cNvPr id="574" name=""/>
              <p:cNvSpPr/>
              <p:nvPr/>
            </p:nvSpPr>
            <p:spPr>
              <a:xfrm>
                <a:off x="5105520" y="5258160"/>
                <a:ext cx="3352680" cy="5331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5791320" y="5334120"/>
                <a:ext cx="1218960" cy="380520"/>
                <a:chOff x="5791320" y="5334120"/>
                <a:chExt cx="1218960" cy="38052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7913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8554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7162920" y="5334120"/>
                <a:ext cx="1218960" cy="380520"/>
                <a:chOff x="7162920" y="5334120"/>
                <a:chExt cx="1218960" cy="3805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1629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2270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5181480" y="533412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2" name=""/>
          <p:cNvSpPr/>
          <p:nvPr/>
        </p:nvSpPr>
        <p:spPr>
          <a:xfrm>
            <a:off x="5105520" y="30481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86400" y="5943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(ПРЕЦЕДЕНТ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52680" y="1905120"/>
            <a:ext cx="2590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2025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АМЯТЬ СОСТОЯ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00400" y="1219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ИНТЕРПРЕТА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666880" y="266688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181120" y="266652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9144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533520"/>
            <a:ext cx="8686800" cy="6172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685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ТРУКТУРА ПРОДУ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523880" y="1219320"/>
            <a:ext cx="7010640" cy="533160"/>
            <a:chOff x="1523880" y="1219320"/>
            <a:chExt cx="7010640" cy="533160"/>
          </a:xfrm>
        </p:grpSpPr>
        <p:sp>
          <p:nvSpPr>
            <p:cNvPr id="594" name=""/>
            <p:cNvSpPr/>
            <p:nvPr/>
          </p:nvSpPr>
          <p:spPr>
            <a:xfrm>
              <a:off x="1523880" y="1219320"/>
              <a:ext cx="70106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76520" y="1325880"/>
              <a:ext cx="22860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ЛУЖЕБ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48320" y="1325880"/>
              <a:ext cx="36576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ФОРМАЦИОН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67080" y="1219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33520" y="3886200"/>
            <a:ext cx="5486400" cy="533520"/>
            <a:chOff x="533520" y="3886200"/>
            <a:chExt cx="5486400" cy="533520"/>
          </a:xfrm>
        </p:grpSpPr>
        <p:sp>
          <p:nvSpPr>
            <p:cNvPr id="599" name=""/>
            <p:cNvSpPr/>
            <p:nvPr/>
          </p:nvSpPr>
          <p:spPr>
            <a:xfrm>
              <a:off x="5335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911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3623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844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9072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916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38640" y="395244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43760" y="401940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2743200" y="3367080"/>
            <a:ext cx="28195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НАСТРОЙ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120" y="3367080"/>
            <a:ext cx="15238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ДОСТУ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1828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4114800" y="2286000"/>
            <a:ext cx="4495680" cy="762120"/>
            <a:chOff x="4114800" y="2286000"/>
            <a:chExt cx="4495680" cy="762120"/>
          </a:xfrm>
        </p:grpSpPr>
        <p:sp>
          <p:nvSpPr>
            <p:cNvPr id="611" name=""/>
            <p:cNvSpPr/>
            <p:nvPr/>
          </p:nvSpPr>
          <p:spPr>
            <a:xfrm>
              <a:off x="4114800" y="2286000"/>
              <a:ext cx="4495680" cy="762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95680" y="2557080"/>
              <a:ext cx="365760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БИБЛИОТЕ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590920" y="19810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838080" y="4876920"/>
            <a:ext cx="2895840" cy="457200"/>
            <a:chOff x="838080" y="4876920"/>
            <a:chExt cx="2895840" cy="457200"/>
          </a:xfrm>
        </p:grpSpPr>
        <p:sp>
          <p:nvSpPr>
            <p:cNvPr id="615" name=""/>
            <p:cNvSpPr/>
            <p:nvPr/>
          </p:nvSpPr>
          <p:spPr>
            <a:xfrm>
              <a:off x="838080" y="487692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838080" y="4876920"/>
              <a:ext cx="609840" cy="457200"/>
              <a:chOff x="838080" y="4876920"/>
              <a:chExt cx="609840" cy="457200"/>
            </a:xfrm>
          </p:grpSpPr>
          <p:sp>
            <p:nvSpPr>
              <p:cNvPr id="617" name=""/>
              <p:cNvSpPr/>
              <p:nvPr/>
            </p:nvSpPr>
            <p:spPr>
              <a:xfrm>
                <a:off x="838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914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1447920" y="4876920"/>
              <a:ext cx="609480" cy="457200"/>
              <a:chOff x="1447920" y="4876920"/>
              <a:chExt cx="609480" cy="457200"/>
            </a:xfrm>
          </p:grpSpPr>
          <p:sp>
            <p:nvSpPr>
              <p:cNvPr id="620" name=""/>
              <p:cNvSpPr/>
              <p:nvPr/>
            </p:nvSpPr>
            <p:spPr>
              <a:xfrm>
                <a:off x="144792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52388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2286000" y="4876920"/>
              <a:ext cx="609480" cy="457200"/>
              <a:chOff x="2286000" y="4876920"/>
              <a:chExt cx="609480" cy="457200"/>
            </a:xfrm>
          </p:grpSpPr>
          <p:sp>
            <p:nvSpPr>
              <p:cNvPr id="623" name=""/>
              <p:cNvSpPr/>
              <p:nvPr/>
            </p:nvSpPr>
            <p:spPr>
              <a:xfrm>
                <a:off x="228600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36196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124080" y="4876920"/>
              <a:ext cx="609840" cy="457200"/>
              <a:chOff x="3124080" y="4876920"/>
              <a:chExt cx="609840" cy="457200"/>
            </a:xfrm>
          </p:grpSpPr>
          <p:sp>
            <p:nvSpPr>
              <p:cNvPr id="626" name=""/>
              <p:cNvSpPr/>
              <p:nvPr/>
            </p:nvSpPr>
            <p:spPr>
              <a:xfrm>
                <a:off x="3124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200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1066680" y="45720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838080" y="5638680"/>
            <a:ext cx="2895840" cy="457200"/>
            <a:chOff x="838080" y="5638680"/>
            <a:chExt cx="2895840" cy="457200"/>
          </a:xfrm>
        </p:grpSpPr>
        <p:sp>
          <p:nvSpPr>
            <p:cNvPr id="630" name=""/>
            <p:cNvSpPr/>
            <p:nvPr/>
          </p:nvSpPr>
          <p:spPr>
            <a:xfrm>
              <a:off x="838080" y="563868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838080" y="5638680"/>
              <a:ext cx="609840" cy="457200"/>
              <a:chOff x="838080" y="5638680"/>
              <a:chExt cx="609840" cy="457200"/>
            </a:xfrm>
          </p:grpSpPr>
          <p:sp>
            <p:nvSpPr>
              <p:cNvPr id="632" name=""/>
              <p:cNvSpPr/>
              <p:nvPr/>
            </p:nvSpPr>
            <p:spPr>
              <a:xfrm>
                <a:off x="838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14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447920" y="5638680"/>
              <a:ext cx="609480" cy="457200"/>
              <a:chOff x="1447920" y="5638680"/>
              <a:chExt cx="609480" cy="457200"/>
            </a:xfrm>
          </p:grpSpPr>
          <p:sp>
            <p:nvSpPr>
              <p:cNvPr id="635" name=""/>
              <p:cNvSpPr/>
              <p:nvPr/>
            </p:nvSpPr>
            <p:spPr>
              <a:xfrm>
                <a:off x="144792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52388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286000" y="5638680"/>
              <a:ext cx="609480" cy="457200"/>
              <a:chOff x="2286000" y="5638680"/>
              <a:chExt cx="60948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228600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6196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124080" y="5638680"/>
              <a:ext cx="609840" cy="457200"/>
              <a:chOff x="3124080" y="5638680"/>
              <a:chExt cx="609840" cy="457200"/>
            </a:xfrm>
          </p:grpSpPr>
          <p:sp>
            <p:nvSpPr>
              <p:cNvPr id="641" name=""/>
              <p:cNvSpPr/>
              <p:nvPr/>
            </p:nvSpPr>
            <p:spPr>
              <a:xfrm>
                <a:off x="3124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200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609480" y="617220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ОННЫЙ РАСПР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2193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9051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7432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812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743200" y="42670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15000" y="4191120"/>
            <a:ext cx="5335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52880" y="5105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ОПОСТАВЛЕНИЕ ФОРМУ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8:38:28Z</dcterms:created>
  <dc:creator>Петр Соснин</dc:creator>
  <dc:description/>
  <dc:language>en-US</dc:language>
  <cp:lastModifiedBy>Валерий Г. Костин</cp:lastModifiedBy>
  <dcterms:modified xsi:type="dcterms:W3CDTF">2002-12-12T13:34:49Z</dcterms:modified>
  <cp:revision>16</cp:revision>
  <dc:subject/>
  <dc:title>ЭКСПЕРТНЫЕ СИСТЕМЫ</dc:title>
</cp:coreProperties>
</file>