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2A6F-7926-4A4A-A9A1-08DF079FF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955C-4C53-4295-8EDF-DE0B670EB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003A-8158-4460-9665-404299418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AFE4-5776-4114-8C1C-342AAB464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26E3-8C4B-4267-911F-92907CC5B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E990-9F26-4667-AFD0-CF50651FE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6425-DBC4-4214-877E-9D38385EE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F93A-81F3-43CB-8F57-D74A5874F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579E-C879-408E-ADD7-9526E34FE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2790-9A8E-47E9-8E1B-B8219ECF6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3969-FF1C-4993-9F54-5EFB1D2BD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E307-582C-42F1-88DE-521051C9D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FEB34-22B7-43B0-9034-884D138062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ВРЕМЕ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990720"/>
            <a:ext cx="82296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Феномен природ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Шкалирование: прошлое настоящее будущее (А-системы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раньше, позже (В-системы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0" y="2895480"/>
            <a:ext cx="3886200" cy="19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Основные свойства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Направлен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Линейность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Непрерывность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Неоканчиваемость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Гомоген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ПРОСТРАНСТВ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76520" y="1371600"/>
            <a:ext cx="6248160" cy="36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антериорные, задающие местоположение объекта перед другим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объектом или ориентиро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остериорные, определяющие положение объекта относительно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евидимой (тыльной) стороны другого объект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оппозитивные, определяющие местоположение объекта в про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тивоположении к другому объекту или локализатору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нтервальные,   задающие   местоположение   объекта    межд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</a:rPr>
              <a:t>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вумя другим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аппроксимативные,   задающие   приблизительное   положенш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объекта в пространстве относительно расстояния или направления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«где-то в парке»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ирективные, определяющие направление движения или дей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твия над объектом относительно пространственного ориентира или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чала координат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нициальные, указывающие направление при фиксированной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чальной точк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ПРОСТРАНСТ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828800" y="1905120"/>
            <a:ext cx="6324480" cy="42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терминальные, указывающие направление при фиксированн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конечной точк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лимитативные, указывающие направление при фиксированн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чальной и конечной точках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эксклюзивные, задающие перемещение или действие, происхо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ящее внутри некоторого объекта или ЛОК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нклюзивные,  задающие перемещение  или  действие,  проис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ходящее по  направлению внутрь некоторого объекта  или  ЛО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трансверсальные,  указывающие  на   пересекаемый  простран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твенный ориентир  («перейти через улицу»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тинеративные, указывающие на маршрут движения или пере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ещения или фиксирующие ЛОК, в котором совершается действие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«идти по улице»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952880" y="1600200"/>
            <a:ext cx="3962520" cy="31240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1600200"/>
            <a:ext cx="4190760" cy="3124080"/>
          </a:xfrm>
          <a:prstGeom prst="rect">
            <a:avLst/>
          </a:prstGeom>
          <a:solidFill>
            <a:srgbClr val="ccccff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ВРЕМЕ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106668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Время в естественном язык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3880" y="19810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Русский язы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91320" y="198108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Английский язы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29718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Лекси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010280" y="297180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Граммати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57800" y="29718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Лекси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14600" y="297180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Граммати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6019560" y="251460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934320" y="2514600"/>
            <a:ext cx="5331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81480" y="3505320"/>
            <a:ext cx="152424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62920" y="3505320"/>
            <a:ext cx="144756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3505320"/>
            <a:ext cx="152388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90920" y="3505320"/>
            <a:ext cx="144756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28800" y="39625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324480" y="39625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1447560" y="243828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362320"/>
            <a:ext cx="5331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133720" y="495288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Заполненность отрезка времени действие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133720" y="541008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Единичность или повторяем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3720" y="5791320"/>
            <a:ext cx="624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Завершённость действия или незавершен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133720" y="624852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Одновремённость или разновремён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ВРЕМЕ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-2666880" y="990720"/>
            <a:ext cx="15086520" cy="3276000"/>
            <a:chOff x="-2666880" y="990720"/>
            <a:chExt cx="15086520" cy="3276000"/>
          </a:xfrm>
        </p:grpSpPr>
        <p:sp>
          <p:nvSpPr>
            <p:cNvPr id="70" name=""/>
            <p:cNvSpPr/>
            <p:nvPr/>
          </p:nvSpPr>
          <p:spPr>
            <a:xfrm>
              <a:off x="1676520" y="990720"/>
              <a:ext cx="5486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993366"/>
                  </a:solidFill>
                  <a:latin typeface="Times New Roman"/>
                </a:rPr>
                <a:t>Время в лигвиститк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609480" y="3123720"/>
              <a:ext cx="7924680" cy="0"/>
              <a:chOff x="609480" y="3123720"/>
              <a:chExt cx="7924680" cy="0"/>
            </a:xfrm>
          </p:grpSpPr>
          <p:grpSp>
            <p:nvGrpSpPr>
              <p:cNvPr id="72" name=""/>
              <p:cNvGrpSpPr/>
              <p:nvPr/>
            </p:nvGrpSpPr>
            <p:grpSpPr>
              <a:xfrm>
                <a:off x="609480" y="3123720"/>
                <a:ext cx="2113200" cy="0"/>
                <a:chOff x="609480" y="3123720"/>
                <a:chExt cx="2113200" cy="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609480" y="3123720"/>
                  <a:ext cx="528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1137960" y="3123720"/>
                  <a:ext cx="527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1666080" y="3123720"/>
                  <a:ext cx="527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2194200" y="3123720"/>
                  <a:ext cx="528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" name=""/>
              <p:cNvSpPr/>
              <p:nvPr/>
            </p:nvSpPr>
            <p:spPr>
              <a:xfrm>
                <a:off x="2723040" y="3123720"/>
                <a:ext cx="52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251160" y="3123720"/>
                <a:ext cx="52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779280" y="3123720"/>
                <a:ext cx="528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307760" y="3123720"/>
                <a:ext cx="52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836240" y="3123720"/>
                <a:ext cx="52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364360" y="3123720"/>
                <a:ext cx="528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892840" y="3123720"/>
                <a:ext cx="52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420960" y="3123720"/>
                <a:ext cx="52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949080" y="3123720"/>
                <a:ext cx="528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477920" y="3123720"/>
                <a:ext cx="52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006040" y="3123720"/>
                <a:ext cx="52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380880" y="32004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ДП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14400" y="32004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447920" y="320040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РП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981080" y="3200400"/>
              <a:ext cx="60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СП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590920" y="32004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БН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2004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ДН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657600" y="32004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Н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14800" y="320040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М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48320" y="32004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БН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05520" y="320040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РН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638680" y="3200400"/>
              <a:ext cx="60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СН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172200" y="32004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ББ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781680" y="3200400"/>
              <a:ext cx="60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РБ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315200" y="320040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СБ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848720" y="32004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Б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381880" y="32004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ДБ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-2666880" y="1752480"/>
              <a:ext cx="7009920" cy="243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4343400" y="1676520"/>
              <a:ext cx="8076240" cy="259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971800" y="1371600"/>
              <a:ext cx="3276720" cy="1600200"/>
            </a:xfrm>
            <a:custGeom>
              <a:avLst/>
              <a:gdLst/>
              <a:ahLst/>
              <a:rect l="l" t="t" r="r" b="b"/>
              <a:pathLst>
                <a:path w="2016" h="616">
                  <a:moveTo>
                    <a:pt x="0" y="616"/>
                  </a:moveTo>
                  <a:cubicBezTo>
                    <a:pt x="0" y="496"/>
                    <a:pt x="0" y="376"/>
                    <a:pt x="96" y="280"/>
                  </a:cubicBezTo>
                  <a:cubicBezTo>
                    <a:pt x="192" y="184"/>
                    <a:pt x="448" y="80"/>
                    <a:pt x="576" y="40"/>
                  </a:cubicBezTo>
                  <a:cubicBezTo>
                    <a:pt x="704" y="0"/>
                    <a:pt x="728" y="24"/>
                    <a:pt x="864" y="40"/>
                  </a:cubicBezTo>
                  <a:cubicBezTo>
                    <a:pt x="1000" y="56"/>
                    <a:pt x="1240" y="88"/>
                    <a:pt x="1392" y="136"/>
                  </a:cubicBezTo>
                  <a:cubicBezTo>
                    <a:pt x="1544" y="184"/>
                    <a:pt x="1672" y="248"/>
                    <a:pt x="1776" y="328"/>
                  </a:cubicBezTo>
                  <a:cubicBezTo>
                    <a:pt x="1880" y="408"/>
                    <a:pt x="1976" y="568"/>
                    <a:pt x="2016" y="61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33520" y="1981080"/>
              <a:ext cx="152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3366"/>
                  </a:solidFill>
                  <a:latin typeface="Times New Roman"/>
                </a:rPr>
                <a:t>ПРОШЛО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657600" y="1828800"/>
              <a:ext cx="152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3366"/>
                  </a:solidFill>
                  <a:latin typeface="Times New Roman"/>
                </a:rPr>
                <a:t>НАСТОЯЩЕ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29400" y="2133720"/>
              <a:ext cx="152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3366"/>
                  </a:solidFill>
                  <a:latin typeface="Times New Roman"/>
                </a:rPr>
                <a:t>БУДУЩЕ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533520" y="4114800"/>
            <a:ext cx="8458200" cy="2516760"/>
            <a:chOff x="533520" y="4114800"/>
            <a:chExt cx="8458200" cy="2516760"/>
          </a:xfrm>
        </p:grpSpPr>
        <p:sp>
          <p:nvSpPr>
            <p:cNvPr id="111" name=""/>
            <p:cNvSpPr/>
            <p:nvPr/>
          </p:nvSpPr>
          <p:spPr>
            <a:xfrm>
              <a:off x="533520" y="4114800"/>
              <a:ext cx="289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ДП – давно прошедше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52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О - одновремен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33520" y="4952880"/>
              <a:ext cx="213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РП - предпрошедше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33520" y="5410080"/>
              <a:ext cx="266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СП – после прошедше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33520" y="5791320"/>
              <a:ext cx="228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БП близко прошедше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09880" y="4114800"/>
              <a:ext cx="2362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993366"/>
                  </a:solidFill>
                  <a:latin typeface="Times New Roman"/>
                </a:rPr>
                <a:t>ДН - давнонастояще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809880" y="4572000"/>
              <a:ext cx="213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НО одновремен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809880" y="502920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МО момент отсчёт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410080"/>
              <a:ext cx="190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БН - близк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809880" y="586728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РН -  пред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09880" y="6324480"/>
              <a:ext cx="190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СН - посл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324480" y="411480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ББ  - близк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24480" y="4572000"/>
              <a:ext cx="2667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РБ - пред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324480" y="4952880"/>
              <a:ext cx="251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СБ - посл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400800" y="5334120"/>
              <a:ext cx="243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БО - одновремен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400800" y="5791320"/>
              <a:ext cx="251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ДБ – далёкое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ВРЕМЕ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676520" y="106668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Время и челове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76720" y="1523880"/>
            <a:ext cx="2361960" cy="8384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838080" y="3733920"/>
            <a:ext cx="7772400" cy="1066680"/>
            <a:chOff x="838080" y="3733920"/>
            <a:chExt cx="7772400" cy="1066680"/>
          </a:xfrm>
        </p:grpSpPr>
        <p:sp>
          <p:nvSpPr>
            <p:cNvPr id="131" name=""/>
            <p:cNvSpPr/>
            <p:nvPr/>
          </p:nvSpPr>
          <p:spPr>
            <a:xfrm>
              <a:off x="838080" y="42670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19720" y="4191120"/>
              <a:ext cx="75960" cy="7596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429000" y="380988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410080" y="3733920"/>
              <a:ext cx="0" cy="9903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219320" y="4267080"/>
              <a:ext cx="129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366"/>
                  </a:solidFill>
                  <a:latin typeface="Times New Roman"/>
                </a:rPr>
                <a:t>прошло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657600" y="426708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366"/>
                  </a:solidFill>
                  <a:latin typeface="Times New Roman"/>
                </a:rPr>
                <a:t>настояще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324480" y="4267080"/>
              <a:ext cx="129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366"/>
                  </a:solidFill>
                  <a:latin typeface="Times New Roman"/>
                </a:rPr>
                <a:t>будуще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3505320" y="17524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событ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371600" y="5638680"/>
            <a:ext cx="6248520" cy="304560"/>
            <a:chOff x="1371600" y="5638680"/>
            <a:chExt cx="6248520" cy="304560"/>
          </a:xfrm>
        </p:grpSpPr>
        <p:sp>
          <p:nvSpPr>
            <p:cNvPr id="140" name=""/>
            <p:cNvSpPr/>
            <p:nvPr/>
          </p:nvSpPr>
          <p:spPr>
            <a:xfrm>
              <a:off x="1371600" y="571464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05120" y="594324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2971440" y="571464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200400" y="59432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343400" y="563868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343400" y="594324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782040" y="56386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39240" y="59432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28600" y="624852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интерваль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4920" y="19810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точеч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057400" y="259092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47920" y="297180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09880" y="2971800"/>
            <a:ext cx="15264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362320" y="327672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162920" y="259092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95280" y="3276720"/>
            <a:ext cx="15264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724280" y="3429000"/>
            <a:ext cx="15264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3429000"/>
            <a:ext cx="15264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09680" y="2666880"/>
            <a:ext cx="495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00200" y="30481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447920" y="3352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76920" y="35053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ВРЕМЕ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04920" y="914400"/>
            <a:ext cx="47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Логика времени точечных событ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1676520"/>
            <a:ext cx="731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en-US" sz="2400" spc="-1" strike="noStrike" baseline="-25000">
                <a:solidFill>
                  <a:srgbClr val="cc0066"/>
                </a:solidFill>
                <a:latin typeface="Times New Roman"/>
              </a:rPr>
              <a:t>0</a:t>
            </a:r>
            <a:r>
              <a:rPr b="1" lang="en-US" sz="2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роисходит одновременно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 событием </a:t>
            </a:r>
            <a:r>
              <a:rPr b="1" i="1" lang="en-US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19320" y="2057400"/>
            <a:ext cx="731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2400" spc="-1" strike="noStrike" baseline="-25000">
                <a:solidFill>
                  <a:srgbClr val="cc0066"/>
                </a:solidFill>
                <a:latin typeface="Times New Roman"/>
              </a:rPr>
              <a:t>1</a:t>
            </a:r>
            <a:r>
              <a:rPr b="1" lang="en-US" sz="2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роисходит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</a:rPr>
              <a:t>раньше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событи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</a:rPr>
              <a:t>я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19320" y="2438280"/>
            <a:ext cx="731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2400" spc="-1" strike="noStrike" baseline="-25000">
                <a:solidFill>
                  <a:srgbClr val="cc0066"/>
                </a:solidFill>
                <a:latin typeface="Times New Roman"/>
              </a:rPr>
              <a:t>2</a:t>
            </a:r>
            <a:r>
              <a:rPr b="1" lang="en-US" sz="2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роисходит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</a:rPr>
              <a:t>позже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событи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</a:rPr>
              <a:t>я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19320" y="3962520"/>
            <a:ext cx="731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2400" spc="-1" strike="noStrike" baseline="-25000">
                <a:solidFill>
                  <a:srgbClr val="cc0066"/>
                </a:solidFill>
                <a:latin typeface="Times New Roman"/>
              </a:rPr>
              <a:t>4</a:t>
            </a:r>
            <a:r>
              <a:rPr b="1" lang="en-US" sz="2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t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роисходит </a:t>
            </a:r>
            <a:r>
              <a:rPr b="1" i="1" lang="en-US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</a:rPr>
              <a:t>в момент </a:t>
            </a:r>
            <a:r>
              <a:rPr b="1" i="1" lang="en-US" sz="1800" spc="-1" strike="noStrike">
                <a:solidFill>
                  <a:srgbClr val="993366"/>
                </a:solidFill>
                <a:latin typeface="Times New Roman"/>
              </a:rPr>
              <a:t>t*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19320" y="3429000"/>
            <a:ext cx="731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2400" spc="-1" strike="noStrike" baseline="-25000">
                <a:solidFill>
                  <a:srgbClr val="cc0066"/>
                </a:solidFill>
                <a:latin typeface="Times New Roman"/>
              </a:rPr>
              <a:t>3</a:t>
            </a:r>
            <a:r>
              <a:rPr b="1" i="1" lang="ru-RU" sz="2400" spc="-1" strike="noStrike">
                <a:solidFill>
                  <a:srgbClr val="cc0066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n,</a:t>
            </a:r>
            <a:r>
              <a:rPr b="1" i="1" lang="en-US" sz="2400" spc="-1" strike="noStrike">
                <a:solidFill>
                  <a:srgbClr val="cc0066"/>
                </a:solidFill>
                <a:latin typeface="Symbol"/>
                <a:ea typeface="Symbol"/>
              </a:rPr>
              <a:t>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) </a:t>
            </a:r>
            <a:r>
              <a:rPr b="1" lang="en-US" sz="2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роисход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</a:rPr>
              <a:t>ит раньше на 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n</a:t>
            </a:r>
            <a:r>
              <a:rPr b="1" i="1" lang="ru-RU" sz="2400" spc="-1" strike="noStrike">
                <a:solidFill>
                  <a:srgbClr val="cc0066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cc0066"/>
                </a:solidFill>
                <a:latin typeface="Symbol"/>
                <a:ea typeface="Symbol"/>
              </a:rPr>
              <a:t>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событи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</a:rPr>
              <a:t>я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19320" y="5105520"/>
            <a:ext cx="731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en-US" sz="2400" spc="-1" strike="noStrike" baseline="-25000">
                <a:solidFill>
                  <a:srgbClr val="cc0066"/>
                </a:solidFill>
                <a:latin typeface="Times New Roman"/>
              </a:rPr>
              <a:t>5</a:t>
            </a:r>
            <a:r>
              <a:rPr b="1" lang="en-US" sz="2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роисходит 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</a:rPr>
              <a:t>периодом </a:t>
            </a:r>
            <a:r>
              <a:rPr b="1" lang="en-US" sz="2400" spc="-1" strike="noStrike">
                <a:solidFill>
                  <a:srgbClr val="cc0066"/>
                </a:solidFill>
                <a:latin typeface="Symbol"/>
                <a:ea typeface="Symbol"/>
              </a:rPr>
              <a:t>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12952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66"/>
                </a:solidFill>
                <a:latin typeface="Times New Roman"/>
              </a:rPr>
              <a:t>Неметрическ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14400" y="46483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Times New Roman"/>
              </a:rPr>
              <a:t>Периодическ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8080" y="30481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Times New Roman"/>
              </a:rPr>
              <a:t>Метрическ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ВРЕМЕ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4920" y="91440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Логика времени интервальных событ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81080" y="1676520"/>
            <a:ext cx="5715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 R</a:t>
            </a:r>
            <a:r>
              <a:rPr b="1" i="1" lang="en-US" sz="1400" spc="-1" strike="noStrike" baseline="-25000">
                <a:solidFill>
                  <a:srgbClr val="cc0066"/>
                </a:solidFill>
                <a:latin typeface="Times New Roman"/>
              </a:rPr>
              <a:t>1 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q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строго предшествует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событи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ю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981080" y="2057400"/>
            <a:ext cx="4419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en-US" sz="1400" spc="-1" strike="noStrike" baseline="-25000">
                <a:solidFill>
                  <a:srgbClr val="cc0066"/>
                </a:solidFill>
                <a:latin typeface="Times New Roman"/>
              </a:rPr>
              <a:t>2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строго следует за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ем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81080" y="2438280"/>
            <a:ext cx="3962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1400" spc="-1" strike="noStrike" baseline="-25000">
                <a:solidFill>
                  <a:srgbClr val="cc0066"/>
                </a:solidFill>
                <a:latin typeface="Times New Roman"/>
              </a:rPr>
              <a:t>3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ересекается с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событи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ем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752480" y="4952880"/>
            <a:ext cx="7315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en-US" sz="1400" spc="-1" strike="noStrike" baseline="-25000">
                <a:solidFill>
                  <a:srgbClr val="cc0066"/>
                </a:solidFill>
                <a:latin typeface="Times New Roman"/>
              </a:rPr>
              <a:t>m4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(t*, </a:t>
            </a:r>
            <a:r>
              <a:rPr b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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t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роисходит </a:t>
            </a:r>
            <a:r>
              <a:rPr b="1" i="1" lang="en-US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в момент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t*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 и продолжается </a:t>
            </a:r>
            <a:r>
              <a:rPr b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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05120" y="5943600"/>
            <a:ext cx="5105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en-US" sz="1400" spc="-1" strike="noStrike" baseline="-25000">
                <a:solidFill>
                  <a:srgbClr val="cc0066"/>
                </a:solidFill>
                <a:latin typeface="Times New Roman"/>
              </a:rPr>
              <a:t>m5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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роисходит 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периодом </a:t>
            </a:r>
            <a:r>
              <a:rPr b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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12952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Неметрическ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62120" y="5410080"/>
            <a:ext cx="159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Периодическ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34290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Метрическ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9480" y="2743200"/>
            <a:ext cx="5639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Частные случа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1400" spc="-1" strike="noStrike" baseline="-25000">
                <a:solidFill>
                  <a:srgbClr val="cc0066"/>
                </a:solidFill>
                <a:latin typeface="Times New Roman"/>
              </a:rPr>
              <a:t>3</a:t>
            </a:r>
            <a:r>
              <a:rPr b="1" i="1" lang="ru-RU" sz="1400" spc="-1" strike="noStrike">
                <a:solidFill>
                  <a:srgbClr val="cc0066"/>
                </a:solidFill>
                <a:latin typeface="Times New Roman"/>
              </a:rPr>
              <a:t>:        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1400" spc="-1" strike="noStrike" baseline="-25000">
                <a:solidFill>
                  <a:srgbClr val="cc0066"/>
                </a:solidFill>
                <a:latin typeface="Times New Roman"/>
              </a:rPr>
              <a:t>0      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1400" spc="-1" strike="noStrike" baseline="-25000">
                <a:solidFill>
                  <a:srgbClr val="cc0066"/>
                </a:solidFill>
                <a:latin typeface="Times New Roman"/>
              </a:rPr>
              <a:t>4       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1400" spc="-1" strike="noStrike" baseline="-25000">
                <a:solidFill>
                  <a:srgbClr val="cc0066"/>
                </a:solidFill>
                <a:latin typeface="Times New Roman"/>
              </a:rPr>
              <a:t>5       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1400" spc="-1" strike="noStrike" baseline="-25000">
                <a:solidFill>
                  <a:srgbClr val="cc0066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981080" y="3124080"/>
            <a:ext cx="4876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1400" spc="-1" strike="noStrike" baseline="-25000">
                <a:solidFill>
                  <a:srgbClr val="cc0066"/>
                </a:solidFill>
                <a:latin typeface="Times New Roman"/>
              </a:rPr>
              <a:t>7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непосредственно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п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редшествует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ю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752480" y="3733920"/>
            <a:ext cx="57150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 R</a:t>
            </a:r>
            <a:r>
              <a:rPr b="1" i="1" lang="en-US" sz="1400" spc="-1" strike="noStrike" baseline="-25000">
                <a:solidFill>
                  <a:srgbClr val="cc0066"/>
                </a:solidFill>
                <a:latin typeface="Times New Roman"/>
              </a:rPr>
              <a:t>m1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400" spc="-1" strike="noStrike">
                <a:solidFill>
                  <a:srgbClr val="cc0066"/>
                </a:solidFill>
                <a:latin typeface="Times New Roman"/>
              </a:rPr>
              <a:t>(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n,</a:t>
            </a:r>
            <a:r>
              <a:rPr b="1" i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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)   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q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строго предшествует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событи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ю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на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n</a:t>
            </a:r>
            <a:r>
              <a:rPr b="1" i="1" lang="ru-RU" sz="1400" spc="-1" strike="noStrike">
                <a:solidFill>
                  <a:srgbClr val="cc0066"/>
                </a:solidFill>
                <a:latin typeface="Times New Roman"/>
              </a:rPr>
              <a:t>*</a:t>
            </a:r>
            <a:r>
              <a:rPr b="1" i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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752480" y="4038480"/>
            <a:ext cx="63248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  R</a:t>
            </a:r>
            <a:r>
              <a:rPr b="1" i="1" lang="en-US" sz="1400" spc="-1" strike="noStrike" baseline="-25000">
                <a:solidFill>
                  <a:srgbClr val="cc0066"/>
                </a:solidFill>
                <a:latin typeface="Times New Roman"/>
              </a:rPr>
              <a:t>m2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i="1" lang="ru-RU" sz="1400" spc="-1" strike="noStrike">
                <a:solidFill>
                  <a:srgbClr val="cc0066"/>
                </a:solidFill>
                <a:latin typeface="Times New Roman"/>
              </a:rPr>
              <a:t>(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n,</a:t>
            </a:r>
            <a:r>
              <a:rPr b="1" i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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) 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q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пересекается с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ем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начала на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n</a:t>
            </a:r>
            <a:r>
              <a:rPr b="1" i="1" lang="ru-RU" sz="1400" spc="-1" strike="noStrike">
                <a:solidFill>
                  <a:srgbClr val="cc0066"/>
                </a:solidFill>
                <a:latin typeface="Times New Roman"/>
              </a:rPr>
              <a:t>*</a:t>
            </a:r>
            <a:r>
              <a:rPr b="1" i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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752480" y="4495680"/>
            <a:ext cx="6248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  R</a:t>
            </a:r>
            <a:r>
              <a:rPr b="1" i="1" lang="en-US" sz="1400" spc="-1" strike="noStrike" baseline="-25000">
                <a:solidFill>
                  <a:srgbClr val="cc0066"/>
                </a:solidFill>
                <a:latin typeface="Times New Roman"/>
              </a:rPr>
              <a:t>m3 </a:t>
            </a:r>
            <a:r>
              <a:rPr b="1" i="1" lang="ru-RU" sz="1400" spc="-1" strike="noStrike">
                <a:solidFill>
                  <a:srgbClr val="cc0066"/>
                </a:solidFill>
                <a:latin typeface="Times New Roman"/>
              </a:rPr>
              <a:t>(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n,</a:t>
            </a:r>
            <a:r>
              <a:rPr b="1" i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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) 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q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ересекается с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событи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ем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 концы на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n</a:t>
            </a:r>
            <a:r>
              <a:rPr b="1" i="1" lang="ru-RU" sz="1400" spc="-1" strike="noStrike">
                <a:solidFill>
                  <a:srgbClr val="cc0066"/>
                </a:solidFill>
                <a:latin typeface="Times New Roman"/>
              </a:rPr>
              <a:t>*</a:t>
            </a:r>
            <a:r>
              <a:rPr b="1" i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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ВРЕМЕ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5800" y="838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Times New Roman"/>
              </a:rPr>
              <a:t>Формальная систем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8080" y="1676520"/>
            <a:ext cx="8077320" cy="263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ПФ языка будем строить по следующим правилам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1.    Любой элемент из </a:t>
            </a:r>
            <a:r>
              <a:rPr b="1" i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Р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есть ППФ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2.    Выражения вида (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R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*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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) , где 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</a:rPr>
              <a:t>и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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 — ППФ,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*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WP MathA"/>
                <a:ea typeface="WP MathA"/>
              </a:rPr>
              <a:t>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R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, есть ПП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3.    Если 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</a:rPr>
              <a:t>и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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 — ППФ, то (а&amp; р) — ППФ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4.      Выражения      (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R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*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t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),   где 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— ППФ,  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</a:rPr>
              <a:t>* </a:t>
            </a:r>
            <a:r>
              <a:rPr b="1" lang="en-US" sz="1400" spc="-1" strike="noStrike">
                <a:solidFill>
                  <a:srgbClr val="cc0066"/>
                </a:solidFill>
                <a:latin typeface="WP MathA"/>
                <a:ea typeface="WP MathA"/>
              </a:rPr>
              <a:t>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{r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Times New Roman"/>
                <a:ea typeface="Times New Roman"/>
              </a:rPr>
              <a:t>4 ,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r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Times New Roman"/>
                <a:ea typeface="Times New Roman"/>
              </a:rPr>
              <a:t>5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,R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Times New Roman"/>
                <a:ea typeface="Times New Roman"/>
              </a:rPr>
              <a:t>m5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} t </a:t>
            </a:r>
            <a:r>
              <a:rPr b="1" lang="en-US" sz="1400" spc="-1" strike="noStrike">
                <a:solidFill>
                  <a:srgbClr val="cc0066"/>
                </a:solidFill>
                <a:latin typeface="WP MathA"/>
                <a:ea typeface="WP MathA"/>
              </a:rPr>
              <a:t>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T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есть ППФ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5.      Выражения (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* R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Times New Roman"/>
                <a:ea typeface="Times New Roman"/>
              </a:rPr>
              <a:t>m4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</a:rPr>
              <a:t>(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t,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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t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),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где 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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* — ППФ  есть ППФ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6.      Других ППФ нет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38080" y="1219320"/>
            <a:ext cx="5334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 ={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,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n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……….. 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,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2120" y="41148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Times New Roman"/>
              </a:rPr>
              <a:t>Правила выво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90720" y="457200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i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 r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0 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k  </a:t>
            </a:r>
            <a:r>
              <a:rPr b="1" lang="en-US" sz="1600" spc="-1" strike="noStrike">
                <a:solidFill>
                  <a:srgbClr val="cc0066"/>
                </a:solidFill>
                <a:latin typeface="Symbol"/>
                <a:ea typeface="Symbol"/>
              </a:rPr>
              <a:t>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  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 r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0 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90720" y="5029200"/>
            <a:ext cx="3352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i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 r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0 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j  &amp; 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j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 r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0 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k  </a:t>
            </a:r>
            <a:r>
              <a:rPr b="1" lang="en-US" sz="1600" spc="-1" strike="noStrike">
                <a:solidFill>
                  <a:srgbClr val="cc0066"/>
                </a:solidFill>
                <a:latin typeface="Symbol"/>
                <a:ea typeface="Symbol"/>
              </a:rPr>
              <a:t>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  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i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 r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0 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ПРОСТРАНСТ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480" y="1055520"/>
            <a:ext cx="7391520" cy="17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ве группы средств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лексические (наречия и их конструкции, предлоги, имена существительные и именные группы, глаголы</a:t>
            </a:r>
            <a:r>
              <a:rPr b="1" lang="en-US" sz="1400" spc="-1" strike="noStrike" baseline="30000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правленного действия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грамматико-морфологические (падежн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ые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значения предлогов, которые управляют падежной формой существительных, а также местоимений и числительных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" y="762120"/>
            <a:ext cx="441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66"/>
                </a:solidFill>
                <a:latin typeface="Times New Roman"/>
              </a:rPr>
              <a:t>Естественный язы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19320" y="2948040"/>
            <a:ext cx="3886200" cy="25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войти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м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з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выйти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з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ма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округ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ходи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округ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ма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доеха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етро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оперек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стоя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оперек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роги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доль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бежа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доль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леса),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 baseline="30000">
                <a:solidFill>
                  <a:srgbClr val="cc0066"/>
                </a:solidFill>
                <a:latin typeface="Times New Roman"/>
                <a:ea typeface="Times New Roman"/>
              </a:rPr>
              <a:t>ч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за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спрятаться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за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ерево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сес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камейку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486400" y="2857680"/>
            <a:ext cx="3276720" cy="29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ежду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расти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ежду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кустами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од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лежа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од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толом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д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пролета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д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городом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слете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ерева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не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находиться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не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сягаемости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нутри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жи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нутри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крепости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имо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пройти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имо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агазина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у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стоя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у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камина).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14400" y="263520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66"/>
                </a:solidFill>
                <a:latin typeface="Times New Roman"/>
              </a:rPr>
              <a:t>Предлог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ПРОСТРАНСТ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1066680"/>
            <a:ext cx="5943600" cy="37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экстериорные, определяющие положение объекта во внешнем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ространстве относительно некоторого начала координат, простран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твенного  ориентира,   или  локализатора   (например,   относительно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ЛОКа с именем Париж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нтериорные, определяющие положение объекта во внутрен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ем  пространстве относительно начала координат или некоторой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ространственного ориентир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испозитивные,   задающие   местоположение   объекта   в   про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транстве в самом общем виде («где-то на севере»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упериорные, указывающие местоположение объекта относи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тельно верхней поверхности некоторого локализатора, или ориенти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нфериорные,  характеризующие положение объекта  относи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тельно нижней поверхности локализатора или ориентир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минантные, указывающие местоположение объекта над не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которым   локализатором   или   ориентиром,   когда   нет   в   наличии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каса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6:28:45Z</dcterms:created>
  <dc:creator>.</dc:creator>
  <dc:description/>
  <dc:language>en-US</dc:language>
  <cp:lastModifiedBy>Peter Sosnin</cp:lastModifiedBy>
  <dcterms:modified xsi:type="dcterms:W3CDTF">2005-11-28T06:52:25Z</dcterms:modified>
  <cp:revision>9</cp:revision>
  <dc:subject/>
  <dc:title>ЛОГИКА ВРЕМЕНИ</dc:title>
</cp:coreProperties>
</file>