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64FB-9CA2-4329-8F5E-894FEEB3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B919-76C3-42D0-8929-2ACCF3A2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5A47-683A-4738-B3B9-562ED111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C07-B5E1-4E51-8EBE-4338A5DA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F398-46A3-462F-A00E-A6C589D2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4CD4-C0FF-47B9-BDD6-4771567E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8D5E-67A6-4AB3-B0FC-492B2FB5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33A3-6FA5-4685-B212-139AD2A5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4E1-9F29-4773-BC3E-181D7145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45C-C0E9-4E9A-B888-AB5F855B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E82-C0C8-4410-BE70-A714C12D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202-A143-48B4-B7CD-F009E1DB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3B61-716B-4D48-AE3A-DE3F9C202E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838080"/>
            <a:ext cx="868680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380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1.МЕТОД ПРОСТРАНСТВА СОСТОЯ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0880" y="1371600"/>
            <a:ext cx="4267440" cy="2199600"/>
            <a:chOff x="380880" y="1371600"/>
            <a:chExt cx="4267440" cy="2199600"/>
          </a:xfrm>
        </p:grpSpPr>
        <p:sp>
          <p:nvSpPr>
            <p:cNvPr id="46" name=""/>
            <p:cNvSpPr/>
            <p:nvPr/>
          </p:nvSpPr>
          <p:spPr>
            <a:xfrm flipV="1">
              <a:off x="609480" y="1763280"/>
              <a:ext cx="435240" cy="708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2471760"/>
              <a:ext cx="871560" cy="652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044720" y="1600200"/>
              <a:ext cx="1211040" cy="163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609480" y="2144880"/>
              <a:ext cx="1452600" cy="326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432080" y="2633760"/>
              <a:ext cx="1693800" cy="490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13120" y="2144880"/>
              <a:ext cx="1161720" cy="488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1040" y="3124080"/>
              <a:ext cx="1935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25880" y="2034720"/>
              <a:ext cx="106524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74840" y="1926720"/>
              <a:ext cx="96840" cy="7066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1680" y="1927080"/>
              <a:ext cx="871560" cy="1080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6800" y="1600200"/>
              <a:ext cx="1064880" cy="326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368520" y="2034720"/>
              <a:ext cx="822600" cy="10890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4720" y="1763640"/>
              <a:ext cx="920520" cy="381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263520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6520" y="2362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720" y="312408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90720" y="13716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8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32004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670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144792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133720" y="114300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3519360"/>
            <a:ext cx="4114800" cy="2957760"/>
            <a:chOff x="457200" y="3519360"/>
            <a:chExt cx="4114800" cy="2957760"/>
          </a:xfrm>
        </p:grpSpPr>
        <p:sp>
          <p:nvSpPr>
            <p:cNvPr id="69" name=""/>
            <p:cNvSpPr/>
            <p:nvPr/>
          </p:nvSpPr>
          <p:spPr>
            <a:xfrm>
              <a:off x="457200" y="351936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ФОРМАЛИЗ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3962520"/>
              <a:ext cx="3962520" cy="2514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4038480"/>
              <a:ext cx="3657600" cy="22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Заданы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Множество состояний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2.Исходное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 конечные состояния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ли их свойства (описание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Множество переход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p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пределить путь от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до любого 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1320" y="914400"/>
            <a:ext cx="2286000" cy="1239480"/>
            <a:chOff x="5791320" y="914400"/>
            <a:chExt cx="2286000" cy="1239480"/>
          </a:xfrm>
        </p:grpSpPr>
        <p:sp>
          <p:nvSpPr>
            <p:cNvPr id="73" name=""/>
            <p:cNvSpPr/>
            <p:nvPr/>
          </p:nvSpPr>
          <p:spPr>
            <a:xfrm>
              <a:off x="5791320" y="9144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ИМЕР (игра в 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77120" y="1295280"/>
              <a:ext cx="914040" cy="858600"/>
              <a:chOff x="6477120" y="1295280"/>
              <a:chExt cx="914040" cy="85860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6477120" y="1295280"/>
                <a:ext cx="304560" cy="322200"/>
                <a:chOff x="6477120" y="1295280"/>
                <a:chExt cx="304560" cy="322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47712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53724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781680" y="1295280"/>
                <a:ext cx="304560" cy="322200"/>
                <a:chOff x="6781680" y="1295280"/>
                <a:chExt cx="304560" cy="322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78168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84180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086600" y="1295280"/>
                <a:ext cx="304560" cy="322200"/>
                <a:chOff x="7086600" y="1295280"/>
                <a:chExt cx="304560" cy="3222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08660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14672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477120" y="1564560"/>
                <a:ext cx="304560" cy="321120"/>
                <a:chOff x="6477120" y="1564560"/>
                <a:chExt cx="304560" cy="3211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47712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53724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781680" y="1564560"/>
                <a:ext cx="304560" cy="321120"/>
                <a:chOff x="6781680" y="1564560"/>
                <a:chExt cx="304560" cy="3211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78168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84180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086600" y="1564560"/>
                <a:ext cx="304560" cy="321120"/>
                <a:chOff x="7086600" y="1564560"/>
                <a:chExt cx="304560" cy="321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08660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14672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477120" y="1833840"/>
                <a:ext cx="304560" cy="320040"/>
                <a:chOff x="6477120" y="1833840"/>
                <a:chExt cx="304560" cy="3200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47712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53724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781680" y="1833840"/>
                <a:ext cx="304560" cy="320040"/>
                <a:chOff x="6781680" y="1833840"/>
                <a:chExt cx="304560" cy="3200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78168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4180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7086600" y="1833840"/>
                <a:ext cx="304560" cy="318240"/>
                <a:chOff x="7086600" y="1833840"/>
                <a:chExt cx="304560" cy="3182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08660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146720" y="1877400"/>
                  <a:ext cx="183960" cy="2746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" name=""/>
          <p:cNvGrpSpPr/>
          <p:nvPr/>
        </p:nvGrpSpPr>
        <p:grpSpPr>
          <a:xfrm>
            <a:off x="5486400" y="2209680"/>
            <a:ext cx="2362320" cy="1164960"/>
            <a:chOff x="5486400" y="2209680"/>
            <a:chExt cx="2362320" cy="1164960"/>
          </a:xfrm>
        </p:grpSpPr>
        <p:grpSp>
          <p:nvGrpSpPr>
            <p:cNvPr id="103" name=""/>
            <p:cNvGrpSpPr/>
            <p:nvPr/>
          </p:nvGrpSpPr>
          <p:grpSpPr>
            <a:xfrm>
              <a:off x="5486400" y="2438280"/>
              <a:ext cx="914040" cy="936360"/>
              <a:chOff x="5486400" y="2438280"/>
              <a:chExt cx="914040" cy="93636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5486400" y="2438280"/>
                <a:ext cx="304560" cy="326880"/>
                <a:chOff x="5486400" y="2438280"/>
                <a:chExt cx="304560" cy="326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4864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5645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790960" y="2438280"/>
                <a:ext cx="304560" cy="326880"/>
                <a:chOff x="5790960" y="2438280"/>
                <a:chExt cx="304560" cy="326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7909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8690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095880" y="2438280"/>
                <a:ext cx="304560" cy="326880"/>
                <a:chOff x="6095880" y="2438280"/>
                <a:chExt cx="304560" cy="326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0958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1740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486400" y="2742840"/>
                <a:ext cx="304560" cy="326880"/>
                <a:chOff x="5486400" y="2742840"/>
                <a:chExt cx="304560" cy="3268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4864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645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790960" y="2742840"/>
                <a:ext cx="304560" cy="326880"/>
                <a:chOff x="5790960" y="2742840"/>
                <a:chExt cx="304560" cy="3268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7909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8690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095880" y="2742840"/>
                <a:ext cx="304560" cy="326880"/>
                <a:chOff x="6095880" y="2742840"/>
                <a:chExt cx="304560" cy="3268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0958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17400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486400" y="3047760"/>
                <a:ext cx="304560" cy="326880"/>
                <a:chOff x="5486400" y="3047760"/>
                <a:chExt cx="304560" cy="3268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4864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5645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790960" y="3047760"/>
                <a:ext cx="304560" cy="325440"/>
                <a:chOff x="5790960" y="3047760"/>
                <a:chExt cx="304560" cy="325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7909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86908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095880" y="3047760"/>
                <a:ext cx="304560" cy="325440"/>
                <a:chOff x="6095880" y="3047760"/>
                <a:chExt cx="304560" cy="3254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0958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1740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6858000" y="2438280"/>
              <a:ext cx="914040" cy="936360"/>
              <a:chOff x="6858000" y="2438280"/>
              <a:chExt cx="914040" cy="9363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858000" y="2438280"/>
                <a:ext cx="304560" cy="326880"/>
                <a:chOff x="6858000" y="2438280"/>
                <a:chExt cx="304560" cy="3268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8580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9361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162560" y="2438280"/>
                <a:ext cx="304560" cy="326880"/>
                <a:chOff x="7162560" y="2438280"/>
                <a:chExt cx="304560" cy="326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1625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2406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467480" y="2438280"/>
                <a:ext cx="304560" cy="326880"/>
                <a:chOff x="7467480" y="2438280"/>
                <a:chExt cx="304560" cy="3268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4674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5456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858000" y="2742840"/>
                <a:ext cx="304560" cy="326880"/>
                <a:chOff x="6858000" y="2742840"/>
                <a:chExt cx="304560" cy="3268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8580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9361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162560" y="2742840"/>
                <a:ext cx="304560" cy="326880"/>
                <a:chOff x="7162560" y="2742840"/>
                <a:chExt cx="304560" cy="3268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1625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2406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467480" y="2742840"/>
                <a:ext cx="304560" cy="325440"/>
                <a:chOff x="7467480" y="2742840"/>
                <a:chExt cx="304560" cy="325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4674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45600" y="279324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858000" y="3047760"/>
                <a:ext cx="304560" cy="326880"/>
                <a:chOff x="6858000" y="3047760"/>
                <a:chExt cx="304560" cy="326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8580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9361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7162560" y="3047760"/>
                <a:ext cx="304560" cy="326880"/>
                <a:chOff x="7162560" y="3047760"/>
                <a:chExt cx="304560" cy="3268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1625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24068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467480" y="3047760"/>
                <a:ext cx="304560" cy="325440"/>
                <a:chOff x="7467480" y="3047760"/>
                <a:chExt cx="304560" cy="325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4674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5456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 flipH="1">
              <a:off x="6476760" y="220968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38880" y="2209680"/>
              <a:ext cx="152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38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722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028840" y="3429000"/>
            <a:ext cx="3657600" cy="1829880"/>
            <a:chOff x="5028840" y="3429000"/>
            <a:chExt cx="3657600" cy="1829880"/>
          </a:xfrm>
        </p:grpSpPr>
        <p:grpSp>
          <p:nvGrpSpPr>
            <p:cNvPr id="164" name=""/>
            <p:cNvGrpSpPr/>
            <p:nvPr/>
          </p:nvGrpSpPr>
          <p:grpSpPr>
            <a:xfrm>
              <a:off x="5105520" y="3728880"/>
              <a:ext cx="3580920" cy="1530000"/>
              <a:chOff x="5105520" y="3728880"/>
              <a:chExt cx="3580920" cy="15300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5105520" y="4262400"/>
                <a:ext cx="914040" cy="936000"/>
                <a:chOff x="5105520" y="4262400"/>
                <a:chExt cx="914040" cy="9360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5105520" y="4262400"/>
                  <a:ext cx="304560" cy="326880"/>
                  <a:chOff x="5105520" y="4262400"/>
                  <a:chExt cx="304560" cy="32688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510552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1836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5410080" y="4262400"/>
                  <a:ext cx="304560" cy="326880"/>
                  <a:chOff x="5410080" y="4262400"/>
                  <a:chExt cx="304560" cy="3268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4100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4882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5715000" y="4262400"/>
                  <a:ext cx="304560" cy="325080"/>
                  <a:chOff x="5715000" y="4262400"/>
                  <a:chExt cx="304560" cy="3250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57150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5793120" y="431280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5105520" y="4566960"/>
                  <a:ext cx="304560" cy="326880"/>
                  <a:chOff x="5105520" y="4566960"/>
                  <a:chExt cx="304560" cy="326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510552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1836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5410080" y="4566960"/>
                  <a:ext cx="304560" cy="326880"/>
                  <a:chOff x="5410080" y="4566960"/>
                  <a:chExt cx="304560" cy="3268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54100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4882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715000" y="4566960"/>
                  <a:ext cx="304560" cy="325080"/>
                  <a:chOff x="5715000" y="4566960"/>
                  <a:chExt cx="304560" cy="3250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7150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793120" y="461736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5105520" y="4871520"/>
                  <a:ext cx="304560" cy="326880"/>
                  <a:chOff x="5105520" y="4871520"/>
                  <a:chExt cx="304560" cy="3268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10552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1836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5410080" y="4871520"/>
                  <a:ext cx="304560" cy="326880"/>
                  <a:chOff x="5410080" y="4871520"/>
                  <a:chExt cx="304560" cy="3268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54100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4882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5715000" y="4871520"/>
                  <a:ext cx="304560" cy="325080"/>
                  <a:chOff x="5715000" y="4871520"/>
                  <a:chExt cx="304560" cy="3250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7150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79312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477120" y="4262400"/>
                <a:ext cx="914040" cy="996480"/>
                <a:chOff x="6477120" y="4262400"/>
                <a:chExt cx="914040" cy="99648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6477120" y="4262400"/>
                  <a:ext cx="304560" cy="326880"/>
                  <a:chOff x="6477120" y="4262400"/>
                  <a:chExt cx="304560" cy="32688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47712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5552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6781680" y="4262400"/>
                  <a:ext cx="304560" cy="326880"/>
                  <a:chOff x="6781680" y="4262400"/>
                  <a:chExt cx="304560" cy="3268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678168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8598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086600" y="4262400"/>
                  <a:ext cx="304560" cy="326880"/>
                  <a:chOff x="7086600" y="4262400"/>
                  <a:chExt cx="304560" cy="326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08660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647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477120" y="4566960"/>
                  <a:ext cx="304560" cy="326880"/>
                  <a:chOff x="6477120" y="4566960"/>
                  <a:chExt cx="304560" cy="32688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647712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5552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781680" y="4566960"/>
                  <a:ext cx="304560" cy="325440"/>
                  <a:chOff x="6781680" y="4566960"/>
                  <a:chExt cx="304560" cy="3254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678168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859800" y="461736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086600" y="4566960"/>
                  <a:ext cx="304560" cy="691920"/>
                  <a:chOff x="7086600" y="4566960"/>
                  <a:chExt cx="304560" cy="6919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708660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146720" y="4617360"/>
                    <a:ext cx="183960" cy="64152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ё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477120" y="4871520"/>
                  <a:ext cx="304560" cy="326880"/>
                  <a:chOff x="6477120" y="4871520"/>
                  <a:chExt cx="304560" cy="3268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647712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5552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781680" y="4871520"/>
                  <a:ext cx="304560" cy="326880"/>
                  <a:chOff x="6781680" y="4871520"/>
                  <a:chExt cx="304560" cy="3268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678168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8598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086600" y="4871520"/>
                  <a:ext cx="304560" cy="325440"/>
                  <a:chOff x="7086600" y="4871520"/>
                  <a:chExt cx="304560" cy="32544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708660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64720" y="492192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" name=""/>
              <p:cNvGrpSpPr/>
              <p:nvPr/>
            </p:nvGrpSpPr>
            <p:grpSpPr>
              <a:xfrm>
                <a:off x="7772400" y="4262400"/>
                <a:ext cx="914040" cy="936000"/>
                <a:chOff x="7772400" y="4262400"/>
                <a:chExt cx="914040" cy="93600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7772400" y="4262400"/>
                  <a:ext cx="304560" cy="326880"/>
                  <a:chOff x="7772400" y="4262400"/>
                  <a:chExt cx="304560" cy="32688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77724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505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8076960" y="4262400"/>
                  <a:ext cx="304560" cy="326880"/>
                  <a:chOff x="8076960" y="4262400"/>
                  <a:chExt cx="304560" cy="32688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807696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815508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8381880" y="4262400"/>
                  <a:ext cx="304560" cy="326880"/>
                  <a:chOff x="8381880" y="4262400"/>
                  <a:chExt cx="304560" cy="3268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83818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84600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772400" y="4566960"/>
                  <a:ext cx="304560" cy="326880"/>
                  <a:chOff x="7772400" y="4566960"/>
                  <a:chExt cx="304560" cy="3268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77724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85052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8076960" y="4566960"/>
                  <a:ext cx="304560" cy="326880"/>
                  <a:chOff x="8076960" y="4566960"/>
                  <a:chExt cx="304560" cy="3268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807696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15508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8381880" y="4566960"/>
                  <a:ext cx="304560" cy="326880"/>
                  <a:chOff x="8381880" y="4566960"/>
                  <a:chExt cx="304560" cy="3268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83818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4600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7772400" y="4871520"/>
                  <a:ext cx="304560" cy="326880"/>
                  <a:chOff x="7772400" y="4871520"/>
                  <a:chExt cx="304560" cy="3268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77724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85052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8076960" y="4871520"/>
                  <a:ext cx="304560" cy="326880"/>
                  <a:chOff x="8076960" y="4871520"/>
                  <a:chExt cx="304560" cy="32688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807696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15508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8381880" y="4871520"/>
                  <a:ext cx="304560" cy="325080"/>
                  <a:chOff x="8381880" y="4871520"/>
                  <a:chExt cx="304560" cy="3250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83818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846000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9" name=""/>
              <p:cNvSpPr/>
              <p:nvPr/>
            </p:nvSpPr>
            <p:spPr>
              <a:xfrm>
                <a:off x="7162920" y="490212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15000" y="487188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91320" y="459720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790960" y="3728880"/>
                <a:ext cx="9903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7010280" y="3728880"/>
                <a:ext cx="15264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20120" y="3728880"/>
                <a:ext cx="3808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 flipH="1">
              <a:off x="5028840" y="34290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4290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62720" y="34290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5520" y="3505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257800" y="5486400"/>
            <a:ext cx="335268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ЕРАТОРЫ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право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лево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рх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низ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28600" y="990720"/>
            <a:ext cx="8686800" cy="556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04920" y="457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2.2. ПРЕДСТАВЛЕНИЯ  НА И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ЛИ ГРАФ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905120" y="18288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574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716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44792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057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447920" y="4648320"/>
            <a:ext cx="1600200" cy="152280"/>
            <a:chOff x="1447920" y="4648320"/>
            <a:chExt cx="1600200" cy="152280"/>
          </a:xfrm>
        </p:grpSpPr>
        <p:sp>
          <p:nvSpPr>
            <p:cNvPr id="1302" name=""/>
            <p:cNvSpPr/>
            <p:nvPr/>
          </p:nvSpPr>
          <p:spPr>
            <a:xfrm>
              <a:off x="14479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337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89584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4343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1981080" y="12952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1447920" y="19051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05120" y="19051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914400" y="26668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447920" y="259092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133720" y="2666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29000" y="2590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1523880" y="35812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rot="17911800">
            <a:off x="1714320" y="2095920"/>
            <a:ext cx="209520" cy="285480"/>
          </a:xfrm>
          <a:custGeom>
            <a:avLst/>
            <a:gdLst/>
            <a:ahLst/>
            <a:rect l="l" t="t" r="r" b="b"/>
            <a:pathLst>
              <a:path w="168" h="288">
                <a:moveTo>
                  <a:pt x="24" y="0"/>
                </a:moveTo>
                <a:cubicBezTo>
                  <a:pt x="12" y="72"/>
                  <a:pt x="0" y="144"/>
                  <a:pt x="24" y="192"/>
                </a:cubicBezTo>
                <a:cubicBezTo>
                  <a:pt x="48" y="240"/>
                  <a:pt x="144" y="272"/>
                  <a:pt x="168" y="288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343400" y="3657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752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2952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09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38480" y="48769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057400" y="4876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523880" y="16765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752480" y="24382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914400" y="2438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37160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2057040" y="4648320"/>
            <a:ext cx="213120" cy="177840"/>
            <a:chOff x="2057040" y="4648320"/>
            <a:chExt cx="213120" cy="177840"/>
          </a:xfrm>
        </p:grpSpPr>
        <p:sp>
          <p:nvSpPr>
            <p:cNvPr id="1326" name=""/>
            <p:cNvSpPr/>
            <p:nvPr/>
          </p:nvSpPr>
          <p:spPr>
            <a:xfrm>
              <a:off x="205740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205704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1980720" y="3505320"/>
            <a:ext cx="213120" cy="177840"/>
            <a:chOff x="1980720" y="3505320"/>
            <a:chExt cx="213120" cy="177840"/>
          </a:xfrm>
        </p:grpSpPr>
        <p:sp>
          <p:nvSpPr>
            <p:cNvPr id="1329" name=""/>
            <p:cNvSpPr/>
            <p:nvPr/>
          </p:nvSpPr>
          <p:spPr>
            <a:xfrm>
              <a:off x="198108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19807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61760" y="3505320"/>
            <a:ext cx="213120" cy="177840"/>
            <a:chOff x="761760" y="3505320"/>
            <a:chExt cx="213120" cy="177840"/>
          </a:xfrm>
        </p:grpSpPr>
        <p:sp>
          <p:nvSpPr>
            <p:cNvPr id="1332" name=""/>
            <p:cNvSpPr/>
            <p:nvPr/>
          </p:nvSpPr>
          <p:spPr>
            <a:xfrm>
              <a:off x="7621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76176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2173680" y="1219320"/>
            <a:ext cx="2093400" cy="3994920"/>
            <a:chOff x="2173680" y="1219320"/>
            <a:chExt cx="2093400" cy="3994920"/>
          </a:xfrm>
        </p:grpSpPr>
        <p:sp>
          <p:nvSpPr>
            <p:cNvPr id="1335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666880" y="1828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954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352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9718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290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862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3828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1148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438280" y="12952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3200" y="19051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09680" y="259092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2209320" y="3657600"/>
              <a:ext cx="304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51460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962520" y="3581280"/>
              <a:ext cx="3045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17911800">
              <a:off x="2304720" y="3790440"/>
              <a:ext cx="26676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17911800">
              <a:off x="3779640" y="3994200"/>
              <a:ext cx="209520" cy="30492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17911800">
              <a:off x="2869920" y="2197440"/>
              <a:ext cx="168480" cy="1616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09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52680" y="36576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66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195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71800" y="1676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514600" y="2438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4053960" y="4648320"/>
              <a:ext cx="213120" cy="177840"/>
              <a:chOff x="4053960" y="4648320"/>
              <a:chExt cx="213120" cy="177840"/>
            </a:xfrm>
          </p:grpSpPr>
          <p:sp>
            <p:nvSpPr>
              <p:cNvPr id="1369" name=""/>
              <p:cNvSpPr/>
              <p:nvPr/>
            </p:nvSpPr>
            <p:spPr>
              <a:xfrm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405396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3368160" y="4622760"/>
              <a:ext cx="213120" cy="177840"/>
              <a:chOff x="3368160" y="4622760"/>
              <a:chExt cx="213120" cy="177840"/>
            </a:xfrm>
          </p:grpSpPr>
          <p:sp>
            <p:nvSpPr>
              <p:cNvPr id="1372" name=""/>
              <p:cNvSpPr/>
              <p:nvPr/>
            </p:nvSpPr>
            <p:spPr>
              <a:xfrm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36816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3368160" y="3505320"/>
              <a:ext cx="213120" cy="177840"/>
              <a:chOff x="3368160" y="3505320"/>
              <a:chExt cx="213120" cy="177840"/>
            </a:xfrm>
          </p:grpSpPr>
          <p:sp>
            <p:nvSpPr>
              <p:cNvPr id="1375" name=""/>
              <p:cNvSpPr/>
              <p:nvPr/>
            </p:nvSpPr>
            <p:spPr>
              <a:xfrm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>
                <a:off x="336816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2910960" y="3479760"/>
              <a:ext cx="213120" cy="177840"/>
              <a:chOff x="2910960" y="3479760"/>
              <a:chExt cx="213120" cy="177840"/>
            </a:xfrm>
          </p:grpSpPr>
          <p:sp>
            <p:nvSpPr>
              <p:cNvPr id="1378" name=""/>
              <p:cNvSpPr/>
              <p:nvPr/>
            </p:nvSpPr>
            <p:spPr>
              <a:xfrm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91096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>
              <a:off x="2819520" y="4724280"/>
              <a:ext cx="3045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" name=""/>
          <p:cNvSpPr/>
          <p:nvPr/>
        </p:nvSpPr>
        <p:spPr>
          <a:xfrm>
            <a:off x="426708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057400" y="1066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057400" y="1066680"/>
            <a:ext cx="2362320" cy="4147560"/>
            <a:chOff x="2057400" y="1066680"/>
            <a:chExt cx="2362320" cy="4147560"/>
          </a:xfrm>
        </p:grpSpPr>
        <p:sp>
          <p:nvSpPr>
            <p:cNvPr id="1384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67240" y="1828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8958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3530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718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4290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8862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4290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1148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38640" y="1295280"/>
              <a:ext cx="22860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743200" y="1905120"/>
              <a:ext cx="60984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62520" y="3581280"/>
              <a:ext cx="30492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rot="17911800">
              <a:off x="3779640" y="3994200"/>
              <a:ext cx="209520" cy="30456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rot="17911800">
              <a:off x="2870280" y="2196720"/>
              <a:ext cx="168480" cy="1620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10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5304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67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971800" y="1676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4382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4054320" y="4648320"/>
              <a:ext cx="213120" cy="177840"/>
              <a:chOff x="4054320" y="4648320"/>
              <a:chExt cx="213120" cy="177840"/>
            </a:xfrm>
          </p:grpSpPr>
          <p:sp>
            <p:nvSpPr>
              <p:cNvPr id="1412" name=""/>
              <p:cNvSpPr/>
              <p:nvPr/>
            </p:nvSpPr>
            <p:spPr>
              <a:xfrm>
                <a:off x="40546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3368520" y="4622760"/>
              <a:ext cx="213120" cy="177840"/>
              <a:chOff x="3368520" y="4622760"/>
              <a:chExt cx="213120" cy="177840"/>
            </a:xfrm>
          </p:grpSpPr>
          <p:sp>
            <p:nvSpPr>
              <p:cNvPr id="1415" name=""/>
              <p:cNvSpPr/>
              <p:nvPr/>
            </p:nvSpPr>
            <p:spPr>
              <a:xfrm>
                <a:off x="336888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3368520" y="3505320"/>
              <a:ext cx="213120" cy="177840"/>
              <a:chOff x="3368520" y="3505320"/>
              <a:chExt cx="213120" cy="177840"/>
            </a:xfrm>
          </p:grpSpPr>
          <p:sp>
            <p:nvSpPr>
              <p:cNvPr id="1418" name=""/>
              <p:cNvSpPr/>
              <p:nvPr/>
            </p:nvSpPr>
            <p:spPr>
              <a:xfrm>
                <a:off x="336888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2911320" y="3479760"/>
              <a:ext cx="213120" cy="177840"/>
              <a:chOff x="2911320" y="3479760"/>
              <a:chExt cx="213120" cy="177840"/>
            </a:xfrm>
          </p:grpSpPr>
          <p:sp>
            <p:nvSpPr>
              <p:cNvPr id="1421" name=""/>
              <p:cNvSpPr/>
              <p:nvPr/>
            </p:nvSpPr>
            <p:spPr>
              <a:xfrm>
                <a:off x="291168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2057400" y="10666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03884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1447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1219320" y="4648320"/>
            <a:ext cx="380880" cy="565920"/>
            <a:chOff x="1219320" y="4648320"/>
            <a:chExt cx="380880" cy="565920"/>
          </a:xfrm>
        </p:grpSpPr>
        <p:sp>
          <p:nvSpPr>
            <p:cNvPr id="1427" name=""/>
            <p:cNvSpPr/>
            <p:nvPr/>
          </p:nvSpPr>
          <p:spPr>
            <a:xfrm>
              <a:off x="12193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8" name=""/>
            <p:cNvGrpSpPr/>
            <p:nvPr/>
          </p:nvGrpSpPr>
          <p:grpSpPr>
            <a:xfrm>
              <a:off x="1387080" y="4648320"/>
              <a:ext cx="213120" cy="177840"/>
              <a:chOff x="1387080" y="4648320"/>
              <a:chExt cx="213120" cy="177840"/>
            </a:xfrm>
          </p:grpSpPr>
          <p:sp>
            <p:nvSpPr>
              <p:cNvPr id="1429" name=""/>
              <p:cNvSpPr/>
              <p:nvPr/>
            </p:nvSpPr>
            <p:spPr>
              <a:xfrm>
                <a:off x="138744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13870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1" name=""/>
          <p:cNvGrpSpPr/>
          <p:nvPr/>
        </p:nvGrpSpPr>
        <p:grpSpPr>
          <a:xfrm>
            <a:off x="1142640" y="5410080"/>
            <a:ext cx="2743560" cy="762840"/>
            <a:chOff x="1142640" y="5410080"/>
            <a:chExt cx="2743560" cy="762840"/>
          </a:xfrm>
        </p:grpSpPr>
        <p:sp>
          <p:nvSpPr>
            <p:cNvPr id="1432" name=""/>
            <p:cNvSpPr/>
            <p:nvPr/>
          </p:nvSpPr>
          <p:spPr>
            <a:xfrm>
              <a:off x="1523880" y="541008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X 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1142640" y="5460840"/>
              <a:ext cx="213120" cy="177840"/>
              <a:chOff x="1142640" y="5460840"/>
              <a:chExt cx="213120" cy="177840"/>
            </a:xfrm>
          </p:grpSpPr>
          <p:sp>
            <p:nvSpPr>
              <p:cNvPr id="1434" name=""/>
              <p:cNvSpPr/>
              <p:nvPr/>
            </p:nvSpPr>
            <p:spPr>
              <a:xfrm>
                <a:off x="1203120" y="548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5" name=""/>
              <p:cNvGrpSpPr/>
              <p:nvPr/>
            </p:nvGrpSpPr>
            <p:grpSpPr>
              <a:xfrm>
                <a:off x="1142640" y="5460840"/>
                <a:ext cx="213120" cy="177840"/>
                <a:chOff x="1142640" y="5460840"/>
                <a:chExt cx="213120" cy="17784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114300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>
                  <a:off x="114264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8" name=""/>
            <p:cNvGrpSpPr/>
            <p:nvPr/>
          </p:nvGrpSpPr>
          <p:grpSpPr>
            <a:xfrm>
              <a:off x="1143000" y="5943600"/>
              <a:ext cx="304920" cy="152280"/>
              <a:chOff x="1143000" y="5943600"/>
              <a:chExt cx="304920" cy="152280"/>
            </a:xfrm>
          </p:grpSpPr>
          <p:sp>
            <p:nvSpPr>
              <p:cNvPr id="1439" name=""/>
              <p:cNvSpPr/>
              <p:nvPr/>
            </p:nvSpPr>
            <p:spPr>
              <a:xfrm>
                <a:off x="1219320" y="5943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143000" y="6019560"/>
                <a:ext cx="3049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1" name=""/>
            <p:cNvSpPr/>
            <p:nvPr/>
          </p:nvSpPr>
          <p:spPr>
            <a:xfrm>
              <a:off x="1523880" y="583560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Y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НЕ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4343400" y="1295280"/>
            <a:ext cx="4800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РАЗМЕТ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- подтвердить , что А - разреш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1: вершина типа «И» - разрешима,   если разрешимы все дочер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2 вершина типа «ИЛИ» - разрешима, если  разрешима хотя бы одна из дочер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876920" y="490536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СТРОЕНИЕ РЕШЕНИЯ собрать подгра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257800" y="3581280"/>
            <a:ext cx="3505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ЛГОРИТМЫ ПЕРЕБОРА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 ширину,глубину, с ценой, с эристик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8600" y="5335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1905120" y="1066680"/>
            <a:ext cx="4800600" cy="914400"/>
            <a:chOff x="1905120" y="1066680"/>
            <a:chExt cx="4800600" cy="914400"/>
          </a:xfrm>
        </p:grpSpPr>
        <p:sp>
          <p:nvSpPr>
            <p:cNvPr id="1453" name=""/>
            <p:cNvSpPr/>
            <p:nvPr/>
          </p:nvSpPr>
          <p:spPr>
            <a:xfrm>
              <a:off x="1905120" y="1066680"/>
              <a:ext cx="48006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33360" y="1180800"/>
              <a:ext cx="445788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(1+x)/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 +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+xe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)d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4419720" y="25909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286000" y="3168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380880" y="3733920"/>
            <a:ext cx="2057400" cy="685800"/>
            <a:chOff x="380880" y="3733920"/>
            <a:chExt cx="2057400" cy="685800"/>
          </a:xfrm>
        </p:grpSpPr>
        <p:sp>
          <p:nvSpPr>
            <p:cNvPr id="1459" name=""/>
            <p:cNvSpPr/>
            <p:nvPr/>
          </p:nvSpPr>
          <p:spPr>
            <a:xfrm>
              <a:off x="380880" y="3733920"/>
              <a:ext cx="2057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78800" y="3819600"/>
              <a:ext cx="191052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((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x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/x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315200" y="3733920"/>
            <a:ext cx="1447920" cy="685800"/>
            <a:chOff x="7315200" y="3733920"/>
            <a:chExt cx="1447920" cy="685800"/>
          </a:xfrm>
        </p:grpSpPr>
        <p:sp>
          <p:nvSpPr>
            <p:cNvPr id="1462" name=""/>
            <p:cNvSpPr/>
            <p:nvPr/>
          </p:nvSpPr>
          <p:spPr>
            <a:xfrm>
              <a:off x="7315200" y="3733920"/>
              <a:ext cx="1447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83960" y="3819600"/>
              <a:ext cx="1344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xe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4648320" y="3505320"/>
            <a:ext cx="1218960" cy="609480"/>
            <a:chOff x="4648320" y="3505320"/>
            <a:chExt cx="1218960" cy="609480"/>
          </a:xfrm>
        </p:grpSpPr>
        <p:sp>
          <p:nvSpPr>
            <p:cNvPr id="1465" name=""/>
            <p:cNvSpPr/>
            <p:nvPr/>
          </p:nvSpPr>
          <p:spPr>
            <a:xfrm>
              <a:off x="4648320" y="3505320"/>
              <a:ext cx="12189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706280" y="3581280"/>
              <a:ext cx="11322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4495680" y="26668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2666880" y="2666880"/>
            <a:ext cx="1828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4343040" y="266688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1905120" y="3962520"/>
            <a:ext cx="1295280" cy="2057400"/>
            <a:chOff x="1905120" y="3962520"/>
            <a:chExt cx="1295280" cy="2057400"/>
          </a:xfrm>
        </p:grpSpPr>
        <p:sp>
          <p:nvSpPr>
            <p:cNvPr id="147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895480" y="579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05740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2133360" y="4038480"/>
              <a:ext cx="53316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66880" y="4038480"/>
              <a:ext cx="30492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17911800">
              <a:off x="2495160" y="4476240"/>
              <a:ext cx="209520" cy="2858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1905120" y="5715000"/>
              <a:ext cx="380880" cy="304920"/>
              <a:chOff x="1905120" y="5715000"/>
              <a:chExt cx="380880" cy="304920"/>
            </a:xfrm>
          </p:grpSpPr>
          <p:sp>
            <p:nvSpPr>
              <p:cNvPr id="1478" name=""/>
              <p:cNvSpPr/>
              <p:nvPr/>
            </p:nvSpPr>
            <p:spPr>
              <a:xfrm>
                <a:off x="1981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1905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2819520" y="5715000"/>
              <a:ext cx="380880" cy="304920"/>
              <a:chOff x="2819520" y="5715000"/>
              <a:chExt cx="380880" cy="304920"/>
            </a:xfrm>
          </p:grpSpPr>
          <p:sp>
            <p:nvSpPr>
              <p:cNvPr id="1481" name=""/>
              <p:cNvSpPr/>
              <p:nvPr/>
            </p:nvSpPr>
            <p:spPr>
              <a:xfrm>
                <a:off x="28958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28195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3" name=""/>
          <p:cNvGrpSpPr/>
          <p:nvPr/>
        </p:nvGrpSpPr>
        <p:grpSpPr>
          <a:xfrm>
            <a:off x="4191120" y="3505320"/>
            <a:ext cx="380880" cy="304560"/>
            <a:chOff x="4191120" y="3505320"/>
            <a:chExt cx="380880" cy="304560"/>
          </a:xfrm>
        </p:grpSpPr>
        <p:sp>
          <p:nvSpPr>
            <p:cNvPr id="1484" name=""/>
            <p:cNvSpPr/>
            <p:nvPr/>
          </p:nvSpPr>
          <p:spPr>
            <a:xfrm>
              <a:off x="4267440" y="3505320"/>
              <a:ext cx="22860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4191120" y="3505320"/>
              <a:ext cx="38088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705720" y="4038480"/>
            <a:ext cx="1295280" cy="1981440"/>
            <a:chOff x="6705720" y="4038480"/>
            <a:chExt cx="1295280" cy="1981440"/>
          </a:xfrm>
        </p:grpSpPr>
        <p:sp>
          <p:nvSpPr>
            <p:cNvPr id="1487" name=""/>
            <p:cNvSpPr/>
            <p:nvPr/>
          </p:nvSpPr>
          <p:spPr>
            <a:xfrm>
              <a:off x="6934320" y="4038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848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705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6781320" y="4114800"/>
              <a:ext cx="2286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086600" y="4114800"/>
              <a:ext cx="6858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7911800">
              <a:off x="6991200" y="4553280"/>
              <a:ext cx="209520" cy="28548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3" name=""/>
            <p:cNvGrpSpPr/>
            <p:nvPr/>
          </p:nvGrpSpPr>
          <p:grpSpPr>
            <a:xfrm>
              <a:off x="7620120" y="5715000"/>
              <a:ext cx="380880" cy="304920"/>
              <a:chOff x="7620120" y="5715000"/>
              <a:chExt cx="380880" cy="304920"/>
            </a:xfrm>
          </p:grpSpPr>
          <p:sp>
            <p:nvSpPr>
              <p:cNvPr id="1494" name=""/>
              <p:cNvSpPr/>
              <p:nvPr/>
            </p:nvSpPr>
            <p:spPr>
              <a:xfrm>
                <a:off x="7696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>
                <a:off x="7620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6" name=""/>
          <p:cNvSpPr/>
          <p:nvPr/>
        </p:nvSpPr>
        <p:spPr>
          <a:xfrm>
            <a:off x="4343400" y="205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495680" y="236232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590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666880" y="350532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3809880" y="2362320"/>
            <a:ext cx="6098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0" y="236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934320" y="3321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010280" y="3657600"/>
            <a:ext cx="0" cy="380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666880" y="3505320"/>
            <a:ext cx="68580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629040" y="365760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rot="6802200">
            <a:off x="3971520" y="1949040"/>
            <a:ext cx="609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6629400" y="5715000"/>
            <a:ext cx="380880" cy="304920"/>
            <a:chOff x="6629400" y="5715000"/>
            <a:chExt cx="380880" cy="304920"/>
          </a:xfrm>
        </p:grpSpPr>
        <p:sp>
          <p:nvSpPr>
            <p:cNvPr id="1509" name=""/>
            <p:cNvSpPr/>
            <p:nvPr/>
          </p:nvSpPr>
          <p:spPr>
            <a:xfrm>
              <a:off x="6705720" y="5715000"/>
              <a:ext cx="22860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6629400" y="5715000"/>
              <a:ext cx="38088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2819520" y="1219320"/>
            <a:ext cx="152280" cy="53316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467480" y="3886200"/>
            <a:ext cx="15264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7200" y="38862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800600" y="36576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228600" y="8380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676520" y="4572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3.ИГРОВЫЕ ДЕРЕ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457200" y="1600200"/>
            <a:ext cx="4419720" cy="3980160"/>
            <a:chOff x="457200" y="1600200"/>
            <a:chExt cx="4419720" cy="3980160"/>
          </a:xfrm>
        </p:grpSpPr>
        <p:sp>
          <p:nvSpPr>
            <p:cNvPr id="1519" name=""/>
            <p:cNvSpPr/>
            <p:nvPr/>
          </p:nvSpPr>
          <p:spPr>
            <a:xfrm>
              <a:off x="2362320" y="1768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981080" y="245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819520" y="2454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4479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1337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8195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42900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2133360" y="192096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14600" y="192096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1523520" y="268272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057400" y="268272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895480" y="26827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971800" y="260676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990720" y="352116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23880" y="352116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2057040" y="359712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286000" y="359712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895480" y="359712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0481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5053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581280" y="352116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38080" y="25304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914400" y="34448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981080" y="1600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23880" y="2209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30639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3352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6" name=""/>
            <p:cNvGrpSpPr/>
            <p:nvPr/>
          </p:nvGrpSpPr>
          <p:grpSpPr>
            <a:xfrm>
              <a:off x="914400" y="4511520"/>
              <a:ext cx="3581280" cy="152280"/>
              <a:chOff x="914400" y="4511520"/>
              <a:chExt cx="3581280" cy="152280"/>
            </a:xfrm>
          </p:grpSpPr>
          <p:sp>
            <p:nvSpPr>
              <p:cNvPr id="1547" name=""/>
              <p:cNvSpPr/>
              <p:nvPr/>
            </p:nvSpPr>
            <p:spPr>
              <a:xfrm>
                <a:off x="914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44792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9810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4382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8954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3526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8098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343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5" name=""/>
            <p:cNvSpPr/>
            <p:nvPr/>
          </p:nvSpPr>
          <p:spPr>
            <a:xfrm>
              <a:off x="685800" y="45878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200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59092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057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523880" y="54259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85800" y="55022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57200" y="51814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1600200" y="474012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057400" y="47401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514600" y="466416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666880" y="466416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952880" y="1584360"/>
            <a:ext cx="4419720" cy="3980160"/>
            <a:chOff x="4952880" y="1584360"/>
            <a:chExt cx="4419720" cy="3980160"/>
          </a:xfrm>
        </p:grpSpPr>
        <p:sp>
          <p:nvSpPr>
            <p:cNvPr id="1567" name=""/>
            <p:cNvSpPr/>
            <p:nvPr/>
          </p:nvSpPr>
          <p:spPr>
            <a:xfrm>
              <a:off x="6858000" y="1752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476760" y="24382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31520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9436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6294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3152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92468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6629040" y="190512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10280" y="190512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019200" y="266688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553080" y="266688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391160" y="26668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467480" y="259092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486400" y="350532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019560" y="350532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6552720" y="358128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81680" y="358128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91160" y="358128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5438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0010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076960" y="350532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333760" y="25146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410080" y="34290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476760" y="15843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019560" y="21938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4864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029200" y="41752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5410080" y="4495680"/>
              <a:ext cx="3581280" cy="152280"/>
              <a:chOff x="5410080" y="4495680"/>
              <a:chExt cx="3581280" cy="152280"/>
            </a:xfrm>
          </p:grpSpPr>
          <p:sp>
            <p:nvSpPr>
              <p:cNvPr id="1595" name=""/>
              <p:cNvSpPr/>
              <p:nvPr/>
            </p:nvSpPr>
            <p:spPr>
              <a:xfrm>
                <a:off x="5410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94360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4767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9339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3911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8483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83055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8839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>
              <a:off x="5181480" y="45720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696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08660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553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19560" y="5410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181480" y="54864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952880" y="5165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6095880" y="472428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553080" y="47242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010280" y="464832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62560" y="464832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83808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ПЕРВЫ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33412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ТОРО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3617640" y="1906200"/>
            <a:ext cx="2670840" cy="53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33520" y="59436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ЗАДАЧА ВЫБОР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ОЦЕНИВАНИЕ ПОТЕНЦИАЛЬНЫХ «ОТВЕТОВ» ПРОТИВНИКА С ТОЧКИ ЗРЕНИЯ ПОСЛЕДСТВИЙ ОТ ВАРИАНТА Х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МИНИМАКСНАЯ СТРАТЕ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5105520" y="1447920"/>
            <a:ext cx="1828800" cy="1054800"/>
            <a:chOff x="5105520" y="1447920"/>
            <a:chExt cx="1828800" cy="1054800"/>
          </a:xfrm>
        </p:grpSpPr>
        <p:sp>
          <p:nvSpPr>
            <p:cNvPr id="1622" name=""/>
            <p:cNvSpPr/>
            <p:nvPr/>
          </p:nvSpPr>
          <p:spPr>
            <a:xfrm>
              <a:off x="51055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150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7150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055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244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150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3244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1055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244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1055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1447920" y="1447920"/>
            <a:ext cx="1828800" cy="1054800"/>
            <a:chOff x="1447920" y="1447920"/>
            <a:chExt cx="1828800" cy="1054800"/>
          </a:xfrm>
        </p:grpSpPr>
        <p:sp>
          <p:nvSpPr>
            <p:cNvPr id="1633" name=""/>
            <p:cNvSpPr/>
            <p:nvPr/>
          </p:nvSpPr>
          <p:spPr>
            <a:xfrm>
              <a:off x="14479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0574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0574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4479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668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574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6668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4479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6668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4479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5105520" y="3276720"/>
            <a:ext cx="1828800" cy="1054800"/>
            <a:chOff x="5105520" y="3276720"/>
            <a:chExt cx="1828800" cy="1054800"/>
          </a:xfrm>
        </p:grpSpPr>
        <p:sp>
          <p:nvSpPr>
            <p:cNvPr id="1644" name=""/>
            <p:cNvSpPr/>
            <p:nvPr/>
          </p:nvSpPr>
          <p:spPr>
            <a:xfrm>
              <a:off x="51055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150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7150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055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244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150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3244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055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3244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1055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1447920" y="3276720"/>
            <a:ext cx="1828800" cy="1054800"/>
            <a:chOff x="1447920" y="3276720"/>
            <a:chExt cx="1828800" cy="1054800"/>
          </a:xfrm>
        </p:grpSpPr>
        <p:sp>
          <p:nvSpPr>
            <p:cNvPr id="1655" name=""/>
            <p:cNvSpPr/>
            <p:nvPr/>
          </p:nvSpPr>
          <p:spPr>
            <a:xfrm>
              <a:off x="14479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0574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0574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4479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6668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574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6668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479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6668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4479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5" name=""/>
          <p:cNvSpPr/>
          <p:nvPr/>
        </p:nvSpPr>
        <p:spPr>
          <a:xfrm>
            <a:off x="2286000" y="48006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Правило: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выбор определяется  максимальной из потенциально минимальных потерь против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920" y="838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304920" y="2986200"/>
            <a:ext cx="8686800" cy="1511640"/>
            <a:chOff x="304920" y="2986200"/>
            <a:chExt cx="8686800" cy="1511640"/>
          </a:xfrm>
        </p:grpSpPr>
        <p:grpSp>
          <p:nvGrpSpPr>
            <p:cNvPr id="1671" name=""/>
            <p:cNvGrpSpPr/>
            <p:nvPr/>
          </p:nvGrpSpPr>
          <p:grpSpPr>
            <a:xfrm>
              <a:off x="304920" y="2986200"/>
              <a:ext cx="8686800" cy="1511640"/>
              <a:chOff x="304920" y="2986200"/>
              <a:chExt cx="8686800" cy="1511640"/>
            </a:xfrm>
          </p:grpSpPr>
          <p:grpSp>
            <p:nvGrpSpPr>
              <p:cNvPr id="1672" name=""/>
              <p:cNvGrpSpPr/>
              <p:nvPr/>
            </p:nvGrpSpPr>
            <p:grpSpPr>
              <a:xfrm>
                <a:off x="304920" y="3467160"/>
                <a:ext cx="2286000" cy="742320"/>
                <a:chOff x="304920" y="3467160"/>
                <a:chExt cx="2286000" cy="742320"/>
              </a:xfrm>
            </p:grpSpPr>
            <p:sp>
              <p:nvSpPr>
                <p:cNvPr id="1673" name=""/>
                <p:cNvSpPr/>
                <p:nvPr/>
              </p:nvSpPr>
              <p:spPr>
                <a:xfrm>
                  <a:off x="30492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380880" y="3534840"/>
                  <a:ext cx="213372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Найти операторы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l.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k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,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огласованные с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5" name=""/>
              <p:cNvGrpSpPr/>
              <p:nvPr/>
            </p:nvGrpSpPr>
            <p:grpSpPr>
              <a:xfrm>
                <a:off x="2971800" y="3467160"/>
                <a:ext cx="2286000" cy="742320"/>
                <a:chOff x="2971800" y="3467160"/>
                <a:chExt cx="2286000" cy="74232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297180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047760" y="3534840"/>
                  <a:ext cx="2133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оверить применимос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8" name=""/>
              <p:cNvGrpSpPr/>
              <p:nvPr/>
            </p:nvGrpSpPr>
            <p:grpSpPr>
              <a:xfrm>
                <a:off x="5638680" y="3467160"/>
                <a:ext cx="2286000" cy="742320"/>
                <a:chOff x="5638680" y="3467160"/>
                <a:chExt cx="2286000" cy="74232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563868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14640" y="3534840"/>
                  <a:ext cx="21337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имен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1" name=""/>
              <p:cNvSpPr/>
              <p:nvPr/>
            </p:nvSpPr>
            <p:spPr>
              <a:xfrm>
                <a:off x="68580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38080" y="420984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8862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1447920" y="4495680"/>
                <a:ext cx="54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44792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25780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59092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24680" y="38671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924680" y="35049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04920" y="29862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2. Уменьшить различия между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 A и B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C(Q,D,A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962520" y="419076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2" name=""/>
            <p:cNvSpPr/>
            <p:nvPr/>
          </p:nvSpPr>
          <p:spPr>
            <a:xfrm>
              <a:off x="5257800" y="35496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077320" y="39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514600" y="3505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Q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304920" y="4572000"/>
            <a:ext cx="8686800" cy="1981800"/>
            <a:chOff x="304920" y="4572000"/>
            <a:chExt cx="8686800" cy="1981800"/>
          </a:xfrm>
        </p:grpSpPr>
        <p:grpSp>
          <p:nvGrpSpPr>
            <p:cNvPr id="1696" name=""/>
            <p:cNvGrpSpPr/>
            <p:nvPr/>
          </p:nvGrpSpPr>
          <p:grpSpPr>
            <a:xfrm>
              <a:off x="304920" y="4572000"/>
              <a:ext cx="8686800" cy="1828800"/>
              <a:chOff x="304920" y="4572000"/>
              <a:chExt cx="8686800" cy="1828800"/>
            </a:xfrm>
          </p:grpSpPr>
          <p:grpSp>
            <p:nvGrpSpPr>
              <p:cNvPr id="1697" name=""/>
              <p:cNvGrpSpPr/>
              <p:nvPr/>
            </p:nvGrpSpPr>
            <p:grpSpPr>
              <a:xfrm>
                <a:off x="304920" y="5086080"/>
                <a:ext cx="2286000" cy="829080"/>
                <a:chOff x="304920" y="5086080"/>
                <a:chExt cx="2286000" cy="829080"/>
              </a:xfrm>
            </p:grpSpPr>
            <p:sp>
              <p:nvSpPr>
                <p:cNvPr id="1698" name=""/>
                <p:cNvSpPr/>
                <p:nvPr/>
              </p:nvSpPr>
              <p:spPr>
                <a:xfrm>
                  <a:off x="304920" y="5086080"/>
                  <a:ext cx="2286000" cy="74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380880" y="5152680"/>
                  <a:ext cx="2133720" cy="76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равнить условия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c A для нахождения различия 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0" name=""/>
              <p:cNvGrpSpPr/>
              <p:nvPr/>
            </p:nvGrpSpPr>
            <p:grpSpPr>
              <a:xfrm>
                <a:off x="2971800" y="5086080"/>
                <a:ext cx="2286000" cy="743040"/>
                <a:chOff x="2971800" y="5086080"/>
                <a:chExt cx="2286000" cy="74304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297180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3047760" y="5152680"/>
                  <a:ext cx="21337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Уменьш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различие D’ заменой А’ на А</a:t>
                  </a:r>
                  <a:r>
                    <a:rPr b="1" lang="en-US" sz="1400" spc="-1" strike="noStrike" baseline="30000">
                      <a:solidFill>
                        <a:srgbClr val="ff0066"/>
                      </a:solidFill>
                      <a:latin typeface="Times New Roman"/>
                    </a:rPr>
                    <a:t>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5638680" y="5086080"/>
                <a:ext cx="2286000" cy="743040"/>
                <a:chOff x="5638680" y="5086080"/>
                <a:chExt cx="2286000" cy="74304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563868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5714640" y="5152680"/>
                  <a:ext cx="2133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6" name=""/>
              <p:cNvSpPr/>
              <p:nvPr/>
            </p:nvSpPr>
            <p:spPr>
              <a:xfrm>
                <a:off x="41911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219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934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257800" y="5486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590920" y="54291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715000" y="5119560"/>
                <a:ext cx="21337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Применить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r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к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A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590920" y="61722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924680" y="542916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4920" y="6000480"/>
                <a:ext cx="228600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80880" y="6056280"/>
                <a:ext cx="2057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лучить результа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95480" y="605628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1911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9343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924680" y="51051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04920" y="45720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3. Применить оператор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Q к A    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E(Q,A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>
              <a:off x="5257800" y="5105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666880" y="6216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077320" y="5486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590920" y="5029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304920" y="1309680"/>
            <a:ext cx="8686800" cy="1610280"/>
            <a:chOff x="304920" y="1309680"/>
            <a:chExt cx="8686800" cy="1610280"/>
          </a:xfrm>
        </p:grpSpPr>
        <p:grpSp>
          <p:nvGrpSpPr>
            <p:cNvPr id="1726" name=""/>
            <p:cNvGrpSpPr/>
            <p:nvPr/>
          </p:nvGrpSpPr>
          <p:grpSpPr>
            <a:xfrm>
              <a:off x="304920" y="1752480"/>
              <a:ext cx="8686800" cy="1167480"/>
              <a:chOff x="304920" y="1752480"/>
              <a:chExt cx="8686800" cy="1167480"/>
            </a:xfrm>
          </p:grpSpPr>
          <p:grpSp>
            <p:nvGrpSpPr>
              <p:cNvPr id="1727" name=""/>
              <p:cNvGrpSpPr/>
              <p:nvPr/>
            </p:nvGrpSpPr>
            <p:grpSpPr>
              <a:xfrm>
                <a:off x="304920" y="1752480"/>
                <a:ext cx="8001000" cy="914400"/>
                <a:chOff x="304920" y="1752480"/>
                <a:chExt cx="8001000" cy="914400"/>
              </a:xfrm>
            </p:grpSpPr>
            <p:grpSp>
              <p:nvGrpSpPr>
                <p:cNvPr id="1728" name=""/>
                <p:cNvGrpSpPr/>
                <p:nvPr/>
              </p:nvGrpSpPr>
              <p:grpSpPr>
                <a:xfrm>
                  <a:off x="304920" y="1752480"/>
                  <a:ext cx="2286000" cy="742680"/>
                  <a:chOff x="304920" y="1752480"/>
                  <a:chExt cx="2286000" cy="74268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>
                    <a:off x="304920" y="1752480"/>
                    <a:ext cx="2286000" cy="74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8088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опостав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и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для нахождения различия 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1" name=""/>
                <p:cNvGrpSpPr/>
                <p:nvPr/>
              </p:nvGrpSpPr>
              <p:grpSpPr>
                <a:xfrm>
                  <a:off x="2971800" y="1752480"/>
                  <a:ext cx="2286000" cy="743040"/>
                  <a:chOff x="2971800" y="1752480"/>
                  <a:chExt cx="2286000" cy="743040"/>
                </a:xfrm>
              </p:grpSpPr>
              <p:sp>
                <p:nvSpPr>
                  <p:cNvPr id="1732" name=""/>
                  <p:cNvSpPr/>
                  <p:nvPr/>
                </p:nvSpPr>
                <p:spPr>
                  <a:xfrm>
                    <a:off x="297180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04776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Уменьш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различие D заменой А на А</a:t>
                    </a:r>
                    <a:r>
                      <a:rPr b="1" lang="en-US" sz="1400" spc="-1" strike="noStrike" baseline="30000">
                        <a:solidFill>
                          <a:srgbClr val="ff0066"/>
                        </a:solidFill>
                        <a:latin typeface="Times New Roman"/>
                      </a:rPr>
                      <a:t>’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4" name=""/>
                <p:cNvGrpSpPr/>
                <p:nvPr/>
              </p:nvGrpSpPr>
              <p:grpSpPr>
                <a:xfrm>
                  <a:off x="5638680" y="1752480"/>
                  <a:ext cx="2286000" cy="743040"/>
                  <a:chOff x="5638680" y="1752480"/>
                  <a:chExt cx="2286000" cy="743040"/>
                </a:xfrm>
              </p:grpSpPr>
              <p:sp>
                <p:nvSpPr>
                  <p:cNvPr id="1735" name=""/>
                  <p:cNvSpPr/>
                  <p:nvPr/>
                </p:nvSpPr>
                <p:spPr>
                  <a:xfrm>
                    <a:off x="563868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5714640" y="1819080"/>
                    <a:ext cx="2133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Преобразова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в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7" name=""/>
                <p:cNvSpPr/>
                <p:nvPr/>
              </p:nvSpPr>
              <p:spPr>
                <a:xfrm>
                  <a:off x="129528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396252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662940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59092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7924680" y="215244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25780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3" name=""/>
              <p:cNvSpPr/>
              <p:nvPr/>
            </p:nvSpPr>
            <p:spPr>
              <a:xfrm>
                <a:off x="30492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азличий нет, 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9718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7150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925040" y="1828440"/>
                <a:ext cx="106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7" name=""/>
            <p:cNvSpPr/>
            <p:nvPr/>
          </p:nvSpPr>
          <p:spPr>
            <a:xfrm>
              <a:off x="304920" y="1309680"/>
              <a:ext cx="78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</a:rPr>
                <a:t>Цель 1. Преобразовать </a:t>
              </a:r>
              <a:r>
                <a:rPr b="1" lang="en-US" sz="1800" spc="-1" strike="noStrike">
                  <a:solidFill>
                    <a:srgbClr val="990000"/>
                  </a:solidFill>
                  <a:latin typeface="Times New Roman"/>
                </a:rPr>
                <a:t> A в B                   </a:t>
              </a:r>
              <a:r>
                <a:rPr b="1" i="1" lang="en-US" sz="1800" spc="-1" strike="noStrike">
                  <a:solidFill>
                    <a:srgbClr val="990000"/>
                  </a:solidFill>
                  <a:latin typeface="Times New Roman"/>
                </a:rPr>
                <a:t>T(A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2578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5146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3733920" y="13716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029200" y="30481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267080" y="4648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038480" y="97488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1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876920" y="144612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971800" y="1897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97180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324480" y="2343240"/>
            <a:ext cx="236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9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”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676520" y="2286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2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971800" y="2819520"/>
            <a:ext cx="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16292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7162920" y="288144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286000" y="3078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0292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2860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295280" y="34066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3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33920" y="3341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8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         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65760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362320" y="3871800"/>
            <a:ext cx="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752480" y="4194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75248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752480" y="498168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62120" y="53103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62120" y="531036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895480" y="5310360"/>
            <a:ext cx="0" cy="63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6705720" y="3800520"/>
            <a:ext cx="45720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162920" y="3800520"/>
            <a:ext cx="914400" cy="13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905120" y="608004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6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’=Q’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57200" y="5638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5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248520" y="4419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172200" y="3276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0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”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772400" y="5257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819520" y="455616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7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”=Q(A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57200" y="4495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4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029200" y="11430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543800" y="25146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105520" y="350532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0492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Задача об обезъяне и банана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1371600" y="1295280"/>
            <a:ext cx="2362320" cy="1295640"/>
            <a:chOff x="1371600" y="1295280"/>
            <a:chExt cx="2362320" cy="1295640"/>
          </a:xfrm>
        </p:grpSpPr>
        <p:sp>
          <p:nvSpPr>
            <p:cNvPr id="1795" name=""/>
            <p:cNvSpPr/>
            <p:nvPr/>
          </p:nvSpPr>
          <p:spPr>
            <a:xfrm>
              <a:off x="1371600" y="1295280"/>
              <a:ext cx="236232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606680" y="1677960"/>
              <a:ext cx="206280" cy="187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709640" y="2189160"/>
              <a:ext cx="309600" cy="276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847960" y="1631880"/>
              <a:ext cx="507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407960" y="1447920"/>
              <a:ext cx="2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447920" y="213372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590920" y="158760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2" name=""/>
          <p:cNvSpPr/>
          <p:nvPr/>
        </p:nvSpPr>
        <p:spPr>
          <a:xfrm>
            <a:off x="762120" y="2743200"/>
            <a:ext cx="3504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M- обезъяна,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ящик,B- банан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ножество мест=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на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од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, 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181480" y="838080"/>
            <a:ext cx="36576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1. ПОДНЯТЬ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= Место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181480" y="2257560"/>
            <a:ext cx="3657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2. ИД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переменнаяч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- мест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181480" y="344808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3. ПЕРЕДВИГ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</a:t>
            </a:r>
            <a:r>
              <a:rPr b="1" lang="ru-RU" sz="1400" spc="-1" strike="noStrike">
                <a:solidFill>
                  <a:srgbClr val="ff00ff"/>
                </a:solidFill>
                <a:latin typeface="Symbol"/>
                <a:ea typeface="Symbol"/>
              </a:rPr>
              <a:t>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S)= Место(M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S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181480" y="497196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4.ХВАТ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S) = под-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M)=на-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Содержимое (рука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14400" y="3429000"/>
            <a:ext cx="274320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РАЗЛИ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1-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Мес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2- Место(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3- Содержимое (рука М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Порядок трудности D3&gt;D2&gt;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914400" y="5033880"/>
            <a:ext cx="358128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УМЕНЬШЕНИЕ РАЗЛИЧ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1         D2        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01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2                   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3                   X          X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4                          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514600" y="990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105520" y="1600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38080" y="1523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2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38080" y="20574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3: Применить О4 к Т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(O4,T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38080" y="3276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5: Примен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895480" y="4952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9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094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0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9528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2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572000" y="6172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87692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8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83808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6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838080" y="44956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7: Применить О2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38080" y="2666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4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1371600"/>
            <a:ext cx="2514240" cy="1219320"/>
            <a:chOff x="1219320" y="1371600"/>
            <a:chExt cx="2514240" cy="1219320"/>
          </a:xfrm>
        </p:grpSpPr>
        <p:sp>
          <p:nvSpPr>
            <p:cNvPr id="264" name=""/>
            <p:cNvSpPr/>
            <p:nvPr/>
          </p:nvSpPr>
          <p:spPr>
            <a:xfrm>
              <a:off x="1219320" y="1371600"/>
              <a:ext cx="251424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1297800" y="1427040"/>
              <a:ext cx="2278440" cy="1052640"/>
              <a:chOff x="1297800" y="1427040"/>
              <a:chExt cx="2278440" cy="10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12978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83320" y="14270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1172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60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26000" y="2091960"/>
                <a:ext cx="15696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19120" y="18705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19120" y="23691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12240" y="220284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692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6196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19280" y="236916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33240" y="1482480"/>
                <a:ext cx="5497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33240" y="1704240"/>
                <a:ext cx="39276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40640" y="1482480"/>
                <a:ext cx="62820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40640" y="1537920"/>
                <a:ext cx="156960" cy="27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33240" y="1704240"/>
                <a:ext cx="78120" cy="22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00484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90560" y="2036520"/>
                <a:ext cx="23544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19120" y="1981080"/>
                <a:ext cx="7848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083320" y="2202840"/>
                <a:ext cx="15732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554560" y="2313360"/>
                <a:ext cx="15732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554560" y="1925640"/>
                <a:ext cx="23544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633400" y="1759320"/>
                <a:ext cx="1569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10500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2869200" y="1980720"/>
                <a:ext cx="3142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633400" y="2424600"/>
                <a:ext cx="78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19280" y="2091960"/>
                <a:ext cx="781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5105520" y="1371600"/>
            <a:ext cx="2438280" cy="1143000"/>
            <a:chOff x="5105520" y="1371600"/>
            <a:chExt cx="2438280" cy="1143000"/>
          </a:xfrm>
        </p:grpSpPr>
        <p:sp>
          <p:nvSpPr>
            <p:cNvPr id="294" name=""/>
            <p:cNvSpPr/>
            <p:nvPr/>
          </p:nvSpPr>
          <p:spPr>
            <a:xfrm>
              <a:off x="5105520" y="1371600"/>
              <a:ext cx="24382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81480" y="161928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БЛАСТ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КАНИРОВА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914400" y="5029200"/>
            <a:ext cx="3276720" cy="1599840"/>
            <a:chOff x="914400" y="5029200"/>
            <a:chExt cx="3276720" cy="1599840"/>
          </a:xfrm>
        </p:grpSpPr>
        <p:sp>
          <p:nvSpPr>
            <p:cNvPr id="297" name=""/>
            <p:cNvSpPr/>
            <p:nvPr/>
          </p:nvSpPr>
          <p:spPr>
            <a:xfrm>
              <a:off x="2362320" y="5029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9520" y="52880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6232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71800" y="57452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74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716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05120" y="533412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8164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0920" y="62485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6278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13336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676160" y="56386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66688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895480" y="60199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724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440" y="55627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3040" y="60199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33720" y="563868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812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530000">
              <a:off x="1964520" y="453852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716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3560" y="548640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142640" y="563868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914400" y="56386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907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00400" y="594360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6724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765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57960" y="594360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361960" y="617220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133720" y="61722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6000" y="640080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072760" y="4952880"/>
            <a:ext cx="2851920" cy="1550880"/>
            <a:chOff x="5072760" y="4952880"/>
            <a:chExt cx="2851920" cy="1550880"/>
          </a:xfrm>
        </p:grpSpPr>
        <p:sp>
          <p:nvSpPr>
            <p:cNvPr id="331" name=""/>
            <p:cNvSpPr/>
            <p:nvPr/>
          </p:nvSpPr>
          <p:spPr>
            <a:xfrm>
              <a:off x="6095880" y="49528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53080" y="52117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5668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913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055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38680" y="52578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24480" y="6172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67480" y="62024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86692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40972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400440" y="54864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629040" y="5943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0" y="54864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59436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6728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81680" y="54864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791320" y="502920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334120" y="541008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2178600">
              <a:off x="5133960" y="5472000"/>
              <a:ext cx="76176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019200" y="5333760"/>
              <a:ext cx="9140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24" y="13"/>
                  </a:moveTo>
                  <a:arcTo wR="10800" hR="10800" stAng="-5233196" swAng="52331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24" y="13"/>
                  </a:moveTo>
                  <a:arcTo wR="10800" hR="10800" stAng="-5233196" swAng="5233196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20427600">
              <a:off x="6274080" y="5438160"/>
              <a:ext cx="606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91" y="189"/>
                  </a:moveTo>
                  <a:arcTo wR="10800" hR="10800" stAng="-6043292" swAng="6493027"/>
                  <a:lnTo>
                    <a:pt x="10800" y="10800"/>
                  </a:lnTo>
                  <a:close/>
                </a:path>
                <a:path fill="none" w="21600" h="21600">
                  <a:moveTo>
                    <a:pt x="8791" y="189"/>
                  </a:moveTo>
                  <a:arcTo wR="10800" hR="10800" stAng="-6043292" swAng="6493027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438600">
              <a:off x="6106680" y="5619600"/>
              <a:ext cx="6091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rot="20457600">
              <a:off x="6505560" y="588744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09480" y="2971800"/>
            <a:ext cx="4038840" cy="1828800"/>
            <a:chOff x="609480" y="2971800"/>
            <a:chExt cx="4038840" cy="1828800"/>
          </a:xfrm>
        </p:grpSpPr>
        <p:sp>
          <p:nvSpPr>
            <p:cNvPr id="358" name=""/>
            <p:cNvSpPr/>
            <p:nvPr/>
          </p:nvSpPr>
          <p:spPr>
            <a:xfrm>
              <a:off x="609480" y="2971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ШИР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295280" y="3505320"/>
              <a:ext cx="2438640" cy="1295280"/>
              <a:chOff x="1295280" y="3505320"/>
              <a:chExt cx="2438640" cy="1295280"/>
            </a:xfrm>
          </p:grpSpPr>
          <p:sp>
            <p:nvSpPr>
              <p:cNvPr id="360" name=""/>
              <p:cNvSpPr/>
              <p:nvPr/>
            </p:nvSpPr>
            <p:spPr>
              <a:xfrm>
                <a:off x="1295280" y="3505320"/>
                <a:ext cx="2438640" cy="1295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95280" y="3505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295280" y="36576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95280" y="38098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95280" y="44197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95280" y="41148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1295280" y="42670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1295280" y="39625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1295280" y="4648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4343400" y="3048120"/>
            <a:ext cx="3962520" cy="1676160"/>
            <a:chOff x="4343400" y="3048120"/>
            <a:chExt cx="3962520" cy="1676160"/>
          </a:xfrm>
        </p:grpSpPr>
        <p:sp>
          <p:nvSpPr>
            <p:cNvPr id="370" name=""/>
            <p:cNvSpPr/>
            <p:nvPr/>
          </p:nvSpPr>
          <p:spPr>
            <a:xfrm>
              <a:off x="4343400" y="30481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ГЛУБ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5105520" y="3580920"/>
              <a:ext cx="2438280" cy="1143360"/>
              <a:chOff x="5105520" y="3580920"/>
              <a:chExt cx="2438280" cy="1143360"/>
            </a:xfrm>
          </p:grpSpPr>
          <p:sp>
            <p:nvSpPr>
              <p:cNvPr id="372" name=""/>
              <p:cNvSpPr/>
              <p:nvPr/>
            </p:nvSpPr>
            <p:spPr>
              <a:xfrm>
                <a:off x="5105520" y="3581280"/>
                <a:ext cx="2438280" cy="1143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05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34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1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019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77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05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5257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5486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15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943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172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6400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6629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6858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086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34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162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91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7315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600200" y="1523880"/>
            <a:ext cx="5410080" cy="3733560"/>
            <a:chOff x="1600200" y="1523880"/>
            <a:chExt cx="5410080" cy="3733560"/>
          </a:xfrm>
        </p:grpSpPr>
        <p:grpSp>
          <p:nvGrpSpPr>
            <p:cNvPr id="398" name=""/>
            <p:cNvGrpSpPr/>
            <p:nvPr/>
          </p:nvGrpSpPr>
          <p:grpSpPr>
            <a:xfrm>
              <a:off x="1905120" y="1981080"/>
              <a:ext cx="5028480" cy="2971440"/>
              <a:chOff x="1905120" y="1981080"/>
              <a:chExt cx="5028480" cy="2971440"/>
            </a:xfrm>
          </p:grpSpPr>
          <p:sp>
            <p:nvSpPr>
              <p:cNvPr id="399" name=""/>
              <p:cNvSpPr/>
              <p:nvPr/>
            </p:nvSpPr>
            <p:spPr>
              <a:xfrm>
                <a:off x="1905120" y="1981080"/>
                <a:ext cx="5028480" cy="2971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2062440" y="2116080"/>
                <a:ext cx="4556520" cy="2565360"/>
                <a:chOff x="2062440" y="2116080"/>
                <a:chExt cx="4556520" cy="25653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6244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3120" y="2116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69028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31920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319200" y="3736440"/>
                  <a:ext cx="31392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104720" y="319644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104720" y="441180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890960" y="4006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0488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99040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305040" y="4411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2533680" y="2251080"/>
                  <a:ext cx="10994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533680" y="2791440"/>
                  <a:ext cx="78516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948120" y="2251080"/>
                  <a:ext cx="12567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948120" y="2386440"/>
                  <a:ext cx="313920" cy="67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533680" y="2791440"/>
                  <a:ext cx="156600" cy="53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4765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847600" y="3601800"/>
                  <a:ext cx="47124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104720" y="3466440"/>
                  <a:ext cx="157320" cy="81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33120" y="4006800"/>
                  <a:ext cx="3146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4575960" y="4276080"/>
                  <a:ext cx="314640" cy="26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575960" y="3331080"/>
                  <a:ext cx="4712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4733280" y="2925720"/>
                  <a:ext cx="313920" cy="27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6761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5204880" y="3466080"/>
                  <a:ext cx="6285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733280" y="4546440"/>
                  <a:ext cx="157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305040" y="3736440"/>
                  <a:ext cx="15660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8" name=""/>
            <p:cNvSpPr/>
            <p:nvPr/>
          </p:nvSpPr>
          <p:spPr>
            <a:xfrm flipH="1">
              <a:off x="1600200" y="1523880"/>
              <a:ext cx="5410080" cy="3733560"/>
            </a:xfrm>
            <a:prstGeom prst="line">
              <a:avLst/>
            </a:prstGeom>
            <a:ln w="7632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990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ЗАКРЫ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62920" y="1447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ФРОН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358128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541008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ТРИ МНОЖЕСТВА ВЕРШ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ис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962520" y="5410080"/>
            <a:ext cx="685800" cy="457200"/>
            <a:chOff x="3962520" y="5410080"/>
            <a:chExt cx="685800" cy="457200"/>
          </a:xfrm>
        </p:grpSpPr>
        <p:sp>
          <p:nvSpPr>
            <p:cNvPr id="437" name=""/>
            <p:cNvSpPr/>
            <p:nvPr/>
          </p:nvSpPr>
          <p:spPr>
            <a:xfrm>
              <a:off x="3962520" y="5410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15160" y="5486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172200" y="1981080"/>
            <a:ext cx="1371600" cy="457200"/>
            <a:chOff x="6172200" y="1981080"/>
            <a:chExt cx="1371600" cy="457200"/>
          </a:xfrm>
        </p:grpSpPr>
        <p:grpSp>
          <p:nvGrpSpPr>
            <p:cNvPr id="440" name=""/>
            <p:cNvGrpSpPr/>
            <p:nvPr/>
          </p:nvGrpSpPr>
          <p:grpSpPr>
            <a:xfrm>
              <a:off x="6858000" y="1981080"/>
              <a:ext cx="685800" cy="457200"/>
              <a:chOff x="6858000" y="1981080"/>
              <a:chExt cx="685800" cy="457200"/>
            </a:xfrm>
          </p:grpSpPr>
          <p:sp>
            <p:nvSpPr>
              <p:cNvPr id="441" name=""/>
              <p:cNvSpPr/>
              <p:nvPr/>
            </p:nvSpPr>
            <p:spPr>
              <a:xfrm>
                <a:off x="68580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106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172200" y="1981080"/>
              <a:ext cx="685800" cy="457200"/>
              <a:chOff x="6172200" y="1981080"/>
              <a:chExt cx="685800" cy="457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1722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248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4800600" y="1981080"/>
            <a:ext cx="1371600" cy="457200"/>
            <a:chOff x="4800600" y="1981080"/>
            <a:chExt cx="1371600" cy="457200"/>
          </a:xfrm>
        </p:grpSpPr>
        <p:grpSp>
          <p:nvGrpSpPr>
            <p:cNvPr id="447" name=""/>
            <p:cNvGrpSpPr/>
            <p:nvPr/>
          </p:nvGrpSpPr>
          <p:grpSpPr>
            <a:xfrm>
              <a:off x="5486400" y="1981080"/>
              <a:ext cx="685800" cy="457200"/>
              <a:chOff x="5486400" y="1981080"/>
              <a:chExt cx="685800" cy="457200"/>
            </a:xfrm>
          </p:grpSpPr>
          <p:sp>
            <p:nvSpPr>
              <p:cNvPr id="448" name=""/>
              <p:cNvSpPr/>
              <p:nvPr/>
            </p:nvSpPr>
            <p:spPr>
              <a:xfrm>
                <a:off x="54864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6390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800600" y="1981080"/>
              <a:ext cx="685800" cy="457200"/>
              <a:chOff x="4800600" y="1981080"/>
              <a:chExt cx="685800" cy="457200"/>
            </a:xfrm>
          </p:grpSpPr>
          <p:sp>
            <p:nvSpPr>
              <p:cNvPr id="451" name=""/>
              <p:cNvSpPr/>
              <p:nvPr/>
            </p:nvSpPr>
            <p:spPr>
              <a:xfrm>
                <a:off x="48006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532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4114800" y="1981080"/>
            <a:ext cx="685800" cy="457200"/>
            <a:chOff x="4114800" y="1981080"/>
            <a:chExt cx="685800" cy="457200"/>
          </a:xfrm>
        </p:grpSpPr>
        <p:sp>
          <p:nvSpPr>
            <p:cNvPr id="454" name=""/>
            <p:cNvSpPr/>
            <p:nvPr/>
          </p:nvSpPr>
          <p:spPr>
            <a:xfrm>
              <a:off x="4114800" y="1981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67440" y="2057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505320" y="1143000"/>
            <a:ext cx="685800" cy="457200"/>
            <a:chOff x="3505320" y="1143000"/>
            <a:chExt cx="685800" cy="457200"/>
          </a:xfrm>
        </p:grpSpPr>
        <p:sp>
          <p:nvSpPr>
            <p:cNvPr id="457" name=""/>
            <p:cNvSpPr/>
            <p:nvPr/>
          </p:nvSpPr>
          <p:spPr>
            <a:xfrm>
              <a:off x="3505320" y="114300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960" y="12189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572000" y="1523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ОТ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334120" y="3505320"/>
            <a:ext cx="3504960" cy="457200"/>
            <a:chOff x="5334120" y="3505320"/>
            <a:chExt cx="3504960" cy="457200"/>
          </a:xfrm>
        </p:grpSpPr>
        <p:sp>
          <p:nvSpPr>
            <p:cNvPr id="462" name=""/>
            <p:cNvSpPr/>
            <p:nvPr/>
          </p:nvSpPr>
          <p:spPr>
            <a:xfrm>
              <a:off x="7543800" y="35812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05720" y="350532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019920" y="3505320"/>
              <a:ext cx="685800" cy="457200"/>
              <a:chOff x="6019920" y="3505320"/>
              <a:chExt cx="685800" cy="457200"/>
            </a:xfrm>
          </p:grpSpPr>
          <p:sp>
            <p:nvSpPr>
              <p:cNvPr id="465" name=""/>
              <p:cNvSpPr/>
              <p:nvPr/>
            </p:nvSpPr>
            <p:spPr>
              <a:xfrm>
                <a:off x="60199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1725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334120" y="3505320"/>
              <a:ext cx="685800" cy="457200"/>
              <a:chOff x="5334120" y="3505320"/>
              <a:chExt cx="685800" cy="457200"/>
            </a:xfrm>
          </p:grpSpPr>
          <p:sp>
            <p:nvSpPr>
              <p:cNvPr id="468" name=""/>
              <p:cNvSpPr/>
              <p:nvPr/>
            </p:nvSpPr>
            <p:spPr>
              <a:xfrm>
                <a:off x="53341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67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5556600" y="3285720"/>
            <a:ext cx="2520720" cy="1678680"/>
            <a:chOff x="5556600" y="3285720"/>
            <a:chExt cx="2520720" cy="1678680"/>
          </a:xfrm>
        </p:grpSpPr>
        <p:grpSp>
          <p:nvGrpSpPr>
            <p:cNvPr id="471" name=""/>
            <p:cNvGrpSpPr/>
            <p:nvPr/>
          </p:nvGrpSpPr>
          <p:grpSpPr>
            <a:xfrm>
              <a:off x="7391520" y="4267080"/>
              <a:ext cx="685800" cy="457200"/>
              <a:chOff x="7391520" y="4267080"/>
              <a:chExt cx="685800" cy="457200"/>
            </a:xfrm>
          </p:grpSpPr>
          <p:sp>
            <p:nvSpPr>
              <p:cNvPr id="472" name=""/>
              <p:cNvSpPr/>
              <p:nvPr/>
            </p:nvSpPr>
            <p:spPr>
              <a:xfrm>
                <a:off x="7391520" y="4267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44160" y="4343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 flipH="1" rot="15886200">
              <a:off x="6064920" y="3000600"/>
              <a:ext cx="1218240" cy="213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14944800">
              <a:off x="5897160" y="3610080"/>
              <a:ext cx="121896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rot="71400">
              <a:off x="6699960" y="4042080"/>
              <a:ext cx="761040" cy="91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58000" y="4343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38080" y="2438280"/>
            <a:ext cx="5790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093640" y="1825920"/>
            <a:ext cx="1583640" cy="1476720"/>
            <a:chOff x="5093640" y="1825920"/>
            <a:chExt cx="1583640" cy="1476720"/>
          </a:xfrm>
        </p:grpSpPr>
        <p:sp>
          <p:nvSpPr>
            <p:cNvPr id="481" name=""/>
            <p:cNvSpPr/>
            <p:nvPr/>
          </p:nvSpPr>
          <p:spPr>
            <a:xfrm rot="10238400">
              <a:off x="5199840" y="1878480"/>
              <a:ext cx="7610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238400">
              <a:off x="5808960" y="1878480"/>
              <a:ext cx="76176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4038480" y="2590920"/>
            <a:ext cx="761760" cy="518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3809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33520" y="3124080"/>
            <a:ext cx="2819160" cy="3047400"/>
            <a:chOff x="533520" y="3124080"/>
            <a:chExt cx="2819160" cy="3047400"/>
          </a:xfrm>
        </p:grpSpPr>
        <p:grpSp>
          <p:nvGrpSpPr>
            <p:cNvPr id="486" name=""/>
            <p:cNvGrpSpPr/>
            <p:nvPr/>
          </p:nvGrpSpPr>
          <p:grpSpPr>
            <a:xfrm>
              <a:off x="533520" y="3885840"/>
              <a:ext cx="2819160" cy="456840"/>
              <a:chOff x="533520" y="3885840"/>
              <a:chExt cx="2819160" cy="456840"/>
            </a:xfrm>
          </p:grpSpPr>
          <p:sp>
            <p:nvSpPr>
              <p:cNvPr id="487" name=""/>
              <p:cNvSpPr/>
              <p:nvPr/>
            </p:nvSpPr>
            <p:spPr>
              <a:xfrm>
                <a:off x="533520" y="38858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08504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6365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18808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011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33520" y="4343040"/>
              <a:ext cx="2819160" cy="456840"/>
              <a:chOff x="533520" y="4343040"/>
              <a:chExt cx="2819160" cy="456840"/>
            </a:xfrm>
          </p:grpSpPr>
          <p:sp>
            <p:nvSpPr>
              <p:cNvPr id="493" name=""/>
              <p:cNvSpPr/>
              <p:nvPr/>
            </p:nvSpPr>
            <p:spPr>
              <a:xfrm>
                <a:off x="533520" y="43430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8504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6365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8808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8011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533520" y="4800240"/>
              <a:ext cx="2819160" cy="456840"/>
              <a:chOff x="533520" y="4800240"/>
              <a:chExt cx="2819160" cy="456840"/>
            </a:xfrm>
          </p:grpSpPr>
          <p:sp>
            <p:nvSpPr>
              <p:cNvPr id="499" name=""/>
              <p:cNvSpPr/>
              <p:nvPr/>
            </p:nvSpPr>
            <p:spPr>
              <a:xfrm>
                <a:off x="533520" y="48002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08504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365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18808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011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33520" y="5257440"/>
              <a:ext cx="2819160" cy="456840"/>
              <a:chOff x="533520" y="5257440"/>
              <a:chExt cx="2819160" cy="456840"/>
            </a:xfrm>
          </p:grpSpPr>
          <p:sp>
            <p:nvSpPr>
              <p:cNvPr id="505" name=""/>
              <p:cNvSpPr/>
              <p:nvPr/>
            </p:nvSpPr>
            <p:spPr>
              <a:xfrm>
                <a:off x="533520" y="52574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08504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6365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18808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011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33520" y="5714640"/>
              <a:ext cx="2819160" cy="456840"/>
              <a:chOff x="533520" y="5714640"/>
              <a:chExt cx="2819160" cy="456840"/>
            </a:xfrm>
          </p:grpSpPr>
          <p:sp>
            <p:nvSpPr>
              <p:cNvPr id="511" name=""/>
              <p:cNvSpPr/>
              <p:nvPr/>
            </p:nvSpPr>
            <p:spPr>
              <a:xfrm>
                <a:off x="533520" y="57146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8504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6365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18808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011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1084320" y="3124080"/>
              <a:ext cx="22683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84320" y="3124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84320" y="3428640"/>
              <a:ext cx="22683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3656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8772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0188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3124080"/>
              <a:ext cx="55080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84320" y="3124080"/>
              <a:ext cx="22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ДОЧЕРНИЕ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3200040"/>
              <a:ext cx="73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РОД. ВЕР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6240" y="342864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896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4964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2428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589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56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081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556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890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24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932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56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3520" y="571464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2260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7652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4300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52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1932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9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0968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546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648320" y="5410080"/>
            <a:ext cx="4114800" cy="457200"/>
            <a:chOff x="4648320" y="5410080"/>
            <a:chExt cx="4114800" cy="457200"/>
          </a:xfrm>
        </p:grpSpPr>
        <p:grpSp>
          <p:nvGrpSpPr>
            <p:cNvPr id="580" name=""/>
            <p:cNvGrpSpPr/>
            <p:nvPr/>
          </p:nvGrpSpPr>
          <p:grpSpPr>
            <a:xfrm>
              <a:off x="6705720" y="5410080"/>
              <a:ext cx="685800" cy="457200"/>
              <a:chOff x="6705720" y="5410080"/>
              <a:chExt cx="685800" cy="457200"/>
            </a:xfrm>
          </p:grpSpPr>
          <p:sp>
            <p:nvSpPr>
              <p:cNvPr id="581" name=""/>
              <p:cNvSpPr/>
              <p:nvPr/>
            </p:nvSpPr>
            <p:spPr>
              <a:xfrm>
                <a:off x="67057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8583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6019920" y="5410080"/>
              <a:ext cx="685800" cy="457200"/>
              <a:chOff x="6019920" y="5410080"/>
              <a:chExt cx="685800" cy="457200"/>
            </a:xfrm>
          </p:grpSpPr>
          <p:sp>
            <p:nvSpPr>
              <p:cNvPr id="584" name=""/>
              <p:cNvSpPr/>
              <p:nvPr/>
            </p:nvSpPr>
            <p:spPr>
              <a:xfrm>
                <a:off x="60199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725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334120" y="5410080"/>
              <a:ext cx="685800" cy="457200"/>
              <a:chOff x="5334120" y="5410080"/>
              <a:chExt cx="685800" cy="457200"/>
            </a:xfrm>
          </p:grpSpPr>
          <p:sp>
            <p:nvSpPr>
              <p:cNvPr id="587" name=""/>
              <p:cNvSpPr/>
              <p:nvPr/>
            </p:nvSpPr>
            <p:spPr>
              <a:xfrm>
                <a:off x="53341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867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648320" y="5410080"/>
              <a:ext cx="685800" cy="457200"/>
              <a:chOff x="4648320" y="5410080"/>
              <a:chExt cx="685800" cy="457200"/>
            </a:xfrm>
          </p:grpSpPr>
          <p:sp>
            <p:nvSpPr>
              <p:cNvPr id="590" name=""/>
              <p:cNvSpPr/>
              <p:nvPr/>
            </p:nvSpPr>
            <p:spPr>
              <a:xfrm>
                <a:off x="4648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800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7391520" y="5410080"/>
              <a:ext cx="685800" cy="457200"/>
              <a:chOff x="7391520" y="5410080"/>
              <a:chExt cx="685800" cy="457200"/>
            </a:xfrm>
          </p:grpSpPr>
          <p:sp>
            <p:nvSpPr>
              <p:cNvPr id="593" name=""/>
              <p:cNvSpPr/>
              <p:nvPr/>
            </p:nvSpPr>
            <p:spPr>
              <a:xfrm>
                <a:off x="73915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544160" y="54860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8077320" y="5410080"/>
              <a:ext cx="685800" cy="457200"/>
              <a:chOff x="8077320" y="5410080"/>
              <a:chExt cx="685800" cy="457200"/>
            </a:xfrm>
          </p:grpSpPr>
          <p:sp>
            <p:nvSpPr>
              <p:cNvPr id="596" name=""/>
              <p:cNvSpPr/>
              <p:nvPr/>
            </p:nvSpPr>
            <p:spPr>
              <a:xfrm>
                <a:off x="8077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29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строение пут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603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04920" y="2971800"/>
            <a:ext cx="5876640" cy="457200"/>
            <a:chOff x="304920" y="2971800"/>
            <a:chExt cx="5876640" cy="457200"/>
          </a:xfrm>
        </p:grpSpPr>
        <p:grpSp>
          <p:nvGrpSpPr>
            <p:cNvPr id="637" name=""/>
            <p:cNvGrpSpPr/>
            <p:nvPr/>
          </p:nvGrpSpPr>
          <p:grpSpPr>
            <a:xfrm>
              <a:off x="304920" y="2971800"/>
              <a:ext cx="1185840" cy="457200"/>
              <a:chOff x="304920" y="2971800"/>
              <a:chExt cx="118584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3049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75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147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25640" y="3048120"/>
                <a:ext cx="34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1490760" y="2971800"/>
              <a:ext cx="1185840" cy="457200"/>
              <a:chOff x="1490760" y="2971800"/>
              <a:chExt cx="1185840" cy="457200"/>
            </a:xfrm>
          </p:grpSpPr>
          <p:sp>
            <p:nvSpPr>
              <p:cNvPr id="643" name=""/>
              <p:cNvSpPr/>
              <p:nvPr/>
            </p:nvSpPr>
            <p:spPr>
              <a:xfrm>
                <a:off x="149076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64340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10060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21148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2676600" y="2971800"/>
              <a:ext cx="1185840" cy="457200"/>
              <a:chOff x="2676600" y="2971800"/>
              <a:chExt cx="1185840" cy="457200"/>
            </a:xfrm>
          </p:grpSpPr>
          <p:sp>
            <p:nvSpPr>
              <p:cNvPr id="648" name=""/>
              <p:cNvSpPr/>
              <p:nvPr/>
            </p:nvSpPr>
            <p:spPr>
              <a:xfrm>
                <a:off x="267660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2924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28644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9732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3852720" y="2971800"/>
              <a:ext cx="1185840" cy="457200"/>
              <a:chOff x="3852720" y="2971800"/>
              <a:chExt cx="1185840" cy="457200"/>
            </a:xfrm>
          </p:grpSpPr>
          <p:sp>
            <p:nvSpPr>
              <p:cNvPr id="653" name=""/>
              <p:cNvSpPr/>
              <p:nvPr/>
            </p:nvSpPr>
            <p:spPr>
              <a:xfrm>
                <a:off x="3852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005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62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73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995720" y="2971800"/>
              <a:ext cx="1185840" cy="457200"/>
              <a:chOff x="4995720" y="2971800"/>
              <a:chExt cx="1185840" cy="457200"/>
            </a:xfrm>
          </p:grpSpPr>
          <p:sp>
            <p:nvSpPr>
              <p:cNvPr id="658" name=""/>
              <p:cNvSpPr/>
              <p:nvPr/>
            </p:nvSpPr>
            <p:spPr>
              <a:xfrm>
                <a:off x="4995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48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05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716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6281640" y="2971800"/>
            <a:ext cx="1185840" cy="457200"/>
            <a:chOff x="6281640" y="2971800"/>
            <a:chExt cx="1185840" cy="457200"/>
          </a:xfrm>
        </p:grpSpPr>
        <p:sp>
          <p:nvSpPr>
            <p:cNvPr id="663" name=""/>
            <p:cNvSpPr/>
            <p:nvPr/>
          </p:nvSpPr>
          <p:spPr>
            <a:xfrm>
              <a:off x="628164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3428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914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0236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577280" y="2971800"/>
            <a:ext cx="1185840" cy="457200"/>
            <a:chOff x="7577280" y="2971800"/>
            <a:chExt cx="1185840" cy="457200"/>
          </a:xfrm>
        </p:grpSpPr>
        <p:sp>
          <p:nvSpPr>
            <p:cNvPr id="668" name=""/>
            <p:cNvSpPr/>
            <p:nvPr/>
          </p:nvSpPr>
          <p:spPr>
            <a:xfrm>
              <a:off x="757728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72992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8712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29800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 flipH="1" rot="2913600">
            <a:off x="5990040" y="2324520"/>
            <a:ext cx="2745360" cy="32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 rot="20234400">
            <a:off x="2906640" y="1242000"/>
            <a:ext cx="6014880" cy="257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5" y="387"/>
                </a:moveTo>
                <a:arcTo wR="10800" hR="10800" stAng="-6323083" swAng="6781791"/>
                <a:lnTo>
                  <a:pt x="10800" y="10800"/>
                </a:lnTo>
                <a:close/>
              </a:path>
              <a:path fill="none" w="21600" h="21600">
                <a:moveTo>
                  <a:pt x="7935" y="387"/>
                </a:moveTo>
                <a:arcTo wR="10800" hR="10800" stAng="-6323083" swAng="6781791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rot="2316600">
            <a:off x="160200" y="2501280"/>
            <a:ext cx="4138560" cy="376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35" y="0"/>
                </a:moveTo>
                <a:arcTo wR="10800" hR="10800" stAng="-5388830" swAng="5017292"/>
                <a:lnTo>
                  <a:pt x="10800" y="10800"/>
                </a:lnTo>
                <a:close/>
              </a:path>
              <a:path fill="none" w="21600" h="21600">
                <a:moveTo>
                  <a:pt x="10835" y="0"/>
                </a:moveTo>
                <a:arcTo wR="10800" hR="10800" stAng="-5388830" swAng="5017292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86200" y="22860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01840" y="380988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76480" y="44496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018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10040" y="513252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986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90720" y="52164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97040" y="4373640"/>
            <a:ext cx="706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16440" y="5216400"/>
            <a:ext cx="60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04960" y="60609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19480" y="61167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000160" y="4232160"/>
            <a:ext cx="30168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393920" y="4935600"/>
            <a:ext cx="3031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706480" y="4795920"/>
            <a:ext cx="3013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007800" y="5638680"/>
            <a:ext cx="30348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06840" y="4232160"/>
            <a:ext cx="30132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11640" y="4795920"/>
            <a:ext cx="6048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14760" y="5638680"/>
            <a:ext cx="604800" cy="5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905120" y="4724280"/>
            <a:ext cx="997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09760" y="4795920"/>
            <a:ext cx="10188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 rot="17007000">
            <a:off x="1164960" y="4578120"/>
            <a:ext cx="10656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780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7805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44956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бавляются проверки на присутствие в списке «ЗАКРЫТ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1066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8380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ЛНЫЙ ПЕРЕБОР В ГЛУБИН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295280" y="1981080"/>
            <a:ext cx="10670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1981080"/>
            <a:ext cx="144756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990360" y="5257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86200" y="52578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50292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4267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00200" y="3886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7524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51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2743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2362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0" y="1981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2880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5248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7652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23880" y="3581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4300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14400" y="4343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120" y="4724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981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3581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85800" y="1980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30481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lang="ru-RU" sz="2000" spc="-1" strike="noStrike" baseline="-25000">
                <a:solidFill>
                  <a:srgbClr val="ff0066"/>
                </a:solidFill>
                <a:latin typeface="Times New Roman"/>
              </a:rPr>
              <a:t>Г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95280" y="5867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ТУАЦИЯ БЕСКОНЕЧНОГО ГРАФ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212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17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572000" y="4952880"/>
            <a:ext cx="2209680" cy="1442160"/>
            <a:chOff x="4572000" y="4952880"/>
            <a:chExt cx="2209680" cy="1442160"/>
          </a:xfrm>
        </p:grpSpPr>
        <p:sp>
          <p:nvSpPr>
            <p:cNvPr id="730" name=""/>
            <p:cNvSpPr/>
            <p:nvPr/>
          </p:nvSpPr>
          <p:spPr>
            <a:xfrm>
              <a:off x="4572000" y="548640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578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436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48320" y="5562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10080" y="5562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95880" y="55627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24280" y="60879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69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4648320" y="129528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ДАПТАЦИЯ АЛГОРИТ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1120" y="24382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334120" y="4038480"/>
            <a:ext cx="3581280" cy="383400"/>
            <a:chOff x="5334120" y="4038480"/>
            <a:chExt cx="3581280" cy="383400"/>
          </a:xfrm>
        </p:grpSpPr>
        <p:sp>
          <p:nvSpPr>
            <p:cNvPr id="741" name=""/>
            <p:cNvSpPr/>
            <p:nvPr/>
          </p:nvSpPr>
          <p:spPr>
            <a:xfrm>
              <a:off x="5334120" y="4038480"/>
              <a:ext cx="24382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001000" y="41148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4360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530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1008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199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057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1520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334120" y="3276720"/>
            <a:ext cx="3581280" cy="383040"/>
            <a:chOff x="5334120" y="3276720"/>
            <a:chExt cx="3581280" cy="383040"/>
          </a:xfrm>
        </p:grpSpPr>
        <p:sp>
          <p:nvSpPr>
            <p:cNvPr id="751" name=""/>
            <p:cNvSpPr/>
            <p:nvPr/>
          </p:nvSpPr>
          <p:spPr>
            <a:xfrm>
              <a:off x="5334120" y="3276720"/>
              <a:ext cx="24382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001000" y="3352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436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5308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92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1008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199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7057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1520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65530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5530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0574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ТКРЫ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438280"/>
            <a:ext cx="175248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438280"/>
            <a:ext cx="129528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91680" y="2057400"/>
            <a:ext cx="13708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086600" y="1828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рать с кон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9907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ЦЕ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85800" y="1828800"/>
            <a:ext cx="3733920" cy="2440800"/>
            <a:chOff x="685800" y="1828800"/>
            <a:chExt cx="3733920" cy="2440800"/>
          </a:xfrm>
        </p:grpSpPr>
        <p:sp>
          <p:nvSpPr>
            <p:cNvPr id="771" name=""/>
            <p:cNvSpPr/>
            <p:nvPr/>
          </p:nvSpPr>
          <p:spPr>
            <a:xfrm flipH="1">
              <a:off x="685800" y="2438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12193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663560" y="2895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530520" y="3733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2552760" y="23623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908440" y="31240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374920" y="4038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24188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019240" y="1828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74720" y="1904760"/>
              <a:ext cx="1244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4720" y="251460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4720" y="251460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97160" y="365760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463840" y="380952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1841400" y="251460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52480" y="289548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3048120" y="2819520"/>
              <a:ext cx="12189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2463840" y="320040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66880" y="243828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08160" y="1905120"/>
              <a:ext cx="533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619440" y="2895120"/>
              <a:ext cx="72396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66680" y="1981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1905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526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81080" y="2428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43000" y="27432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124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48120" y="2286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80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76520" y="3809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95480" y="3962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962520" y="3429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1911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4572000"/>
            <a:ext cx="3429000" cy="1830960"/>
            <a:chOff x="762120" y="4572000"/>
            <a:chExt cx="3429000" cy="1830960"/>
          </a:xfrm>
        </p:grpSpPr>
        <p:sp>
          <p:nvSpPr>
            <p:cNvPr id="806" name=""/>
            <p:cNvSpPr/>
            <p:nvPr/>
          </p:nvSpPr>
          <p:spPr>
            <a:xfrm>
              <a:off x="762120" y="510552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479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337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3808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0020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86000" y="5181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90720" y="46404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66680" y="4572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71800" y="51055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8120" y="50976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38080" y="5630760"/>
              <a:ext cx="3353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0k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=</a:t>
              </a:r>
              <a:r>
                <a:rPr b="1" lang="ru-RU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i j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- стоимость пути о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90720" y="609588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Дополниительная процед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4289040" y="1295280"/>
            <a:ext cx="4321440" cy="4055400"/>
            <a:chOff x="4289040" y="1295280"/>
            <a:chExt cx="4321440" cy="4055400"/>
          </a:xfrm>
        </p:grpSpPr>
        <p:sp>
          <p:nvSpPr>
            <p:cNvPr id="819" name=""/>
            <p:cNvSpPr/>
            <p:nvPr/>
          </p:nvSpPr>
          <p:spPr>
            <a:xfrm>
              <a:off x="4648320" y="1295280"/>
              <a:ext cx="350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АДАПТАЦИЯ АЛГОРИТМ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05520" y="4191120"/>
              <a:ext cx="3352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Ситуация «возврата» по сети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- если альтернативный маршрут имеет лучшую «цену», то соответствующее ему представление вершины «замещает» её текущее значе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52880" y="2514600"/>
              <a:ext cx="3657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52880" y="2514600"/>
              <a:ext cx="251460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 rot="17020200">
              <a:off x="5122080" y="1294200"/>
              <a:ext cx="91980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13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1376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19720" y="1752480"/>
              <a:ext cx="2133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на поиск для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MIN(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10280" y="1905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ТКРЫ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0880" y="76212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838080" y="1523880"/>
            <a:ext cx="1067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447920" y="1523880"/>
            <a:ext cx="4572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05120" y="1600200"/>
            <a:ext cx="53316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905120" y="1523880"/>
            <a:ext cx="167616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444600" y="1523880"/>
            <a:ext cx="2997000" cy="2514600"/>
            <a:chOff x="444600" y="1523880"/>
            <a:chExt cx="2997000" cy="2514600"/>
          </a:xfrm>
        </p:grpSpPr>
        <p:sp>
          <p:nvSpPr>
            <p:cNvPr id="834" name=""/>
            <p:cNvSpPr/>
            <p:nvPr/>
          </p:nvSpPr>
          <p:spPr>
            <a:xfrm>
              <a:off x="979920" y="1785960"/>
              <a:ext cx="1688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1030320" y="1523880"/>
              <a:ext cx="1742400" cy="26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3961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396147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82560" y="2112840"/>
              <a:ext cx="2580480" cy="78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4200" y="1949400"/>
              <a:ext cx="819000" cy="163440"/>
            </a:xfrm>
            <a:custGeom>
              <a:avLst/>
              <a:gdLst/>
              <a:ahLst/>
              <a:rect l="l" t="t" r="r" b="b"/>
              <a:pathLst>
                <a:path w="792" h="240">
                  <a:moveTo>
                    <a:pt x="720" y="0"/>
                  </a:moveTo>
                  <a:cubicBezTo>
                    <a:pt x="756" y="76"/>
                    <a:pt x="792" y="152"/>
                    <a:pt x="672" y="192"/>
                  </a:cubicBezTo>
                  <a:cubicBezTo>
                    <a:pt x="552" y="232"/>
                    <a:pt x="112" y="232"/>
                    <a:pt x="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6120" y="2438280"/>
              <a:ext cx="2349360" cy="266760"/>
            </a:xfrm>
            <a:custGeom>
              <a:avLst/>
              <a:gdLst/>
              <a:ahLst/>
              <a:rect l="l" t="t" r="r" b="b"/>
              <a:pathLst>
                <a:path w="1480" h="168">
                  <a:moveTo>
                    <a:pt x="88" y="0"/>
                  </a:moveTo>
                  <a:cubicBezTo>
                    <a:pt x="44" y="60"/>
                    <a:pt x="0" y="120"/>
                    <a:pt x="232" y="144"/>
                  </a:cubicBezTo>
                  <a:cubicBezTo>
                    <a:pt x="464" y="168"/>
                    <a:pt x="1272" y="144"/>
                    <a:pt x="1480" y="1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4600" y="2666880"/>
              <a:ext cx="2997000" cy="1371600"/>
            </a:xfrm>
            <a:custGeom>
              <a:avLst/>
              <a:gdLst/>
              <a:ahLst/>
              <a:rect l="l" t="t" r="r" b="b"/>
              <a:pathLst>
                <a:path w="1888" h="864">
                  <a:moveTo>
                    <a:pt x="1544" y="0"/>
                  </a:moveTo>
                  <a:cubicBezTo>
                    <a:pt x="1632" y="20"/>
                    <a:pt x="1720" y="40"/>
                    <a:pt x="1736" y="96"/>
                  </a:cubicBezTo>
                  <a:cubicBezTo>
                    <a:pt x="1752" y="152"/>
                    <a:pt x="1888" y="288"/>
                    <a:pt x="1640" y="336"/>
                  </a:cubicBezTo>
                  <a:cubicBezTo>
                    <a:pt x="1392" y="384"/>
                    <a:pt x="496" y="344"/>
                    <a:pt x="248" y="384"/>
                  </a:cubicBezTo>
                  <a:cubicBezTo>
                    <a:pt x="0" y="424"/>
                    <a:pt x="88" y="504"/>
                    <a:pt x="152" y="576"/>
                  </a:cubicBezTo>
                  <a:cubicBezTo>
                    <a:pt x="216" y="648"/>
                    <a:pt x="400" y="768"/>
                    <a:pt x="632" y="816"/>
                  </a:cubicBezTo>
                  <a:cubicBezTo>
                    <a:pt x="864" y="864"/>
                    <a:pt x="1392" y="856"/>
                    <a:pt x="1544" y="86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809880"/>
            <a:ext cx="30492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1294920" y="3733920"/>
            <a:ext cx="304920" cy="380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480" y="4419720"/>
            <a:ext cx="411480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ЭВРИСТИКА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- средство (идея, правило, принцип, критерий,…), рекомендующее прекратить комбинаторику по одному или ряду «направлений» - предотвратить комбинаторный взры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Times New Roman"/>
              </a:rPr>
              <a:t>ЭВРИСТИЧЕСКОЕ    ПРОГРАММ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3886200" y="1219320"/>
            <a:ext cx="4724280" cy="2897640"/>
            <a:chOff x="3886200" y="1219320"/>
            <a:chExt cx="4724280" cy="2897640"/>
          </a:xfrm>
        </p:grpSpPr>
        <p:sp>
          <p:nvSpPr>
            <p:cNvPr id="846" name=""/>
            <p:cNvSpPr/>
            <p:nvPr/>
          </p:nvSpPr>
          <p:spPr>
            <a:xfrm flipH="1">
              <a:off x="4343400" y="2286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4876920" y="3429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32116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1881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210360" y="22096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566040" y="2971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032520" y="3886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899480" y="2590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676840" y="16765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4432320" y="1752480"/>
              <a:ext cx="1244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32320" y="236232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32320" y="236232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054760" y="350532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121440" y="365724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5499000" y="236232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0080" y="274320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705720" y="2666520"/>
              <a:ext cx="1218960" cy="38124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121440" y="30481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24480" y="228600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65760" y="1752480"/>
              <a:ext cx="533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7277040" y="2743200"/>
              <a:ext cx="723960" cy="838080"/>
            </a:xfrm>
            <a:prstGeom prst="line">
              <a:avLst/>
            </a:prstGeom>
            <a:ln cap="rnd" w="38160">
              <a:solidFill>
                <a:srgbClr val="3333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24280" y="1828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1752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102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638680" y="22766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00600" y="2590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791320" y="29718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05720" y="2133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956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34120" y="36576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53080" y="38098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20120" y="3276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48320" y="1219320"/>
              <a:ext cx="396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КЛАССИЧЕСКАЯ ЭВРИ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86200" y="1981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848720" y="2057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00800" y="25909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334120" y="4267080"/>
            <a:ext cx="3429000" cy="1221480"/>
            <a:chOff x="5334120" y="4267080"/>
            <a:chExt cx="3429000" cy="1221480"/>
          </a:xfrm>
        </p:grpSpPr>
        <p:sp>
          <p:nvSpPr>
            <p:cNvPr id="883" name=""/>
            <p:cNvSpPr/>
            <p:nvPr/>
          </p:nvSpPr>
          <p:spPr>
            <a:xfrm>
              <a:off x="5334120" y="4343400"/>
              <a:ext cx="3429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f(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= c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,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+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81680" y="4267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4120" y="4267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638680" y="518148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цен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5638680" y="4647960"/>
              <a:ext cx="609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477120" y="464796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029200" y="5638680"/>
            <a:ext cx="3124080" cy="762120"/>
            <a:chOff x="5029200" y="5638680"/>
            <a:chExt cx="3124080" cy="762120"/>
          </a:xfrm>
        </p:grpSpPr>
        <p:sp>
          <p:nvSpPr>
            <p:cNvPr id="890" name=""/>
            <p:cNvSpPr/>
            <p:nvPr/>
          </p:nvSpPr>
          <p:spPr>
            <a:xfrm>
              <a:off x="5029200" y="5638680"/>
              <a:ext cx="31240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10080" y="5867280"/>
              <a:ext cx="2362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&lt;=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10080" y="57913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(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218960" y="1066680"/>
            <a:ext cx="6629760" cy="3961800"/>
            <a:chOff x="1218960" y="1066680"/>
            <a:chExt cx="6629760" cy="3961800"/>
          </a:xfrm>
        </p:grpSpPr>
        <p:grpSp>
          <p:nvGrpSpPr>
            <p:cNvPr id="897" name=""/>
            <p:cNvGrpSpPr/>
            <p:nvPr/>
          </p:nvGrpSpPr>
          <p:grpSpPr>
            <a:xfrm>
              <a:off x="1219320" y="1066680"/>
              <a:ext cx="6629400" cy="3961800"/>
              <a:chOff x="1219320" y="1066680"/>
              <a:chExt cx="6629400" cy="396180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1219320" y="1675800"/>
                <a:ext cx="6629400" cy="304560"/>
                <a:chOff x="1219320" y="1675800"/>
                <a:chExt cx="6629400" cy="304560"/>
              </a:xfrm>
            </p:grpSpPr>
            <p:grpSp>
              <p:nvGrpSpPr>
                <p:cNvPr id="899" name=""/>
                <p:cNvGrpSpPr/>
                <p:nvPr/>
              </p:nvGrpSpPr>
              <p:grpSpPr>
                <a:xfrm>
                  <a:off x="1219320" y="1675800"/>
                  <a:ext cx="2209680" cy="304560"/>
                  <a:chOff x="1219320" y="1675800"/>
                  <a:chExt cx="2209680" cy="30456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>
                    <a:off x="12193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1524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3048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1905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667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28600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6" name=""/>
                <p:cNvGrpSpPr/>
                <p:nvPr/>
              </p:nvGrpSpPr>
              <p:grpSpPr>
                <a:xfrm>
                  <a:off x="5639040" y="1675800"/>
                  <a:ext cx="2209680" cy="304560"/>
                  <a:chOff x="5639040" y="1675800"/>
                  <a:chExt cx="2209680" cy="30456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56390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943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7467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6324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7086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670572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3" name=""/>
                <p:cNvGrpSpPr/>
                <p:nvPr/>
              </p:nvGrpSpPr>
              <p:grpSpPr>
                <a:xfrm>
                  <a:off x="3429000" y="1675800"/>
                  <a:ext cx="2209680" cy="304560"/>
                  <a:chOff x="3429000" y="1675800"/>
                  <a:chExt cx="2209680" cy="30456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>
                    <a:off x="34290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3733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257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114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876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9568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0" name=""/>
              <p:cNvGrpSpPr/>
              <p:nvPr/>
            </p:nvGrpSpPr>
            <p:grpSpPr>
              <a:xfrm>
                <a:off x="1219320" y="1980720"/>
                <a:ext cx="6629400" cy="304560"/>
                <a:chOff x="1219320" y="1980720"/>
                <a:chExt cx="6629400" cy="304560"/>
              </a:xfrm>
            </p:grpSpPr>
            <p:grpSp>
              <p:nvGrpSpPr>
                <p:cNvPr id="921" name=""/>
                <p:cNvGrpSpPr/>
                <p:nvPr/>
              </p:nvGrpSpPr>
              <p:grpSpPr>
                <a:xfrm>
                  <a:off x="1219320" y="1980720"/>
                  <a:ext cx="2209680" cy="304560"/>
                  <a:chOff x="1219320" y="1980720"/>
                  <a:chExt cx="2209680" cy="30456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12193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1524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3048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1905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667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28600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5639040" y="1980720"/>
                  <a:ext cx="2209680" cy="304560"/>
                  <a:chOff x="5639040" y="1980720"/>
                  <a:chExt cx="2209680" cy="3045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56390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943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7467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6324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7086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670572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3429000" y="1980720"/>
                  <a:ext cx="2209680" cy="304560"/>
                  <a:chOff x="3429000" y="1980720"/>
                  <a:chExt cx="2209680" cy="30456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34290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3733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257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4114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876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449568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2" name=""/>
              <p:cNvGrpSpPr/>
              <p:nvPr/>
            </p:nvGrpSpPr>
            <p:grpSpPr>
              <a:xfrm>
                <a:off x="1219320" y="2285640"/>
                <a:ext cx="6629400" cy="304200"/>
                <a:chOff x="1219320" y="2285640"/>
                <a:chExt cx="6629400" cy="304200"/>
              </a:xfrm>
            </p:grpSpPr>
            <p:grpSp>
              <p:nvGrpSpPr>
                <p:cNvPr id="943" name=""/>
                <p:cNvGrpSpPr/>
                <p:nvPr/>
              </p:nvGrpSpPr>
              <p:grpSpPr>
                <a:xfrm>
                  <a:off x="1219320" y="2285640"/>
                  <a:ext cx="2209680" cy="304200"/>
                  <a:chOff x="1219320" y="2285640"/>
                  <a:chExt cx="2209680" cy="30420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12193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524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3048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1905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667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28600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5639040" y="2285640"/>
                  <a:ext cx="2209680" cy="304200"/>
                  <a:chOff x="5639040" y="2285640"/>
                  <a:chExt cx="2209680" cy="30420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>
                    <a:off x="56390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943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7467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324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7086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670572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3429000" y="2285640"/>
                  <a:ext cx="2209680" cy="304200"/>
                  <a:chOff x="3429000" y="2285640"/>
                  <a:chExt cx="2209680" cy="30420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34290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3733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5257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4114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4876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49568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4" name=""/>
              <p:cNvGrpSpPr/>
              <p:nvPr/>
            </p:nvGrpSpPr>
            <p:grpSpPr>
              <a:xfrm>
                <a:off x="1219320" y="2590200"/>
                <a:ext cx="6629400" cy="304560"/>
                <a:chOff x="1219320" y="2590200"/>
                <a:chExt cx="6629400" cy="30456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1219320" y="2590200"/>
                  <a:ext cx="2209680" cy="304560"/>
                  <a:chOff x="1219320" y="2590200"/>
                  <a:chExt cx="2209680" cy="30456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12193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1524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048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905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667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28600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5639040" y="2590200"/>
                  <a:ext cx="2209680" cy="304560"/>
                  <a:chOff x="5639040" y="2590200"/>
                  <a:chExt cx="2209680" cy="30456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56390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5943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7467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6324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7086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670572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3429000" y="2590200"/>
                  <a:ext cx="2209680" cy="304560"/>
                  <a:chOff x="3429000" y="2590200"/>
                  <a:chExt cx="2209680" cy="30456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34290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733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5257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4114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4876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449568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6" name=""/>
              <p:cNvGrpSpPr/>
              <p:nvPr/>
            </p:nvGrpSpPr>
            <p:grpSpPr>
              <a:xfrm>
                <a:off x="1219320" y="2895120"/>
                <a:ext cx="6629400" cy="304560"/>
                <a:chOff x="1219320" y="2895120"/>
                <a:chExt cx="6629400" cy="304560"/>
              </a:xfrm>
            </p:grpSpPr>
            <p:grpSp>
              <p:nvGrpSpPr>
                <p:cNvPr id="987" name=""/>
                <p:cNvGrpSpPr/>
                <p:nvPr/>
              </p:nvGrpSpPr>
              <p:grpSpPr>
                <a:xfrm>
                  <a:off x="1219320" y="2895120"/>
                  <a:ext cx="2209680" cy="304560"/>
                  <a:chOff x="1219320" y="2895120"/>
                  <a:chExt cx="2209680" cy="3045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12193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1524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048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1905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667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28600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5639040" y="2895120"/>
                  <a:ext cx="2209680" cy="304560"/>
                  <a:chOff x="5639040" y="2895120"/>
                  <a:chExt cx="2209680" cy="30456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56390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5943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7467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324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7086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70572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3429000" y="2895120"/>
                  <a:ext cx="2209680" cy="304560"/>
                  <a:chOff x="3429000" y="2895120"/>
                  <a:chExt cx="2209680" cy="30456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34290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733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5257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4114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4876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449568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8" name=""/>
              <p:cNvGrpSpPr/>
              <p:nvPr/>
            </p:nvGrpSpPr>
            <p:grpSpPr>
              <a:xfrm>
                <a:off x="1219320" y="3200040"/>
                <a:ext cx="6629400" cy="304200"/>
                <a:chOff x="1219320" y="3200040"/>
                <a:chExt cx="6629400" cy="304200"/>
              </a:xfrm>
            </p:grpSpPr>
            <p:grpSp>
              <p:nvGrpSpPr>
                <p:cNvPr id="1009" name=""/>
                <p:cNvGrpSpPr/>
                <p:nvPr/>
              </p:nvGrpSpPr>
              <p:grpSpPr>
                <a:xfrm>
                  <a:off x="1219320" y="3200040"/>
                  <a:ext cx="2209680" cy="304200"/>
                  <a:chOff x="1219320" y="3200040"/>
                  <a:chExt cx="2209680" cy="30420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>
                    <a:off x="12193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1524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048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1905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667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28600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5639040" y="3200040"/>
                  <a:ext cx="2209680" cy="304200"/>
                  <a:chOff x="5639040" y="3200040"/>
                  <a:chExt cx="2209680" cy="30420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56390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5943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7467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6324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7086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670572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3" name=""/>
                <p:cNvGrpSpPr/>
                <p:nvPr/>
              </p:nvGrpSpPr>
              <p:grpSpPr>
                <a:xfrm>
                  <a:off x="3429000" y="3200040"/>
                  <a:ext cx="2209680" cy="304200"/>
                  <a:chOff x="3429000" y="3200040"/>
                  <a:chExt cx="2209680" cy="30420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>
                    <a:off x="34290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733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257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114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876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49568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0" name=""/>
              <p:cNvGrpSpPr/>
              <p:nvPr/>
            </p:nvGrpSpPr>
            <p:grpSpPr>
              <a:xfrm>
                <a:off x="1219320" y="3504600"/>
                <a:ext cx="6629400" cy="304560"/>
                <a:chOff x="1219320" y="3504600"/>
                <a:chExt cx="6629400" cy="304560"/>
              </a:xfrm>
            </p:grpSpPr>
            <p:grpSp>
              <p:nvGrpSpPr>
                <p:cNvPr id="1031" name=""/>
                <p:cNvGrpSpPr/>
                <p:nvPr/>
              </p:nvGrpSpPr>
              <p:grpSpPr>
                <a:xfrm>
                  <a:off x="1219320" y="3504600"/>
                  <a:ext cx="2209680" cy="304560"/>
                  <a:chOff x="1219320" y="3504600"/>
                  <a:chExt cx="2209680" cy="30456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12193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524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048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905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667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28600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8" name=""/>
                <p:cNvGrpSpPr/>
                <p:nvPr/>
              </p:nvGrpSpPr>
              <p:grpSpPr>
                <a:xfrm>
                  <a:off x="5639040" y="3504600"/>
                  <a:ext cx="2209680" cy="304560"/>
                  <a:chOff x="5639040" y="3504600"/>
                  <a:chExt cx="2209680" cy="30456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56390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5943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467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324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086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670572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3429000" y="3504600"/>
                  <a:ext cx="2209680" cy="304560"/>
                  <a:chOff x="3429000" y="3504600"/>
                  <a:chExt cx="2209680" cy="30456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34290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733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5257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114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876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49568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2" name=""/>
              <p:cNvGrpSpPr/>
              <p:nvPr/>
            </p:nvGrpSpPr>
            <p:grpSpPr>
              <a:xfrm>
                <a:off x="1219320" y="3809520"/>
                <a:ext cx="6629400" cy="304560"/>
                <a:chOff x="1219320" y="3809520"/>
                <a:chExt cx="6629400" cy="30456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1219320" y="3809520"/>
                  <a:ext cx="2209680" cy="304560"/>
                  <a:chOff x="1219320" y="3809520"/>
                  <a:chExt cx="2209680" cy="30456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12193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1524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048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1905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667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28600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5639040" y="3809520"/>
                  <a:ext cx="2209680" cy="304560"/>
                  <a:chOff x="5639040" y="3809520"/>
                  <a:chExt cx="2209680" cy="3045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56390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5943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467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324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086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670572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3429000" y="3809520"/>
                  <a:ext cx="2209680" cy="304560"/>
                  <a:chOff x="3429000" y="3809520"/>
                  <a:chExt cx="2209680" cy="30456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34290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733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5257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4114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4876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49568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4" name=""/>
              <p:cNvGrpSpPr/>
              <p:nvPr/>
            </p:nvGrpSpPr>
            <p:grpSpPr>
              <a:xfrm>
                <a:off x="1219320" y="4114440"/>
                <a:ext cx="6629400" cy="304200"/>
                <a:chOff x="1219320" y="4114440"/>
                <a:chExt cx="6629400" cy="304200"/>
              </a:xfrm>
            </p:grpSpPr>
            <p:grpSp>
              <p:nvGrpSpPr>
                <p:cNvPr id="1075" name=""/>
                <p:cNvGrpSpPr/>
                <p:nvPr/>
              </p:nvGrpSpPr>
              <p:grpSpPr>
                <a:xfrm>
                  <a:off x="1219320" y="4114440"/>
                  <a:ext cx="2209680" cy="304200"/>
                  <a:chOff x="1219320" y="4114440"/>
                  <a:chExt cx="2209680" cy="30420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12193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1524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048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1905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667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28600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2" name=""/>
                <p:cNvGrpSpPr/>
                <p:nvPr/>
              </p:nvGrpSpPr>
              <p:grpSpPr>
                <a:xfrm>
                  <a:off x="5639040" y="4114440"/>
                  <a:ext cx="2209680" cy="304200"/>
                  <a:chOff x="5639040" y="4114440"/>
                  <a:chExt cx="2209680" cy="30420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>
                    <a:off x="56390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5943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7467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6324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7086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670572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9" name=""/>
                <p:cNvGrpSpPr/>
                <p:nvPr/>
              </p:nvGrpSpPr>
              <p:grpSpPr>
                <a:xfrm>
                  <a:off x="3429000" y="4114440"/>
                  <a:ext cx="2209680" cy="304200"/>
                  <a:chOff x="3429000" y="4114440"/>
                  <a:chExt cx="2209680" cy="30420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>
                    <a:off x="34290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33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5257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14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876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449568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6" name=""/>
              <p:cNvGrpSpPr/>
              <p:nvPr/>
            </p:nvGrpSpPr>
            <p:grpSpPr>
              <a:xfrm>
                <a:off x="1219320" y="4419000"/>
                <a:ext cx="6629400" cy="304560"/>
                <a:chOff x="1219320" y="4419000"/>
                <a:chExt cx="6629400" cy="304560"/>
              </a:xfrm>
            </p:grpSpPr>
            <p:grpSp>
              <p:nvGrpSpPr>
                <p:cNvPr id="1097" name=""/>
                <p:cNvGrpSpPr/>
                <p:nvPr/>
              </p:nvGrpSpPr>
              <p:grpSpPr>
                <a:xfrm>
                  <a:off x="1219320" y="4419000"/>
                  <a:ext cx="2209680" cy="304560"/>
                  <a:chOff x="1219320" y="4419000"/>
                  <a:chExt cx="2209680" cy="30456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12193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1524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048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1905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667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28600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5639040" y="4419000"/>
                  <a:ext cx="2209680" cy="304560"/>
                  <a:chOff x="5639040" y="4419000"/>
                  <a:chExt cx="2209680" cy="3045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>
                    <a:off x="56390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5943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7467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6324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7086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70572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1" name=""/>
                <p:cNvGrpSpPr/>
                <p:nvPr/>
              </p:nvGrpSpPr>
              <p:grpSpPr>
                <a:xfrm>
                  <a:off x="3429000" y="4419000"/>
                  <a:ext cx="2209680" cy="304560"/>
                  <a:chOff x="3429000" y="4419000"/>
                  <a:chExt cx="2209680" cy="304560"/>
                </a:xfrm>
              </p:grpSpPr>
              <p:sp>
                <p:nvSpPr>
                  <p:cNvPr id="1112" name=""/>
                  <p:cNvSpPr/>
                  <p:nvPr/>
                </p:nvSpPr>
                <p:spPr>
                  <a:xfrm>
                    <a:off x="34290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3733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5257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114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876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9568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8" name=""/>
              <p:cNvGrpSpPr/>
              <p:nvPr/>
            </p:nvGrpSpPr>
            <p:grpSpPr>
              <a:xfrm>
                <a:off x="1219320" y="4723920"/>
                <a:ext cx="6629400" cy="304560"/>
                <a:chOff x="1219320" y="4723920"/>
                <a:chExt cx="6629400" cy="304560"/>
              </a:xfrm>
            </p:grpSpPr>
            <p:grpSp>
              <p:nvGrpSpPr>
                <p:cNvPr id="1119" name=""/>
                <p:cNvGrpSpPr/>
                <p:nvPr/>
              </p:nvGrpSpPr>
              <p:grpSpPr>
                <a:xfrm>
                  <a:off x="1219320" y="4723920"/>
                  <a:ext cx="2209680" cy="304560"/>
                  <a:chOff x="1219320" y="4723920"/>
                  <a:chExt cx="2209680" cy="30456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>
                    <a:off x="12193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1524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048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1905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667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28600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6" name=""/>
                <p:cNvGrpSpPr/>
                <p:nvPr/>
              </p:nvGrpSpPr>
              <p:grpSpPr>
                <a:xfrm>
                  <a:off x="5639040" y="4723920"/>
                  <a:ext cx="2209680" cy="304560"/>
                  <a:chOff x="5639040" y="4723920"/>
                  <a:chExt cx="2209680" cy="30456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>
                    <a:off x="56390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5943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7467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324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7086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670572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3" name=""/>
                <p:cNvGrpSpPr/>
                <p:nvPr/>
              </p:nvGrpSpPr>
              <p:grpSpPr>
                <a:xfrm>
                  <a:off x="3429000" y="4723920"/>
                  <a:ext cx="2209680" cy="304560"/>
                  <a:chOff x="3429000" y="4723920"/>
                  <a:chExt cx="2209680" cy="30456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>
                    <a:off x="34290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3733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5257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114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876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449568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0" name=""/>
              <p:cNvGrpSpPr/>
              <p:nvPr/>
            </p:nvGrpSpPr>
            <p:grpSpPr>
              <a:xfrm>
                <a:off x="1219320" y="1371240"/>
                <a:ext cx="6629400" cy="304200"/>
                <a:chOff x="1219320" y="1371240"/>
                <a:chExt cx="6629400" cy="304200"/>
              </a:xfrm>
            </p:grpSpPr>
            <p:grpSp>
              <p:nvGrpSpPr>
                <p:cNvPr id="1141" name=""/>
                <p:cNvGrpSpPr/>
                <p:nvPr/>
              </p:nvGrpSpPr>
              <p:grpSpPr>
                <a:xfrm>
                  <a:off x="1219320" y="1371240"/>
                  <a:ext cx="2209680" cy="304200"/>
                  <a:chOff x="1219320" y="1371240"/>
                  <a:chExt cx="2209680" cy="30420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12193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1524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3048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1905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667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28600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8" name=""/>
                <p:cNvGrpSpPr/>
                <p:nvPr/>
              </p:nvGrpSpPr>
              <p:grpSpPr>
                <a:xfrm>
                  <a:off x="5639040" y="1371240"/>
                  <a:ext cx="2209680" cy="304200"/>
                  <a:chOff x="5639040" y="1371240"/>
                  <a:chExt cx="2209680" cy="30420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56390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943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7467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6324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7086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670572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5" name=""/>
                <p:cNvGrpSpPr/>
                <p:nvPr/>
              </p:nvGrpSpPr>
              <p:grpSpPr>
                <a:xfrm>
                  <a:off x="3429000" y="1371240"/>
                  <a:ext cx="2209680" cy="304200"/>
                  <a:chOff x="3429000" y="1371240"/>
                  <a:chExt cx="2209680" cy="304200"/>
                </a:xfrm>
              </p:grpSpPr>
              <p:sp>
                <p:nvSpPr>
                  <p:cNvPr id="1156" name=""/>
                  <p:cNvSpPr/>
                  <p:nvPr/>
                </p:nvSpPr>
                <p:spPr>
                  <a:xfrm>
                    <a:off x="34290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3733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257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4114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4876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49568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2" name=""/>
              <p:cNvGrpSpPr/>
              <p:nvPr/>
            </p:nvGrpSpPr>
            <p:grpSpPr>
              <a:xfrm>
                <a:off x="1219320" y="1066680"/>
                <a:ext cx="6629400" cy="304560"/>
                <a:chOff x="1219320" y="1066680"/>
                <a:chExt cx="6629400" cy="304560"/>
              </a:xfrm>
            </p:grpSpPr>
            <p:grpSp>
              <p:nvGrpSpPr>
                <p:cNvPr id="1163" name=""/>
                <p:cNvGrpSpPr/>
                <p:nvPr/>
              </p:nvGrpSpPr>
              <p:grpSpPr>
                <a:xfrm>
                  <a:off x="1219320" y="1066680"/>
                  <a:ext cx="2209680" cy="304560"/>
                  <a:chOff x="1219320" y="1066680"/>
                  <a:chExt cx="2209680" cy="30456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>
                    <a:off x="12193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1524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048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1905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667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28600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0" name=""/>
                <p:cNvGrpSpPr/>
                <p:nvPr/>
              </p:nvGrpSpPr>
              <p:grpSpPr>
                <a:xfrm>
                  <a:off x="5639040" y="1066680"/>
                  <a:ext cx="2209680" cy="304560"/>
                  <a:chOff x="5639040" y="1066680"/>
                  <a:chExt cx="2209680" cy="304560"/>
                </a:xfrm>
              </p:grpSpPr>
              <p:sp>
                <p:nvSpPr>
                  <p:cNvPr id="1171" name=""/>
                  <p:cNvSpPr/>
                  <p:nvPr/>
                </p:nvSpPr>
                <p:spPr>
                  <a:xfrm>
                    <a:off x="56390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43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7467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6324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7086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70572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7" name=""/>
                <p:cNvGrpSpPr/>
                <p:nvPr/>
              </p:nvGrpSpPr>
              <p:grpSpPr>
                <a:xfrm>
                  <a:off x="3429000" y="1066680"/>
                  <a:ext cx="2209680" cy="304560"/>
                  <a:chOff x="3429000" y="1066680"/>
                  <a:chExt cx="2209680" cy="3045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34290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733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5257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4114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876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449568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4" name=""/>
            <p:cNvGrpSpPr/>
            <p:nvPr/>
          </p:nvGrpSpPr>
          <p:grpSpPr>
            <a:xfrm>
              <a:off x="3733920" y="3252600"/>
              <a:ext cx="374400" cy="318600"/>
              <a:chOff x="3733920" y="3252600"/>
              <a:chExt cx="374400" cy="318600"/>
            </a:xfrm>
          </p:grpSpPr>
          <p:sp>
            <p:nvSpPr>
              <p:cNvPr id="1185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3733920" y="2935080"/>
              <a:ext cx="374400" cy="317160"/>
              <a:chOff x="3733920" y="2935080"/>
              <a:chExt cx="374400" cy="317160"/>
            </a:xfrm>
          </p:grpSpPr>
          <p:sp>
            <p:nvSpPr>
              <p:cNvPr id="1189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3733920" y="2617560"/>
              <a:ext cx="374400" cy="317160"/>
              <a:chOff x="3733920" y="2617560"/>
              <a:chExt cx="374400" cy="317160"/>
            </a:xfrm>
          </p:grpSpPr>
          <p:sp>
            <p:nvSpPr>
              <p:cNvPr id="1193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524240" y="1371240"/>
              <a:ext cx="755280" cy="317160"/>
              <a:chOff x="1524240" y="1371240"/>
              <a:chExt cx="755280" cy="317160"/>
            </a:xfrm>
          </p:grpSpPr>
          <p:grpSp>
            <p:nvGrpSpPr>
              <p:cNvPr id="1197" name=""/>
              <p:cNvGrpSpPr/>
              <p:nvPr/>
            </p:nvGrpSpPr>
            <p:grpSpPr>
              <a:xfrm>
                <a:off x="1905120" y="1371240"/>
                <a:ext cx="374400" cy="317160"/>
                <a:chOff x="1905120" y="1371240"/>
                <a:chExt cx="374400" cy="31716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190512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1524240" y="1371240"/>
                <a:ext cx="375840" cy="317160"/>
                <a:chOff x="1524240" y="1371240"/>
                <a:chExt cx="375840" cy="31716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H="1"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5" name=""/>
            <p:cNvGrpSpPr/>
            <p:nvPr/>
          </p:nvGrpSpPr>
          <p:grpSpPr>
            <a:xfrm>
              <a:off x="3733920" y="3492360"/>
              <a:ext cx="374400" cy="317160"/>
              <a:chOff x="3733920" y="3492360"/>
              <a:chExt cx="374400" cy="317160"/>
            </a:xfrm>
          </p:grpSpPr>
          <p:sp>
            <p:nvSpPr>
              <p:cNvPr id="1206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3733920" y="1981080"/>
              <a:ext cx="374400" cy="317160"/>
              <a:chOff x="3733920" y="1981080"/>
              <a:chExt cx="374400" cy="317160"/>
            </a:xfrm>
          </p:grpSpPr>
          <p:sp>
            <p:nvSpPr>
              <p:cNvPr id="1210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3733920" y="2298600"/>
              <a:ext cx="374400" cy="318600"/>
              <a:chOff x="3733920" y="2298600"/>
              <a:chExt cx="374400" cy="318600"/>
            </a:xfrm>
          </p:grpSpPr>
          <p:sp>
            <p:nvSpPr>
              <p:cNvPr id="1214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943960" y="1371240"/>
              <a:ext cx="761040" cy="1536480"/>
              <a:chOff x="5943960" y="1371240"/>
              <a:chExt cx="761040" cy="15364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5943960" y="2285640"/>
                <a:ext cx="377280" cy="317160"/>
                <a:chOff x="5943960" y="2285640"/>
                <a:chExt cx="377280" cy="31716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H="1"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5943960" y="1981080"/>
                <a:ext cx="377280" cy="317160"/>
                <a:chOff x="5943960" y="1981080"/>
                <a:chExt cx="377280" cy="3171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5943960" y="1676160"/>
                <a:ext cx="377280" cy="317160"/>
                <a:chOff x="5943960" y="1676160"/>
                <a:chExt cx="377280" cy="31716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H="1"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5943960" y="1371240"/>
                <a:ext cx="377280" cy="317160"/>
                <a:chOff x="5943960" y="1371240"/>
                <a:chExt cx="377280" cy="31716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6327720" y="1371240"/>
                <a:ext cx="377280" cy="317160"/>
                <a:chOff x="6327720" y="1371240"/>
                <a:chExt cx="377280" cy="31716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H="1"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5943960" y="2590560"/>
                <a:ext cx="377280" cy="317160"/>
                <a:chOff x="5943960" y="2590560"/>
                <a:chExt cx="377280" cy="3171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2" name=""/>
            <p:cNvGrpSpPr/>
            <p:nvPr/>
          </p:nvGrpSpPr>
          <p:grpSpPr>
            <a:xfrm>
              <a:off x="3054600" y="3504960"/>
              <a:ext cx="374400" cy="317160"/>
              <a:chOff x="3054600" y="3504960"/>
              <a:chExt cx="374400" cy="317160"/>
            </a:xfrm>
          </p:grpSpPr>
          <p:sp>
            <p:nvSpPr>
              <p:cNvPr id="1243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3429000" y="3504960"/>
              <a:ext cx="374400" cy="317160"/>
              <a:chOff x="3429000" y="3504960"/>
              <a:chExt cx="374400" cy="317160"/>
            </a:xfrm>
          </p:grpSpPr>
          <p:sp>
            <p:nvSpPr>
              <p:cNvPr id="1247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342900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4953240" y="2666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362320" y="3276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435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19810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2438640" y="2285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43864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2444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15238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438640" y="419076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74356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198108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21337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337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12444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1523880" y="36572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438640" y="259020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195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152388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43864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38640" y="388584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4356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198108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28195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12189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62320" y="1981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438640" y="2133360"/>
              <a:ext cx="2590920" cy="685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438640" y="2133360"/>
              <a:ext cx="26668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029560" y="2133360"/>
              <a:ext cx="0" cy="609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2514600" y="5105520"/>
            <a:ext cx="4876920" cy="662400"/>
            <a:chOff x="2514600" y="5105520"/>
            <a:chExt cx="4876920" cy="662400"/>
          </a:xfrm>
        </p:grpSpPr>
        <p:sp>
          <p:nvSpPr>
            <p:cNvPr id="1279" name=""/>
            <p:cNvSpPr/>
            <p:nvPr/>
          </p:nvSpPr>
          <p:spPr>
            <a:xfrm>
              <a:off x="2514600" y="52578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(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+ (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514600" y="51055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3657600" y="5257800"/>
              <a:ext cx="2438640" cy="457200"/>
              <a:chOff x="3657600" y="5257800"/>
              <a:chExt cx="2438640" cy="457200"/>
            </a:xfrm>
          </p:grpSpPr>
          <p:sp>
            <p:nvSpPr>
              <p:cNvPr id="1282" name=""/>
              <p:cNvSpPr/>
              <p:nvPr/>
            </p:nvSpPr>
            <p:spPr>
              <a:xfrm>
                <a:off x="3657600" y="5486400"/>
                <a:ext cx="7632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3733920" y="5257800"/>
                <a:ext cx="152280" cy="4572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886200" y="5257800"/>
                <a:ext cx="221004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514600" y="5943600"/>
            <a:ext cx="4876920" cy="510120"/>
            <a:chOff x="2514600" y="5943600"/>
            <a:chExt cx="4876920" cy="510120"/>
          </a:xfrm>
        </p:grpSpPr>
        <p:sp>
          <p:nvSpPr>
            <p:cNvPr id="1287" name=""/>
            <p:cNvSpPr/>
            <p:nvPr/>
          </p:nvSpPr>
          <p:spPr>
            <a:xfrm>
              <a:off x="2514600" y="59436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  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  +   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384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25780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0958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0:44:34Z</dcterms:created>
  <dc:creator>Соснин Петр Иванович</dc:creator>
  <dc:description/>
  <dc:language>en-US</dc:language>
  <cp:lastModifiedBy>Валерий Г. Костин</cp:lastModifiedBy>
  <cp:lastPrinted>2002-02-17T06:12:22Z</cp:lastPrinted>
  <dcterms:modified xsi:type="dcterms:W3CDTF">2002-12-12T13:21:38Z</dcterms:modified>
  <cp:revision>48</cp:revision>
  <dc:subject/>
  <dc:title>ИСКУССТВЕННЫЙ  ИНТЕЛЛЕКТ</dc:title>
</cp:coreProperties>
</file>