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14E5-BB1C-4434-8F64-10D43D6CE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F919-89B8-4C52-87B9-3AEF2A7D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6B9A-E8A3-413C-A9F1-BFEF61461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7DA3-7083-49F6-BE5F-D54160BC2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C5EC-111E-46F7-AC7E-35CAE0F2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1DF9-06F1-4935-9BB6-2B2100C1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468D-7558-4CED-B469-8970586D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D1D3-E524-4641-A60F-8E89E811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4E30-4F44-4127-B249-D79DD0CA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F484-FF0F-47F9-91CE-20A92F6F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E354-EB1B-499C-BD36-146A3264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9B27-ABD5-478A-B624-91E06491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B83A-FD25-4AB3-B71D-C217BE2B26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33520" y="1295280"/>
            <a:ext cx="8305200" cy="838440"/>
            <a:chOff x="533520" y="1295280"/>
            <a:chExt cx="83052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1172160" y="1295280"/>
              <a:ext cx="1916280" cy="838440"/>
              <a:chOff x="1172160" y="1295280"/>
              <a:chExt cx="1916280" cy="838440"/>
            </a:xfrm>
          </p:grpSpPr>
          <p:sp>
            <p:nvSpPr>
              <p:cNvPr id="47" name=""/>
              <p:cNvSpPr/>
              <p:nvPr/>
            </p:nvSpPr>
            <p:spPr>
              <a:xfrm>
                <a:off x="117216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249920" y="1371600"/>
                <a:ext cx="17582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Датчики и преобразователи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3727440" y="1295280"/>
              <a:ext cx="1916280" cy="838440"/>
              <a:chOff x="3727440" y="1295280"/>
              <a:chExt cx="1916280" cy="838440"/>
            </a:xfrm>
          </p:grpSpPr>
          <p:sp>
            <p:nvSpPr>
              <p:cNvPr id="50" name=""/>
              <p:cNvSpPr/>
              <p:nvPr/>
            </p:nvSpPr>
            <p:spPr>
              <a:xfrm>
                <a:off x="3727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807360" y="1371600"/>
                <a:ext cx="1756440" cy="3373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обработк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283440" y="1295280"/>
              <a:ext cx="1916280" cy="838440"/>
              <a:chOff x="6283440" y="1295280"/>
              <a:chExt cx="1916280" cy="838440"/>
            </a:xfrm>
          </p:grpSpPr>
          <p:sp>
            <p:nvSpPr>
              <p:cNvPr id="53" name=""/>
              <p:cNvSpPr/>
              <p:nvPr/>
            </p:nvSpPr>
            <p:spPr>
              <a:xfrm>
                <a:off x="6283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63360" y="1371600"/>
                <a:ext cx="17564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лассифицирование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533520" y="1447920"/>
              <a:ext cx="638280" cy="533160"/>
              <a:chOff x="533520" y="1447920"/>
              <a:chExt cx="638280" cy="533160"/>
            </a:xfrm>
          </p:grpSpPr>
          <p:sp>
            <p:nvSpPr>
              <p:cNvPr id="56" name=""/>
              <p:cNvSpPr/>
              <p:nvPr/>
            </p:nvSpPr>
            <p:spPr>
              <a:xfrm>
                <a:off x="533520" y="144792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33520" y="160020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3520" y="19810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5644440" y="1447920"/>
              <a:ext cx="638640" cy="533160"/>
              <a:chOff x="5644440" y="1447920"/>
              <a:chExt cx="638640" cy="533160"/>
            </a:xfrm>
          </p:grpSpPr>
          <p:sp>
            <p:nvSpPr>
              <p:cNvPr id="60" name=""/>
              <p:cNvSpPr/>
              <p:nvPr/>
            </p:nvSpPr>
            <p:spPr>
              <a:xfrm>
                <a:off x="5644440" y="144792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644440" y="160020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644440" y="198108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3088800" y="1523880"/>
              <a:ext cx="638280" cy="533160"/>
              <a:chOff x="3088800" y="1523880"/>
              <a:chExt cx="638280" cy="533160"/>
            </a:xfrm>
          </p:grpSpPr>
          <p:sp>
            <p:nvSpPr>
              <p:cNvPr id="64" name=""/>
              <p:cNvSpPr/>
              <p:nvPr/>
            </p:nvSpPr>
            <p:spPr>
              <a:xfrm>
                <a:off x="3088800" y="15238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88800" y="167616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088800" y="205704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8200080" y="1676520"/>
              <a:ext cx="6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838080" y="2514600"/>
            <a:ext cx="76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ЦИРОРВАТЬ (ОБУЧАЮЩЕЕ МНОЖЕСТВО,  ОПИСАНИЕ,  ПРАВИЛО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600200" y="3581280"/>
            <a:ext cx="5105520" cy="2667240"/>
            <a:chOff x="1600200" y="3581280"/>
            <a:chExt cx="5105520" cy="2667240"/>
          </a:xfrm>
        </p:grpSpPr>
        <p:grpSp>
          <p:nvGrpSpPr>
            <p:cNvPr id="70" name=""/>
            <p:cNvGrpSpPr/>
            <p:nvPr/>
          </p:nvGrpSpPr>
          <p:grpSpPr>
            <a:xfrm>
              <a:off x="2133720" y="3962520"/>
              <a:ext cx="4572000" cy="380880"/>
              <a:chOff x="2133720" y="3962520"/>
              <a:chExt cx="4572000" cy="380880"/>
            </a:xfrm>
          </p:grpSpPr>
          <p:sp>
            <p:nvSpPr>
              <p:cNvPr id="71" name=""/>
              <p:cNvSpPr/>
              <p:nvPr/>
            </p:nvSpPr>
            <p:spPr>
              <a:xfrm>
                <a:off x="2133720" y="3962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2133720" y="3962520"/>
                <a:ext cx="838080" cy="380880"/>
                <a:chOff x="2133720" y="3962520"/>
                <a:chExt cx="838080" cy="3808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213372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21004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2971800" y="3962520"/>
                <a:ext cx="838080" cy="380880"/>
                <a:chOff x="2971800" y="3962520"/>
                <a:chExt cx="838080" cy="3808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97180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04812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495680" y="3962520"/>
                <a:ext cx="838080" cy="380880"/>
                <a:chOff x="4495680" y="3962520"/>
                <a:chExt cx="838080" cy="3808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44956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5720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867280" y="3962520"/>
                <a:ext cx="838080" cy="380880"/>
                <a:chOff x="5867280" y="3962520"/>
                <a:chExt cx="838080" cy="3808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8672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9436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" name=""/>
            <p:cNvGrpSpPr/>
            <p:nvPr/>
          </p:nvGrpSpPr>
          <p:grpSpPr>
            <a:xfrm>
              <a:off x="2133720" y="4343400"/>
              <a:ext cx="4572000" cy="380880"/>
              <a:chOff x="2133720" y="4343400"/>
              <a:chExt cx="4572000" cy="380880"/>
            </a:xfrm>
          </p:grpSpPr>
          <p:sp>
            <p:nvSpPr>
              <p:cNvPr id="85" name=""/>
              <p:cNvSpPr/>
              <p:nvPr/>
            </p:nvSpPr>
            <p:spPr>
              <a:xfrm>
                <a:off x="2133720" y="4343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2133720" y="4343400"/>
                <a:ext cx="838080" cy="380880"/>
                <a:chOff x="2133720" y="4343400"/>
                <a:chExt cx="838080" cy="3808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3372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21004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2971800" y="4343400"/>
                <a:ext cx="838080" cy="380880"/>
                <a:chOff x="2971800" y="4343400"/>
                <a:chExt cx="838080" cy="3808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97180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04812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495680" y="4343400"/>
                <a:ext cx="838080" cy="380880"/>
                <a:chOff x="4495680" y="4343400"/>
                <a:chExt cx="838080" cy="3808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4956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5720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5867280" y="4343400"/>
                <a:ext cx="838080" cy="380880"/>
                <a:chOff x="5867280" y="4343400"/>
                <a:chExt cx="838080" cy="3808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58672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9436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" name=""/>
            <p:cNvGrpSpPr/>
            <p:nvPr/>
          </p:nvGrpSpPr>
          <p:grpSpPr>
            <a:xfrm>
              <a:off x="2133720" y="4724280"/>
              <a:ext cx="4572000" cy="380880"/>
              <a:chOff x="2133720" y="4724280"/>
              <a:chExt cx="4572000" cy="380880"/>
            </a:xfrm>
          </p:grpSpPr>
          <p:sp>
            <p:nvSpPr>
              <p:cNvPr id="99" name=""/>
              <p:cNvSpPr/>
              <p:nvPr/>
            </p:nvSpPr>
            <p:spPr>
              <a:xfrm>
                <a:off x="2133720" y="4724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2133720" y="4724280"/>
                <a:ext cx="838080" cy="380880"/>
                <a:chOff x="2133720" y="4724280"/>
                <a:chExt cx="838080" cy="380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13372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21004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971800" y="4724280"/>
                <a:ext cx="838080" cy="380880"/>
                <a:chOff x="2971800" y="4724280"/>
                <a:chExt cx="838080" cy="380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97180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04812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495680" y="4724280"/>
                <a:ext cx="838080" cy="380880"/>
                <a:chOff x="4495680" y="4724280"/>
                <a:chExt cx="838080" cy="380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4956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5720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867280" y="4724280"/>
                <a:ext cx="838080" cy="380880"/>
                <a:chOff x="5867280" y="4724280"/>
                <a:chExt cx="838080" cy="380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8672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9436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" name=""/>
            <p:cNvGrpSpPr/>
            <p:nvPr/>
          </p:nvGrpSpPr>
          <p:grpSpPr>
            <a:xfrm>
              <a:off x="2133720" y="5105520"/>
              <a:ext cx="4572000" cy="380880"/>
              <a:chOff x="2133720" y="5105520"/>
              <a:chExt cx="4572000" cy="380880"/>
            </a:xfrm>
          </p:grpSpPr>
          <p:sp>
            <p:nvSpPr>
              <p:cNvPr id="113" name=""/>
              <p:cNvSpPr/>
              <p:nvPr/>
            </p:nvSpPr>
            <p:spPr>
              <a:xfrm>
                <a:off x="2133720" y="5105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2133720" y="5105520"/>
                <a:ext cx="838080" cy="380880"/>
                <a:chOff x="2133720" y="5105520"/>
                <a:chExt cx="838080" cy="3808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213372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21004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2971800" y="5105520"/>
                <a:ext cx="838080" cy="380880"/>
                <a:chOff x="2971800" y="5105520"/>
                <a:chExt cx="838080" cy="3808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97180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04812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495680" y="5105520"/>
                <a:ext cx="838080" cy="380880"/>
                <a:chOff x="4495680" y="5105520"/>
                <a:chExt cx="838080" cy="3808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4956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5720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867280" y="5105520"/>
                <a:ext cx="838080" cy="380880"/>
                <a:chOff x="5867280" y="5105520"/>
                <a:chExt cx="838080" cy="3808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8672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9436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" name=""/>
            <p:cNvGrpSpPr/>
            <p:nvPr/>
          </p:nvGrpSpPr>
          <p:grpSpPr>
            <a:xfrm>
              <a:off x="2133720" y="5486400"/>
              <a:ext cx="4572000" cy="380880"/>
              <a:chOff x="2133720" y="5486400"/>
              <a:chExt cx="4572000" cy="380880"/>
            </a:xfrm>
          </p:grpSpPr>
          <p:sp>
            <p:nvSpPr>
              <p:cNvPr id="127" name=""/>
              <p:cNvSpPr/>
              <p:nvPr/>
            </p:nvSpPr>
            <p:spPr>
              <a:xfrm>
                <a:off x="2133720" y="5486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2133720" y="5486400"/>
                <a:ext cx="838080" cy="380880"/>
                <a:chOff x="2133720" y="5486400"/>
                <a:chExt cx="838080" cy="3808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13372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210040" y="5486400"/>
                  <a:ext cx="761760" cy="3049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2971800" y="5486400"/>
                <a:ext cx="838080" cy="380880"/>
                <a:chOff x="2971800" y="5486400"/>
                <a:chExt cx="838080" cy="3808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97180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04812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495680" y="5486400"/>
                <a:ext cx="838080" cy="380880"/>
                <a:chOff x="4495680" y="5486400"/>
                <a:chExt cx="838080" cy="380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4956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5720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867280" y="5486400"/>
                <a:ext cx="838080" cy="380880"/>
                <a:chOff x="5867280" y="5486400"/>
                <a:chExt cx="838080" cy="380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8672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9436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,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" name=""/>
            <p:cNvGrpSpPr/>
            <p:nvPr/>
          </p:nvGrpSpPr>
          <p:grpSpPr>
            <a:xfrm>
              <a:off x="2133720" y="3581280"/>
              <a:ext cx="4572000" cy="380880"/>
              <a:chOff x="2133720" y="3581280"/>
              <a:chExt cx="4572000" cy="380880"/>
            </a:xfrm>
          </p:grpSpPr>
          <p:sp>
            <p:nvSpPr>
              <p:cNvPr id="141" name=""/>
              <p:cNvSpPr/>
              <p:nvPr/>
            </p:nvSpPr>
            <p:spPr>
              <a:xfrm>
                <a:off x="2133720" y="3581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2133720" y="3581280"/>
                <a:ext cx="838080" cy="380880"/>
                <a:chOff x="2133720" y="3581280"/>
                <a:chExt cx="838080" cy="3808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13372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21004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2971800" y="3581280"/>
                <a:ext cx="838080" cy="380880"/>
                <a:chOff x="2971800" y="3581280"/>
                <a:chExt cx="838080" cy="3808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97180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04812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495680" y="3581280"/>
                <a:ext cx="838080" cy="380880"/>
                <a:chOff x="4495680" y="3581280"/>
                <a:chExt cx="838080" cy="3808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4956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5720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867280" y="3581280"/>
                <a:ext cx="838080" cy="380880"/>
                <a:chOff x="5867280" y="3581280"/>
                <a:chExt cx="838080" cy="3808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8672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9436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1600200" y="3581280"/>
              <a:ext cx="533520" cy="2667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600200" y="3962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6002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600200" y="4724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6002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600200" y="5486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133720" y="5867280"/>
              <a:ext cx="4572000" cy="380880"/>
              <a:chOff x="2133720" y="5867280"/>
              <a:chExt cx="4572000" cy="380880"/>
            </a:xfrm>
          </p:grpSpPr>
          <p:sp>
            <p:nvSpPr>
              <p:cNvPr id="161" name=""/>
              <p:cNvSpPr/>
              <p:nvPr/>
            </p:nvSpPr>
            <p:spPr>
              <a:xfrm>
                <a:off x="2133720" y="5867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133720" y="5867280"/>
                <a:ext cx="838080" cy="380880"/>
                <a:chOff x="2133720" y="5867280"/>
                <a:chExt cx="838080" cy="3808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13372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21004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971800" y="5867280"/>
                <a:ext cx="838080" cy="380880"/>
                <a:chOff x="2971800" y="5867280"/>
                <a:chExt cx="838080" cy="3808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97180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04812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495680" y="5867280"/>
                <a:ext cx="838080" cy="380880"/>
                <a:chOff x="4495680" y="5867280"/>
                <a:chExt cx="838080" cy="3808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4956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5720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867280" y="5867280"/>
                <a:ext cx="838080" cy="380880"/>
                <a:chOff x="5867280" y="5867280"/>
                <a:chExt cx="838080" cy="3808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8672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9436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" name=""/>
            <p:cNvSpPr/>
            <p:nvPr/>
          </p:nvSpPr>
          <p:spPr>
            <a:xfrm flipH="1">
              <a:off x="1600200" y="5867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H="1">
            <a:off x="3276720" y="2895480"/>
            <a:ext cx="914400" cy="5335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53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БАЗОВЫЕ ЗАДАЧ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3520" y="281952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ффективность и 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477120" y="320040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ррекция классифик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62520" y="990720"/>
            <a:ext cx="1676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Априорная классифика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77120" y="175248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Априорный словарь призна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38080" y="129528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Определить полный перечень призна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752480" y="480060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ачество распозна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00800" y="464832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ыбор алгорит ма распозна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09880" y="571500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Рабочие словари признаков и класс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2819160" y="22860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200400" y="159984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38680" y="1676520"/>
            <a:ext cx="9907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228600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6933960" y="40384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486040" y="5181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2895480" y="5562360"/>
            <a:ext cx="6098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1676520" y="365724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666880" y="76212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Грамматическое распознав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219320" y="1447920"/>
            <a:ext cx="2057400" cy="1828800"/>
            <a:chOff x="1219320" y="1447920"/>
            <a:chExt cx="2057400" cy="1828800"/>
          </a:xfrm>
        </p:grpSpPr>
        <p:sp>
          <p:nvSpPr>
            <p:cNvPr id="398" name=""/>
            <p:cNvSpPr/>
            <p:nvPr/>
          </p:nvSpPr>
          <p:spPr>
            <a:xfrm>
              <a:off x="1219320" y="1447920"/>
              <a:ext cx="2057400" cy="18288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76520" y="2057760"/>
              <a:ext cx="228600" cy="228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14600" y="2057760"/>
              <a:ext cx="228600" cy="228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33720" y="2133720"/>
              <a:ext cx="763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28800" y="28958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1676520" y="3809880"/>
            <a:ext cx="6400800" cy="2210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Лицо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)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черты лиц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олов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нутри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олова(): окружность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Черты лица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,z):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глаз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нос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 рот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z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; =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и (и( над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(x,y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над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,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лаз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z)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точ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x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точ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y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слева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Нос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ямоугольник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Рот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отрезок_прямой(), горизонтальный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733920" y="1447920"/>
            <a:ext cx="4952880" cy="1523880"/>
            <a:chOff x="3733920" y="1447920"/>
            <a:chExt cx="4952880" cy="1523880"/>
          </a:xfrm>
        </p:grpSpPr>
        <p:sp>
          <p:nvSpPr>
            <p:cNvPr id="405" name=""/>
            <p:cNvSpPr/>
            <p:nvPr/>
          </p:nvSpPr>
          <p:spPr>
            <a:xfrm>
              <a:off x="3809880" y="1447920"/>
              <a:ext cx="457200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86200" y="1523880"/>
              <a:ext cx="4419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ипы объектов : точка, прямоугольник, отрезок прямой , окружнос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33920" y="2362320"/>
              <a:ext cx="49528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62520" y="2514600"/>
              <a:ext cx="457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едикаты : Внутри, над, слева, горизонтальный, 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860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838080" y="1600200"/>
            <a:ext cx="1523880" cy="2211840"/>
            <a:chOff x="838080" y="1600200"/>
            <a:chExt cx="1523880" cy="2211840"/>
          </a:xfrm>
        </p:grpSpPr>
        <p:sp>
          <p:nvSpPr>
            <p:cNvPr id="414" name=""/>
            <p:cNvSpPr/>
            <p:nvPr/>
          </p:nvSpPr>
          <p:spPr>
            <a:xfrm>
              <a:off x="914400" y="1676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38080" y="190476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914400" y="22856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838080" y="24379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066680" y="25142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371600" y="16002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43000" y="1828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47560" y="213336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838080" y="2971440"/>
              <a:ext cx="304920" cy="304560"/>
              <a:chOff x="838080" y="2971440"/>
              <a:chExt cx="304920" cy="304560"/>
            </a:xfrm>
          </p:grpSpPr>
          <p:sp>
            <p:nvSpPr>
              <p:cNvPr id="423" name=""/>
              <p:cNvSpPr/>
              <p:nvPr/>
            </p:nvSpPr>
            <p:spPr>
              <a:xfrm flipV="1">
                <a:off x="838080" y="29714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38080" y="29714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1676160" y="350496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1676160" y="2971440"/>
              <a:ext cx="381240" cy="459360"/>
              <a:chOff x="1676160" y="2971440"/>
              <a:chExt cx="381240" cy="45936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1752480" y="2971440"/>
                <a:ext cx="304920" cy="228240"/>
                <a:chOff x="1752480" y="2971440"/>
                <a:chExt cx="304920" cy="2282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1752480" y="297144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057400" y="297144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0" name=""/>
              <p:cNvSpPr/>
              <p:nvPr/>
            </p:nvSpPr>
            <p:spPr>
              <a:xfrm>
                <a:off x="1676160" y="3123720"/>
                <a:ext cx="30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1752120" y="3504960"/>
              <a:ext cx="304920" cy="304560"/>
              <a:chOff x="1752120" y="3504960"/>
              <a:chExt cx="304920" cy="304560"/>
            </a:xfrm>
          </p:grpSpPr>
          <p:sp>
            <p:nvSpPr>
              <p:cNvPr id="432" name=""/>
              <p:cNvSpPr/>
              <p:nvPr/>
            </p:nvSpPr>
            <p:spPr>
              <a:xfrm>
                <a:off x="2057040" y="35049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1752120" y="3809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838080" y="3504960"/>
              <a:ext cx="304920" cy="304560"/>
              <a:chOff x="838080" y="3504960"/>
              <a:chExt cx="304920" cy="304560"/>
            </a:xfrm>
          </p:grpSpPr>
          <p:sp>
            <p:nvSpPr>
              <p:cNvPr id="435" name=""/>
              <p:cNvSpPr/>
              <p:nvPr/>
            </p:nvSpPr>
            <p:spPr>
              <a:xfrm>
                <a:off x="838080" y="35049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38080" y="3809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990360" y="312408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914400" y="350496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3809880" y="1371600"/>
            <a:ext cx="121932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A::=a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F::=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B::=b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G::=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::=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::=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D::=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T::=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6019920" y="2057040"/>
            <a:ext cx="1218960" cy="991080"/>
            <a:chOff x="6019920" y="2057040"/>
            <a:chExt cx="1218960" cy="991080"/>
          </a:xfrm>
        </p:grpSpPr>
        <p:sp>
          <p:nvSpPr>
            <p:cNvPr id="441" name=""/>
            <p:cNvSpPr/>
            <p:nvPr/>
          </p:nvSpPr>
          <p:spPr>
            <a:xfrm>
              <a:off x="601992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2448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3396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238880" y="2057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238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238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933960" y="3048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019920" y="3048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6629040" y="3048120"/>
              <a:ext cx="30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6019920" y="2742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6019920" y="23623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6019920" y="20570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1219320" y="7621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Формальные граммати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9144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1371600"/>
            <a:ext cx="739116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137160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СОБЫТИЯ И ИХ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1752480"/>
            <a:ext cx="52578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появления события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совместного появления событий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и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B|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при условии, что произощло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= Pr(A)* Pr(B|A) = Pr(B)* Pr(A|B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3505320"/>
            <a:ext cx="7391160" cy="289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36576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БАЙЕСОВСКАЯ ЗАДАЧ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038480"/>
            <a:ext cx="4190760" cy="17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Гипотез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 -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,  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ксперимент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ричём известн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0 ,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 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* Pr(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9144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639800" y="2000160"/>
            <a:ext cx="6437160" cy="2114640"/>
            <a:chOff x="1639800" y="2000160"/>
            <a:chExt cx="6437160" cy="2114640"/>
          </a:xfrm>
        </p:grpSpPr>
        <p:grpSp>
          <p:nvGrpSpPr>
            <p:cNvPr id="203" name=""/>
            <p:cNvGrpSpPr/>
            <p:nvPr/>
          </p:nvGrpSpPr>
          <p:grpSpPr>
            <a:xfrm>
              <a:off x="1644480" y="2004840"/>
              <a:ext cx="6427800" cy="2104920"/>
              <a:chOff x="1644480" y="2004840"/>
              <a:chExt cx="6427800" cy="210492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1644480" y="2004840"/>
                <a:ext cx="1434960" cy="701640"/>
                <a:chOff x="1644480" y="2004840"/>
                <a:chExt cx="1434960" cy="7016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71288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4448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079440" y="2004840"/>
                <a:ext cx="3557880" cy="701640"/>
                <a:chOff x="3079440" y="2004840"/>
                <a:chExt cx="3557880" cy="7016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147840" y="20048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079440" y="20048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637320" y="2004840"/>
                <a:ext cx="1434960" cy="701640"/>
                <a:chOff x="6637320" y="2004840"/>
                <a:chExt cx="1434960" cy="7016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70536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63732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644480" y="2706480"/>
                <a:ext cx="1434960" cy="701640"/>
                <a:chOff x="1644480" y="2706480"/>
                <a:chExt cx="1434960" cy="7016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71288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64448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079440" y="2706480"/>
                <a:ext cx="3557880" cy="701640"/>
                <a:chOff x="3079440" y="2706480"/>
                <a:chExt cx="3557880" cy="7016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147840" y="27064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того, что идёт дождь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079440" y="27064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637320" y="2706480"/>
                <a:ext cx="1434960" cy="701640"/>
                <a:chOff x="6637320" y="2706480"/>
                <a:chExt cx="1434960" cy="701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670536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63732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644480" y="3408120"/>
                <a:ext cx="1434960" cy="701640"/>
                <a:chOff x="1644480" y="3408120"/>
                <a:chExt cx="1434960" cy="7016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71288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-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64448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079440" y="3408120"/>
                <a:ext cx="3557880" cy="701640"/>
                <a:chOff x="3079440" y="3408120"/>
                <a:chExt cx="3557880" cy="701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147840" y="34081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– «дождя нет»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079440" y="34081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637320" y="3408120"/>
                <a:ext cx="1434960" cy="701640"/>
                <a:chOff x="6637320" y="3408120"/>
                <a:chExt cx="1434960" cy="701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70536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63732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1639800" y="2000160"/>
              <a:ext cx="6437160" cy="2114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487520" y="1251000"/>
            <a:ext cx="6437160" cy="4921200"/>
            <a:chOff x="1487520" y="1251000"/>
            <a:chExt cx="6437160" cy="4921200"/>
          </a:xfrm>
        </p:grpSpPr>
        <p:grpSp>
          <p:nvGrpSpPr>
            <p:cNvPr id="238" name=""/>
            <p:cNvGrpSpPr/>
            <p:nvPr/>
          </p:nvGrpSpPr>
          <p:grpSpPr>
            <a:xfrm>
              <a:off x="1492200" y="1255680"/>
              <a:ext cx="6427800" cy="4911840"/>
              <a:chOff x="1492200" y="1255680"/>
              <a:chExt cx="6427800" cy="491184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1492200" y="1255680"/>
                <a:ext cx="1434960" cy="701640"/>
                <a:chOff x="1492200" y="1255680"/>
                <a:chExt cx="1434960" cy="7016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56060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49220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2927160" y="1255680"/>
                <a:ext cx="3557880" cy="701640"/>
                <a:chOff x="2927160" y="1255680"/>
                <a:chExt cx="3557880" cy="7016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2995560" y="12556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927160" y="12556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485040" y="1255680"/>
                <a:ext cx="1434960" cy="701640"/>
                <a:chOff x="6485040" y="1255680"/>
                <a:chExt cx="1434960" cy="7016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55308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48504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492200" y="1957320"/>
                <a:ext cx="1434960" cy="701640"/>
                <a:chOff x="1492200" y="1957320"/>
                <a:chExt cx="1434960" cy="7016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56060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9220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927160" y="1957320"/>
                <a:ext cx="3557880" cy="701640"/>
                <a:chOff x="2927160" y="1957320"/>
                <a:chExt cx="3557880" cy="7016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995560" y="19573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927160" y="19573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6485040" y="1957320"/>
                <a:ext cx="1434960" cy="701640"/>
                <a:chOff x="6485040" y="1957320"/>
                <a:chExt cx="1434960" cy="7016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655308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48504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492200" y="2658960"/>
                <a:ext cx="1434960" cy="701640"/>
                <a:chOff x="1492200" y="2658960"/>
                <a:chExt cx="1434960" cy="7016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56060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49220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927160" y="2658960"/>
                <a:ext cx="3557880" cy="701640"/>
                <a:chOff x="2927160" y="2658960"/>
                <a:chExt cx="3557880" cy="7016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2995560" y="265896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927160" y="265896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6485040" y="2658960"/>
                <a:ext cx="1434960" cy="701640"/>
                <a:chOff x="6485040" y="2658960"/>
                <a:chExt cx="1434960" cy="7016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55308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48504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1492200" y="3360600"/>
                <a:ext cx="1434960" cy="701640"/>
                <a:chOff x="1492200" y="3360600"/>
                <a:chExt cx="1434960" cy="7016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156060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49220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927160" y="3360600"/>
                <a:ext cx="3557880" cy="701640"/>
                <a:chOff x="2927160" y="3360600"/>
                <a:chExt cx="3557880" cy="7016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995560" y="336060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ей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927160" y="336060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485040" y="3360600"/>
                <a:ext cx="1434960" cy="701640"/>
                <a:chOff x="6485040" y="3360600"/>
                <a:chExt cx="1434960" cy="70164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55308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48504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1492200" y="4062240"/>
                <a:ext cx="1434960" cy="701640"/>
                <a:chOff x="1492200" y="4062240"/>
                <a:chExt cx="1434960" cy="7016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156060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49220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2927160" y="4062240"/>
                <a:ext cx="3557880" cy="701640"/>
                <a:chOff x="2927160" y="4062240"/>
                <a:chExt cx="3557880" cy="7016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995560" y="40622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927160" y="40622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6485040" y="4062240"/>
                <a:ext cx="1434960" cy="701640"/>
                <a:chOff x="6485040" y="4062240"/>
                <a:chExt cx="1434960" cy="7016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655308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0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48504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492200" y="4763880"/>
                <a:ext cx="1434960" cy="702000"/>
                <a:chOff x="1492200" y="4763880"/>
                <a:chExt cx="1434960" cy="7020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56060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49220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927160" y="4763880"/>
                <a:ext cx="3557880" cy="702000"/>
                <a:chOff x="2927160" y="4763880"/>
                <a:chExt cx="3557880" cy="7020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995560" y="4763880"/>
                  <a:ext cx="342108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927160" y="4763880"/>
                  <a:ext cx="355788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6485040" y="4763880"/>
                <a:ext cx="1434960" cy="702000"/>
                <a:chOff x="6485040" y="4763880"/>
                <a:chExt cx="1434960" cy="702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655308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48504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492200" y="5465880"/>
                <a:ext cx="1434960" cy="701640"/>
                <a:chOff x="1492200" y="5465880"/>
                <a:chExt cx="1434960" cy="7016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56060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49220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927160" y="5465880"/>
                <a:ext cx="3557880" cy="701640"/>
                <a:chOff x="2927160" y="5465880"/>
                <a:chExt cx="3557880" cy="7016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995560" y="54658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пусто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927160" y="54658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6485040" y="5465880"/>
                <a:ext cx="1434960" cy="701640"/>
                <a:chOff x="6485040" y="5465880"/>
                <a:chExt cx="1434960" cy="7016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55308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48504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2" name=""/>
            <p:cNvSpPr/>
            <p:nvPr/>
          </p:nvSpPr>
          <p:spPr>
            <a:xfrm>
              <a:off x="1487520" y="1251000"/>
              <a:ext cx="6437160" cy="4921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240" y="55706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68580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65280" y="1295280"/>
            <a:ext cx="4797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,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2133720"/>
            <a:ext cx="5562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(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)/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+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 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219320" y="3200400"/>
            <a:ext cx="6324480" cy="862920"/>
            <a:chOff x="1219320" y="3200400"/>
            <a:chExt cx="6324480" cy="862920"/>
          </a:xfrm>
        </p:grpSpPr>
        <p:sp>
          <p:nvSpPr>
            <p:cNvPr id="312" name=""/>
            <p:cNvSpPr/>
            <p:nvPr/>
          </p:nvSpPr>
          <p:spPr>
            <a:xfrm>
              <a:off x="1219320" y="342900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05320" y="3200400"/>
              <a:ext cx="3200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43200" y="3657600"/>
              <a:ext cx="4800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+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 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Pr(|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24080" y="3581280"/>
              <a:ext cx="33530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143000" y="4114800"/>
            <a:ext cx="6553080" cy="2286000"/>
            <a:chOff x="1143000" y="4114800"/>
            <a:chExt cx="6553080" cy="2286000"/>
          </a:xfrm>
        </p:grpSpPr>
        <p:sp>
          <p:nvSpPr>
            <p:cNvPr id="317" name=""/>
            <p:cNvSpPr/>
            <p:nvPr/>
          </p:nvSpPr>
          <p:spPr>
            <a:xfrm>
              <a:off x="1143000" y="4114800"/>
              <a:ext cx="65530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752480" y="4952880"/>
              <a:ext cx="158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55840" y="4724280"/>
              <a:ext cx="3703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0400" y="5181480"/>
              <a:ext cx="365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7600" y="5105520"/>
              <a:ext cx="26668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914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ФОРМАЛИЗ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1676520"/>
            <a:ext cx="3733560" cy="39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остояния (классы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действ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отер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 = {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ектор признак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условные распреде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априорные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= [p(x 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]/p(x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отер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минимиз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19720" y="1523880"/>
            <a:ext cx="4190760" cy="4191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8320" y="1752480"/>
            <a:ext cx="3733560" cy="39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име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+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+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ыбрать 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если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&lt; 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ru-RU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&gt;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        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        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72428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38680" y="45720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5638680" y="472428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19920" y="4724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371600" y="914400"/>
            <a:ext cx="6400800" cy="3657600"/>
            <a:chOff x="1371600" y="914400"/>
            <a:chExt cx="6400800" cy="3657600"/>
          </a:xfrm>
        </p:grpSpPr>
        <p:sp>
          <p:nvSpPr>
            <p:cNvPr id="339" name=""/>
            <p:cNvSpPr/>
            <p:nvPr/>
          </p:nvSpPr>
          <p:spPr>
            <a:xfrm flipV="1">
              <a:off x="1600200" y="914400"/>
              <a:ext cx="0" cy="35964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71600" y="4327920"/>
              <a:ext cx="6400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46400" y="1140480"/>
              <a:ext cx="1095480" cy="852120"/>
            </a:xfrm>
            <a:custGeom>
              <a:avLst/>
              <a:gdLst/>
              <a:ahLst/>
              <a:rect l="l" t="t" r="r" b="b"/>
              <a:pathLst>
                <a:path w="690" h="671">
                  <a:moveTo>
                    <a:pt x="136" y="0"/>
                  </a:moveTo>
                  <a:cubicBezTo>
                    <a:pt x="31" y="52"/>
                    <a:pt x="32" y="199"/>
                    <a:pt x="0" y="300"/>
                  </a:cubicBezTo>
                  <a:cubicBezTo>
                    <a:pt x="3" y="354"/>
                    <a:pt x="1" y="409"/>
                    <a:pt x="9" y="463"/>
                  </a:cubicBezTo>
                  <a:cubicBezTo>
                    <a:pt x="41" y="671"/>
                    <a:pt x="428" y="595"/>
                    <a:pt x="527" y="600"/>
                  </a:cubicBezTo>
                  <a:cubicBezTo>
                    <a:pt x="569" y="597"/>
                    <a:pt x="614" y="603"/>
                    <a:pt x="654" y="590"/>
                  </a:cubicBezTo>
                  <a:cubicBezTo>
                    <a:pt x="671" y="585"/>
                    <a:pt x="683" y="493"/>
                    <a:pt x="690" y="472"/>
                  </a:cubicBezTo>
                  <a:cubicBezTo>
                    <a:pt x="687" y="411"/>
                    <a:pt x="688" y="350"/>
                    <a:pt x="681" y="290"/>
                  </a:cubicBezTo>
                  <a:cubicBezTo>
                    <a:pt x="672" y="208"/>
                    <a:pt x="610" y="198"/>
                    <a:pt x="545" y="181"/>
                  </a:cubicBezTo>
                  <a:cubicBezTo>
                    <a:pt x="474" y="162"/>
                    <a:pt x="434" y="139"/>
                    <a:pt x="372" y="109"/>
                  </a:cubicBezTo>
                  <a:cubicBezTo>
                    <a:pt x="344" y="80"/>
                    <a:pt x="310" y="48"/>
                    <a:pt x="272" y="36"/>
                  </a:cubicBezTo>
                  <a:cubicBezTo>
                    <a:pt x="224" y="4"/>
                    <a:pt x="200" y="7"/>
                    <a:pt x="136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913040" y="2991960"/>
              <a:ext cx="1287360" cy="848160"/>
            </a:xfrm>
            <a:custGeom>
              <a:avLst/>
              <a:gdLst/>
              <a:ahLst/>
              <a:rect l="l" t="t" r="r" b="b"/>
              <a:pathLst>
                <a:path w="1008" h="954">
                  <a:moveTo>
                    <a:pt x="686" y="57"/>
                  </a:moveTo>
                  <a:cubicBezTo>
                    <a:pt x="508" y="0"/>
                    <a:pt x="622" y="33"/>
                    <a:pt x="177" y="57"/>
                  </a:cubicBezTo>
                  <a:cubicBezTo>
                    <a:pt x="159" y="58"/>
                    <a:pt x="148" y="78"/>
                    <a:pt x="131" y="84"/>
                  </a:cubicBezTo>
                  <a:cubicBezTo>
                    <a:pt x="82" y="133"/>
                    <a:pt x="120" y="85"/>
                    <a:pt x="95" y="166"/>
                  </a:cubicBezTo>
                  <a:cubicBezTo>
                    <a:pt x="88" y="188"/>
                    <a:pt x="76" y="208"/>
                    <a:pt x="68" y="230"/>
                  </a:cubicBezTo>
                  <a:cubicBezTo>
                    <a:pt x="61" y="248"/>
                    <a:pt x="49" y="284"/>
                    <a:pt x="49" y="284"/>
                  </a:cubicBezTo>
                  <a:cubicBezTo>
                    <a:pt x="46" y="354"/>
                    <a:pt x="47" y="424"/>
                    <a:pt x="40" y="493"/>
                  </a:cubicBezTo>
                  <a:cubicBezTo>
                    <a:pt x="36" y="528"/>
                    <a:pt x="13" y="575"/>
                    <a:pt x="4" y="611"/>
                  </a:cubicBezTo>
                  <a:cubicBezTo>
                    <a:pt x="7" y="660"/>
                    <a:pt x="0" y="710"/>
                    <a:pt x="13" y="757"/>
                  </a:cubicBezTo>
                  <a:cubicBezTo>
                    <a:pt x="19" y="778"/>
                    <a:pt x="44" y="787"/>
                    <a:pt x="59" y="802"/>
                  </a:cubicBezTo>
                  <a:cubicBezTo>
                    <a:pt x="108" y="850"/>
                    <a:pt x="90" y="853"/>
                    <a:pt x="168" y="866"/>
                  </a:cubicBezTo>
                  <a:cubicBezTo>
                    <a:pt x="206" y="879"/>
                    <a:pt x="228" y="901"/>
                    <a:pt x="268" y="911"/>
                  </a:cubicBezTo>
                  <a:cubicBezTo>
                    <a:pt x="329" y="954"/>
                    <a:pt x="360" y="942"/>
                    <a:pt x="449" y="948"/>
                  </a:cubicBezTo>
                  <a:cubicBezTo>
                    <a:pt x="549" y="945"/>
                    <a:pt x="649" y="947"/>
                    <a:pt x="749" y="939"/>
                  </a:cubicBezTo>
                  <a:cubicBezTo>
                    <a:pt x="788" y="936"/>
                    <a:pt x="849" y="875"/>
                    <a:pt x="849" y="875"/>
                  </a:cubicBezTo>
                  <a:cubicBezTo>
                    <a:pt x="858" y="854"/>
                    <a:pt x="863" y="829"/>
                    <a:pt x="877" y="811"/>
                  </a:cubicBezTo>
                  <a:cubicBezTo>
                    <a:pt x="885" y="800"/>
                    <a:pt x="903" y="802"/>
                    <a:pt x="913" y="793"/>
                  </a:cubicBezTo>
                  <a:cubicBezTo>
                    <a:pt x="921" y="786"/>
                    <a:pt x="925" y="775"/>
                    <a:pt x="931" y="766"/>
                  </a:cubicBezTo>
                  <a:cubicBezTo>
                    <a:pt x="934" y="748"/>
                    <a:pt x="933" y="728"/>
                    <a:pt x="940" y="711"/>
                  </a:cubicBezTo>
                  <a:cubicBezTo>
                    <a:pt x="945" y="699"/>
                    <a:pt x="960" y="694"/>
                    <a:pt x="967" y="684"/>
                  </a:cubicBezTo>
                  <a:cubicBezTo>
                    <a:pt x="972" y="676"/>
                    <a:pt x="974" y="666"/>
                    <a:pt x="977" y="657"/>
                  </a:cubicBezTo>
                  <a:cubicBezTo>
                    <a:pt x="983" y="639"/>
                    <a:pt x="995" y="602"/>
                    <a:pt x="995" y="602"/>
                  </a:cubicBezTo>
                  <a:cubicBezTo>
                    <a:pt x="990" y="487"/>
                    <a:pt x="1008" y="226"/>
                    <a:pt x="849" y="175"/>
                  </a:cubicBezTo>
                  <a:cubicBezTo>
                    <a:pt x="823" y="135"/>
                    <a:pt x="812" y="149"/>
                    <a:pt x="777" y="121"/>
                  </a:cubicBezTo>
                  <a:cubicBezTo>
                    <a:pt x="762" y="109"/>
                    <a:pt x="757" y="85"/>
                    <a:pt x="740" y="75"/>
                  </a:cubicBezTo>
                  <a:cubicBezTo>
                    <a:pt x="724" y="65"/>
                    <a:pt x="704" y="63"/>
                    <a:pt x="686" y="57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479920" y="1828800"/>
              <a:ext cx="1225800" cy="951120"/>
            </a:xfrm>
            <a:custGeom>
              <a:avLst/>
              <a:gdLst/>
              <a:ahLst/>
              <a:rect l="l" t="t" r="r" b="b"/>
              <a:pathLst>
                <a:path w="1059" h="1085">
                  <a:moveTo>
                    <a:pt x="537" y="0"/>
                  </a:moveTo>
                  <a:cubicBezTo>
                    <a:pt x="459" y="19"/>
                    <a:pt x="389" y="60"/>
                    <a:pt x="310" y="73"/>
                  </a:cubicBezTo>
                  <a:cubicBezTo>
                    <a:pt x="195" y="157"/>
                    <a:pt x="343" y="56"/>
                    <a:pt x="237" y="109"/>
                  </a:cubicBezTo>
                  <a:cubicBezTo>
                    <a:pt x="224" y="116"/>
                    <a:pt x="214" y="128"/>
                    <a:pt x="201" y="136"/>
                  </a:cubicBezTo>
                  <a:cubicBezTo>
                    <a:pt x="35" y="234"/>
                    <a:pt x="184" y="136"/>
                    <a:pt x="101" y="191"/>
                  </a:cubicBezTo>
                  <a:cubicBezTo>
                    <a:pt x="72" y="234"/>
                    <a:pt x="71" y="287"/>
                    <a:pt x="55" y="336"/>
                  </a:cubicBezTo>
                  <a:cubicBezTo>
                    <a:pt x="40" y="456"/>
                    <a:pt x="0" y="637"/>
                    <a:pt x="55" y="746"/>
                  </a:cubicBezTo>
                  <a:cubicBezTo>
                    <a:pt x="66" y="768"/>
                    <a:pt x="103" y="802"/>
                    <a:pt x="119" y="818"/>
                  </a:cubicBezTo>
                  <a:cubicBezTo>
                    <a:pt x="128" y="836"/>
                    <a:pt x="134" y="857"/>
                    <a:pt x="146" y="873"/>
                  </a:cubicBezTo>
                  <a:cubicBezTo>
                    <a:pt x="162" y="894"/>
                    <a:pt x="197" y="907"/>
                    <a:pt x="219" y="918"/>
                  </a:cubicBezTo>
                  <a:cubicBezTo>
                    <a:pt x="288" y="953"/>
                    <a:pt x="266" y="974"/>
                    <a:pt x="373" y="1009"/>
                  </a:cubicBezTo>
                  <a:cubicBezTo>
                    <a:pt x="408" y="1021"/>
                    <a:pt x="483" y="1027"/>
                    <a:pt x="483" y="1027"/>
                  </a:cubicBezTo>
                  <a:cubicBezTo>
                    <a:pt x="565" y="1085"/>
                    <a:pt x="596" y="1049"/>
                    <a:pt x="728" y="1036"/>
                  </a:cubicBezTo>
                  <a:cubicBezTo>
                    <a:pt x="853" y="994"/>
                    <a:pt x="728" y="1045"/>
                    <a:pt x="810" y="991"/>
                  </a:cubicBezTo>
                  <a:cubicBezTo>
                    <a:pt x="829" y="978"/>
                    <a:pt x="879" y="956"/>
                    <a:pt x="901" y="946"/>
                  </a:cubicBezTo>
                  <a:cubicBezTo>
                    <a:pt x="924" y="921"/>
                    <a:pt x="948" y="916"/>
                    <a:pt x="973" y="891"/>
                  </a:cubicBezTo>
                  <a:cubicBezTo>
                    <a:pt x="982" y="870"/>
                    <a:pt x="994" y="849"/>
                    <a:pt x="1001" y="827"/>
                  </a:cubicBezTo>
                  <a:cubicBezTo>
                    <a:pt x="1012" y="791"/>
                    <a:pt x="1028" y="718"/>
                    <a:pt x="1028" y="718"/>
                  </a:cubicBezTo>
                  <a:cubicBezTo>
                    <a:pt x="1024" y="609"/>
                    <a:pt x="1059" y="274"/>
                    <a:pt x="892" y="218"/>
                  </a:cubicBezTo>
                  <a:cubicBezTo>
                    <a:pt x="857" y="185"/>
                    <a:pt x="830" y="181"/>
                    <a:pt x="782" y="173"/>
                  </a:cubicBezTo>
                  <a:cubicBezTo>
                    <a:pt x="773" y="164"/>
                    <a:pt x="766" y="152"/>
                    <a:pt x="755" y="146"/>
                  </a:cubicBezTo>
                  <a:cubicBezTo>
                    <a:pt x="738" y="137"/>
                    <a:pt x="701" y="127"/>
                    <a:pt x="701" y="127"/>
                  </a:cubicBezTo>
                  <a:cubicBezTo>
                    <a:pt x="677" y="104"/>
                    <a:pt x="665" y="83"/>
                    <a:pt x="637" y="64"/>
                  </a:cubicBezTo>
                  <a:cubicBezTo>
                    <a:pt x="634" y="55"/>
                    <a:pt x="636" y="42"/>
                    <a:pt x="628" y="36"/>
                  </a:cubicBezTo>
                  <a:cubicBezTo>
                    <a:pt x="600" y="16"/>
                    <a:pt x="562" y="25"/>
                    <a:pt x="537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905120" y="1706400"/>
              <a:ext cx="3657600" cy="24994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200400" y="1097280"/>
              <a:ext cx="2819520" cy="3474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76520" y="2620800"/>
              <a:ext cx="5715000" cy="3657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581280" y="1645920"/>
              <a:ext cx="152640" cy="121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57600" y="1828800"/>
              <a:ext cx="0" cy="2560320"/>
            </a:xfrm>
            <a:prstGeom prst="line">
              <a:avLst/>
            </a:prstGeom>
            <a:ln w="381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581280" y="2803680"/>
              <a:ext cx="152640" cy="122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581280" y="3962160"/>
              <a:ext cx="152640" cy="1216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6172200" y="9907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81680" y="2514600"/>
            <a:ext cx="2133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38680" y="37339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34120" y="25146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19720" y="2362320"/>
            <a:ext cx="914400" cy="2286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10080" y="266688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791320" y="2286000"/>
            <a:ext cx="2895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sqrt((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(y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y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17:23:07Z</dcterms:created>
  <dc:creator>Петр Соснин</dc:creator>
  <dc:description/>
  <dc:language>en-US</dc:language>
  <cp:lastModifiedBy>Peter Sosnin</cp:lastModifiedBy>
  <dcterms:modified xsi:type="dcterms:W3CDTF">2006-05-04T15:11:01Z</dcterms:modified>
  <cp:revision>12</cp:revision>
  <dc:subject/>
  <dc:title>РАСПОЗНАВАНИЕ ОБРАЗОВ</dc:title>
</cp:coreProperties>
</file>