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592-8B9C-4AAA-B532-79EE11D0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BD8-9EA9-479B-952D-99593E0C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EB3-7A18-4D2E-AFFB-9CB5E60C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C5A-2951-46E4-A7A5-391AC9EA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C090-2BCB-4DB4-B8A0-48481998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99D-4EF7-49B7-ADC7-32BFA444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CEC-3FBC-4EAE-8DDB-13A60C70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471D-7D43-4F24-A470-6F266905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78C-73E9-4124-8AE7-4A7AAE38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EB58-61EC-41D8-997C-6F9DAE5B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E7B-C285-4626-8E96-C0E0D9F6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CC75-3C7F-4B82-88F9-59C463FD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426F-0EAB-470C-9A15-506E7D25E5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066680"/>
            <a:ext cx="7695720" cy="5181480"/>
            <a:chOff x="990720" y="1066680"/>
            <a:chExt cx="7695720" cy="5181480"/>
          </a:xfrm>
        </p:grpSpPr>
        <p:sp>
          <p:nvSpPr>
            <p:cNvPr id="44" name=""/>
            <p:cNvSpPr/>
            <p:nvPr/>
          </p:nvSpPr>
          <p:spPr>
            <a:xfrm>
              <a:off x="990720" y="1066680"/>
              <a:ext cx="6478920" cy="230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05880" y="1727640"/>
              <a:ext cx="2300040" cy="61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«экспер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03360" y="2047680"/>
              <a:ext cx="739440" cy="62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02960" y="2156400"/>
              <a:ext cx="87012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91084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576960" y="1831320"/>
              <a:ext cx="23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7732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71528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59120" y="2895840"/>
              <a:ext cx="266112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I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Э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45000" y="2469240"/>
              <a:ext cx="0" cy="51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1840" y="2448360"/>
              <a:ext cx="69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24080" y="2448360"/>
              <a:ext cx="57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1960" y="3479040"/>
              <a:ext cx="4049280" cy="46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Модель экспертных действ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2960" y="3759480"/>
              <a:ext cx="2080800" cy="51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A-протоко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0752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6456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124280" y="4244400"/>
              <a:ext cx="7562160" cy="2003760"/>
              <a:chOff x="1124280" y="4244400"/>
              <a:chExt cx="7562160" cy="2003760"/>
            </a:xfrm>
          </p:grpSpPr>
          <p:sp>
            <p:nvSpPr>
              <p:cNvPr id="61" name=""/>
              <p:cNvSpPr/>
              <p:nvPr/>
            </p:nvSpPr>
            <p:spPr>
              <a:xfrm>
                <a:off x="1124280" y="4480200"/>
                <a:ext cx="2716920" cy="176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ная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4290480" y="4244400"/>
                <a:ext cx="4395960" cy="1220760"/>
                <a:chOff x="4290480" y="4244400"/>
                <a:chExt cx="4395960" cy="12207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290480" y="4460760"/>
                  <a:ext cx="18374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Sb(t) = пользователь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525360" y="4460760"/>
                  <a:ext cx="73980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D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824600" y="4460760"/>
                  <a:ext cx="8618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Ob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23284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>
                  <a:off x="5898960" y="4244400"/>
                  <a:ext cx="23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89932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703728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059600" y="4945680"/>
                  <a:ext cx="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973480" y="4861440"/>
                  <a:ext cx="69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246080" y="4861440"/>
                  <a:ext cx="57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1335600" y="4845240"/>
                <a:ext cx="2135880" cy="44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QA-протокол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9680" y="5446440"/>
                <a:ext cx="2376360" cy="60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Модель опыта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11960" y="4745160"/>
                <a:ext cx="6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20600" y="5446440"/>
                <a:ext cx="3033360" cy="38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       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нструментарий  I</a:t>
                </a:r>
                <a:r>
                  <a:rPr b="1" lang="en-US" sz="1400" spc="-1" strike="noStrike" baseline="30000">
                    <a:solidFill>
                      <a:srgbClr val="ff0000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671840" y="1567440"/>
              <a:ext cx="0" cy="22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ЭКСПЕРТИ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1523520"/>
            <a:ext cx="6781680" cy="3429360"/>
            <a:chOff x="1447920" y="1523520"/>
            <a:chExt cx="6781680" cy="3429360"/>
          </a:xfrm>
        </p:grpSpPr>
        <p:sp>
          <p:nvSpPr>
            <p:cNvPr id="83" name=""/>
            <p:cNvSpPr/>
            <p:nvPr/>
          </p:nvSpPr>
          <p:spPr>
            <a:xfrm>
              <a:off x="1447920" y="2086920"/>
              <a:ext cx="1560240" cy="13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39520" y="1958760"/>
              <a:ext cx="1868760" cy="150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5800" y="1731240"/>
              <a:ext cx="1042200" cy="11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4469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526480" y="1523880"/>
              <a:ext cx="49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26840" y="152388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9287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69360" y="4303080"/>
              <a:ext cx="413856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       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9640" y="3234600"/>
              <a:ext cx="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9200" y="2801160"/>
              <a:ext cx="9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2920" y="2265840"/>
              <a:ext cx="1876680" cy="2034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ка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86240" y="3120120"/>
              <a:ext cx="14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43040" y="2521800"/>
              <a:ext cx="11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ИНЯТИЕ РЕ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19040" y="1447920"/>
            <a:ext cx="6834240" cy="4058640"/>
            <a:chOff x="1319040" y="1447920"/>
            <a:chExt cx="6834240" cy="4058640"/>
          </a:xfrm>
        </p:grpSpPr>
        <p:sp>
          <p:nvSpPr>
            <p:cNvPr id="100" name=""/>
            <p:cNvSpPr/>
            <p:nvPr/>
          </p:nvSpPr>
          <p:spPr>
            <a:xfrm>
              <a:off x="1319040" y="2544480"/>
              <a:ext cx="1360800" cy="97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42800" y="2238120"/>
              <a:ext cx="1629720" cy="15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Выбор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0280" y="1933920"/>
              <a:ext cx="91008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5516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60080" y="1656360"/>
              <a:ext cx="42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0440" y="165636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3538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1280" y="4740840"/>
              <a:ext cx="4881600" cy="7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58880" y="3055320"/>
              <a:ext cx="8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80280" y="2792520"/>
              <a:ext cx="910080" cy="71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99000" y="2792520"/>
              <a:ext cx="85428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4320" y="1447920"/>
              <a:ext cx="1658520" cy="29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Альтернатив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90440" y="2136240"/>
              <a:ext cx="1086120" cy="12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3480" y="351504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8360" y="290232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1000" y="3364920"/>
              <a:ext cx="4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1880" y="3821400"/>
              <a:ext cx="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ИАГНО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9080" y="1676160"/>
            <a:ext cx="7116840" cy="3535560"/>
            <a:chOff x="1189080" y="1676160"/>
            <a:chExt cx="7116840" cy="3535560"/>
          </a:xfrm>
        </p:grpSpPr>
        <p:sp>
          <p:nvSpPr>
            <p:cNvPr id="121" name=""/>
            <p:cNvSpPr/>
            <p:nvPr/>
          </p:nvSpPr>
          <p:spPr>
            <a:xfrm>
              <a:off x="1189080" y="4535640"/>
              <a:ext cx="422280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546920" y="1676160"/>
              <a:ext cx="6759000" cy="3172320"/>
              <a:chOff x="1546920" y="1676160"/>
              <a:chExt cx="6759000" cy="3172320"/>
            </a:xfrm>
          </p:grpSpPr>
          <p:sp>
            <p:nvSpPr>
              <p:cNvPr id="123" name=""/>
              <p:cNvSpPr/>
              <p:nvPr/>
            </p:nvSpPr>
            <p:spPr>
              <a:xfrm>
                <a:off x="1546920" y="2217600"/>
                <a:ext cx="1302480" cy="152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S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92560" y="2217600"/>
                <a:ext cx="1559160" cy="194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Оцени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сследо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Почему плохой?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447640" y="1676520"/>
                <a:ext cx="410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47640" y="167652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451760" y="167616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33120" y="2917800"/>
                <a:ext cx="78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535440" y="1676160"/>
                <a:ext cx="0" cy="146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35000" y="2828520"/>
                <a:ext cx="134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6600" y="3543480"/>
                <a:ext cx="12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5680" y="2295360"/>
                <a:ext cx="2563920" cy="22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17960" y="2561400"/>
                <a:ext cx="1539000" cy="173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O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074640" y="2209320"/>
                <a:ext cx="0" cy="66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32080" y="3276000"/>
                <a:ext cx="129996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причин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75800" y="3543480"/>
                <a:ext cx="12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49440" y="4021200"/>
                <a:ext cx="0" cy="8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ЛАССИФИЦ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95280" y="1371600"/>
            <a:ext cx="6019560" cy="3795840"/>
            <a:chOff x="1295280" y="1371600"/>
            <a:chExt cx="6019560" cy="3795840"/>
          </a:xfrm>
        </p:grpSpPr>
        <p:sp>
          <p:nvSpPr>
            <p:cNvPr id="142" name=""/>
            <p:cNvSpPr/>
            <p:nvPr/>
          </p:nvSpPr>
          <p:spPr>
            <a:xfrm>
              <a:off x="5855400" y="1371600"/>
              <a:ext cx="1459440" cy="379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Система класс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- - - - - -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15560" y="2161440"/>
              <a:ext cx="66348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11600" y="2903040"/>
              <a:ext cx="66708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33800" y="2169720"/>
              <a:ext cx="1214280" cy="14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61360" y="2169720"/>
              <a:ext cx="1563840" cy="116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«Какой класс?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231280" y="1654920"/>
              <a:ext cx="333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3128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04172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5280" y="4120200"/>
              <a:ext cx="4003920" cy="7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7160" y="3072960"/>
              <a:ext cx="0" cy="12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720" y="2811240"/>
              <a:ext cx="72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46840" y="2667600"/>
              <a:ext cx="1041840" cy="11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2720" y="2942280"/>
              <a:ext cx="12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4240" y="4120200"/>
              <a:ext cx="604800" cy="65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0240" y="3300120"/>
              <a:ext cx="41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567400" y="1654920"/>
              <a:ext cx="0" cy="10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1219320"/>
            <a:ext cx="7954920" cy="4359240"/>
            <a:chOff x="685800" y="1219320"/>
            <a:chExt cx="7954920" cy="4359240"/>
          </a:xfrm>
        </p:grpSpPr>
        <p:sp>
          <p:nvSpPr>
            <p:cNvPr id="162" name=""/>
            <p:cNvSpPr/>
            <p:nvPr/>
          </p:nvSpPr>
          <p:spPr>
            <a:xfrm>
              <a:off x="685800" y="3666240"/>
              <a:ext cx="119844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T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3040" y="3660480"/>
              <a:ext cx="19612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2120" y="3747600"/>
              <a:ext cx="13075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       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00840" y="3835080"/>
              <a:ext cx="6537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41920" y="3317040"/>
              <a:ext cx="76248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24120" y="3579120"/>
              <a:ext cx="762480" cy="7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15040" y="3840120"/>
              <a:ext cx="762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53400" y="4706640"/>
              <a:ext cx="1961640" cy="69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2480" y="4794120"/>
              <a:ext cx="130752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3600" y="4619520"/>
              <a:ext cx="1743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2680" y="4706640"/>
              <a:ext cx="8715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I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09920" y="2445480"/>
              <a:ext cx="130752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92120" y="2706480"/>
              <a:ext cx="141660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3040" y="2968560"/>
              <a:ext cx="141660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4000" y="2747160"/>
              <a:ext cx="140508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tegral  s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94520" y="1479960"/>
              <a:ext cx="0" cy="21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4520" y="1480320"/>
              <a:ext cx="69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69160" y="1480320"/>
              <a:ext cx="0" cy="18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11480" y="3903840"/>
              <a:ext cx="217800" cy="696960"/>
            </a:xfrm>
            <a:prstGeom prst="upDownArrow">
              <a:avLst>
                <a:gd name="adj1" fmla="val 50000"/>
                <a:gd name="adj2" fmla="val 42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4680" y="3835080"/>
              <a:ext cx="2070360" cy="173880"/>
            </a:xfrm>
            <a:prstGeom prst="leftRightArrow">
              <a:avLst>
                <a:gd name="adj1" fmla="val 28870"/>
                <a:gd name="adj2" fmla="val 1257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16600" y="3940200"/>
              <a:ext cx="217800" cy="784800"/>
            </a:xfrm>
            <a:prstGeom prst="upDownArrow">
              <a:avLst>
                <a:gd name="adj1" fmla="val 39435"/>
                <a:gd name="adj2" fmla="val 425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4240" y="3747600"/>
              <a:ext cx="980640" cy="173520"/>
            </a:xfrm>
            <a:prstGeom prst="leftRightArrow">
              <a:avLst>
                <a:gd name="adj1" fmla="val 50000"/>
                <a:gd name="adj2" fmla="val 866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8720" y="2876040"/>
              <a:ext cx="653760" cy="173880"/>
            </a:xfrm>
            <a:custGeom>
              <a:avLst/>
              <a:gdLst>
                <a:gd name="textAreaLeft" fmla="*/ 101880 w 653760"/>
                <a:gd name="textAreaRight" fmla="*/ 583560 w 653760"/>
                <a:gd name="textAreaTop" fmla="*/ 43560 h 173880"/>
                <a:gd name="textAreaBottom" fmla="*/ 13068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961" y="5400"/>
                  </a:lnTo>
                  <a:lnTo>
                    <a:pt x="16961" y="0"/>
                  </a:lnTo>
                  <a:lnTo>
                    <a:pt x="21600" y="10800"/>
                  </a:lnTo>
                  <a:lnTo>
                    <a:pt x="16961" y="21600"/>
                  </a:lnTo>
                  <a:lnTo>
                    <a:pt x="1696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005960" y="1829520"/>
              <a:ext cx="0" cy="13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447920" y="1829520"/>
              <a:ext cx="55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8280" y="1829520"/>
              <a:ext cx="0" cy="18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65240" y="226548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5240" y="557856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40720" y="226512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864880" y="226548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3000" y="3610080"/>
              <a:ext cx="9806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D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93320" y="3485880"/>
              <a:ext cx="7624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9280" y="1219320"/>
              <a:ext cx="23972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etting of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56160" y="1567800"/>
              <a:ext cx="207036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Feed b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82160" y="5303160"/>
              <a:ext cx="18522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Executin of the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46480" y="1554120"/>
            <a:ext cx="4848120" cy="14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Общая деятельность D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87720" y="2300400"/>
            <a:ext cx="1692360" cy="16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(t) =&gt;QA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06560" y="2557440"/>
            <a:ext cx="10317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5000" y="2655720"/>
            <a:ext cx="882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24200" y="323064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67160" y="3046320"/>
            <a:ext cx="93348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L’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 rot="10800000">
            <a:off x="7448040" y="2673360"/>
            <a:ext cx="10098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 rot="10800000">
            <a:off x="6019560" y="2743200"/>
            <a:ext cx="80964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92560" y="3354480"/>
            <a:ext cx="639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7720" y="323064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552640" y="32958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126040" y="205056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532320" y="4414680"/>
            <a:ext cx="2778120" cy="995400"/>
            <a:chOff x="3532320" y="4414680"/>
            <a:chExt cx="2778120" cy="995400"/>
          </a:xfrm>
        </p:grpSpPr>
        <p:sp>
          <p:nvSpPr>
            <p:cNvPr id="213" name=""/>
            <p:cNvSpPr/>
            <p:nvPr/>
          </p:nvSpPr>
          <p:spPr>
            <a:xfrm>
              <a:off x="3532320" y="4414680"/>
              <a:ext cx="2778120" cy="9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I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89760" y="4538880"/>
              <a:ext cx="1388880" cy="62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L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4921200" y="3668400"/>
            <a:ext cx="0" cy="11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9:54:36Z</dcterms:created>
  <dc:creator>Russian</dc:creator>
  <dc:description/>
  <dc:language>en-US</dc:language>
  <cp:lastModifiedBy>Валерий Г. Костин</cp:lastModifiedBy>
  <dcterms:modified xsi:type="dcterms:W3CDTF">2002-12-12T13:45:25Z</dcterms:modified>
  <cp:revision>2</cp:revision>
  <dc:subject/>
  <dc:title>ИИ и ИНТЕРРОГАТИВНАЯЛОГИКА</dc:title>
</cp:coreProperties>
</file>