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58CB-0ACF-4679-AE21-CF2CA124A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0BC6-B9F8-4B48-8560-80459EA52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A2FA-1904-4545-9A5B-24E902055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A5E1-D591-407C-852A-8A10A341C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A915-A189-4323-ACDB-3BC15F96B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4008-F777-482D-9B57-D9CE6DFF2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1A46-A813-47FA-8435-E241BC862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CCA8-0325-4FEB-A7A4-BFC29FFE4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E1F2-E1A0-4A91-8637-BEC93D398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1272-5EB3-438B-ACAB-79BAF628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239B-4E55-4D0D-BBCC-29720DA8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00C9-019A-4A0E-B722-0C37BF9A4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B7F9A-9B92-4778-ABBF-4B2326B48A0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И и ИНТЕРРОГАТИВНАЯЛОГ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990720" y="1066680"/>
            <a:ext cx="7695720" cy="5181480"/>
            <a:chOff x="990720" y="1066680"/>
            <a:chExt cx="7695720" cy="5181480"/>
          </a:xfrm>
        </p:grpSpPr>
        <p:sp>
          <p:nvSpPr>
            <p:cNvPr id="44" name=""/>
            <p:cNvSpPr/>
            <p:nvPr/>
          </p:nvSpPr>
          <p:spPr>
            <a:xfrm>
              <a:off x="990720" y="1066680"/>
              <a:ext cx="6478920" cy="230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505880" y="1727640"/>
              <a:ext cx="2300040" cy="61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b(t) =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«эксперт»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203360" y="2047680"/>
              <a:ext cx="739440" cy="62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D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502960" y="2156400"/>
              <a:ext cx="870120" cy="61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Ob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5910840" y="1831320"/>
              <a:ext cx="0" cy="34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3576960" y="1831320"/>
              <a:ext cx="23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77320" y="1831320"/>
              <a:ext cx="0" cy="34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4715280" y="1831320"/>
              <a:ext cx="0" cy="34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859120" y="2895840"/>
              <a:ext cx="2661120" cy="38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    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Инструментарий  I</a:t>
              </a:r>
              <a:r>
                <a:rPr b="1" lang="en-US" sz="1400" spc="-1" strike="noStrike" baseline="30000">
                  <a:solidFill>
                    <a:srgbClr val="ff0000"/>
                  </a:solidFill>
                  <a:latin typeface="Times New Roman"/>
                </a:rPr>
                <a:t>Э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45000" y="2469240"/>
              <a:ext cx="0" cy="51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651840" y="2448360"/>
              <a:ext cx="69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924080" y="2448360"/>
              <a:ext cx="57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901960" y="3479040"/>
              <a:ext cx="4049280" cy="4654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Модель экспертных действ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52960" y="3759480"/>
              <a:ext cx="2080800" cy="513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QA-протокол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207520" y="4044960"/>
              <a:ext cx="0" cy="40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64560" y="4044960"/>
              <a:ext cx="0" cy="40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1124280" y="4244400"/>
              <a:ext cx="7562160" cy="2003760"/>
              <a:chOff x="1124280" y="4244400"/>
              <a:chExt cx="7562160" cy="2003760"/>
            </a:xfrm>
          </p:grpSpPr>
          <p:sp>
            <p:nvSpPr>
              <p:cNvPr id="61" name=""/>
              <p:cNvSpPr/>
              <p:nvPr/>
            </p:nvSpPr>
            <p:spPr>
              <a:xfrm>
                <a:off x="1124280" y="4480200"/>
                <a:ext cx="2716920" cy="1767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Экспертная систем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" name=""/>
              <p:cNvGrpSpPr/>
              <p:nvPr/>
            </p:nvGrpSpPr>
            <p:grpSpPr>
              <a:xfrm>
                <a:off x="4290480" y="4244400"/>
                <a:ext cx="4395960" cy="1220760"/>
                <a:chOff x="4290480" y="4244400"/>
                <a:chExt cx="4395960" cy="122076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4290480" y="4460760"/>
                  <a:ext cx="1837440" cy="865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00"/>
                      </a:solidFill>
                      <a:latin typeface="Times New Roman"/>
                    </a:rPr>
                    <a:t>Sb(t) = пользователь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6525360" y="4460760"/>
                  <a:ext cx="739800" cy="865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00"/>
                      </a:solidFill>
                      <a:latin typeface="Times New Roman"/>
                    </a:rPr>
                    <a:t> </a:t>
                  </a:r>
                  <a:r>
                    <a:rPr b="1" lang="en-US" sz="1400" spc="-1" strike="noStrike">
                      <a:solidFill>
                        <a:srgbClr val="ff0000"/>
                      </a:solidFill>
                      <a:latin typeface="Times New Roman"/>
                    </a:rPr>
                    <a:t>D(t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00"/>
                      </a:solidFill>
                      <a:latin typeface="Times New Roman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7824600" y="4460760"/>
                  <a:ext cx="861840" cy="865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00"/>
                      </a:solidFill>
                      <a:latin typeface="Times New Roman"/>
                    </a:rPr>
                    <a:t>Ob(t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00"/>
                      </a:solidFill>
                      <a:latin typeface="Times New Roman"/>
                    </a:rPr>
                    <a:t>  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 flipV="1">
                  <a:off x="8232840" y="4244400"/>
                  <a:ext cx="0" cy="34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 flipH="1">
                  <a:off x="5898960" y="4244400"/>
                  <a:ext cx="2333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5899320" y="4244400"/>
                  <a:ext cx="0" cy="34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 flipV="1">
                  <a:off x="7037280" y="4244400"/>
                  <a:ext cx="0" cy="34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7059600" y="4945680"/>
                  <a:ext cx="0" cy="519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5973480" y="4861440"/>
                  <a:ext cx="694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7246080" y="4861440"/>
                  <a:ext cx="578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" name=""/>
              <p:cNvSpPr/>
              <p:nvPr/>
            </p:nvSpPr>
            <p:spPr>
              <a:xfrm>
                <a:off x="1335600" y="4845240"/>
                <a:ext cx="2135880" cy="447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«QA-протокол»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219680" y="5446440"/>
                <a:ext cx="2376360" cy="600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Модель опыта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эксперт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711960" y="4745160"/>
                <a:ext cx="694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520600" y="5446440"/>
                <a:ext cx="3033360" cy="380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         </a:t>
                </a: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Инструментарий  I</a:t>
                </a:r>
                <a:r>
                  <a:rPr b="1" lang="en-US" sz="1400" spc="-1" strike="noStrike" baseline="30000">
                    <a:solidFill>
                      <a:srgbClr val="ff0000"/>
                    </a:solidFill>
                    <a:latin typeface="Times New Roman"/>
                  </a:rPr>
                  <a:t>П</a:t>
                </a: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1671840" y="1567440"/>
              <a:ext cx="0" cy="2204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4572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РЕШЕНИЕ ЗАДА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И и ИНТЕРРОГАТИВНАЯЛОГ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ЭКСПЕРТИЗ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447920" y="1523520"/>
            <a:ext cx="6781680" cy="3429360"/>
            <a:chOff x="1447920" y="1523520"/>
            <a:chExt cx="6781680" cy="3429360"/>
          </a:xfrm>
        </p:grpSpPr>
        <p:sp>
          <p:nvSpPr>
            <p:cNvPr id="83" name=""/>
            <p:cNvSpPr/>
            <p:nvPr/>
          </p:nvSpPr>
          <p:spPr>
            <a:xfrm>
              <a:off x="1447920" y="2086920"/>
              <a:ext cx="1560240" cy="1376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b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 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Эксперт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39520" y="1958760"/>
              <a:ext cx="1868760" cy="150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Исследова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Оцени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085800" y="1731240"/>
              <a:ext cx="1042200" cy="117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Ob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7446960" y="1523520"/>
              <a:ext cx="0" cy="69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2526480" y="1523880"/>
              <a:ext cx="492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526840" y="1523880"/>
              <a:ext cx="0" cy="69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4928760" y="1523520"/>
              <a:ext cx="0" cy="69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169360" y="4303080"/>
              <a:ext cx="4138560" cy="64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                    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Инструментарий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специализированная экспертная система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9640" y="3234600"/>
              <a:ext cx="0" cy="10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869200" y="2801160"/>
              <a:ext cx="93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52920" y="2265840"/>
              <a:ext cx="1876680" cy="20340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Оценка=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286240" y="3120120"/>
              <a:ext cx="147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243040" y="2521800"/>
              <a:ext cx="113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И и ИНТЕРРОГАТИВНАЯЛОГ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ПРИНЯТИЕ РЕШЕН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319040" y="1447920"/>
            <a:ext cx="6834240" cy="4058640"/>
            <a:chOff x="1319040" y="1447920"/>
            <a:chExt cx="6834240" cy="4058640"/>
          </a:xfrm>
        </p:grpSpPr>
        <p:sp>
          <p:nvSpPr>
            <p:cNvPr id="100" name=""/>
            <p:cNvSpPr/>
            <p:nvPr/>
          </p:nvSpPr>
          <p:spPr>
            <a:xfrm>
              <a:off x="1319040" y="2544480"/>
              <a:ext cx="1360800" cy="97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b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142800" y="2238120"/>
              <a:ext cx="1629720" cy="158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Оцени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Выбор 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80280" y="1933920"/>
              <a:ext cx="910080" cy="57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Ob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6551640" y="1656000"/>
              <a:ext cx="0" cy="9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2260080" y="1656360"/>
              <a:ext cx="4290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260440" y="1656360"/>
              <a:ext cx="0" cy="9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4353840" y="1656000"/>
              <a:ext cx="0" cy="92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051280" y="4740840"/>
              <a:ext cx="4881600" cy="765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Инструментар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специализированная экспертная система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558880" y="3055320"/>
              <a:ext cx="81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480280" y="2792520"/>
              <a:ext cx="910080" cy="71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Ob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299000" y="2792520"/>
              <a:ext cx="854280" cy="87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Ob</a:t>
              </a:r>
              <a:r>
                <a:rPr b="1" lang="ru-RU" sz="1400" spc="-1" strike="noStrike" baseline="-25000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224320" y="1447920"/>
              <a:ext cx="1658520" cy="2986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Альтернатив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590440" y="2136240"/>
              <a:ext cx="1086120" cy="122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Ob</a:t>
              </a:r>
              <a:r>
                <a:rPr b="1" lang="ru-RU" sz="1400" spc="-1" strike="noStrike" baseline="-25000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33480" y="3515040"/>
              <a:ext cx="93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28360" y="2902320"/>
              <a:ext cx="93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31000" y="3364920"/>
              <a:ext cx="46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81880" y="3821400"/>
              <a:ext cx="0" cy="9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И и ИНТЕРРОГАТИВНАЯЛОГ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ДИАГНОСТИ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189080" y="1676160"/>
            <a:ext cx="7116840" cy="3535560"/>
            <a:chOff x="1189080" y="1676160"/>
            <a:chExt cx="7116840" cy="3535560"/>
          </a:xfrm>
        </p:grpSpPr>
        <p:sp>
          <p:nvSpPr>
            <p:cNvPr id="121" name=""/>
            <p:cNvSpPr/>
            <p:nvPr/>
          </p:nvSpPr>
          <p:spPr>
            <a:xfrm>
              <a:off x="1189080" y="4535640"/>
              <a:ext cx="4222800" cy="67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Инструментар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специализированная экспертная система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1546920" y="1676160"/>
              <a:ext cx="6759000" cy="3172320"/>
              <a:chOff x="1546920" y="1676160"/>
              <a:chExt cx="6759000" cy="3172320"/>
            </a:xfrm>
          </p:grpSpPr>
          <p:sp>
            <p:nvSpPr>
              <p:cNvPr id="123" name=""/>
              <p:cNvSpPr/>
              <p:nvPr/>
            </p:nvSpPr>
            <p:spPr>
              <a:xfrm>
                <a:off x="1546920" y="2217600"/>
                <a:ext cx="1302480" cy="1527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00"/>
                    </a:solidFill>
                    <a:latin typeface="Times New Roman"/>
                  </a:rPr>
                  <a:t>     </a:t>
                </a:r>
                <a:r>
                  <a:rPr b="1" lang="ru-RU" sz="1400" spc="-1" strike="noStrike">
                    <a:solidFill>
                      <a:srgbClr val="ff0000"/>
                    </a:solidFill>
                    <a:latin typeface="Times New Roman"/>
                  </a:rPr>
                  <a:t>Sb(t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292560" y="2217600"/>
                <a:ext cx="1559160" cy="1941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Оценивание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Исследование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«Почему плохой?»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2447640" y="1676520"/>
                <a:ext cx="4106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447640" y="1676520"/>
                <a:ext cx="0" cy="86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V="1">
                <a:off x="4451760" y="1676160"/>
                <a:ext cx="0" cy="86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733120" y="2917800"/>
                <a:ext cx="78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6535440" y="1676160"/>
                <a:ext cx="0" cy="146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635000" y="2828520"/>
                <a:ext cx="134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746600" y="3543480"/>
                <a:ext cx="1229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305680" y="2295360"/>
                <a:ext cx="2563920" cy="2266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817960" y="2561400"/>
                <a:ext cx="1539000" cy="1733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00"/>
                    </a:solidFill>
                    <a:latin typeface="Times New Roman"/>
                  </a:rPr>
                  <a:t>    </a:t>
                </a:r>
                <a:r>
                  <a:rPr b="1" lang="ru-RU" sz="1400" spc="-1" strike="noStrike">
                    <a:solidFill>
                      <a:srgbClr val="ff0000"/>
                    </a:solidFill>
                    <a:latin typeface="Times New Roman"/>
                  </a:rPr>
                  <a:t>Ob(t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V="1">
                <a:off x="6074640" y="2209320"/>
                <a:ext cx="0" cy="66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932080" y="3276000"/>
                <a:ext cx="1299960" cy="533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причины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075800" y="3543480"/>
                <a:ext cx="1230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249440" y="4021200"/>
                <a:ext cx="0" cy="82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И и ИНТЕРРОГАТИВНАЯЛОГ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КЛАССИФИЦИРОВА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295280" y="1371600"/>
            <a:ext cx="6019560" cy="3795840"/>
            <a:chOff x="1295280" y="1371600"/>
            <a:chExt cx="6019560" cy="3795840"/>
          </a:xfrm>
        </p:grpSpPr>
        <p:sp>
          <p:nvSpPr>
            <p:cNvPr id="142" name=""/>
            <p:cNvSpPr/>
            <p:nvPr/>
          </p:nvSpPr>
          <p:spPr>
            <a:xfrm>
              <a:off x="5855400" y="1371600"/>
              <a:ext cx="1459440" cy="3795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Система классов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 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- - - - - - 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415560" y="2161440"/>
              <a:ext cx="663480" cy="64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Kl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11600" y="2903040"/>
              <a:ext cx="667080" cy="693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Kl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333800" y="2169720"/>
              <a:ext cx="1214280" cy="142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  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b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61360" y="2169720"/>
              <a:ext cx="1563840" cy="1164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Исследова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«Какой класс?»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2231280" y="1654920"/>
              <a:ext cx="333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31280" y="1654920"/>
              <a:ext cx="0" cy="82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4041720" y="1654920"/>
              <a:ext cx="0" cy="82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295280" y="4120200"/>
              <a:ext cx="4003920" cy="749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Инструментар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специализированная экспертная система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187160" y="3072960"/>
              <a:ext cx="0" cy="12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39720" y="2811240"/>
              <a:ext cx="72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046840" y="2667600"/>
              <a:ext cx="1041840" cy="113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00"/>
                  </a:solidFill>
                  <a:latin typeface="Times New Roman"/>
                </a:rPr>
                <a:t> 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Ob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212720" y="2942280"/>
              <a:ext cx="125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474240" y="4120200"/>
              <a:ext cx="604800" cy="65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Kl</a:t>
              </a:r>
              <a:r>
                <a:rPr b="1" lang="ru-RU" sz="14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880240" y="3300120"/>
              <a:ext cx="41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5567400" y="1654920"/>
              <a:ext cx="0" cy="101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И и ИНТЕРРОГАТИВНАЯЛОГ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РЕШЕНИЕ ЗАДА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685800" y="1219320"/>
            <a:ext cx="7954920" cy="4359240"/>
            <a:chOff x="685800" y="1219320"/>
            <a:chExt cx="7954920" cy="4359240"/>
          </a:xfrm>
        </p:grpSpPr>
        <p:sp>
          <p:nvSpPr>
            <p:cNvPr id="162" name=""/>
            <p:cNvSpPr/>
            <p:nvPr/>
          </p:nvSpPr>
          <p:spPr>
            <a:xfrm>
              <a:off x="685800" y="3666240"/>
              <a:ext cx="1198440" cy="34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Tu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83040" y="3660480"/>
              <a:ext cx="1961280" cy="1046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tud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92120" y="3747600"/>
              <a:ext cx="1307520" cy="61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              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300840" y="3835080"/>
              <a:ext cx="653760" cy="348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r>
                <a:rPr b="1" lang="ru-RU" sz="1400" spc="-1" strike="noStrike" baseline="30000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441920" y="3317040"/>
              <a:ext cx="762480" cy="871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r>
                <a:rPr b="1" lang="ru-RU" sz="14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224120" y="3579120"/>
              <a:ext cx="762480" cy="78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15040" y="3840120"/>
              <a:ext cx="762480" cy="69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53400" y="4706640"/>
              <a:ext cx="1961640" cy="69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instrum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262480" y="4794120"/>
              <a:ext cx="1307520" cy="348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W</a:t>
              </a:r>
              <a:r>
                <a:rPr b="1" lang="ru-RU" sz="1400" spc="-1" strike="noStrike" baseline="30000">
                  <a:solidFill>
                    <a:srgbClr val="ff0000"/>
                  </a:solidFill>
                  <a:latin typeface="Times New Roman"/>
                </a:rPr>
                <a:t>п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03600" y="4619520"/>
              <a:ext cx="1743480" cy="69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instrum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012680" y="4706640"/>
              <a:ext cx="871560" cy="348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({I</a:t>
              </a:r>
              <a:r>
                <a:rPr b="1" lang="ru-RU" sz="1400" spc="-1" strike="noStrike" baseline="-25000">
                  <a:solidFill>
                    <a:srgbClr val="ff0000"/>
                  </a:solidFill>
                  <a:latin typeface="Times New Roman"/>
                </a:rPr>
                <a:t>k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}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409920" y="2445480"/>
              <a:ext cx="1307520" cy="435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core 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192120" y="2706480"/>
              <a:ext cx="1416600" cy="43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core 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083040" y="2968560"/>
              <a:ext cx="1416600" cy="435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core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74000" y="2747160"/>
              <a:ext cx="1405080" cy="435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Integral  sco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794520" y="1479960"/>
              <a:ext cx="0" cy="217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94520" y="1480320"/>
              <a:ext cx="697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769160" y="1480320"/>
              <a:ext cx="0" cy="183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211480" y="3903840"/>
              <a:ext cx="217800" cy="696960"/>
            </a:xfrm>
            <a:prstGeom prst="upDownArrow">
              <a:avLst>
                <a:gd name="adj1" fmla="val 50000"/>
                <a:gd name="adj2" fmla="val 4281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044680" y="3835080"/>
              <a:ext cx="2070360" cy="173880"/>
            </a:xfrm>
            <a:prstGeom prst="leftRightArrow">
              <a:avLst>
                <a:gd name="adj1" fmla="val 28870"/>
                <a:gd name="adj2" fmla="val 12579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916600" y="3940200"/>
              <a:ext cx="217800" cy="784800"/>
            </a:xfrm>
            <a:prstGeom prst="upDownArrow">
              <a:avLst>
                <a:gd name="adj1" fmla="val 39435"/>
                <a:gd name="adj2" fmla="val 4257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884240" y="3747600"/>
              <a:ext cx="980640" cy="173520"/>
            </a:xfrm>
            <a:prstGeom prst="leftRightArrow">
              <a:avLst>
                <a:gd name="adj1" fmla="val 50000"/>
                <a:gd name="adj2" fmla="val 866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608720" y="2876040"/>
              <a:ext cx="653760" cy="173880"/>
            </a:xfrm>
            <a:custGeom>
              <a:avLst/>
              <a:gdLst>
                <a:gd name="textAreaLeft" fmla="*/ 101880 w 653760"/>
                <a:gd name="textAreaRight" fmla="*/ 583560 w 653760"/>
                <a:gd name="textAreaTop" fmla="*/ 43560 h 173880"/>
                <a:gd name="textAreaBottom" fmla="*/ 130680 h 17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961" y="5400"/>
                  </a:lnTo>
                  <a:lnTo>
                    <a:pt x="16961" y="0"/>
                  </a:lnTo>
                  <a:lnTo>
                    <a:pt x="21600" y="10800"/>
                  </a:lnTo>
                  <a:lnTo>
                    <a:pt x="16961" y="21600"/>
                  </a:lnTo>
                  <a:lnTo>
                    <a:pt x="16961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7005960" y="1829520"/>
              <a:ext cx="0" cy="139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1447920" y="1829520"/>
              <a:ext cx="555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448280" y="1829520"/>
              <a:ext cx="0" cy="183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865240" y="2265480"/>
              <a:ext cx="0" cy="331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865240" y="5578560"/>
              <a:ext cx="5775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8640720" y="2265120"/>
              <a:ext cx="0" cy="331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2864880" y="2265480"/>
              <a:ext cx="5775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463000" y="3610080"/>
              <a:ext cx="980640" cy="26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({D</a:t>
              </a:r>
              <a:r>
                <a:rPr b="1" lang="ru-RU" sz="1400" spc="-1" strike="noStrike" baseline="-25000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(t)}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993320" y="3485880"/>
              <a:ext cx="762480" cy="26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r>
                <a:rPr b="1" lang="en-US" sz="1400" spc="-1" strike="noStrike" baseline="30000">
                  <a:solidFill>
                    <a:srgbClr val="ff0000"/>
                  </a:solidFill>
                  <a:latin typeface="Times New Roman"/>
                </a:rPr>
                <a:t>0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429280" y="1219320"/>
              <a:ext cx="2397240" cy="26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Setting of tas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756160" y="1567800"/>
              <a:ext cx="2070360" cy="26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Feed ba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882160" y="5303160"/>
              <a:ext cx="1852200" cy="26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Times New Roman"/>
                </a:rPr>
                <a:t>Executin of the tas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ИИ и ИНТЕРРОГАТИВНАЯЛОГ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8380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ОБЩ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346480" y="1554120"/>
            <a:ext cx="4848120" cy="14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Общая деятельность D(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987720" y="2300400"/>
            <a:ext cx="1692360" cy="161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T(t) =&gt;QA(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006560" y="2557440"/>
            <a:ext cx="1031760" cy="92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Sb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(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475000" y="2655720"/>
            <a:ext cx="8827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en-US" sz="1400" spc="-1" strike="noStrike" baseline="30000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(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24200" y="3230640"/>
            <a:ext cx="771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367160" y="3046320"/>
            <a:ext cx="933480" cy="7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L’(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 rot="10800000">
            <a:off x="7448040" y="2673360"/>
            <a:ext cx="1009800" cy="93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Sb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(t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 rot="10800000">
            <a:off x="6019560" y="2743200"/>
            <a:ext cx="809640" cy="76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en-US" sz="1400" spc="-1" strike="noStrike" baseline="30000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(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6892560" y="3354480"/>
            <a:ext cx="63972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357720" y="3230640"/>
            <a:ext cx="63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5552640" y="3295800"/>
            <a:ext cx="631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5126040" y="2050560"/>
            <a:ext cx="0" cy="62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3532320" y="4414680"/>
            <a:ext cx="2778120" cy="995400"/>
            <a:chOff x="3532320" y="4414680"/>
            <a:chExt cx="2778120" cy="995400"/>
          </a:xfrm>
        </p:grpSpPr>
        <p:sp>
          <p:nvSpPr>
            <p:cNvPr id="213" name=""/>
            <p:cNvSpPr/>
            <p:nvPr/>
          </p:nvSpPr>
          <p:spPr>
            <a:xfrm>
              <a:off x="3532320" y="4414680"/>
              <a:ext cx="2778120" cy="995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I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289760" y="4538880"/>
              <a:ext cx="1388880" cy="62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L(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 flipV="1">
            <a:off x="4921200" y="3668400"/>
            <a:ext cx="0" cy="1119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6T09:54:36Z</dcterms:created>
  <dc:creator>Russian</dc:creator>
  <dc:description/>
  <dc:language>en-US</dc:language>
  <cp:lastModifiedBy>Валерий Г. Костин</cp:lastModifiedBy>
  <dcterms:modified xsi:type="dcterms:W3CDTF">2002-12-12T13:45:25Z</dcterms:modified>
  <cp:revision>2</cp:revision>
  <dc:subject/>
  <dc:title>ИИ и ИНТЕРРОГАТИВНАЯЛОГИКА</dc:title>
</cp:coreProperties>
</file>