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3DB-84F6-43AC-826F-D0BCF3BE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DAC-0952-4F2E-AE83-D49A5069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43E-675A-4729-A34B-DF5C35FD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63B-DC3D-4FC1-BA30-3BF5D1EA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EDA-591D-45EC-9BF0-7C617FA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AD7-A0EA-4B3A-8F5D-385D4DA9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E5B-4E67-4D3F-8A60-4A79632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FBA-E7E2-417F-8998-49EB3C8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2A8F-B1AE-4BE5-B30F-84EFEE16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BEF-E7FE-4B0C-A2D0-F0812A3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9E4-BB14-42DE-A42B-EC845F9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C93-122D-401A-887A-D5474C05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5653-2A3B-4550-BE71-92680CFD4D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990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1600200"/>
            <a:ext cx="5638680" cy="2286000"/>
            <a:chOff x="1905120" y="1600200"/>
            <a:chExt cx="5638680" cy="2286000"/>
          </a:xfrm>
        </p:grpSpPr>
        <p:sp>
          <p:nvSpPr>
            <p:cNvPr id="45" name=""/>
            <p:cNvSpPr/>
            <p:nvPr/>
          </p:nvSpPr>
          <p:spPr>
            <a:xfrm>
              <a:off x="1905120" y="1600200"/>
              <a:ext cx="5638680" cy="2286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2743200"/>
              <a:ext cx="56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2743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1919520"/>
              <a:ext cx="541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ЗНАНИЯ КАК СИСТЕМА ДОСТУП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0625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23880" y="1828800"/>
            <a:ext cx="914040" cy="4419000"/>
            <a:chOff x="1523880" y="1828800"/>
            <a:chExt cx="914040" cy="4419000"/>
          </a:xfrm>
        </p:grpSpPr>
        <p:sp>
          <p:nvSpPr>
            <p:cNvPr id="52" name=""/>
            <p:cNvSpPr/>
            <p:nvPr/>
          </p:nvSpPr>
          <p:spPr>
            <a:xfrm flipH="1">
              <a:off x="1523880" y="1828800"/>
              <a:ext cx="591120" cy="441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524240" y="3581640"/>
              <a:ext cx="91368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133720" y="434340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СТРУКТУР ДАННЫХ И ОПЕР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724280"/>
            <a:ext cx="0" cy="45720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1814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СИСТЕМА ОБЪЕКТОВ (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5562720"/>
            <a:ext cx="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601992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472428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685800"/>
            <a:ext cx="861048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838080"/>
            <a:ext cx="4419720" cy="266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3505320"/>
            <a:ext cx="1981080" cy="1828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2133720" cy="33526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2514600" cy="2514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838080"/>
            <a:ext cx="3276360" cy="3048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3809880"/>
            <a:ext cx="114300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3962520"/>
            <a:ext cx="1143000" cy="2361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886200"/>
            <a:ext cx="1447920" cy="114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038480"/>
            <a:ext cx="144792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1447920"/>
            <a:ext cx="2209680" cy="152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600200"/>
            <a:ext cx="221004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1219320"/>
            <a:ext cx="3200400" cy="19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1371600"/>
            <a:ext cx="3200400" cy="1981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28195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2819520"/>
            <a:ext cx="266688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123720" y="2971800"/>
            <a:ext cx="26672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4114800"/>
            <a:ext cx="16002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267080"/>
            <a:ext cx="16002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590920"/>
            <a:ext cx="106668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4952880"/>
            <a:ext cx="9907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066680" y="4572000"/>
            <a:ext cx="1067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6172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ЭКЗЕМПЛЯ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6248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6386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61722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БЛАСТЬ ИНТЕРПРЕ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1981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4197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4572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ОДЕЛ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752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3341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ЕЛЬ 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066680"/>
            <a:ext cx="358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Я МОДЕЛЕЙ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8880" y="23623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РЕЙМО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124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ЕТЕВ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5909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ЛОГИКО-ЛИГВИС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00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ОДУК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3341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RX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971800"/>
            <a:ext cx="0" cy="3200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37339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648320"/>
            <a:ext cx="4572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5486400"/>
            <a:ext cx="9144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1447920"/>
            <a:ext cx="190476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1447920"/>
            <a:ext cx="1600200" cy="1600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1447920"/>
            <a:ext cx="1447560" cy="9144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762120"/>
            <a:ext cx="861048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38080"/>
            <a:ext cx="47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УНКЦИОНАЛЬНЫЕ КЛАС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1295280"/>
            <a:ext cx="2743200" cy="3200400"/>
            <a:chOff x="685800" y="1295280"/>
            <a:chExt cx="2743200" cy="3200400"/>
          </a:xfrm>
        </p:grpSpPr>
        <p:sp>
          <p:nvSpPr>
            <p:cNvPr id="116" name=""/>
            <p:cNvSpPr/>
            <p:nvPr/>
          </p:nvSpPr>
          <p:spPr>
            <a:xfrm>
              <a:off x="685800" y="12952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НЯТ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18288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МЕН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1981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14400" y="304812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ЦЕСС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403848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ОЯ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1676520"/>
              <a:ext cx="0" cy="28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209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120" y="3200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419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4343400"/>
            <a:ext cx="8229600" cy="2135880"/>
            <a:chOff x="380880" y="4343400"/>
            <a:chExt cx="8229600" cy="2135880"/>
          </a:xfrm>
        </p:grpSpPr>
        <p:sp>
          <p:nvSpPr>
            <p:cNvPr id="126" name=""/>
            <p:cNvSpPr/>
            <p:nvPr/>
          </p:nvSpPr>
          <p:spPr>
            <a:xfrm>
              <a:off x="2819520" y="434340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ТНОШ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24280" y="5791320"/>
              <a:ext cx="243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ДЕНТ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6172200"/>
              <a:ext cx="25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ЛАССИФИКАЦИО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33720" y="579132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8080" y="53341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СТРАН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880" y="487692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4480" y="4952880"/>
              <a:ext cx="228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ЧИННО-СЛЕДСТВ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8680" y="54100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АГМ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828800" y="4648320"/>
              <a:ext cx="990720" cy="3808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514240" y="4724280"/>
              <a:ext cx="68580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352680" y="4724280"/>
              <a:ext cx="15264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4876920"/>
              <a:ext cx="15264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4724280"/>
              <a:ext cx="990360" cy="990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4648320"/>
              <a:ext cx="1600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4572000"/>
              <a:ext cx="2438640" cy="5335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1828800" y="1066680"/>
            <a:ext cx="990720" cy="3812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895120" y="1143000"/>
            <a:ext cx="304920" cy="685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1295280"/>
            <a:ext cx="0" cy="28958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1219320"/>
            <a:ext cx="1676520" cy="19047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219320"/>
            <a:ext cx="1523880" cy="10666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24760" y="327672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ИФИКА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14479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ИМПЕРАТИВ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48520" y="2362320"/>
            <a:ext cx="264636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ВАНТИФИК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А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КОЛИЧЕ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1143000"/>
            <a:ext cx="1122480" cy="3808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6576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МОДА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3886200"/>
            <a:ext cx="200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1219320"/>
            <a:ext cx="13716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1371600"/>
            <a:ext cx="685800" cy="2438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838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НТАГМАТИЧЕСКИЕ ЦЕП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362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24382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590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144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А)СИНТАГ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68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Times New Roman"/>
              </a:rPr>
              <a:t>Отношениме или императив с квантификаторами, модификаторами, модальностями 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205740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Понятие или имя с квантификаторами, модификаторами или оценк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5120" y="3200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8288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3048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600200" y="3809880"/>
            <a:ext cx="5790960" cy="2438640"/>
            <a:chOff x="1600200" y="3809880"/>
            <a:chExt cx="5790960" cy="2438640"/>
          </a:xfrm>
        </p:grpSpPr>
        <p:grpSp>
          <p:nvGrpSpPr>
            <p:cNvPr id="168" name=""/>
            <p:cNvGrpSpPr/>
            <p:nvPr/>
          </p:nvGrpSpPr>
          <p:grpSpPr>
            <a:xfrm>
              <a:off x="1600200" y="4387680"/>
              <a:ext cx="1523880" cy="1860840"/>
              <a:chOff x="1600200" y="4387680"/>
              <a:chExt cx="1523880" cy="18608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00200" y="4387680"/>
                <a:ext cx="1523880" cy="489240"/>
                <a:chOff x="1600200" y="4387680"/>
                <a:chExt cx="1523880" cy="48924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1828800" y="4724280"/>
                  <a:ext cx="990720" cy="152640"/>
                  <a:chOff x="1828800" y="4724280"/>
                  <a:chExt cx="990720" cy="1526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1828800" y="47242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2666880" y="47242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905120" y="48006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>
                  <a:off x="1600200" y="43876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209680" y="44197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43200" y="44197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1600200" y="4844880"/>
                <a:ext cx="1523880" cy="489240"/>
                <a:chOff x="1600200" y="4844880"/>
                <a:chExt cx="1523880" cy="4892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1828800" y="5181480"/>
                  <a:ext cx="990720" cy="152640"/>
                  <a:chOff x="1828800" y="5181480"/>
                  <a:chExt cx="990720" cy="1526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1828800" y="51814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2666880" y="51814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05120" y="52578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>
                  <a:off x="1600200" y="48448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09680" y="48769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743200" y="48769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1600200" y="5302080"/>
                <a:ext cx="1523880" cy="489240"/>
                <a:chOff x="1600200" y="5302080"/>
                <a:chExt cx="1523880" cy="48924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828800" y="5638680"/>
                  <a:ext cx="990720" cy="152640"/>
                  <a:chOff x="1828800" y="5638680"/>
                  <a:chExt cx="990720" cy="15264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828800" y="56386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2666880" y="56386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905120" y="57150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1600200" y="53020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209680" y="53341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743200" y="53341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00200" y="5759280"/>
                <a:ext cx="1523880" cy="489240"/>
                <a:chOff x="1600200" y="5759280"/>
                <a:chExt cx="1523880" cy="48924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1828800" y="6095880"/>
                  <a:ext cx="990720" cy="152640"/>
                  <a:chOff x="1828800" y="6095880"/>
                  <a:chExt cx="990720" cy="1526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1828800" y="6095880"/>
                    <a:ext cx="15228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666880" y="6095880"/>
                    <a:ext cx="152640" cy="15264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905120" y="617220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1600200" y="575928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09680" y="5791320"/>
                  <a:ext cx="3812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43200" y="5791320"/>
                  <a:ext cx="3808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66"/>
                      </a:solidFill>
                      <a:latin typeface="Times New Roman"/>
                    </a:rPr>
                    <a:t>b</a:t>
                  </a:r>
                  <a:r>
                    <a:rPr b="1" lang="en-US" sz="16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952880" y="4495680"/>
              <a:ext cx="2438280" cy="1371240"/>
              <a:chOff x="4952880" y="4495680"/>
              <a:chExt cx="2438280" cy="13712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952880" y="4495680"/>
                <a:ext cx="1572120" cy="585720"/>
                <a:chOff x="4952880" y="4495680"/>
                <a:chExt cx="1572120" cy="585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5188680" y="4898880"/>
                  <a:ext cx="1022040" cy="182520"/>
                  <a:chOff x="5188680" y="4898880"/>
                  <a:chExt cx="1022040" cy="182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188680" y="4898880"/>
                    <a:ext cx="15696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053400" y="4898880"/>
                    <a:ext cx="157320" cy="1825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267160" y="4989960"/>
                    <a:ext cx="785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4952880" y="4495680"/>
                  <a:ext cx="3927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581800" y="4533840"/>
                  <a:ext cx="39348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132240" y="4533840"/>
                  <a:ext cx="3927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053760" y="4899240"/>
                <a:ext cx="1022040" cy="182160"/>
                <a:chOff x="6053760" y="4899240"/>
                <a:chExt cx="1022040" cy="18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053760" y="4899240"/>
                  <a:ext cx="15696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18480" y="4899240"/>
                  <a:ext cx="157320" cy="1821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132240" y="4990320"/>
                  <a:ext cx="785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975280" y="44956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47240" y="4533480"/>
                <a:ext cx="3931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7680" y="4533480"/>
                <a:ext cx="393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65800" y="5130360"/>
                <a:ext cx="966960" cy="60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21200">
                <a:off x="5834880" y="5123520"/>
                <a:ext cx="5698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89920" y="5684400"/>
                <a:ext cx="157320" cy="1825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447240" y="5043960"/>
                <a:ext cx="550080" cy="73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61880" y="5318280"/>
                <a:ext cx="5504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200400" y="380988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ПИСАНИЕ СИТУАЦИ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14600" y="41148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И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4114800"/>
              <a:ext cx="16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ПРЕДСТАВЛЕНИЕ ЗН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1048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83808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ФАЗОВАЯ СТРУКТУРА ЗН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56386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914400" y="4648320"/>
            <a:ext cx="1417248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14400" y="4114800"/>
            <a:ext cx="141724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914400" y="3505320"/>
            <a:ext cx="1417248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14400" y="2590920"/>
            <a:ext cx="1417248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14400" y="1447920"/>
            <a:ext cx="14172480" cy="838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5105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41000">
            <a:off x="4191120" y="22093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270600">
            <a:off x="3885840" y="32004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404400">
            <a:off x="4038480" y="380952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382200">
            <a:off x="3276360" y="44193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ОТЕОРЕТИЧЕСКАЯ ФА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8:54Z</dcterms:created>
  <dc:creator>Петр Соснин</dc:creator>
  <dc:description/>
  <dc:language>en-US</dc:language>
  <cp:lastModifiedBy>Валерий Г. Костин</cp:lastModifiedBy>
  <dcterms:modified xsi:type="dcterms:W3CDTF">2002-12-12T13:40:06Z</dcterms:modified>
  <cp:revision>8</cp:revision>
  <dc:subject/>
  <dc:title>ПРЕДСТАВЛЕНИЕ ЗНАНИЙ</dc:title>
</cp:coreProperties>
</file>