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432-B715-4682-86E2-FE356F29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FE0-F5C2-4F92-ADC9-3C1D93A0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5D1-7DC5-4E99-9182-7FFA2391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6A7-BD38-49FF-BAA9-B477EF83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49C-42B2-49FF-B29C-0BE13909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05D1-1135-44FB-AE2D-EBDD5100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176-8546-4841-A44B-2BC12E31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074-18C8-40FC-9641-4482AED6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A84-8741-45E4-B5BA-55E358AD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CCB-D052-495B-9574-954D972A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3FB-6D96-407D-AB52-05BA4F93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FF1-F882-447A-B62D-59D3C042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EF1A-A270-4359-B108-814366C744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6094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9144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ФРЕЙМОВЫЕ ПРЕДСТАВ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6002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ДВИЖЕНИЕ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чт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ак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д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 помощью чег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зачем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ог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9718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еревозка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т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куда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148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груз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очность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хран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словия перевозк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90720" y="516564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редство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[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ип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граничения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l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наличное количество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&gt;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8600" y="76212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505320" y="914400"/>
            <a:ext cx="2361960" cy="685800"/>
            <a:chOff x="3505320" y="914400"/>
            <a:chExt cx="2361960" cy="685800"/>
          </a:xfrm>
        </p:grpSpPr>
        <p:sp>
          <p:nvSpPr>
            <p:cNvPr id="428" name=""/>
            <p:cNvSpPr/>
            <p:nvPr/>
          </p:nvSpPr>
          <p:spPr>
            <a:xfrm>
              <a:off x="3505320" y="914400"/>
              <a:ext cx="2361960" cy="685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57600" y="990720"/>
              <a:ext cx="2057400" cy="52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 (методы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1828800"/>
            <a:ext cx="1980720" cy="457200"/>
            <a:chOff x="1828800" y="1828800"/>
            <a:chExt cx="1980720" cy="457200"/>
          </a:xfrm>
        </p:grpSpPr>
        <p:sp>
          <p:nvSpPr>
            <p:cNvPr id="431" name=""/>
            <p:cNvSpPr/>
            <p:nvPr/>
          </p:nvSpPr>
          <p:spPr>
            <a:xfrm>
              <a:off x="1828800" y="1828800"/>
              <a:ext cx="19807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94040" y="1905120"/>
              <a:ext cx="1733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ммуник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80880" y="2590920"/>
            <a:ext cx="1447920" cy="457200"/>
            <a:chOff x="380880" y="2590920"/>
            <a:chExt cx="1447920" cy="457200"/>
          </a:xfrm>
        </p:grpSpPr>
        <p:sp>
          <p:nvSpPr>
            <p:cNvPr id="434" name=""/>
            <p:cNvSpPr/>
            <p:nvPr/>
          </p:nvSpPr>
          <p:spPr>
            <a:xfrm>
              <a:off x="380880" y="2590920"/>
              <a:ext cx="144792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1480" y="2667240"/>
              <a:ext cx="126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асс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191120" y="2666880"/>
            <a:ext cx="1218960" cy="457200"/>
            <a:chOff x="4191120" y="2666880"/>
            <a:chExt cx="1218960" cy="457200"/>
          </a:xfrm>
        </p:grpSpPr>
        <p:sp>
          <p:nvSpPr>
            <p:cNvPr id="437" name=""/>
            <p:cNvSpPr/>
            <p:nvPr/>
          </p:nvSpPr>
          <p:spPr>
            <a:xfrm>
              <a:off x="4191120" y="2666880"/>
              <a:ext cx="121896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2640" y="2743200"/>
              <a:ext cx="1066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657600"/>
            <a:ext cx="1523880" cy="457200"/>
            <a:chOff x="762120" y="3657600"/>
            <a:chExt cx="1523880" cy="457200"/>
          </a:xfrm>
        </p:grpSpPr>
        <p:sp>
          <p:nvSpPr>
            <p:cNvPr id="440" name=""/>
            <p:cNvSpPr/>
            <p:nvPr/>
          </p:nvSpPr>
          <p:spPr>
            <a:xfrm>
              <a:off x="762120" y="36576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9200" y="37339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762120" y="4419720"/>
            <a:ext cx="1828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14400" y="4495680"/>
            <a:ext cx="1600200" cy="52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токол мыслей вслу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2120" y="5257800"/>
            <a:ext cx="1143000" cy="457200"/>
            <a:chOff x="762120" y="5257800"/>
            <a:chExt cx="1143000" cy="457200"/>
          </a:xfrm>
        </p:grpSpPr>
        <p:sp>
          <p:nvSpPr>
            <p:cNvPr id="445" name=""/>
            <p:cNvSpPr/>
            <p:nvPr/>
          </p:nvSpPr>
          <p:spPr>
            <a:xfrm>
              <a:off x="762120" y="525780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7520" y="5334120"/>
              <a:ext cx="10000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ек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57200" y="30481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29400" y="2133720"/>
            <a:ext cx="2056680" cy="3733560"/>
            <a:chOff x="6629400" y="2133720"/>
            <a:chExt cx="2056680" cy="3733560"/>
          </a:xfrm>
        </p:grpSpPr>
        <p:grpSp>
          <p:nvGrpSpPr>
            <p:cNvPr id="452" name=""/>
            <p:cNvGrpSpPr/>
            <p:nvPr/>
          </p:nvGrpSpPr>
          <p:grpSpPr>
            <a:xfrm>
              <a:off x="6629400" y="2133720"/>
              <a:ext cx="1974240" cy="457200"/>
              <a:chOff x="6629400" y="2133720"/>
              <a:chExt cx="1974240" cy="457200"/>
            </a:xfrm>
          </p:grpSpPr>
          <p:sp>
            <p:nvSpPr>
              <p:cNvPr id="453" name=""/>
              <p:cNvSpPr/>
              <p:nvPr/>
            </p:nvSpPr>
            <p:spPr>
              <a:xfrm>
                <a:off x="6629400" y="2133720"/>
                <a:ext cx="1974240" cy="4572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793920" y="2210040"/>
                <a:ext cx="1725480" cy="307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текстологическ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205400" y="3048120"/>
              <a:ext cx="1398240" cy="609480"/>
              <a:chOff x="7205400" y="3048120"/>
              <a:chExt cx="139824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7205400" y="3048120"/>
                <a:ext cx="139824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05400" y="3124440"/>
                <a:ext cx="1398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учебник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205400" y="4191120"/>
              <a:ext cx="1316160" cy="609480"/>
              <a:chOff x="7205400" y="4191120"/>
              <a:chExt cx="1316160" cy="609480"/>
            </a:xfrm>
          </p:grpSpPr>
          <p:sp>
            <p:nvSpPr>
              <p:cNvPr id="459" name=""/>
              <p:cNvSpPr/>
              <p:nvPr/>
            </p:nvSpPr>
            <p:spPr>
              <a:xfrm>
                <a:off x="7205400" y="4191120"/>
                <a:ext cx="13161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87120" y="4191120"/>
                <a:ext cx="1234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литерату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205400" y="5257800"/>
              <a:ext cx="1480680" cy="609480"/>
              <a:chOff x="7205400" y="5257800"/>
              <a:chExt cx="14806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7205400" y="5257800"/>
                <a:ext cx="148068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282800" y="5333760"/>
                <a:ext cx="1403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Анализ докум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876000" y="25909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76000" y="556272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876000" y="4572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76000" y="3429000"/>
              <a:ext cx="3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971800" y="3429000"/>
            <a:ext cx="1523880" cy="457200"/>
            <a:chOff x="2971800" y="3429000"/>
            <a:chExt cx="1523880" cy="457200"/>
          </a:xfrm>
        </p:grpSpPr>
        <p:sp>
          <p:nvSpPr>
            <p:cNvPr id="469" name=""/>
            <p:cNvSpPr/>
            <p:nvPr/>
          </p:nvSpPr>
          <p:spPr>
            <a:xfrm>
              <a:off x="29718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988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3429000"/>
            <a:ext cx="1523880" cy="457200"/>
            <a:chOff x="5029200" y="3429000"/>
            <a:chExt cx="1523880" cy="457200"/>
          </a:xfrm>
        </p:grpSpPr>
        <p:sp>
          <p:nvSpPr>
            <p:cNvPr id="472" name=""/>
            <p:cNvSpPr/>
            <p:nvPr/>
          </p:nvSpPr>
          <p:spPr>
            <a:xfrm>
              <a:off x="5029200" y="3429000"/>
              <a:ext cx="152388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56280" y="3505320"/>
              <a:ext cx="13334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блюд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352680" y="3886200"/>
            <a:ext cx="1447560" cy="2514600"/>
            <a:chOff x="3352680" y="3886200"/>
            <a:chExt cx="1447560" cy="2514600"/>
          </a:xfrm>
        </p:grpSpPr>
        <p:grpSp>
          <p:nvGrpSpPr>
            <p:cNvPr id="475" name=""/>
            <p:cNvGrpSpPr/>
            <p:nvPr/>
          </p:nvGrpSpPr>
          <p:grpSpPr>
            <a:xfrm>
              <a:off x="3581280" y="5791320"/>
              <a:ext cx="1218960" cy="609480"/>
              <a:chOff x="3581280" y="5791320"/>
              <a:chExt cx="1218960" cy="609480"/>
            </a:xfrm>
          </p:grpSpPr>
          <p:sp>
            <p:nvSpPr>
              <p:cNvPr id="476" name=""/>
              <p:cNvSpPr/>
              <p:nvPr/>
            </p:nvSpPr>
            <p:spPr>
              <a:xfrm>
                <a:off x="3581280" y="579132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57240" y="579132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олевые игр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581280" y="4952880"/>
              <a:ext cx="1218960" cy="609480"/>
              <a:chOff x="3581280" y="4952880"/>
              <a:chExt cx="1218960" cy="609480"/>
            </a:xfrm>
          </p:grpSpPr>
          <p:sp>
            <p:nvSpPr>
              <p:cNvPr id="479" name=""/>
              <p:cNvSpPr/>
              <p:nvPr/>
            </p:nvSpPr>
            <p:spPr>
              <a:xfrm>
                <a:off x="3581280" y="495288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657240" y="495288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руглый сто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581280" y="4114800"/>
              <a:ext cx="1218960" cy="609480"/>
              <a:chOff x="3581280" y="4114800"/>
              <a:chExt cx="1218960" cy="60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581280" y="4114800"/>
                <a:ext cx="12189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657240" y="4114800"/>
                <a:ext cx="114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зговой штур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35268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2680" y="6172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2680" y="4419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52680" y="5181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257800" y="3886200"/>
            <a:ext cx="1447560" cy="2514600"/>
            <a:chOff x="5257800" y="3886200"/>
            <a:chExt cx="1447560" cy="2514600"/>
          </a:xfrm>
        </p:grpSpPr>
        <p:grpSp>
          <p:nvGrpSpPr>
            <p:cNvPr id="489" name=""/>
            <p:cNvGrpSpPr/>
            <p:nvPr/>
          </p:nvGrpSpPr>
          <p:grpSpPr>
            <a:xfrm>
              <a:off x="5486400" y="5486400"/>
              <a:ext cx="1218960" cy="380880"/>
              <a:chOff x="5486400" y="5486400"/>
              <a:chExt cx="1218960" cy="380880"/>
            </a:xfrm>
          </p:grpSpPr>
          <p:sp>
            <p:nvSpPr>
              <p:cNvPr id="490" name=""/>
              <p:cNvSpPr/>
              <p:nvPr/>
            </p:nvSpPr>
            <p:spPr>
              <a:xfrm>
                <a:off x="5486400" y="548640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62360" y="548640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5486400" y="4876920"/>
              <a:ext cx="121896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360" y="4876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вью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486400" y="4191120"/>
              <a:ext cx="1218960" cy="380880"/>
              <a:chOff x="5486400" y="4191120"/>
              <a:chExt cx="121896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86400" y="41911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562360" y="41911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Анкетиров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257800" y="388620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57800" y="6172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57800" y="44197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257800" y="5105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486400" y="6019920"/>
              <a:ext cx="1218960" cy="380880"/>
              <a:chOff x="5486400" y="6019920"/>
              <a:chExt cx="1218960" cy="380880"/>
            </a:xfrm>
          </p:grpSpPr>
          <p:sp>
            <p:nvSpPr>
              <p:cNvPr id="502" name=""/>
              <p:cNvSpPr/>
              <p:nvPr/>
            </p:nvSpPr>
            <p:spPr>
              <a:xfrm>
                <a:off x="5486400" y="6019920"/>
                <a:ext cx="12189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2360" y="601992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иалог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57800" y="5638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 flipH="1">
            <a:off x="1371240" y="2286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22096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504960" y="16002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16002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4114440" y="31240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68580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57200" y="838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ЩАЯ СХ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219320"/>
            <a:ext cx="289548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67280" y="1819440"/>
            <a:ext cx="2286000" cy="771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867280" y="3019320"/>
            <a:ext cx="2210040" cy="857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67280" y="4219560"/>
            <a:ext cx="2286000" cy="85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914400" y="3105000"/>
            <a:ext cx="1371240" cy="1285560"/>
            <a:chOff x="914400" y="3105000"/>
            <a:chExt cx="1371240" cy="1285560"/>
          </a:xfrm>
        </p:grpSpPr>
        <p:sp>
          <p:nvSpPr>
            <p:cNvPr id="519" name=""/>
            <p:cNvSpPr/>
            <p:nvPr/>
          </p:nvSpPr>
          <p:spPr>
            <a:xfrm>
              <a:off x="2043720" y="3105000"/>
              <a:ext cx="241920" cy="1285560"/>
            </a:xfrm>
            <a:custGeom>
              <a:avLst/>
              <a:gdLst>
                <a:gd name="textAreaLeft" fmla="*/ 0 w 241920"/>
                <a:gd name="textAreaRight" fmla="*/ 87480 w 24192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14400" y="3105000"/>
              <a:ext cx="80640" cy="1285560"/>
            </a:xfrm>
            <a:custGeom>
              <a:avLst/>
              <a:gdLst>
                <a:gd name="textAreaLeft" fmla="*/ 51480 w 80640"/>
                <a:gd name="textAreaRight" fmla="*/ 81000 w 80640"/>
                <a:gd name="textAreaTop" fmla="*/ 33480 h 1285560"/>
                <a:gd name="textAreaBottom" fmla="*/ 125208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5040" y="3190680"/>
              <a:ext cx="12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14400" y="3619080"/>
              <a:ext cx="13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СТОЧНИК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2438280" y="3018960"/>
            <a:ext cx="6858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3705120"/>
            <a:ext cx="685800" cy="771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048120" y="31050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048120" y="4476600"/>
            <a:ext cx="2819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62720" y="2418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3105000"/>
            <a:ext cx="30456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43600" y="2076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ТНТЕРПРЕТ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19920" y="319104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НАНИЯ О ПРЕДСТАВЛЕН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44766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353376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48120" y="216216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НЖЕН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ОГНИТОЛО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301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38480" y="36194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3619440"/>
            <a:ext cx="0" cy="857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8320" y="3705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62520" y="319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ИОБРЕТ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35812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71600" y="38862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34290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6483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64832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3623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67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7692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14800" y="5638680"/>
            <a:ext cx="22860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320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0688600">
            <a:off x="3128400" y="2421720"/>
            <a:ext cx="2971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формальны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q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889600">
            <a:off x="2955240" y="3163680"/>
            <a:ext cx="5126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идентификационно–измерительная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T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14600">
            <a:off x="3126960" y="3747600"/>
            <a:ext cx="356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классификацион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({K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204600">
            <a:off x="3202560" y="426672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описательная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S({T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)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990720"/>
            <a:ext cx="0" cy="487656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188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5715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32880" y="1600200"/>
            <a:ext cx="47304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048120" y="1295280"/>
            <a:ext cx="3429000" cy="1447920"/>
            <a:chOff x="3048120" y="1295280"/>
            <a:chExt cx="3429000" cy="1447920"/>
          </a:xfrm>
        </p:grpSpPr>
        <p:sp>
          <p:nvSpPr>
            <p:cNvPr id="247" name=""/>
            <p:cNvSpPr/>
            <p:nvPr/>
          </p:nvSpPr>
          <p:spPr>
            <a:xfrm>
              <a:off x="380988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95680" y="1295280"/>
              <a:ext cx="22860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769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48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34120" y="19051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81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252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86400" y="2590920"/>
              <a:ext cx="22860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962160" y="1447920"/>
              <a:ext cx="60948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1447920"/>
              <a:ext cx="76176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00040" y="1981080"/>
              <a:ext cx="6094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86200" y="2057400"/>
              <a:ext cx="2286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029200" y="2057400"/>
              <a:ext cx="38088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2057400"/>
              <a:ext cx="7632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62720" y="1981080"/>
              <a:ext cx="8380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621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Естестве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скус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1828800"/>
            <a:ext cx="266724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7391520" y="182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914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2952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фференциальне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30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2590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21337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69572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2767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стемы классифик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219320" y="4267080"/>
            <a:ext cx="1218600" cy="1142640"/>
            <a:chOff x="1219320" y="4267080"/>
            <a:chExt cx="1218600" cy="1142640"/>
          </a:xfrm>
        </p:grpSpPr>
        <p:sp>
          <p:nvSpPr>
            <p:cNvPr id="273" name=""/>
            <p:cNvSpPr/>
            <p:nvPr/>
          </p:nvSpPr>
          <p:spPr>
            <a:xfrm>
              <a:off x="14900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3760" y="4267080"/>
              <a:ext cx="81000" cy="120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948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69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1840" y="474840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444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86200" y="5289840"/>
              <a:ext cx="81000" cy="119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44040" y="4387320"/>
              <a:ext cx="21636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8120" y="4387320"/>
              <a:ext cx="270720" cy="36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272960" y="4808160"/>
              <a:ext cx="216360" cy="4813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17040" y="486864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23480" y="4868640"/>
              <a:ext cx="13536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6200" y="486864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13200" y="4808160"/>
              <a:ext cx="29772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19520" y="4267080"/>
            <a:ext cx="1218960" cy="1143000"/>
            <a:chOff x="2819520" y="4267080"/>
            <a:chExt cx="1218960" cy="1143000"/>
          </a:xfrm>
        </p:grpSpPr>
        <p:sp>
          <p:nvSpPr>
            <p:cNvPr id="289" name=""/>
            <p:cNvSpPr/>
            <p:nvPr/>
          </p:nvSpPr>
          <p:spPr>
            <a:xfrm>
              <a:off x="309096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33600" y="42670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7040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748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32040" y="4748040"/>
              <a:ext cx="81000" cy="12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52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44960" y="5289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144600" y="4387680"/>
              <a:ext cx="2156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87600" y="438768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873520" y="480852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17960" y="4869000"/>
              <a:ext cx="8100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3524400" y="4869000"/>
              <a:ext cx="134640" cy="4204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13040" y="4808520"/>
              <a:ext cx="298440" cy="541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4114800"/>
            <a:ext cx="1528920" cy="1187280"/>
            <a:chOff x="7086600" y="4114800"/>
            <a:chExt cx="1528920" cy="1187280"/>
          </a:xfrm>
        </p:grpSpPr>
        <p:sp>
          <p:nvSpPr>
            <p:cNvPr id="303" name=""/>
            <p:cNvSpPr/>
            <p:nvPr/>
          </p:nvSpPr>
          <p:spPr>
            <a:xfrm>
              <a:off x="735804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01040" y="41148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737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9600" y="518148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99480" y="459576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8660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204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3480" y="513720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412040" y="4235400"/>
              <a:ext cx="2160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4235400"/>
              <a:ext cx="27144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140600" y="4656240"/>
              <a:ext cx="217440" cy="480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85040" y="4716360"/>
              <a:ext cx="81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91120" y="4716360"/>
              <a:ext cx="135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3480" y="4716360"/>
              <a:ext cx="27000" cy="420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80480" y="4656240"/>
              <a:ext cx="298440" cy="541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34520" y="51055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01000" y="4648320"/>
              <a:ext cx="533520" cy="5331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876920" y="4191120"/>
            <a:ext cx="1299960" cy="1492200"/>
            <a:chOff x="4876920" y="4191120"/>
            <a:chExt cx="1299960" cy="1492200"/>
          </a:xfrm>
        </p:grpSpPr>
        <p:grpSp>
          <p:nvGrpSpPr>
            <p:cNvPr id="321" name=""/>
            <p:cNvGrpSpPr/>
            <p:nvPr/>
          </p:nvGrpSpPr>
          <p:grpSpPr>
            <a:xfrm>
              <a:off x="4876920" y="4191120"/>
              <a:ext cx="1218960" cy="1143000"/>
              <a:chOff x="4876920" y="4191120"/>
              <a:chExt cx="1218960" cy="1143000"/>
            </a:xfrm>
          </p:grpSpPr>
          <p:sp>
            <p:nvSpPr>
              <p:cNvPr id="322" name=""/>
              <p:cNvSpPr/>
              <p:nvPr/>
            </p:nvSpPr>
            <p:spPr>
              <a:xfrm>
                <a:off x="514836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91000" y="41911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2780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48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89440" y="46720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18148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4344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02000" y="4311720"/>
                <a:ext cx="2156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45000" y="4311720"/>
                <a:ext cx="271440" cy="3603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930920" y="4732200"/>
                <a:ext cx="217440" cy="4813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75360" y="4792680"/>
                <a:ext cx="158760" cy="3888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581800" y="4792680"/>
                <a:ext cx="13464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743440" y="4792680"/>
                <a:ext cx="27000" cy="4208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70440" y="4732200"/>
                <a:ext cx="298440" cy="5414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00480" y="5213520"/>
                <a:ext cx="81000" cy="120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81480" y="4800600"/>
                <a:ext cx="0" cy="3808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71500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5562720"/>
              <a:ext cx="81000" cy="120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714640" y="5334120"/>
              <a:ext cx="304920" cy="304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19920" y="5257800"/>
              <a:ext cx="15228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002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1055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3733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722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867280"/>
            <a:ext cx="70866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Times New Roman"/>
              </a:rPr>
              <a:t>РАЗЛОЖЕНИЕ  В  БАЗИСЕ  КЛАССИФИКАЦИЙ   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N= 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+…a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0" lang="en-US" sz="12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МАНТИЧЕСКИЕ СЕ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33520" y="5105520"/>
            <a:ext cx="761760" cy="685800"/>
            <a:chOff x="533520" y="5105520"/>
            <a:chExt cx="761760" cy="685800"/>
          </a:xfrm>
        </p:grpSpPr>
        <p:sp>
          <p:nvSpPr>
            <p:cNvPr id="354" name=""/>
            <p:cNvSpPr/>
            <p:nvPr/>
          </p:nvSpPr>
          <p:spPr>
            <a:xfrm>
              <a:off x="533520" y="51055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52578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81080" y="5105520"/>
            <a:ext cx="762120" cy="685800"/>
            <a:chOff x="1981080" y="5105520"/>
            <a:chExt cx="762120" cy="685800"/>
          </a:xfrm>
        </p:grpSpPr>
        <p:sp>
          <p:nvSpPr>
            <p:cNvPr id="357" name=""/>
            <p:cNvSpPr/>
            <p:nvPr/>
          </p:nvSpPr>
          <p:spPr>
            <a:xfrm>
              <a:off x="1981080" y="51055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7400" y="52578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657600" y="5181480"/>
            <a:ext cx="762120" cy="685800"/>
            <a:chOff x="3657600" y="5181480"/>
            <a:chExt cx="762120" cy="685800"/>
          </a:xfrm>
        </p:grpSpPr>
        <p:sp>
          <p:nvSpPr>
            <p:cNvPr id="360" name=""/>
            <p:cNvSpPr/>
            <p:nvPr/>
          </p:nvSpPr>
          <p:spPr>
            <a:xfrm>
              <a:off x="3657600" y="518148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3920" y="533376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952880" y="4572000"/>
            <a:ext cx="762120" cy="685800"/>
            <a:chOff x="4952880" y="4572000"/>
            <a:chExt cx="762120" cy="685800"/>
          </a:xfrm>
        </p:grpSpPr>
        <p:sp>
          <p:nvSpPr>
            <p:cNvPr id="363" name=""/>
            <p:cNvSpPr/>
            <p:nvPr/>
          </p:nvSpPr>
          <p:spPr>
            <a:xfrm>
              <a:off x="495288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920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543800" y="4572000"/>
            <a:ext cx="762120" cy="685800"/>
            <a:chOff x="7543800" y="4572000"/>
            <a:chExt cx="762120" cy="685800"/>
          </a:xfrm>
        </p:grpSpPr>
        <p:sp>
          <p:nvSpPr>
            <p:cNvPr id="366" name=""/>
            <p:cNvSpPr/>
            <p:nvPr/>
          </p:nvSpPr>
          <p:spPr>
            <a:xfrm>
              <a:off x="7543800" y="457200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20120" y="472428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248520" y="4572000"/>
            <a:ext cx="761760" cy="685800"/>
            <a:chOff x="6248520" y="4572000"/>
            <a:chExt cx="761760" cy="685800"/>
          </a:xfrm>
        </p:grpSpPr>
        <p:sp>
          <p:nvSpPr>
            <p:cNvPr id="369" name=""/>
            <p:cNvSpPr/>
            <p:nvPr/>
          </p:nvSpPr>
          <p:spPr>
            <a:xfrm>
              <a:off x="6248520" y="457200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472428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62520" y="2133720"/>
            <a:ext cx="761760" cy="685800"/>
            <a:chOff x="3962520" y="2133720"/>
            <a:chExt cx="761760" cy="685800"/>
          </a:xfrm>
        </p:grpSpPr>
        <p:sp>
          <p:nvSpPr>
            <p:cNvPr id="372" name=""/>
            <p:cNvSpPr/>
            <p:nvPr/>
          </p:nvSpPr>
          <p:spPr>
            <a:xfrm>
              <a:off x="3962520" y="2133720"/>
              <a:ext cx="76176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38480" y="2286000"/>
              <a:ext cx="60912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981080" y="3276720"/>
            <a:ext cx="762120" cy="685800"/>
            <a:chOff x="1981080" y="3276720"/>
            <a:chExt cx="762120" cy="685800"/>
          </a:xfrm>
        </p:grpSpPr>
        <p:sp>
          <p:nvSpPr>
            <p:cNvPr id="375" name=""/>
            <p:cNvSpPr/>
            <p:nvPr/>
          </p:nvSpPr>
          <p:spPr>
            <a:xfrm>
              <a:off x="1981080" y="3276720"/>
              <a:ext cx="762120" cy="6858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57400" y="3429000"/>
              <a:ext cx="609480" cy="3988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990720" y="3962160"/>
            <a:ext cx="137160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86000" y="3962160"/>
            <a:ext cx="152280" cy="1143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438280" y="3962520"/>
            <a:ext cx="1447920" cy="1218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514600" y="2743200"/>
            <a:ext cx="1676520" cy="23623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038480" y="2819160"/>
            <a:ext cx="152640" cy="23619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190760" y="2819520"/>
            <a:ext cx="990360" cy="1752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590920" y="2590920"/>
            <a:ext cx="1371600" cy="761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6370800">
            <a:off x="5309640" y="3981240"/>
            <a:ext cx="456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86400" y="5257800"/>
            <a:ext cx="2692440" cy="685800"/>
          </a:xfrm>
          <a:custGeom>
            <a:avLst/>
            <a:gdLst/>
            <a:ahLst/>
            <a:rect l="l" t="t" r="r" b="b"/>
            <a:pathLst>
              <a:path w="1696" h="432">
                <a:moveTo>
                  <a:pt x="1584" y="0"/>
                </a:moveTo>
                <a:cubicBezTo>
                  <a:pt x="1640" y="112"/>
                  <a:pt x="1696" y="224"/>
                  <a:pt x="1536" y="288"/>
                </a:cubicBezTo>
                <a:cubicBezTo>
                  <a:pt x="1376" y="352"/>
                  <a:pt x="880" y="432"/>
                  <a:pt x="624" y="384"/>
                </a:cubicBezTo>
                <a:cubicBezTo>
                  <a:pt x="368" y="336"/>
                  <a:pt x="104" y="64"/>
                  <a:pt x="0" y="0"/>
                </a:cubicBezTo>
              </a:path>
            </a:pathLst>
          </a:custGeom>
          <a:noFill/>
          <a:ln w="93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257440" y="1600200"/>
            <a:ext cx="2514600" cy="9907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772400" y="1600200"/>
            <a:ext cx="990720" cy="13716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257800" y="2590920"/>
            <a:ext cx="3505320" cy="3808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1752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153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43600" y="2286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2819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72200" y="1676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335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91440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ОДУКЦИОННЫЕ СИСТЕ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45200" y="2305080"/>
            <a:ext cx="3445920" cy="2876040"/>
            <a:chOff x="745200" y="2305080"/>
            <a:chExt cx="3445920" cy="2876040"/>
          </a:xfrm>
        </p:grpSpPr>
        <p:sp>
          <p:nvSpPr>
            <p:cNvPr id="399" name=""/>
            <p:cNvSpPr/>
            <p:nvPr/>
          </p:nvSpPr>
          <p:spPr>
            <a:xfrm rot="10927200">
              <a:off x="762120" y="2362320"/>
              <a:ext cx="3124080" cy="977760"/>
            </a:xfrm>
            <a:custGeom>
              <a:avLst/>
              <a:gdLst/>
              <a:ahLst/>
              <a:rect l="l" t="t" r="r" b="b"/>
              <a:pathLst>
                <a:path w="2392" h="760">
                  <a:moveTo>
                    <a:pt x="776" y="40"/>
                  </a:moveTo>
                  <a:cubicBezTo>
                    <a:pt x="560" y="80"/>
                    <a:pt x="208" y="176"/>
                    <a:pt x="104" y="280"/>
                  </a:cubicBezTo>
                  <a:cubicBezTo>
                    <a:pt x="0" y="384"/>
                    <a:pt x="16" y="592"/>
                    <a:pt x="152" y="664"/>
                  </a:cubicBezTo>
                  <a:cubicBezTo>
                    <a:pt x="288" y="736"/>
                    <a:pt x="728" y="736"/>
                    <a:pt x="920" y="712"/>
                  </a:cubicBezTo>
                  <a:cubicBezTo>
                    <a:pt x="1112" y="688"/>
                    <a:pt x="1168" y="512"/>
                    <a:pt x="1304" y="520"/>
                  </a:cubicBezTo>
                  <a:cubicBezTo>
                    <a:pt x="1440" y="528"/>
                    <a:pt x="1568" y="760"/>
                    <a:pt x="1736" y="760"/>
                  </a:cubicBezTo>
                  <a:cubicBezTo>
                    <a:pt x="1904" y="760"/>
                    <a:pt x="2232" y="616"/>
                    <a:pt x="2312" y="520"/>
                  </a:cubicBezTo>
                  <a:cubicBezTo>
                    <a:pt x="2392" y="424"/>
                    <a:pt x="2368" y="264"/>
                    <a:pt x="2216" y="184"/>
                  </a:cubicBezTo>
                  <a:cubicBezTo>
                    <a:pt x="2064" y="104"/>
                    <a:pt x="1632" y="64"/>
                    <a:pt x="1400" y="40"/>
                  </a:cubicBezTo>
                  <a:cubicBezTo>
                    <a:pt x="1168" y="16"/>
                    <a:pt x="992" y="0"/>
                    <a:pt x="776" y="40"/>
                  </a:cubicBez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581280"/>
              <a:ext cx="30481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43000" y="4572000"/>
              <a:ext cx="2819520" cy="609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640" y="32004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8640" y="411480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90720" y="3733560"/>
              <a:ext cx="320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РАССУЖДАЮЩАЯ СИСТЕМА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72428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  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640" y="274320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ОКУРУЖАЮЩИЙ МИР </a:t>
              </a: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447920" y="1447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S({i: C,P,A</a:t>
            </a:r>
            <a:r>
              <a:rPr b="1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B,Q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ТИПЫ ПРОДУКЦ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288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ЗМЕНЯЕТСЯ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22860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ОБРАЖЕНИЕ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44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управление событ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27432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СОПОСТАВЛЕН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20040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РЕГИСТ РАЦИЯ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359568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ИНФОРМАЦИОННАЯ ПОДДЕРЖКА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0" y="4038480"/>
            <a:ext cx="4191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W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ХОД СОБЫТ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55627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ЕОБРОАЗОВАНИЯ ФОРМЫ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50292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ПРОДОЛЖАЕТСЯ  ХОД РАССУЖДЕНИЙ</a:t>
            </a: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Peter Sosnin</cp:lastModifiedBy>
  <dcterms:modified xsi:type="dcterms:W3CDTF">2006-04-26T14:32:38Z</dcterms:modified>
  <cp:revision>17</cp:revision>
  <dc:subject/>
  <dc:title>ПРЕДСТАВЛЕНИЕ ЗНАНИЙ</dc:title>
</cp:coreProperties>
</file>