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7669-BFD5-4CA4-B85C-141B2379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8E2-6FB5-47FA-A3E9-16F00D24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5F2-567F-41F8-A86B-8926F989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9713-811C-4635-852E-E89754E4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8B56-4E84-413A-9134-EB320049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4BE-E6E4-46EA-A96A-94CBF94F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917-A3B1-4767-A09E-2833DFF5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DA9E-9BC3-4F04-8142-A59C3443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105-42FF-4276-9713-80782471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DF16-1E3F-4FE6-B94A-13956943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35B4-E9D7-4783-9A73-ECD04AC0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8DCE-1FA5-45B5-96D0-0C45A596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61EF-185E-43B8-8723-59FD9CECF9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3520" y="1295280"/>
            <a:ext cx="8305200" cy="838440"/>
            <a:chOff x="533520" y="1295280"/>
            <a:chExt cx="83052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1172160" y="1295280"/>
              <a:ext cx="1916280" cy="838440"/>
              <a:chOff x="1172160" y="1295280"/>
              <a:chExt cx="1916280" cy="838440"/>
            </a:xfrm>
          </p:grpSpPr>
          <p:sp>
            <p:nvSpPr>
              <p:cNvPr id="47" name=""/>
              <p:cNvSpPr/>
              <p:nvPr/>
            </p:nvSpPr>
            <p:spPr>
              <a:xfrm>
                <a:off x="117216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249920" y="1371600"/>
                <a:ext cx="17582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Датчики и преобразователи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727440" y="1295280"/>
              <a:ext cx="1916280" cy="838440"/>
              <a:chOff x="3727440" y="1295280"/>
              <a:chExt cx="1916280" cy="838440"/>
            </a:xfrm>
          </p:grpSpPr>
          <p:sp>
            <p:nvSpPr>
              <p:cNvPr id="50" name=""/>
              <p:cNvSpPr/>
              <p:nvPr/>
            </p:nvSpPr>
            <p:spPr>
              <a:xfrm>
                <a:off x="3727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7360" y="1371600"/>
                <a:ext cx="1756440" cy="337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обработк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283440" y="1295280"/>
              <a:ext cx="1916280" cy="838440"/>
              <a:chOff x="6283440" y="1295280"/>
              <a:chExt cx="1916280" cy="838440"/>
            </a:xfrm>
          </p:grpSpPr>
          <p:sp>
            <p:nvSpPr>
              <p:cNvPr id="53" name=""/>
              <p:cNvSpPr/>
              <p:nvPr/>
            </p:nvSpPr>
            <p:spPr>
              <a:xfrm>
                <a:off x="6283440" y="1295280"/>
                <a:ext cx="1916280" cy="838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3360" y="1371600"/>
                <a:ext cx="1756440" cy="5806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лассифицирование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33520" y="1447920"/>
              <a:ext cx="638280" cy="533160"/>
              <a:chOff x="533520" y="1447920"/>
              <a:chExt cx="638280" cy="533160"/>
            </a:xfrm>
          </p:grpSpPr>
          <p:sp>
            <p:nvSpPr>
              <p:cNvPr id="56" name=""/>
              <p:cNvSpPr/>
              <p:nvPr/>
            </p:nvSpPr>
            <p:spPr>
              <a:xfrm>
                <a:off x="533520" y="144792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33520" y="160020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33520" y="19810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644440" y="1447920"/>
              <a:ext cx="638640" cy="533160"/>
              <a:chOff x="5644440" y="1447920"/>
              <a:chExt cx="638640" cy="533160"/>
            </a:xfrm>
          </p:grpSpPr>
          <p:sp>
            <p:nvSpPr>
              <p:cNvPr id="60" name=""/>
              <p:cNvSpPr/>
              <p:nvPr/>
            </p:nvSpPr>
            <p:spPr>
              <a:xfrm>
                <a:off x="5644440" y="144792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644440" y="160020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644440" y="1981080"/>
                <a:ext cx="6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88800" y="1523880"/>
              <a:ext cx="638280" cy="533160"/>
              <a:chOff x="3088800" y="1523880"/>
              <a:chExt cx="638280" cy="533160"/>
            </a:xfrm>
          </p:grpSpPr>
          <p:sp>
            <p:nvSpPr>
              <p:cNvPr id="64" name=""/>
              <p:cNvSpPr/>
              <p:nvPr/>
            </p:nvSpPr>
            <p:spPr>
              <a:xfrm>
                <a:off x="3088800" y="152388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88800" y="167616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88800" y="2057040"/>
                <a:ext cx="6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200080" y="1676520"/>
              <a:ext cx="6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38080" y="25146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ЦИРОРВАТЬ (ОБУЧАЮЩЕЕ МНОЖЕСТВО,  ОПИСАНИЕ,  ПРАВИЛ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600200" y="3581280"/>
            <a:ext cx="5105520" cy="2667240"/>
            <a:chOff x="1600200" y="3581280"/>
            <a:chExt cx="5105520" cy="2667240"/>
          </a:xfrm>
        </p:grpSpPr>
        <p:grpSp>
          <p:nvGrpSpPr>
            <p:cNvPr id="70" name=""/>
            <p:cNvGrpSpPr/>
            <p:nvPr/>
          </p:nvGrpSpPr>
          <p:grpSpPr>
            <a:xfrm>
              <a:off x="2133720" y="3962520"/>
              <a:ext cx="4572000" cy="380880"/>
              <a:chOff x="2133720" y="3962520"/>
              <a:chExt cx="45720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133720" y="3962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133720" y="3962520"/>
                <a:ext cx="838080" cy="380880"/>
                <a:chOff x="2133720" y="3962520"/>
                <a:chExt cx="838080" cy="3808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213372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21004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971800" y="3962520"/>
                <a:ext cx="838080" cy="380880"/>
                <a:chOff x="2971800" y="3962520"/>
                <a:chExt cx="838080" cy="3808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97180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04812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4495680" y="3962520"/>
                <a:ext cx="838080" cy="380880"/>
                <a:chOff x="4495680" y="3962520"/>
                <a:chExt cx="838080" cy="380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44956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5720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867280" y="3962520"/>
                <a:ext cx="838080" cy="380880"/>
                <a:chOff x="5867280" y="3962520"/>
                <a:chExt cx="838080" cy="3808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67280" y="3962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943600" y="3962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A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" name=""/>
            <p:cNvGrpSpPr/>
            <p:nvPr/>
          </p:nvGrpSpPr>
          <p:grpSpPr>
            <a:xfrm>
              <a:off x="2133720" y="4343400"/>
              <a:ext cx="4572000" cy="380880"/>
              <a:chOff x="2133720" y="4343400"/>
              <a:chExt cx="4572000" cy="380880"/>
            </a:xfrm>
          </p:grpSpPr>
          <p:sp>
            <p:nvSpPr>
              <p:cNvPr id="85" name=""/>
              <p:cNvSpPr/>
              <p:nvPr/>
            </p:nvSpPr>
            <p:spPr>
              <a:xfrm>
                <a:off x="2133720" y="4343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2133720" y="4343400"/>
                <a:ext cx="838080" cy="380880"/>
                <a:chOff x="2133720" y="4343400"/>
                <a:chExt cx="838080" cy="380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3372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1004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2971800" y="4343400"/>
                <a:ext cx="838080" cy="380880"/>
                <a:chOff x="2971800" y="4343400"/>
                <a:chExt cx="838080" cy="3808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97180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04812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495680" y="4343400"/>
                <a:ext cx="838080" cy="380880"/>
                <a:chOff x="4495680" y="4343400"/>
                <a:chExt cx="838080" cy="380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4956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67280" y="4343400"/>
                <a:ext cx="838080" cy="380880"/>
                <a:chOff x="5867280" y="4343400"/>
                <a:chExt cx="83808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867280" y="4343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43600" y="434340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" name=""/>
            <p:cNvGrpSpPr/>
            <p:nvPr/>
          </p:nvGrpSpPr>
          <p:grpSpPr>
            <a:xfrm>
              <a:off x="2133720" y="4724280"/>
              <a:ext cx="4572000" cy="380880"/>
              <a:chOff x="2133720" y="4724280"/>
              <a:chExt cx="45720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2133720" y="4724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2133720" y="4724280"/>
                <a:ext cx="838080" cy="380880"/>
                <a:chOff x="2133720" y="4724280"/>
                <a:chExt cx="838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13372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21004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971800" y="4724280"/>
                <a:ext cx="838080" cy="380880"/>
                <a:chOff x="2971800" y="4724280"/>
                <a:chExt cx="838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97180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04812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495680" y="4724280"/>
                <a:ext cx="838080" cy="380880"/>
                <a:chOff x="4495680" y="4724280"/>
                <a:chExt cx="838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4956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5720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867280" y="4724280"/>
                <a:ext cx="838080" cy="380880"/>
                <a:chOff x="5867280" y="4724280"/>
                <a:chExt cx="838080" cy="380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867280" y="4724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943600" y="472428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2133720" y="5105520"/>
              <a:ext cx="4572000" cy="380880"/>
              <a:chOff x="2133720" y="5105520"/>
              <a:chExt cx="457200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2133720" y="510552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133720" y="5105520"/>
                <a:ext cx="838080" cy="380880"/>
                <a:chOff x="2133720" y="5105520"/>
                <a:chExt cx="838080" cy="3808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13372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21004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971800" y="5105520"/>
                <a:ext cx="838080" cy="380880"/>
                <a:chOff x="2971800" y="5105520"/>
                <a:chExt cx="838080" cy="3808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97180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495680" y="5105520"/>
                <a:ext cx="838080" cy="380880"/>
                <a:chOff x="4495680" y="5105520"/>
                <a:chExt cx="838080" cy="380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4956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720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867280" y="5105520"/>
                <a:ext cx="838080" cy="380880"/>
                <a:chOff x="5867280" y="5105520"/>
                <a:chExt cx="838080" cy="3808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867280" y="510552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43600" y="510552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F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" name=""/>
            <p:cNvGrpSpPr/>
            <p:nvPr/>
          </p:nvGrpSpPr>
          <p:grpSpPr>
            <a:xfrm>
              <a:off x="2133720" y="5486400"/>
              <a:ext cx="4572000" cy="380880"/>
              <a:chOff x="2133720" y="5486400"/>
              <a:chExt cx="457200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2133720" y="548640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2133720" y="5486400"/>
                <a:ext cx="838080" cy="380880"/>
                <a:chOff x="2133720" y="5486400"/>
                <a:chExt cx="838080" cy="3808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210040" y="5486400"/>
                  <a:ext cx="761760" cy="304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971800" y="5486400"/>
                <a:ext cx="838080" cy="380880"/>
                <a:chOff x="2971800" y="5486400"/>
                <a:chExt cx="838080" cy="3808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7180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04812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495680" y="5486400"/>
                <a:ext cx="838080" cy="380880"/>
                <a:chOff x="4495680" y="5486400"/>
                <a:chExt cx="838080" cy="380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4956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720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867280" y="5486400"/>
                <a:ext cx="838080" cy="380880"/>
                <a:chOff x="5867280" y="5486400"/>
                <a:chExt cx="838080" cy="3808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867280" y="548640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43600" y="5486400"/>
                  <a:ext cx="761760" cy="307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.,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" name=""/>
            <p:cNvGrpSpPr/>
            <p:nvPr/>
          </p:nvGrpSpPr>
          <p:grpSpPr>
            <a:xfrm>
              <a:off x="2133720" y="3581280"/>
              <a:ext cx="4572000" cy="380880"/>
              <a:chOff x="2133720" y="3581280"/>
              <a:chExt cx="4572000" cy="380880"/>
            </a:xfrm>
          </p:grpSpPr>
          <p:sp>
            <p:nvSpPr>
              <p:cNvPr id="141" name=""/>
              <p:cNvSpPr/>
              <p:nvPr/>
            </p:nvSpPr>
            <p:spPr>
              <a:xfrm>
                <a:off x="2133720" y="3581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2133720" y="3581280"/>
                <a:ext cx="838080" cy="380880"/>
                <a:chOff x="2133720" y="3581280"/>
                <a:chExt cx="838080" cy="3808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13372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21004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971800" y="3581280"/>
                <a:ext cx="838080" cy="380880"/>
                <a:chOff x="2971800" y="3581280"/>
                <a:chExt cx="838080" cy="380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97180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04812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495680" y="3581280"/>
                <a:ext cx="838080" cy="380880"/>
                <a:chOff x="4495680" y="3581280"/>
                <a:chExt cx="838080" cy="3808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4956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5720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867280" y="3581280"/>
                <a:ext cx="838080" cy="380880"/>
                <a:chOff x="5867280" y="3581280"/>
                <a:chExt cx="838080" cy="380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867280" y="3581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3600" y="3581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X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1600200" y="3581280"/>
              <a:ext cx="533520" cy="2667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600200" y="3962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6002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600200" y="4724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6002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600200" y="5486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133720" y="5867280"/>
              <a:ext cx="4572000" cy="380880"/>
              <a:chOff x="2133720" y="5867280"/>
              <a:chExt cx="4572000" cy="380880"/>
            </a:xfrm>
          </p:grpSpPr>
          <p:sp>
            <p:nvSpPr>
              <p:cNvPr id="161" name=""/>
              <p:cNvSpPr/>
              <p:nvPr/>
            </p:nvSpPr>
            <p:spPr>
              <a:xfrm>
                <a:off x="2133720" y="5867280"/>
                <a:ext cx="457200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133720" y="5867280"/>
                <a:ext cx="838080" cy="380880"/>
                <a:chOff x="2133720" y="5867280"/>
                <a:chExt cx="838080" cy="3808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13372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21004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971800" y="5867280"/>
                <a:ext cx="838080" cy="380880"/>
                <a:chOff x="2971800" y="5867280"/>
                <a:chExt cx="838080" cy="3808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97180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04812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495680" y="5867280"/>
                <a:ext cx="838080" cy="380880"/>
                <a:chOff x="4495680" y="5867280"/>
                <a:chExt cx="838080" cy="380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4956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720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867280" y="5867280"/>
                <a:ext cx="838080" cy="380880"/>
                <a:chOff x="5867280" y="5867280"/>
                <a:chExt cx="838080" cy="380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67280" y="5867280"/>
                  <a:ext cx="838080" cy="380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43600" y="5867280"/>
                  <a:ext cx="761760" cy="336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G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 flipH="1">
              <a:off x="1600200" y="5867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 flipH="1">
            <a:off x="3276720" y="2895480"/>
            <a:ext cx="914400" cy="5335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144756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5029200"/>
            <a:ext cx="1676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1814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63840" y="1650960"/>
            <a:ext cx="1962360" cy="1333440"/>
          </a:xfrm>
          <a:custGeom>
            <a:avLst/>
            <a:gdLst/>
            <a:ahLst/>
            <a:rect l="l" t="t" r="r" b="b"/>
            <a:pathLst>
              <a:path w="1236" h="840">
                <a:moveTo>
                  <a:pt x="468" y="2"/>
                </a:moveTo>
                <a:cubicBezTo>
                  <a:pt x="435" y="8"/>
                  <a:pt x="395" y="0"/>
                  <a:pt x="368" y="21"/>
                </a:cubicBezTo>
                <a:cubicBezTo>
                  <a:pt x="313" y="64"/>
                  <a:pt x="245" y="93"/>
                  <a:pt x="203" y="149"/>
                </a:cubicBezTo>
                <a:cubicBezTo>
                  <a:pt x="127" y="249"/>
                  <a:pt x="170" y="200"/>
                  <a:pt x="75" y="295"/>
                </a:cubicBezTo>
                <a:cubicBezTo>
                  <a:pt x="61" y="381"/>
                  <a:pt x="39" y="487"/>
                  <a:pt x="11" y="569"/>
                </a:cubicBezTo>
                <a:cubicBezTo>
                  <a:pt x="14" y="600"/>
                  <a:pt x="0" y="637"/>
                  <a:pt x="20" y="661"/>
                </a:cubicBezTo>
                <a:cubicBezTo>
                  <a:pt x="36" y="680"/>
                  <a:pt x="71" y="662"/>
                  <a:pt x="94" y="670"/>
                </a:cubicBezTo>
                <a:cubicBezTo>
                  <a:pt x="342" y="757"/>
                  <a:pt x="36" y="717"/>
                  <a:pt x="386" y="734"/>
                </a:cubicBezTo>
                <a:cubicBezTo>
                  <a:pt x="632" y="840"/>
                  <a:pt x="619" y="796"/>
                  <a:pt x="980" y="779"/>
                </a:cubicBezTo>
                <a:cubicBezTo>
                  <a:pt x="1027" y="764"/>
                  <a:pt x="1040" y="716"/>
                  <a:pt x="1081" y="688"/>
                </a:cubicBezTo>
                <a:cubicBezTo>
                  <a:pt x="1088" y="645"/>
                  <a:pt x="1114" y="534"/>
                  <a:pt x="1154" y="505"/>
                </a:cubicBezTo>
                <a:cubicBezTo>
                  <a:pt x="1164" y="498"/>
                  <a:pt x="1179" y="499"/>
                  <a:pt x="1191" y="496"/>
                </a:cubicBezTo>
                <a:cubicBezTo>
                  <a:pt x="1200" y="441"/>
                  <a:pt x="1223" y="395"/>
                  <a:pt x="1236" y="341"/>
                </a:cubicBezTo>
                <a:cubicBezTo>
                  <a:pt x="1197" y="332"/>
                  <a:pt x="1156" y="333"/>
                  <a:pt x="1118" y="322"/>
                </a:cubicBezTo>
                <a:cubicBezTo>
                  <a:pt x="1110" y="320"/>
                  <a:pt x="1108" y="306"/>
                  <a:pt x="1099" y="304"/>
                </a:cubicBezTo>
                <a:cubicBezTo>
                  <a:pt x="1051" y="294"/>
                  <a:pt x="953" y="286"/>
                  <a:pt x="953" y="286"/>
                </a:cubicBezTo>
                <a:cubicBezTo>
                  <a:pt x="926" y="277"/>
                  <a:pt x="894" y="275"/>
                  <a:pt x="871" y="258"/>
                </a:cubicBezTo>
                <a:cubicBezTo>
                  <a:pt x="783" y="192"/>
                  <a:pt x="828" y="208"/>
                  <a:pt x="743" y="194"/>
                </a:cubicBezTo>
                <a:cubicBezTo>
                  <a:pt x="724" y="136"/>
                  <a:pt x="735" y="101"/>
                  <a:pt x="670" y="85"/>
                </a:cubicBezTo>
                <a:cubicBezTo>
                  <a:pt x="622" y="37"/>
                  <a:pt x="533" y="24"/>
                  <a:pt x="468" y="2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1320" y="3409920"/>
            <a:ext cx="1457280" cy="1379520"/>
          </a:xfrm>
          <a:custGeom>
            <a:avLst/>
            <a:gdLst/>
            <a:ahLst/>
            <a:rect l="l" t="t" r="r" b="b"/>
            <a:pathLst>
              <a:path w="918" h="869">
                <a:moveTo>
                  <a:pt x="549" y="19"/>
                </a:moveTo>
                <a:cubicBezTo>
                  <a:pt x="379" y="67"/>
                  <a:pt x="534" y="0"/>
                  <a:pt x="494" y="74"/>
                </a:cubicBezTo>
                <a:cubicBezTo>
                  <a:pt x="477" y="106"/>
                  <a:pt x="448" y="131"/>
                  <a:pt x="421" y="156"/>
                </a:cubicBezTo>
                <a:cubicBezTo>
                  <a:pt x="399" y="177"/>
                  <a:pt x="371" y="191"/>
                  <a:pt x="348" y="211"/>
                </a:cubicBezTo>
                <a:cubicBezTo>
                  <a:pt x="328" y="228"/>
                  <a:pt x="316" y="253"/>
                  <a:pt x="293" y="266"/>
                </a:cubicBezTo>
                <a:cubicBezTo>
                  <a:pt x="271" y="278"/>
                  <a:pt x="244" y="276"/>
                  <a:pt x="220" y="284"/>
                </a:cubicBezTo>
                <a:cubicBezTo>
                  <a:pt x="180" y="297"/>
                  <a:pt x="141" y="316"/>
                  <a:pt x="101" y="330"/>
                </a:cubicBezTo>
                <a:cubicBezTo>
                  <a:pt x="77" y="354"/>
                  <a:pt x="47" y="374"/>
                  <a:pt x="28" y="403"/>
                </a:cubicBezTo>
                <a:cubicBezTo>
                  <a:pt x="5" y="438"/>
                  <a:pt x="8" y="555"/>
                  <a:pt x="0" y="604"/>
                </a:cubicBezTo>
                <a:cubicBezTo>
                  <a:pt x="31" y="625"/>
                  <a:pt x="58" y="653"/>
                  <a:pt x="92" y="668"/>
                </a:cubicBezTo>
                <a:cubicBezTo>
                  <a:pt x="114" y="678"/>
                  <a:pt x="143" y="666"/>
                  <a:pt x="165" y="677"/>
                </a:cubicBezTo>
                <a:cubicBezTo>
                  <a:pt x="311" y="750"/>
                  <a:pt x="138" y="709"/>
                  <a:pt x="256" y="796"/>
                </a:cubicBezTo>
                <a:cubicBezTo>
                  <a:pt x="305" y="832"/>
                  <a:pt x="426" y="858"/>
                  <a:pt x="494" y="869"/>
                </a:cubicBezTo>
                <a:cubicBezTo>
                  <a:pt x="500" y="851"/>
                  <a:pt x="510" y="833"/>
                  <a:pt x="512" y="814"/>
                </a:cubicBezTo>
                <a:cubicBezTo>
                  <a:pt x="513" y="805"/>
                  <a:pt x="495" y="792"/>
                  <a:pt x="503" y="787"/>
                </a:cubicBezTo>
                <a:cubicBezTo>
                  <a:pt x="521" y="775"/>
                  <a:pt x="545" y="779"/>
                  <a:pt x="567" y="778"/>
                </a:cubicBezTo>
                <a:cubicBezTo>
                  <a:pt x="665" y="773"/>
                  <a:pt x="762" y="772"/>
                  <a:pt x="860" y="769"/>
                </a:cubicBezTo>
                <a:cubicBezTo>
                  <a:pt x="890" y="722"/>
                  <a:pt x="905" y="677"/>
                  <a:pt x="915" y="622"/>
                </a:cubicBezTo>
                <a:cubicBezTo>
                  <a:pt x="912" y="531"/>
                  <a:pt x="916" y="439"/>
                  <a:pt x="905" y="348"/>
                </a:cubicBezTo>
                <a:cubicBezTo>
                  <a:pt x="904" y="337"/>
                  <a:pt x="885" y="339"/>
                  <a:pt x="878" y="330"/>
                </a:cubicBezTo>
                <a:cubicBezTo>
                  <a:pt x="830" y="268"/>
                  <a:pt x="918" y="333"/>
                  <a:pt x="841" y="284"/>
                </a:cubicBezTo>
                <a:cubicBezTo>
                  <a:pt x="832" y="229"/>
                  <a:pt x="806" y="173"/>
                  <a:pt x="768" y="129"/>
                </a:cubicBezTo>
                <a:cubicBezTo>
                  <a:pt x="762" y="122"/>
                  <a:pt x="749" y="124"/>
                  <a:pt x="741" y="119"/>
                </a:cubicBezTo>
                <a:cubicBezTo>
                  <a:pt x="716" y="103"/>
                  <a:pt x="692" y="83"/>
                  <a:pt x="668" y="65"/>
                </a:cubicBezTo>
                <a:cubicBezTo>
                  <a:pt x="664" y="62"/>
                  <a:pt x="551" y="20"/>
                  <a:pt x="549" y="19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18240" y="3672000"/>
            <a:ext cx="1322280" cy="1263600"/>
          </a:xfrm>
          <a:custGeom>
            <a:avLst/>
            <a:gdLst/>
            <a:ahLst/>
            <a:rect l="l" t="t" r="r" b="b"/>
            <a:pathLst>
              <a:path w="833" h="796">
                <a:moveTo>
                  <a:pt x="46" y="9"/>
                </a:moveTo>
                <a:cubicBezTo>
                  <a:pt x="54" y="82"/>
                  <a:pt x="43" y="148"/>
                  <a:pt x="55" y="220"/>
                </a:cubicBezTo>
                <a:cubicBezTo>
                  <a:pt x="49" y="360"/>
                  <a:pt x="14" y="502"/>
                  <a:pt x="37" y="640"/>
                </a:cubicBezTo>
                <a:cubicBezTo>
                  <a:pt x="43" y="677"/>
                  <a:pt x="55" y="744"/>
                  <a:pt x="55" y="777"/>
                </a:cubicBezTo>
                <a:cubicBezTo>
                  <a:pt x="55" y="786"/>
                  <a:pt x="37" y="747"/>
                  <a:pt x="46" y="750"/>
                </a:cubicBezTo>
                <a:cubicBezTo>
                  <a:pt x="74" y="758"/>
                  <a:pt x="95" y="781"/>
                  <a:pt x="119" y="796"/>
                </a:cubicBezTo>
                <a:cubicBezTo>
                  <a:pt x="285" y="785"/>
                  <a:pt x="441" y="759"/>
                  <a:pt x="604" y="732"/>
                </a:cubicBezTo>
                <a:cubicBezTo>
                  <a:pt x="635" y="700"/>
                  <a:pt x="732" y="695"/>
                  <a:pt x="732" y="695"/>
                </a:cubicBezTo>
                <a:cubicBezTo>
                  <a:pt x="777" y="672"/>
                  <a:pt x="771" y="652"/>
                  <a:pt x="814" y="668"/>
                </a:cubicBezTo>
                <a:cubicBezTo>
                  <a:pt x="833" y="549"/>
                  <a:pt x="800" y="411"/>
                  <a:pt x="787" y="293"/>
                </a:cubicBezTo>
                <a:cubicBezTo>
                  <a:pt x="784" y="226"/>
                  <a:pt x="786" y="159"/>
                  <a:pt x="778" y="92"/>
                </a:cubicBezTo>
                <a:cubicBezTo>
                  <a:pt x="772" y="45"/>
                  <a:pt x="700" y="57"/>
                  <a:pt x="677" y="55"/>
                </a:cubicBezTo>
                <a:cubicBezTo>
                  <a:pt x="533" y="46"/>
                  <a:pt x="304" y="41"/>
                  <a:pt x="174" y="37"/>
                </a:cubicBezTo>
                <a:cubicBezTo>
                  <a:pt x="130" y="24"/>
                  <a:pt x="65" y="0"/>
                  <a:pt x="19" y="9"/>
                </a:cubicBezTo>
                <a:cubicBezTo>
                  <a:pt x="9" y="11"/>
                  <a:pt x="0" y="37"/>
                  <a:pt x="10" y="37"/>
                </a:cubicBezTo>
                <a:cubicBezTo>
                  <a:pt x="25" y="37"/>
                  <a:pt x="34" y="18"/>
                  <a:pt x="46" y="9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8862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4114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057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914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371600"/>
            <a:ext cx="739116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13716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СОБЫТИЯ И ИХ ВЕРОЯ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1752480"/>
            <a:ext cx="5257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появления события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совместного появления событий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и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B|A) -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ероятнос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при условии, что произощло 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A,B)= Pr(A)* Pr(B|A) = Pr(B)* Pr(A|B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3505320"/>
            <a:ext cx="7391160" cy="2895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36576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БАЙЕСОВСКАЯ ЗАДАЧ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038480"/>
            <a:ext cx="419076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Гипотез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 -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j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,  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Эксперименты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}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ричём известна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0 ,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0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= </a:t>
            </a:r>
            <a:r>
              <a:rPr b="1" lang="en-US" sz="1400" spc="-1" strike="noStrike">
                <a:solidFill>
                  <a:srgbClr val="ff0066"/>
                </a:solidFill>
                <a:latin typeface="Symbol"/>
                <a:ea typeface="Symbol"/>
              </a:rPr>
              <a:t>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Pr (E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|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* Pr( H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)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91440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639800" y="2000160"/>
            <a:ext cx="6437160" cy="2114640"/>
            <a:chOff x="1639800" y="2000160"/>
            <a:chExt cx="6437160" cy="2114640"/>
          </a:xfrm>
        </p:grpSpPr>
        <p:grpSp>
          <p:nvGrpSpPr>
            <p:cNvPr id="203" name=""/>
            <p:cNvGrpSpPr/>
            <p:nvPr/>
          </p:nvGrpSpPr>
          <p:grpSpPr>
            <a:xfrm>
              <a:off x="1644480" y="2004840"/>
              <a:ext cx="6427800" cy="2104920"/>
              <a:chOff x="1644480" y="2004840"/>
              <a:chExt cx="6427800" cy="21049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1644480" y="2004840"/>
                <a:ext cx="1434960" cy="701640"/>
                <a:chOff x="1644480" y="2004840"/>
                <a:chExt cx="1434960" cy="701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1288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4448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079440" y="2004840"/>
                <a:ext cx="3557880" cy="701640"/>
                <a:chOff x="3079440" y="2004840"/>
                <a:chExt cx="3557880" cy="7016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147840" y="20048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079440" y="20048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637320" y="2004840"/>
                <a:ext cx="1434960" cy="701640"/>
                <a:chOff x="6637320" y="2004840"/>
                <a:chExt cx="1434960" cy="701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05360" y="20048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37320" y="20048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44480" y="2706480"/>
                <a:ext cx="1434960" cy="701640"/>
                <a:chOff x="1644480" y="2706480"/>
                <a:chExt cx="1434960" cy="70164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1288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4448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079440" y="2706480"/>
                <a:ext cx="3557880" cy="701640"/>
                <a:chOff x="3079440" y="2706480"/>
                <a:chExt cx="3557880" cy="70164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47840" y="27064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того, что идёт дождь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079440" y="27064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637320" y="2706480"/>
                <a:ext cx="1434960" cy="701640"/>
                <a:chOff x="6637320" y="2706480"/>
                <a:chExt cx="1434960" cy="70164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705360" y="27064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637320" y="27064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44480" y="3408120"/>
                <a:ext cx="1434960" cy="701640"/>
                <a:chOff x="1644480" y="3408120"/>
                <a:chExt cx="1434960" cy="701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1288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(-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4448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079440" y="3408120"/>
                <a:ext cx="3557880" cy="701640"/>
                <a:chOff x="3079440" y="3408120"/>
                <a:chExt cx="3557880" cy="701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47840" y="34081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роятность – «дождя нет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079440" y="34081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637320" y="3408120"/>
                <a:ext cx="1434960" cy="701640"/>
                <a:chOff x="6637320" y="3408120"/>
                <a:chExt cx="1434960" cy="70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705360" y="34081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637320" y="34081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39800" y="2000160"/>
              <a:ext cx="6437160" cy="2114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487520" y="1251000"/>
            <a:ext cx="6437160" cy="4921200"/>
            <a:chOff x="1487520" y="1251000"/>
            <a:chExt cx="6437160" cy="4921200"/>
          </a:xfrm>
        </p:grpSpPr>
        <p:grpSp>
          <p:nvGrpSpPr>
            <p:cNvPr id="238" name=""/>
            <p:cNvGrpSpPr/>
            <p:nvPr/>
          </p:nvGrpSpPr>
          <p:grpSpPr>
            <a:xfrm>
              <a:off x="1492200" y="1255680"/>
              <a:ext cx="6427800" cy="4911840"/>
              <a:chOff x="1492200" y="1255680"/>
              <a:chExt cx="6427800" cy="49118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1492200" y="1255680"/>
                <a:ext cx="1434960" cy="701640"/>
                <a:chOff x="1492200" y="1255680"/>
                <a:chExt cx="1434960" cy="70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6060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обознач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49220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2927160" y="1255680"/>
                <a:ext cx="3557880" cy="701640"/>
                <a:chOff x="2927160" y="1255680"/>
                <a:chExt cx="3557880" cy="7016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2995560" y="12556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пояс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927160" y="12556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485040" y="1255680"/>
                <a:ext cx="1434960" cy="701640"/>
                <a:chOff x="6485040" y="1255680"/>
                <a:chExt cx="1434960" cy="701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553080" y="12556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величи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485040" y="12556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492200" y="1957320"/>
                <a:ext cx="1434960" cy="701640"/>
                <a:chOff x="1492200" y="1957320"/>
                <a:chExt cx="1434960" cy="7016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6060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9220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2927160" y="1957320"/>
                <a:ext cx="3557880" cy="701640"/>
                <a:chOff x="2927160" y="1957320"/>
                <a:chExt cx="3557880" cy="701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995560" y="195732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ru-RU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27160" y="195732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485040" y="1957320"/>
                <a:ext cx="1434960" cy="701640"/>
                <a:chOff x="6485040" y="1957320"/>
                <a:chExt cx="1434960" cy="7016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553080" y="195732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485040" y="195732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492200" y="2658960"/>
                <a:ext cx="1434960" cy="701640"/>
                <a:chOff x="1492200" y="2658960"/>
                <a:chExt cx="1434960" cy="701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56060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1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49220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2927160" y="2658960"/>
                <a:ext cx="3557880" cy="701640"/>
                <a:chOff x="2927160" y="2658960"/>
                <a:chExt cx="3557880" cy="701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995560" y="265896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27160" y="265896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6485040" y="2658960"/>
                <a:ext cx="1434960" cy="701640"/>
                <a:chOff x="6485040" y="2658960"/>
                <a:chExt cx="1434960" cy="701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6553080" y="265896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485040" y="265896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1492200" y="3360600"/>
                <a:ext cx="1434960" cy="701640"/>
                <a:chOff x="1492200" y="3360600"/>
                <a:chExt cx="1434960" cy="701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156060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49220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927160" y="3360600"/>
                <a:ext cx="3557880" cy="701640"/>
                <a:chOff x="2927160" y="3360600"/>
                <a:chExt cx="3557880" cy="7016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995560" y="336060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Дождь, людей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927160" y="336060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485040" y="3360600"/>
                <a:ext cx="1434960" cy="701640"/>
                <a:chOff x="6485040" y="3360600"/>
                <a:chExt cx="1434960" cy="701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553080" y="336060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85040" y="336060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1492200" y="4062240"/>
                <a:ext cx="1434960" cy="701640"/>
                <a:chOff x="1492200" y="4062240"/>
                <a:chExt cx="1434960" cy="701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156060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49220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927160" y="4062240"/>
                <a:ext cx="3557880" cy="701640"/>
                <a:chOff x="2927160" y="4062240"/>
                <a:chExt cx="3557880" cy="7016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995560" y="406224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ик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27160" y="406224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6485040" y="4062240"/>
                <a:ext cx="1434960" cy="701640"/>
                <a:chOff x="6485040" y="4062240"/>
                <a:chExt cx="1434960" cy="701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553080" y="406224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85040" y="406224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492200" y="4763880"/>
                <a:ext cx="1434960" cy="702000"/>
                <a:chOff x="1492200" y="4763880"/>
                <a:chExt cx="1434960" cy="702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56060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9220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27160" y="4763880"/>
                <a:ext cx="3557880" cy="702000"/>
                <a:chOff x="2927160" y="4763880"/>
                <a:chExt cx="3557880" cy="702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95560" y="4763880"/>
                  <a:ext cx="342108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люди, зонтов 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27160" y="4763880"/>
                  <a:ext cx="355788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485040" y="4763880"/>
                <a:ext cx="1434960" cy="702000"/>
                <a:chOff x="6485040" y="4763880"/>
                <a:chExt cx="1434960" cy="702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553080" y="4763880"/>
                  <a:ext cx="129852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85040" y="4763880"/>
                  <a:ext cx="1434960" cy="70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92200" y="5465880"/>
                <a:ext cx="1434960" cy="701640"/>
                <a:chOff x="1492200" y="5465880"/>
                <a:chExt cx="1434960" cy="7016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56060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Pr(E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Symbol"/>
                      <a:ea typeface="Symbol"/>
                    </a:rPr>
                    <a:t>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 -H</a:t>
                  </a:r>
                  <a:r>
                    <a:rPr b="1" lang="en-US" sz="1600" spc="-1" strike="noStrike" baseline="-30000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9220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927160" y="5465880"/>
                <a:ext cx="3557880" cy="701640"/>
                <a:chOff x="2927160" y="5465880"/>
                <a:chExt cx="3557880" cy="7016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995560" y="5465880"/>
                  <a:ext cx="342108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Нет дождя, пусто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927160" y="5465880"/>
                  <a:ext cx="35578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485040" y="5465880"/>
                <a:ext cx="1434960" cy="701640"/>
                <a:chOff x="6485040" y="5465880"/>
                <a:chExt cx="1434960" cy="7016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53080" y="5465880"/>
                  <a:ext cx="129852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85040" y="5465880"/>
                  <a:ext cx="143496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" name=""/>
            <p:cNvSpPr/>
            <p:nvPr/>
          </p:nvSpPr>
          <p:spPr>
            <a:xfrm>
              <a:off x="1487520" y="1251000"/>
              <a:ext cx="6437160" cy="4921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240" y="5570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68580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БАЙЕСОВСКОЕ ПРАВИЛО (приме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65280" y="1295280"/>
            <a:ext cx="4797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2133720"/>
            <a:ext cx="5562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(Pr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)/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 =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(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+ Pr(E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| 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* Pr(-H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19320" y="3200400"/>
            <a:ext cx="6324480" cy="862920"/>
            <a:chOff x="1219320" y="3200400"/>
            <a:chExt cx="6324480" cy="862920"/>
          </a:xfrm>
        </p:grpSpPr>
        <p:sp>
          <p:nvSpPr>
            <p:cNvPr id="312" name=""/>
            <p:cNvSpPr/>
            <p:nvPr/>
          </p:nvSpPr>
          <p:spPr>
            <a:xfrm>
              <a:off x="1219320" y="34290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05320" y="3200400"/>
              <a:ext cx="3200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3200" y="3657600"/>
              <a:ext cx="4800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+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 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Pr(|-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3581280"/>
              <a:ext cx="33530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43000" y="4114800"/>
            <a:ext cx="6553080" cy="2286000"/>
            <a:chOff x="1143000" y="4114800"/>
            <a:chExt cx="6553080" cy="2286000"/>
          </a:xfrm>
        </p:grpSpPr>
        <p:sp>
          <p:nvSpPr>
            <p:cNvPr id="317" name=""/>
            <p:cNvSpPr/>
            <p:nvPr/>
          </p:nvSpPr>
          <p:spPr>
            <a:xfrm>
              <a:off x="1143000" y="4114800"/>
              <a:ext cx="65530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52480" y="4952880"/>
              <a:ext cx="158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 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55840" y="4724280"/>
              <a:ext cx="3703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0400" y="5181480"/>
              <a:ext cx="365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r(E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|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* P(H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5105520"/>
              <a:ext cx="26668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9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ОРМАЛИЗА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1676520"/>
            <a:ext cx="43434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{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= [p(x 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]/p(x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РАСПОЗНАВАНИЕ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685800"/>
            <a:ext cx="861048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40" y="428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40" y="41673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371600" y="914400"/>
            <a:ext cx="6400800" cy="3657600"/>
            <a:chOff x="1371600" y="914400"/>
            <a:chExt cx="6400800" cy="3657600"/>
          </a:xfrm>
        </p:grpSpPr>
        <p:sp>
          <p:nvSpPr>
            <p:cNvPr id="333" name=""/>
            <p:cNvSpPr/>
            <p:nvPr/>
          </p:nvSpPr>
          <p:spPr>
            <a:xfrm flipV="1">
              <a:off x="1600200" y="914400"/>
              <a:ext cx="0" cy="359640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71600" y="4327920"/>
              <a:ext cx="640080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46400" y="1140480"/>
              <a:ext cx="1095480" cy="852120"/>
            </a:xfrm>
            <a:custGeom>
              <a:avLst/>
              <a:gdLst/>
              <a:ahLst/>
              <a:rect l="l" t="t" r="r" b="b"/>
              <a:pathLst>
                <a:path w="690" h="671">
                  <a:moveTo>
                    <a:pt x="136" y="0"/>
                  </a:moveTo>
                  <a:cubicBezTo>
                    <a:pt x="31" y="52"/>
                    <a:pt x="32" y="199"/>
                    <a:pt x="0" y="300"/>
                  </a:cubicBezTo>
                  <a:cubicBezTo>
                    <a:pt x="3" y="354"/>
                    <a:pt x="1" y="409"/>
                    <a:pt x="9" y="463"/>
                  </a:cubicBezTo>
                  <a:cubicBezTo>
                    <a:pt x="41" y="671"/>
                    <a:pt x="428" y="595"/>
                    <a:pt x="527" y="600"/>
                  </a:cubicBezTo>
                  <a:cubicBezTo>
                    <a:pt x="569" y="597"/>
                    <a:pt x="614" y="603"/>
                    <a:pt x="654" y="590"/>
                  </a:cubicBezTo>
                  <a:cubicBezTo>
                    <a:pt x="671" y="585"/>
                    <a:pt x="683" y="493"/>
                    <a:pt x="690" y="472"/>
                  </a:cubicBezTo>
                  <a:cubicBezTo>
                    <a:pt x="687" y="411"/>
                    <a:pt x="688" y="350"/>
                    <a:pt x="681" y="290"/>
                  </a:cubicBezTo>
                  <a:cubicBezTo>
                    <a:pt x="672" y="208"/>
                    <a:pt x="610" y="198"/>
                    <a:pt x="545" y="181"/>
                  </a:cubicBezTo>
                  <a:cubicBezTo>
                    <a:pt x="474" y="162"/>
                    <a:pt x="434" y="139"/>
                    <a:pt x="372" y="109"/>
                  </a:cubicBezTo>
                  <a:cubicBezTo>
                    <a:pt x="344" y="80"/>
                    <a:pt x="310" y="48"/>
                    <a:pt x="272" y="36"/>
                  </a:cubicBezTo>
                  <a:cubicBezTo>
                    <a:pt x="224" y="4"/>
                    <a:pt x="200" y="7"/>
                    <a:pt x="136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3040" y="2991960"/>
              <a:ext cx="1287360" cy="848160"/>
            </a:xfrm>
            <a:custGeom>
              <a:avLst/>
              <a:gdLst/>
              <a:ahLst/>
              <a:rect l="l" t="t" r="r" b="b"/>
              <a:pathLst>
                <a:path w="1008" h="954">
                  <a:moveTo>
                    <a:pt x="686" y="57"/>
                  </a:moveTo>
                  <a:cubicBezTo>
                    <a:pt x="508" y="0"/>
                    <a:pt x="622" y="33"/>
                    <a:pt x="177" y="57"/>
                  </a:cubicBezTo>
                  <a:cubicBezTo>
                    <a:pt x="159" y="58"/>
                    <a:pt x="148" y="78"/>
                    <a:pt x="131" y="84"/>
                  </a:cubicBezTo>
                  <a:cubicBezTo>
                    <a:pt x="82" y="133"/>
                    <a:pt x="120" y="85"/>
                    <a:pt x="95" y="166"/>
                  </a:cubicBezTo>
                  <a:cubicBezTo>
                    <a:pt x="88" y="188"/>
                    <a:pt x="76" y="208"/>
                    <a:pt x="68" y="230"/>
                  </a:cubicBezTo>
                  <a:cubicBezTo>
                    <a:pt x="61" y="248"/>
                    <a:pt x="49" y="284"/>
                    <a:pt x="49" y="284"/>
                  </a:cubicBezTo>
                  <a:cubicBezTo>
                    <a:pt x="46" y="354"/>
                    <a:pt x="47" y="424"/>
                    <a:pt x="40" y="493"/>
                  </a:cubicBezTo>
                  <a:cubicBezTo>
                    <a:pt x="36" y="528"/>
                    <a:pt x="13" y="575"/>
                    <a:pt x="4" y="611"/>
                  </a:cubicBezTo>
                  <a:cubicBezTo>
                    <a:pt x="7" y="660"/>
                    <a:pt x="0" y="710"/>
                    <a:pt x="13" y="757"/>
                  </a:cubicBezTo>
                  <a:cubicBezTo>
                    <a:pt x="19" y="778"/>
                    <a:pt x="44" y="787"/>
                    <a:pt x="59" y="802"/>
                  </a:cubicBezTo>
                  <a:cubicBezTo>
                    <a:pt x="108" y="850"/>
                    <a:pt x="90" y="853"/>
                    <a:pt x="168" y="866"/>
                  </a:cubicBezTo>
                  <a:cubicBezTo>
                    <a:pt x="206" y="879"/>
                    <a:pt x="228" y="901"/>
                    <a:pt x="268" y="911"/>
                  </a:cubicBezTo>
                  <a:cubicBezTo>
                    <a:pt x="329" y="954"/>
                    <a:pt x="360" y="942"/>
                    <a:pt x="449" y="948"/>
                  </a:cubicBezTo>
                  <a:cubicBezTo>
                    <a:pt x="549" y="945"/>
                    <a:pt x="649" y="947"/>
                    <a:pt x="749" y="939"/>
                  </a:cubicBezTo>
                  <a:cubicBezTo>
                    <a:pt x="788" y="936"/>
                    <a:pt x="849" y="875"/>
                    <a:pt x="849" y="875"/>
                  </a:cubicBezTo>
                  <a:cubicBezTo>
                    <a:pt x="858" y="854"/>
                    <a:pt x="863" y="829"/>
                    <a:pt x="877" y="811"/>
                  </a:cubicBezTo>
                  <a:cubicBezTo>
                    <a:pt x="885" y="800"/>
                    <a:pt x="903" y="802"/>
                    <a:pt x="913" y="793"/>
                  </a:cubicBezTo>
                  <a:cubicBezTo>
                    <a:pt x="921" y="786"/>
                    <a:pt x="925" y="775"/>
                    <a:pt x="931" y="766"/>
                  </a:cubicBezTo>
                  <a:cubicBezTo>
                    <a:pt x="934" y="748"/>
                    <a:pt x="933" y="728"/>
                    <a:pt x="940" y="711"/>
                  </a:cubicBezTo>
                  <a:cubicBezTo>
                    <a:pt x="945" y="699"/>
                    <a:pt x="960" y="694"/>
                    <a:pt x="967" y="684"/>
                  </a:cubicBezTo>
                  <a:cubicBezTo>
                    <a:pt x="972" y="676"/>
                    <a:pt x="974" y="666"/>
                    <a:pt x="977" y="657"/>
                  </a:cubicBezTo>
                  <a:cubicBezTo>
                    <a:pt x="983" y="639"/>
                    <a:pt x="995" y="602"/>
                    <a:pt x="995" y="602"/>
                  </a:cubicBezTo>
                  <a:cubicBezTo>
                    <a:pt x="990" y="487"/>
                    <a:pt x="1008" y="226"/>
                    <a:pt x="849" y="175"/>
                  </a:cubicBezTo>
                  <a:cubicBezTo>
                    <a:pt x="823" y="135"/>
                    <a:pt x="812" y="149"/>
                    <a:pt x="777" y="121"/>
                  </a:cubicBezTo>
                  <a:cubicBezTo>
                    <a:pt x="762" y="109"/>
                    <a:pt x="757" y="85"/>
                    <a:pt x="740" y="75"/>
                  </a:cubicBezTo>
                  <a:cubicBezTo>
                    <a:pt x="724" y="65"/>
                    <a:pt x="704" y="63"/>
                    <a:pt x="686" y="57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79920" y="1828800"/>
              <a:ext cx="1225800" cy="951120"/>
            </a:xfrm>
            <a:custGeom>
              <a:avLst/>
              <a:gdLst/>
              <a:ahLst/>
              <a:rect l="l" t="t" r="r" b="b"/>
              <a:pathLst>
                <a:path w="1059" h="1085">
                  <a:moveTo>
                    <a:pt x="537" y="0"/>
                  </a:moveTo>
                  <a:cubicBezTo>
                    <a:pt x="459" y="19"/>
                    <a:pt x="389" y="60"/>
                    <a:pt x="310" y="73"/>
                  </a:cubicBezTo>
                  <a:cubicBezTo>
                    <a:pt x="195" y="157"/>
                    <a:pt x="343" y="56"/>
                    <a:pt x="237" y="109"/>
                  </a:cubicBezTo>
                  <a:cubicBezTo>
                    <a:pt x="224" y="116"/>
                    <a:pt x="214" y="128"/>
                    <a:pt x="201" y="136"/>
                  </a:cubicBezTo>
                  <a:cubicBezTo>
                    <a:pt x="35" y="234"/>
                    <a:pt x="184" y="136"/>
                    <a:pt x="101" y="191"/>
                  </a:cubicBezTo>
                  <a:cubicBezTo>
                    <a:pt x="72" y="234"/>
                    <a:pt x="71" y="287"/>
                    <a:pt x="55" y="336"/>
                  </a:cubicBezTo>
                  <a:cubicBezTo>
                    <a:pt x="40" y="456"/>
                    <a:pt x="0" y="637"/>
                    <a:pt x="55" y="746"/>
                  </a:cubicBezTo>
                  <a:cubicBezTo>
                    <a:pt x="66" y="768"/>
                    <a:pt x="103" y="802"/>
                    <a:pt x="119" y="818"/>
                  </a:cubicBezTo>
                  <a:cubicBezTo>
                    <a:pt x="128" y="836"/>
                    <a:pt x="134" y="857"/>
                    <a:pt x="146" y="873"/>
                  </a:cubicBezTo>
                  <a:cubicBezTo>
                    <a:pt x="162" y="894"/>
                    <a:pt x="197" y="907"/>
                    <a:pt x="219" y="918"/>
                  </a:cubicBezTo>
                  <a:cubicBezTo>
                    <a:pt x="288" y="953"/>
                    <a:pt x="266" y="974"/>
                    <a:pt x="373" y="1009"/>
                  </a:cubicBezTo>
                  <a:cubicBezTo>
                    <a:pt x="408" y="1021"/>
                    <a:pt x="483" y="1027"/>
                    <a:pt x="483" y="1027"/>
                  </a:cubicBezTo>
                  <a:cubicBezTo>
                    <a:pt x="565" y="1085"/>
                    <a:pt x="596" y="1049"/>
                    <a:pt x="728" y="1036"/>
                  </a:cubicBezTo>
                  <a:cubicBezTo>
                    <a:pt x="853" y="994"/>
                    <a:pt x="728" y="1045"/>
                    <a:pt x="810" y="991"/>
                  </a:cubicBezTo>
                  <a:cubicBezTo>
                    <a:pt x="829" y="978"/>
                    <a:pt x="879" y="956"/>
                    <a:pt x="901" y="946"/>
                  </a:cubicBezTo>
                  <a:cubicBezTo>
                    <a:pt x="924" y="921"/>
                    <a:pt x="948" y="916"/>
                    <a:pt x="973" y="891"/>
                  </a:cubicBezTo>
                  <a:cubicBezTo>
                    <a:pt x="982" y="870"/>
                    <a:pt x="994" y="849"/>
                    <a:pt x="1001" y="827"/>
                  </a:cubicBezTo>
                  <a:cubicBezTo>
                    <a:pt x="1012" y="791"/>
                    <a:pt x="1028" y="718"/>
                    <a:pt x="1028" y="718"/>
                  </a:cubicBezTo>
                  <a:cubicBezTo>
                    <a:pt x="1024" y="609"/>
                    <a:pt x="1059" y="274"/>
                    <a:pt x="892" y="218"/>
                  </a:cubicBezTo>
                  <a:cubicBezTo>
                    <a:pt x="857" y="185"/>
                    <a:pt x="830" y="181"/>
                    <a:pt x="782" y="173"/>
                  </a:cubicBezTo>
                  <a:cubicBezTo>
                    <a:pt x="773" y="164"/>
                    <a:pt x="766" y="152"/>
                    <a:pt x="755" y="146"/>
                  </a:cubicBezTo>
                  <a:cubicBezTo>
                    <a:pt x="738" y="137"/>
                    <a:pt x="701" y="127"/>
                    <a:pt x="701" y="127"/>
                  </a:cubicBezTo>
                  <a:cubicBezTo>
                    <a:pt x="677" y="104"/>
                    <a:pt x="665" y="83"/>
                    <a:pt x="637" y="64"/>
                  </a:cubicBezTo>
                  <a:cubicBezTo>
                    <a:pt x="634" y="55"/>
                    <a:pt x="636" y="42"/>
                    <a:pt x="628" y="36"/>
                  </a:cubicBezTo>
                  <a:cubicBezTo>
                    <a:pt x="600" y="16"/>
                    <a:pt x="562" y="25"/>
                    <a:pt x="537" y="0"/>
                  </a:cubicBez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05120" y="1706400"/>
              <a:ext cx="3657600" cy="249948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200400" y="1097280"/>
              <a:ext cx="2819520" cy="347472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6520" y="2620800"/>
              <a:ext cx="5715000" cy="365760"/>
            </a:xfrm>
            <a:prstGeom prst="line">
              <a:avLst/>
            </a:prstGeom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1645920"/>
              <a:ext cx="152640" cy="1216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57600" y="1828800"/>
              <a:ext cx="0" cy="2560320"/>
            </a:xfrm>
            <a:prstGeom prst="line">
              <a:avLst/>
            </a:prstGeom>
            <a:ln w="381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2803680"/>
              <a:ext cx="152640" cy="12204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81280" y="3962160"/>
              <a:ext cx="152640" cy="12168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72200" y="9907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2514600"/>
            <a:ext cx="2133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3733920"/>
            <a:ext cx="236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+ W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33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7:23:07Z</dcterms:created>
  <dc:creator>Петр Соснин</dc:creator>
  <dc:description/>
  <dc:language>en-US</dc:language>
  <cp:lastModifiedBy>Валерий Г. Костин</cp:lastModifiedBy>
  <dcterms:modified xsi:type="dcterms:W3CDTF">2002-12-12T13:43:15Z</dcterms:modified>
  <cp:revision>9</cp:revision>
  <dc:subject/>
  <dc:title>РАСПОЗНАВАНИЕ ОБРАЗОВ</dc:title>
</cp:coreProperties>
</file>