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7E3-1012-4894-B3B6-9F850720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E20-4EB8-4BAA-A95A-4452B9F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C2B-136F-4389-801D-3ACA96C7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D10-0CD9-4E94-9A0D-3B1740C1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425-D150-41D5-9256-0865DEA7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8167-7838-42A8-A158-B053ACC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DCC-1517-4478-BBCE-5A03CF9C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D4BB-4034-4500-99DE-B2AA7D5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00E-93E2-461E-8C41-648F2EE5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257-5E05-4484-ACC6-B020C300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59F-568D-49D6-B902-013533F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E84-3057-49DD-91BA-CDFDADC0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931F-4FEC-4A88-A5D1-25AF01BA6D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БАЗОВЫЕ ЗАДАЧ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28195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ффективность и 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320040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ррекция клас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62520" y="990720"/>
            <a:ext cx="1676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ая классифик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175248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Априорный словар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29528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ределить полный перечень призна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48006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ачество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648320"/>
            <a:ext cx="2209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ыбор алгорит ма распозна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9880" y="5715000"/>
            <a:ext cx="2210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Рабочие словари признаков и клас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819160" y="22860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200400" y="15998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38680" y="1676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933960" y="4038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486040" y="5181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2895480" y="5562360"/>
            <a:ext cx="609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1676520" y="365724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7621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Грамматическое распозна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447920"/>
            <a:ext cx="2057400" cy="1828800"/>
            <a:chOff x="1219320" y="1447920"/>
            <a:chExt cx="2057400" cy="1828800"/>
          </a:xfrm>
        </p:grpSpPr>
        <p:sp>
          <p:nvSpPr>
            <p:cNvPr id="398" name=""/>
            <p:cNvSpPr/>
            <p:nvPr/>
          </p:nvSpPr>
          <p:spPr>
            <a:xfrm>
              <a:off x="1219320" y="1447920"/>
              <a:ext cx="2057400" cy="18288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7652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2057760"/>
              <a:ext cx="228600" cy="2286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133720"/>
              <a:ext cx="763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28800" y="28958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76520" y="3809880"/>
            <a:ext cx="6400800" cy="2210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Лицо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)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нутри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олова(): окружность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Черты лиц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,z):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нос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, 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z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 =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 (и( над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x,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ад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y,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лаза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z)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x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точ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y),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слева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,y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Нос 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ямоугольник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от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отрезок_прямой(), горизонтальный(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733920" y="1447920"/>
            <a:ext cx="4952880" cy="1523880"/>
            <a:chOff x="3733920" y="1447920"/>
            <a:chExt cx="4952880" cy="1523880"/>
          </a:xfrm>
        </p:grpSpPr>
        <p:sp>
          <p:nvSpPr>
            <p:cNvPr id="405" name=""/>
            <p:cNvSpPr/>
            <p:nvPr/>
          </p:nvSpPr>
          <p:spPr>
            <a:xfrm>
              <a:off x="3809880" y="1447920"/>
              <a:ext cx="457200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1523880"/>
              <a:ext cx="441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ипы объектов : точка, прямоугольник, отрезок прямой , окружно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33920" y="2362320"/>
              <a:ext cx="49528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62520" y="2514600"/>
              <a:ext cx="457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едикаты : Внутри, над, слева, горизонтальный, 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838080" y="1600200"/>
            <a:ext cx="1523880" cy="2211840"/>
            <a:chOff x="838080" y="1600200"/>
            <a:chExt cx="1523880" cy="2211840"/>
          </a:xfrm>
        </p:grpSpPr>
        <p:sp>
          <p:nvSpPr>
            <p:cNvPr id="414" name=""/>
            <p:cNvSpPr/>
            <p:nvPr/>
          </p:nvSpPr>
          <p:spPr>
            <a:xfrm>
              <a:off x="914400" y="1676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8080" y="190476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914400" y="2285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080" y="24379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2514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1600" y="16002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1828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47560" y="2133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838080" y="2971440"/>
              <a:ext cx="304920" cy="304560"/>
              <a:chOff x="838080" y="2971440"/>
              <a:chExt cx="304920" cy="304560"/>
            </a:xfrm>
          </p:grpSpPr>
          <p:sp>
            <p:nvSpPr>
              <p:cNvPr id="423" name=""/>
              <p:cNvSpPr/>
              <p:nvPr/>
            </p:nvSpPr>
            <p:spPr>
              <a:xfrm flipV="1">
                <a:off x="838080" y="297144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29714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167616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1676160" y="2971440"/>
              <a:ext cx="381240" cy="459360"/>
              <a:chOff x="1676160" y="2971440"/>
              <a:chExt cx="381240" cy="4593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752480" y="2971440"/>
                <a:ext cx="304920" cy="228240"/>
                <a:chOff x="1752480" y="2971440"/>
                <a:chExt cx="304920" cy="2282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752480" y="29714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057400" y="297144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" name=""/>
              <p:cNvSpPr/>
              <p:nvPr/>
            </p:nvSpPr>
            <p:spPr>
              <a:xfrm>
                <a:off x="1676160" y="312372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1752120" y="3504960"/>
              <a:ext cx="304920" cy="304560"/>
              <a:chOff x="1752120" y="3504960"/>
              <a:chExt cx="304920" cy="304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05704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175212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3504960"/>
              <a:ext cx="304920" cy="304560"/>
              <a:chOff x="838080" y="3504960"/>
              <a:chExt cx="304920" cy="30456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35049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38080" y="38095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990360" y="31240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914400" y="350496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09880" y="1371600"/>
            <a:ext cx="12193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::=a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F::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::=b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::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::=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::=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::=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T::=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019920" y="2057040"/>
            <a:ext cx="1218960" cy="991080"/>
            <a:chOff x="6019920" y="2057040"/>
            <a:chExt cx="1218960" cy="991080"/>
          </a:xfrm>
        </p:grpSpPr>
        <p:sp>
          <p:nvSpPr>
            <p:cNvPr id="441" name=""/>
            <p:cNvSpPr/>
            <p:nvPr/>
          </p:nvSpPr>
          <p:spPr>
            <a:xfrm>
              <a:off x="601992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448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3960" y="2057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238880" y="2057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8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8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3396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019920" y="30481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629040" y="304812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01992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019920" y="2362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019920" y="2057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1219320" y="762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ьные граммат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остояния (класс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йств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 = {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}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ктор признак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условные распред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-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априорные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= [p(x 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отер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минимиз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1523880"/>
            <a:ext cx="4190760" cy="419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1752480"/>
            <a:ext cx="3733560" cy="39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=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+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ыбрать </a:t>
            </a:r>
            <a:r>
              <a:rPr b="1" lang="ru-RU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если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&lt; R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&gt;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p(x |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         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* p(</a:t>
            </a:r>
            <a:r>
              <a:rPr b="1" lang="en-US" sz="1600" spc="-1" strike="noStrike">
                <a:solidFill>
                  <a:srgbClr val="ff0066"/>
                </a:solidFill>
                <a:latin typeface="Symbol"/>
                <a:ea typeface="Symbol"/>
              </a:rPr>
              <a:t>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86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5638680" y="472428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19920" y="4724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9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5146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9720" y="236232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10080" y="26668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91320" y="2286000"/>
            <a:ext cx="2895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sqrt((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(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-y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16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Peter Sosnin</cp:lastModifiedBy>
  <dcterms:modified xsi:type="dcterms:W3CDTF">2006-05-04T15:11:01Z</dcterms:modified>
  <cp:revision>12</cp:revision>
  <dc:subject/>
  <dc:title>РАСПОЗНАВАНИЕ ОБРАЗОВ</dc:title>
</cp:coreProperties>
</file>