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771-7FC0-4779-A805-6BFD5422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E11-7193-4111-90FE-3D743E9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DE2-410C-455C-8846-FA76906E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E5F-B8E1-4ED4-954A-486E13E1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5F5-833A-4149-917C-1EF52CA1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3EA8-C0C5-4228-8A2B-67EC1058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414-3D07-4050-B50E-96048933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D2B-E94E-41B9-A4ED-0AB9EA39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F76-CA42-423D-A24A-FD7A6B5E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B92-9BE8-46B9-839F-F1941AF3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561-4BE7-45CB-9F99-D0C69A36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04A-74FD-4E4A-9E85-37E4D819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B791-41D0-43C6-A64E-E86EB928D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229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Феномен прир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Шкалирование: прошлое настоящее будущее (А-систем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раньше, позже (В-системы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895480"/>
            <a:ext cx="3886200" cy="19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Основные свойств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аправл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Линей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прерывн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Неоканчиваемост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Гомог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371600"/>
            <a:ext cx="624816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нтериорные, задающие местоположение объекта перед други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ом или ориентир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стериорные, определяющие положение объекта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видимой (тыльной) стороны другого объек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ппозитивные, определяющие местоположение объекта в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ивоположении к другому объекту или локализатор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вальные,   задающие   местоположение   объекта    межд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умя другим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аппроксимативные,   задающие   приблизительное   положенш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объекта в пространстве относительно расстояния или направления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где-то в парк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рективные, определяющие направление движения или де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ия над объектом относительно пространственного ориентира ил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а координ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ициальные, указывающие направление при фиксированн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905120"/>
            <a:ext cx="632448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рминальные, указывающие направление при фиксирова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нечной точ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имитативные, указывающие направление при фиксиров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чальной и конечной точ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клюзивные, задающие перемещение или действие, происх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ящее внутри некоторого объекта или ЛО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клюзивные,  задающие перемещение  или  действие,  проис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одящее по  направлению внутрь некоторого объекта  или  Л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рансверсальные,  указывающие  на   пересекаемый 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ый ориентир  («перейти через улицу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тинеративные, указывающие на маршрут движения или пер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щения или фиксирующие ЛОК, в котором совершается действи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«идти по улице»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952880" y="1600200"/>
            <a:ext cx="3962520" cy="3124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600200"/>
            <a:ext cx="419076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в естественном язы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9810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Английский язы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1028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2971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екс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971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Грамма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6019560" y="25146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25146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05320"/>
            <a:ext cx="152424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505320"/>
            <a:ext cx="152388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505320"/>
            <a:ext cx="14475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447560" y="24382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3623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952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66"/>
                </a:solidFill>
                <a:latin typeface="Times New Roman"/>
              </a:rPr>
              <a:t>Заполненность отрезка времени действи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Единичность или повторяем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579132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Завершённость действия или незаверш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62485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Одновремённость или разновремё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-2666880" y="990720"/>
            <a:ext cx="15086520" cy="3276000"/>
            <a:chOff x="-2666880" y="990720"/>
            <a:chExt cx="15086520" cy="3276000"/>
          </a:xfrm>
        </p:grpSpPr>
        <p:sp>
          <p:nvSpPr>
            <p:cNvPr id="70" name=""/>
            <p:cNvSpPr/>
            <p:nvPr/>
          </p:nvSpPr>
          <p:spPr>
            <a:xfrm>
              <a:off x="1676520" y="990720"/>
              <a:ext cx="548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93366"/>
                  </a:solidFill>
                  <a:latin typeface="Times New Roman"/>
                </a:rPr>
                <a:t>Время в лигвиститк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480" y="3123720"/>
              <a:ext cx="7924680" cy="0"/>
              <a:chOff x="609480" y="3123720"/>
              <a:chExt cx="7924680" cy="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609480" y="3123720"/>
                <a:ext cx="2113200" cy="0"/>
                <a:chOff x="609480" y="3123720"/>
                <a:chExt cx="2113200" cy="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60948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13796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666080" y="3123720"/>
                  <a:ext cx="52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194200" y="3123720"/>
                  <a:ext cx="52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2723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511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792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077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362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6436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8928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2096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949080" y="3123720"/>
                <a:ext cx="52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792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006040" y="3123720"/>
                <a:ext cx="52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380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479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09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57600" y="32004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8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483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552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7220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81680" y="3200400"/>
              <a:ext cx="60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320040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4872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81880" y="3200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2666880" y="1752480"/>
              <a:ext cx="700992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4343400" y="1676520"/>
              <a:ext cx="8076240" cy="259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800" y="1371600"/>
              <a:ext cx="3276720" cy="1600200"/>
            </a:xfrm>
            <a:custGeom>
              <a:avLst/>
              <a:gdLst/>
              <a:ahLst/>
              <a:rect l="l" t="t" r="r" b="b"/>
              <a:pathLst>
                <a:path w="2016" h="616">
                  <a:moveTo>
                    <a:pt x="0" y="616"/>
                  </a:moveTo>
                  <a:cubicBezTo>
                    <a:pt x="0" y="496"/>
                    <a:pt x="0" y="376"/>
                    <a:pt x="96" y="280"/>
                  </a:cubicBezTo>
                  <a:cubicBezTo>
                    <a:pt x="192" y="184"/>
                    <a:pt x="448" y="80"/>
                    <a:pt x="576" y="40"/>
                  </a:cubicBezTo>
                  <a:cubicBezTo>
                    <a:pt x="704" y="0"/>
                    <a:pt x="728" y="24"/>
                    <a:pt x="864" y="40"/>
                  </a:cubicBezTo>
                  <a:cubicBezTo>
                    <a:pt x="1000" y="56"/>
                    <a:pt x="1240" y="88"/>
                    <a:pt x="1392" y="136"/>
                  </a:cubicBezTo>
                  <a:cubicBezTo>
                    <a:pt x="1544" y="184"/>
                    <a:pt x="1672" y="248"/>
                    <a:pt x="1776" y="328"/>
                  </a:cubicBezTo>
                  <a:cubicBezTo>
                    <a:pt x="1880" y="408"/>
                    <a:pt x="1976" y="568"/>
                    <a:pt x="2016" y="6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198108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7600" y="182880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2133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4114800"/>
            <a:ext cx="8458200" cy="2516760"/>
            <a:chOff x="533520" y="4114800"/>
            <a:chExt cx="8458200" cy="2516760"/>
          </a:xfrm>
        </p:grpSpPr>
        <p:sp>
          <p:nvSpPr>
            <p:cNvPr id="111" name=""/>
            <p:cNvSpPr/>
            <p:nvPr/>
          </p:nvSpPr>
          <p:spPr>
            <a:xfrm>
              <a:off x="533520" y="411480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П – давн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520" y="4952880"/>
              <a:ext cx="213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П - пред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4100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П – после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520" y="5791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П близко прошедш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11480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3366"/>
                  </a:solidFill>
                  <a:latin typeface="Times New Roman"/>
                </a:rPr>
                <a:t>ДН - давнонастояще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9880" y="457200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НО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9880" y="50292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МО момент отсчёт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4100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Н - близк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58672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Н - 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09880" y="632448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Н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148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Б  - близк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24480" y="4572000"/>
              <a:ext cx="26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РБ - пре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4480" y="495288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ПСБ - посл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00800" y="53341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БО - одновремен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0800" y="579132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3366"/>
                  </a:solidFill>
                  <a:latin typeface="Times New Roman"/>
                </a:rPr>
                <a:t>ДБ – далёк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0666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Время и челове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523880"/>
            <a:ext cx="2361960" cy="8384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38080" y="3733920"/>
            <a:ext cx="7772400" cy="1066680"/>
            <a:chOff x="838080" y="3733920"/>
            <a:chExt cx="7772400" cy="1066680"/>
          </a:xfrm>
        </p:grpSpPr>
        <p:sp>
          <p:nvSpPr>
            <p:cNvPr id="131" name=""/>
            <p:cNvSpPr/>
            <p:nvPr/>
          </p:nvSpPr>
          <p:spPr>
            <a:xfrm>
              <a:off x="838080" y="4267080"/>
              <a:ext cx="777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19720" y="4191120"/>
              <a:ext cx="75960" cy="7596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29000" y="380988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080" y="37339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прошло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4267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настоя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4480" y="4267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66"/>
                  </a:solidFill>
                  <a:latin typeface="Times New Roman"/>
                </a:rPr>
                <a:t>будуще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5053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371600" y="5638680"/>
            <a:ext cx="6248520" cy="304560"/>
            <a:chOff x="1371600" y="5638680"/>
            <a:chExt cx="6248520" cy="304560"/>
          </a:xfrm>
        </p:grpSpPr>
        <p:sp>
          <p:nvSpPr>
            <p:cNvPr id="140" name=""/>
            <p:cNvSpPr/>
            <p:nvPr/>
          </p:nvSpPr>
          <p:spPr>
            <a:xfrm>
              <a:off x="137160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5120" y="5943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71440" y="57146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59432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56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59432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2040" y="56386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39240" y="59432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6248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интерва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точеч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740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97180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32767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5909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4290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09680" y="266688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3505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точеч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1676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одновременно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событием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0574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раньш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243828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позже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962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</a:rPr>
              <a:t>t*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42900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) 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</a:rPr>
              <a:t>ит раньше на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2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я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5105520"/>
            <a:ext cx="731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US" sz="2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2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8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295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4648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3048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144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66"/>
                </a:solidFill>
                <a:latin typeface="Times New Roman"/>
              </a:rPr>
              <a:t>Логика времени интервальных событ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76520"/>
            <a:ext cx="5715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1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441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следует за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2438280"/>
            <a:ext cx="3962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952880"/>
            <a:ext cx="7315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4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(t*,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в момент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t*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и продолжается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5943600"/>
            <a:ext cx="5105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5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роисходит 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периодом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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295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Не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10080"/>
            <a:ext cx="159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Период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3429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Метр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743200"/>
            <a:ext cx="5639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Частные случа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3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: 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0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4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5       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124080"/>
            <a:ext cx="487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i="1" lang="ru-RU" sz="1400" spc="-1" strike="noStrike" baseline="-25000">
                <a:solidFill>
                  <a:srgbClr val="cc0066"/>
                </a:solidFill>
                <a:latin typeface="Times New Roman"/>
              </a:rPr>
              <a:t>7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епосредственно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редшествует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733920"/>
            <a:ext cx="5715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строго предшествует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ю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4038480"/>
            <a:ext cx="6324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2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пересекается с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начала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449568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  R</a:t>
            </a:r>
            <a:r>
              <a:rPr b="1" i="1" lang="en-US" sz="1400" spc="-1" strike="noStrike" baseline="-25000">
                <a:solidFill>
                  <a:srgbClr val="cc0066"/>
                </a:solidFill>
                <a:latin typeface="Times New Roman"/>
              </a:rPr>
              <a:t>m3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,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)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обытие 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р п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ересекается с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событи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</a:rPr>
              <a:t>ем</a:t>
            </a: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q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</a:rPr>
              <a:t> концы на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</a:rPr>
              <a:t>n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</a:rPr>
              <a:t>*</a:t>
            </a:r>
            <a:r>
              <a:rPr b="1" i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</a:t>
            </a:r>
            <a:r>
              <a:rPr b="1" i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ВРЕ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Формальная сист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676520"/>
            <a:ext cx="807732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ПФ языка будем строить по следующим правил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1.    Любой элемент из </a:t>
            </a:r>
            <a:r>
              <a:rPr b="1" i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.    Выражения вида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,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 есть ПП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3.    Если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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 — ППФ, то (а&amp; р) —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4.      Выражения     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*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 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— ППФ,  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R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*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{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4 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5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,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5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} t </a:t>
            </a:r>
            <a:r>
              <a:rPr b="1" lang="en-US" sz="1400" spc="-1" strike="noStrike">
                <a:solidFill>
                  <a:srgbClr val="cc0066"/>
                </a:solidFill>
                <a:latin typeface="WP MathA"/>
                <a:ea typeface="WP MathA"/>
              </a:rPr>
              <a:t>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T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5.      Выражения (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R</a:t>
            </a:r>
            <a:r>
              <a:rPr b="1" lang="en-US" sz="1400" spc="-1" strike="noStrike" baseline="-25000">
                <a:solidFill>
                  <a:srgbClr val="cc0066"/>
                </a:solidFill>
                <a:latin typeface="Times New Roman"/>
                <a:ea typeface="Times New Roman"/>
              </a:rPr>
              <a:t>m4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,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t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,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где </a:t>
            </a:r>
            <a:r>
              <a:rPr b="1" lang="ru-RU" sz="1400" spc="-1" strike="noStrike">
                <a:solidFill>
                  <a:srgbClr val="cc0066"/>
                </a:solidFill>
                <a:latin typeface="Symbol"/>
                <a:ea typeface="Symbol"/>
              </a:rPr>
              <a:t></a:t>
            </a: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* — ППФ  есть ППФ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6.      Других ППФ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1219320"/>
            <a:ext cx="533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={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………..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,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Times New Roman"/>
              </a:rPr>
              <a:t>Правила вы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0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  &amp;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  </a:t>
            </a:r>
            <a:r>
              <a:rPr b="1" lang="en-US" sz="16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 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 r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0 </a:t>
            </a:r>
            <a:r>
              <a:rPr b="1" lang="en-US" sz="1600" spc="-1" strike="noStrike">
                <a:solidFill>
                  <a:srgbClr val="cc0066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cc0066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55520"/>
            <a:ext cx="73915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ве группы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ксические (наречия и их конструкции, предлоги, имена существительные и именные группы, глаголы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правленного действия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рамматико-морфологические (падежн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ые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значения предлогов, которые управляют падежной формой существительных, а также местоимений и числительных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Естественный язы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948040"/>
            <a:ext cx="388620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вы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з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ход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округ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доех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тр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перек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рог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б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доль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еса),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 baseline="30000">
                <a:solidFill>
                  <a:srgbClr val="cc0066"/>
                </a:solidFill>
                <a:latin typeface="Times New Roman"/>
                <a:ea typeface="Times New Roman"/>
              </a:rPr>
              <a:t>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прята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з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о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ес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камейку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2857680"/>
            <a:ext cx="327672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рас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ежд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устам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леж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о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ол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лета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ад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городом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лете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ерев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находиться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е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сягаем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жи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внутри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репости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пройти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имо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магазина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(стоять </a:t>
            </a:r>
            <a:r>
              <a:rPr b="1" i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у 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мина).</a:t>
            </a:r>
            <a:r>
              <a:rPr b="1" lang="en-US" sz="1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35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66"/>
                </a:solidFill>
                <a:latin typeface="Times New Roman"/>
              </a:rPr>
              <a:t>Предлог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ЛОГИКА ПРОСТРА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066680"/>
            <a:ext cx="5943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экстериорные, определяющие положение объекта во внешнем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 относительно некоторого начала координат, простра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венного  ориентира,   или  локализатора   (например,   относительн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ЛОКа с именем Париж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териорные, определяющие положение объекта во внутрен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нем  пространстве относительно начала координат или некоторой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пространственного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испозитивные,   задающие   местоположение   объекта   в   про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транстве в самом общем виде («где-то на севере»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упериорные, указывающие местоположение объекта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верхней поверхности некоторого локализатора, или ориент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инфериорные,  характеризующие положение объекта  относ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тельно нижней поверхности локализатора или ориенти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—  </a:t>
            </a: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доминантные, указывающие местоположение объекта над не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оторым   локализатором   или   ориентиром,   когда   нет   в   наличии</a:t>
            </a:r>
            <a:br>
              <a:rPr sz="1200"/>
            </a:b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кас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6:28:45Z</dcterms:created>
  <dc:creator>.</dc:creator>
  <dc:description/>
  <dc:language>en-US</dc:language>
  <cp:lastModifiedBy>Peter Sosnin</cp:lastModifiedBy>
  <dcterms:modified xsi:type="dcterms:W3CDTF">2005-11-28T06:52:25Z</dcterms:modified>
  <cp:revision>9</cp:revision>
  <dc:subject/>
  <dc:title>ЛОГИКА ВРЕМЕНИ</dc:title>
</cp:coreProperties>
</file>