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58D-041D-45B5-8A27-25D84106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AD76-D8FF-4295-9042-2DE212BE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9979-6E76-4F1E-BF40-FC2C3245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58A-38C5-4DE4-8CFD-940DC0EF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A029-9CD0-4BE4-B03E-E273AE02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B63-1205-4FE9-9AB8-510BCA25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B69-9D64-4B36-A5B8-6DF99641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561-4B0F-410C-8897-B4842F4A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B64-951F-4B8F-A8D2-E37D2C26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C93-4F15-40E2-9404-A4E73330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B14-A114-4866-9236-B1AD35C1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219-1CB5-4B55-99AC-C905EFFA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3BCD-D870-49CC-BC3A-D61EB8E33A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141000">
            <a:off x="4191120" y="2209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1270600">
            <a:off x="3885840" y="32004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404400">
            <a:off x="4038480" y="3809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382200">
            <a:off x="3276360" y="4419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Валерий Г. Костин</cp:lastModifiedBy>
  <dcterms:modified xsi:type="dcterms:W3CDTF">2002-12-12T13:40:06Z</dcterms:modified>
  <cp:revision>8</cp:revision>
  <dc:subject/>
  <dc:title>ПРЕДСТАВЛЕНИЕ ЗНАНИЙ</dc:title>
</cp:coreProperties>
</file>