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0A0D-69D3-463F-8841-6616BFC0C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343F-15A1-45B8-905C-A2C879D58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7359-A9B6-4249-BDC6-F83F401DC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70A4-BEF5-467A-AD5D-FC85C38BF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CEB7-5192-4D66-8B55-D18C39768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D3DA-158D-405E-AE7C-649719DF4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93D6-BFC1-42D2-A135-D3A3E7E06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516B-E55B-4620-B05D-416F7BED6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72F6-8B88-436F-8B75-EADF60349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AC32-4AB9-467A-B7C7-DDC7E307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F891-0645-4832-BE16-59FFFE1D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D30B-50CF-4F4C-AE4A-12851149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49282-919F-40DE-ABA5-F80F76394E1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533520" y="1295280"/>
            <a:ext cx="8305200" cy="838440"/>
            <a:chOff x="533520" y="1295280"/>
            <a:chExt cx="8305200" cy="838440"/>
          </a:xfrm>
        </p:grpSpPr>
        <p:grpSp>
          <p:nvGrpSpPr>
            <p:cNvPr id="46" name=""/>
            <p:cNvGrpSpPr/>
            <p:nvPr/>
          </p:nvGrpSpPr>
          <p:grpSpPr>
            <a:xfrm>
              <a:off x="1172160" y="1295280"/>
              <a:ext cx="1916280" cy="838440"/>
              <a:chOff x="1172160" y="1295280"/>
              <a:chExt cx="1916280" cy="838440"/>
            </a:xfrm>
          </p:grpSpPr>
          <p:sp>
            <p:nvSpPr>
              <p:cNvPr id="47" name=""/>
              <p:cNvSpPr/>
              <p:nvPr/>
            </p:nvSpPr>
            <p:spPr>
              <a:xfrm>
                <a:off x="117216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249920" y="1371600"/>
                <a:ext cx="1758240" cy="5806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Датчики и преобразователи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" name=""/>
            <p:cNvGrpSpPr/>
            <p:nvPr/>
          </p:nvGrpSpPr>
          <p:grpSpPr>
            <a:xfrm>
              <a:off x="3727440" y="1295280"/>
              <a:ext cx="1916280" cy="838440"/>
              <a:chOff x="3727440" y="1295280"/>
              <a:chExt cx="1916280" cy="838440"/>
            </a:xfrm>
          </p:grpSpPr>
          <p:sp>
            <p:nvSpPr>
              <p:cNvPr id="50" name=""/>
              <p:cNvSpPr/>
              <p:nvPr/>
            </p:nvSpPr>
            <p:spPr>
              <a:xfrm>
                <a:off x="372744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807360" y="1371600"/>
                <a:ext cx="1756440" cy="3373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обработка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6283440" y="1295280"/>
              <a:ext cx="1916280" cy="838440"/>
              <a:chOff x="6283440" y="1295280"/>
              <a:chExt cx="1916280" cy="838440"/>
            </a:xfrm>
          </p:grpSpPr>
          <p:sp>
            <p:nvSpPr>
              <p:cNvPr id="53" name=""/>
              <p:cNvSpPr/>
              <p:nvPr/>
            </p:nvSpPr>
            <p:spPr>
              <a:xfrm>
                <a:off x="628344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363360" y="1371600"/>
                <a:ext cx="1756440" cy="5806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классифицирование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533520" y="1447920"/>
              <a:ext cx="638280" cy="533160"/>
              <a:chOff x="533520" y="1447920"/>
              <a:chExt cx="638280" cy="533160"/>
            </a:xfrm>
          </p:grpSpPr>
          <p:sp>
            <p:nvSpPr>
              <p:cNvPr id="56" name=""/>
              <p:cNvSpPr/>
              <p:nvPr/>
            </p:nvSpPr>
            <p:spPr>
              <a:xfrm>
                <a:off x="533520" y="144792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33520" y="160020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33520" y="198108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5644440" y="1447920"/>
              <a:ext cx="638640" cy="533160"/>
              <a:chOff x="5644440" y="1447920"/>
              <a:chExt cx="638640" cy="533160"/>
            </a:xfrm>
          </p:grpSpPr>
          <p:sp>
            <p:nvSpPr>
              <p:cNvPr id="60" name=""/>
              <p:cNvSpPr/>
              <p:nvPr/>
            </p:nvSpPr>
            <p:spPr>
              <a:xfrm>
                <a:off x="5644440" y="144792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644440" y="160020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644440" y="198108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3088800" y="1523880"/>
              <a:ext cx="638280" cy="533160"/>
              <a:chOff x="3088800" y="1523880"/>
              <a:chExt cx="638280" cy="533160"/>
            </a:xfrm>
          </p:grpSpPr>
          <p:sp>
            <p:nvSpPr>
              <p:cNvPr id="64" name=""/>
              <p:cNvSpPr/>
              <p:nvPr/>
            </p:nvSpPr>
            <p:spPr>
              <a:xfrm>
                <a:off x="3088800" y="152388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088800" y="167616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088800" y="205704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8200080" y="1676520"/>
              <a:ext cx="63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838080" y="2514600"/>
            <a:ext cx="762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ИФИЦИРОРВАТЬ (ОБУЧАЮЩЕЕ МНОЖЕСТВО,  ОПИСАНИЕ,  ПРАВИЛО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600200" y="3581280"/>
            <a:ext cx="5105520" cy="2667240"/>
            <a:chOff x="1600200" y="3581280"/>
            <a:chExt cx="5105520" cy="2667240"/>
          </a:xfrm>
        </p:grpSpPr>
        <p:grpSp>
          <p:nvGrpSpPr>
            <p:cNvPr id="70" name=""/>
            <p:cNvGrpSpPr/>
            <p:nvPr/>
          </p:nvGrpSpPr>
          <p:grpSpPr>
            <a:xfrm>
              <a:off x="2133720" y="3962520"/>
              <a:ext cx="4572000" cy="380880"/>
              <a:chOff x="2133720" y="3962520"/>
              <a:chExt cx="4572000" cy="380880"/>
            </a:xfrm>
          </p:grpSpPr>
          <p:sp>
            <p:nvSpPr>
              <p:cNvPr id="71" name=""/>
              <p:cNvSpPr/>
              <p:nvPr/>
            </p:nvSpPr>
            <p:spPr>
              <a:xfrm>
                <a:off x="2133720" y="396252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" name=""/>
              <p:cNvGrpSpPr/>
              <p:nvPr/>
            </p:nvGrpSpPr>
            <p:grpSpPr>
              <a:xfrm>
                <a:off x="2133720" y="3962520"/>
                <a:ext cx="838080" cy="380880"/>
                <a:chOff x="2133720" y="3962520"/>
                <a:chExt cx="838080" cy="38088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213372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221004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2971800" y="3962520"/>
                <a:ext cx="838080" cy="380880"/>
                <a:chOff x="2971800" y="3962520"/>
                <a:chExt cx="838080" cy="38088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297180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304812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4495680" y="3962520"/>
                <a:ext cx="838080" cy="380880"/>
                <a:chOff x="4495680" y="3962520"/>
                <a:chExt cx="838080" cy="38088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449568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457200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5867280" y="3962520"/>
                <a:ext cx="838080" cy="380880"/>
                <a:chOff x="5867280" y="3962520"/>
                <a:chExt cx="838080" cy="38088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586728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594360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" name=""/>
            <p:cNvGrpSpPr/>
            <p:nvPr/>
          </p:nvGrpSpPr>
          <p:grpSpPr>
            <a:xfrm>
              <a:off x="2133720" y="4343400"/>
              <a:ext cx="4572000" cy="380880"/>
              <a:chOff x="2133720" y="4343400"/>
              <a:chExt cx="4572000" cy="380880"/>
            </a:xfrm>
          </p:grpSpPr>
          <p:sp>
            <p:nvSpPr>
              <p:cNvPr id="85" name=""/>
              <p:cNvSpPr/>
              <p:nvPr/>
            </p:nvSpPr>
            <p:spPr>
              <a:xfrm>
                <a:off x="2133720" y="434340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" name=""/>
              <p:cNvGrpSpPr/>
              <p:nvPr/>
            </p:nvGrpSpPr>
            <p:grpSpPr>
              <a:xfrm>
                <a:off x="2133720" y="4343400"/>
                <a:ext cx="838080" cy="380880"/>
                <a:chOff x="2133720" y="4343400"/>
                <a:chExt cx="838080" cy="3808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213372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21004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2971800" y="4343400"/>
                <a:ext cx="838080" cy="380880"/>
                <a:chOff x="2971800" y="4343400"/>
                <a:chExt cx="838080" cy="3808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297180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04812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4495680" y="4343400"/>
                <a:ext cx="838080" cy="380880"/>
                <a:chOff x="4495680" y="4343400"/>
                <a:chExt cx="838080" cy="38088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449568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57200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5867280" y="4343400"/>
                <a:ext cx="838080" cy="380880"/>
                <a:chOff x="5867280" y="4343400"/>
                <a:chExt cx="838080" cy="38088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586728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94360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8" name=""/>
            <p:cNvGrpSpPr/>
            <p:nvPr/>
          </p:nvGrpSpPr>
          <p:grpSpPr>
            <a:xfrm>
              <a:off x="2133720" y="4724280"/>
              <a:ext cx="4572000" cy="380880"/>
              <a:chOff x="2133720" y="4724280"/>
              <a:chExt cx="4572000" cy="380880"/>
            </a:xfrm>
          </p:grpSpPr>
          <p:sp>
            <p:nvSpPr>
              <p:cNvPr id="99" name=""/>
              <p:cNvSpPr/>
              <p:nvPr/>
            </p:nvSpPr>
            <p:spPr>
              <a:xfrm>
                <a:off x="2133720" y="4724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" name=""/>
              <p:cNvGrpSpPr/>
              <p:nvPr/>
            </p:nvGrpSpPr>
            <p:grpSpPr>
              <a:xfrm>
                <a:off x="2133720" y="4724280"/>
                <a:ext cx="838080" cy="380880"/>
                <a:chOff x="2133720" y="4724280"/>
                <a:chExt cx="838080" cy="3808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213372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221004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2971800" y="4724280"/>
                <a:ext cx="838080" cy="380880"/>
                <a:chOff x="2971800" y="4724280"/>
                <a:chExt cx="838080" cy="38088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297180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04812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4495680" y="4724280"/>
                <a:ext cx="838080" cy="380880"/>
                <a:chOff x="4495680" y="4724280"/>
                <a:chExt cx="838080" cy="38088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449568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57200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5867280" y="4724280"/>
                <a:ext cx="838080" cy="380880"/>
                <a:chOff x="5867280" y="4724280"/>
                <a:chExt cx="838080" cy="38088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586728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594360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2" name=""/>
            <p:cNvGrpSpPr/>
            <p:nvPr/>
          </p:nvGrpSpPr>
          <p:grpSpPr>
            <a:xfrm>
              <a:off x="2133720" y="5105520"/>
              <a:ext cx="4572000" cy="380880"/>
              <a:chOff x="2133720" y="5105520"/>
              <a:chExt cx="4572000" cy="380880"/>
            </a:xfrm>
          </p:grpSpPr>
          <p:sp>
            <p:nvSpPr>
              <p:cNvPr id="113" name=""/>
              <p:cNvSpPr/>
              <p:nvPr/>
            </p:nvSpPr>
            <p:spPr>
              <a:xfrm>
                <a:off x="2133720" y="510552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" name=""/>
              <p:cNvGrpSpPr/>
              <p:nvPr/>
            </p:nvGrpSpPr>
            <p:grpSpPr>
              <a:xfrm>
                <a:off x="2133720" y="5105520"/>
                <a:ext cx="838080" cy="380880"/>
                <a:chOff x="2133720" y="5105520"/>
                <a:chExt cx="838080" cy="38088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213372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221004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2971800" y="5105520"/>
                <a:ext cx="838080" cy="380880"/>
                <a:chOff x="2971800" y="5105520"/>
                <a:chExt cx="838080" cy="38088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297180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04812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4495680" y="5105520"/>
                <a:ext cx="838080" cy="380880"/>
                <a:chOff x="4495680" y="5105520"/>
                <a:chExt cx="838080" cy="38088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449568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57200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5867280" y="5105520"/>
                <a:ext cx="838080" cy="380880"/>
                <a:chOff x="5867280" y="5105520"/>
                <a:chExt cx="838080" cy="38088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586728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94360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6" name=""/>
            <p:cNvGrpSpPr/>
            <p:nvPr/>
          </p:nvGrpSpPr>
          <p:grpSpPr>
            <a:xfrm>
              <a:off x="2133720" y="5486400"/>
              <a:ext cx="4572000" cy="380880"/>
              <a:chOff x="2133720" y="5486400"/>
              <a:chExt cx="4572000" cy="380880"/>
            </a:xfrm>
          </p:grpSpPr>
          <p:sp>
            <p:nvSpPr>
              <p:cNvPr id="127" name=""/>
              <p:cNvSpPr/>
              <p:nvPr/>
            </p:nvSpPr>
            <p:spPr>
              <a:xfrm>
                <a:off x="2133720" y="548640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8" name=""/>
              <p:cNvGrpSpPr/>
              <p:nvPr/>
            </p:nvGrpSpPr>
            <p:grpSpPr>
              <a:xfrm>
                <a:off x="2133720" y="5486400"/>
                <a:ext cx="838080" cy="380880"/>
                <a:chOff x="2133720" y="5486400"/>
                <a:chExt cx="838080" cy="38088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213372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2210040" y="5486400"/>
                  <a:ext cx="761760" cy="3049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2971800" y="5486400"/>
                <a:ext cx="838080" cy="380880"/>
                <a:chOff x="2971800" y="5486400"/>
                <a:chExt cx="838080" cy="38088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97180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304812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4495680" y="5486400"/>
                <a:ext cx="838080" cy="380880"/>
                <a:chOff x="4495680" y="5486400"/>
                <a:chExt cx="838080" cy="380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49568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57200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5867280" y="5486400"/>
                <a:ext cx="838080" cy="380880"/>
                <a:chOff x="5867280" y="5486400"/>
                <a:chExt cx="838080" cy="38088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586728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594360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,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0" name=""/>
            <p:cNvGrpSpPr/>
            <p:nvPr/>
          </p:nvGrpSpPr>
          <p:grpSpPr>
            <a:xfrm>
              <a:off x="2133720" y="3581280"/>
              <a:ext cx="4572000" cy="380880"/>
              <a:chOff x="2133720" y="3581280"/>
              <a:chExt cx="4572000" cy="380880"/>
            </a:xfrm>
          </p:grpSpPr>
          <p:sp>
            <p:nvSpPr>
              <p:cNvPr id="141" name=""/>
              <p:cNvSpPr/>
              <p:nvPr/>
            </p:nvSpPr>
            <p:spPr>
              <a:xfrm>
                <a:off x="2133720" y="3581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2" name=""/>
              <p:cNvGrpSpPr/>
              <p:nvPr/>
            </p:nvGrpSpPr>
            <p:grpSpPr>
              <a:xfrm>
                <a:off x="2133720" y="3581280"/>
                <a:ext cx="838080" cy="380880"/>
                <a:chOff x="2133720" y="3581280"/>
                <a:chExt cx="838080" cy="38088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213372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221004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2971800" y="3581280"/>
                <a:ext cx="838080" cy="380880"/>
                <a:chOff x="2971800" y="3581280"/>
                <a:chExt cx="838080" cy="38088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297180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04812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4495680" y="3581280"/>
                <a:ext cx="838080" cy="380880"/>
                <a:chOff x="4495680" y="3581280"/>
                <a:chExt cx="838080" cy="3808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449568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457200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5867280" y="3581280"/>
                <a:ext cx="838080" cy="380880"/>
                <a:chOff x="5867280" y="3581280"/>
                <a:chExt cx="838080" cy="38088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586728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94360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4" name=""/>
            <p:cNvSpPr/>
            <p:nvPr/>
          </p:nvSpPr>
          <p:spPr>
            <a:xfrm>
              <a:off x="1600200" y="3581280"/>
              <a:ext cx="533520" cy="2667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1600200" y="3962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1600200" y="4343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1600200" y="4724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600200" y="5105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1600200" y="5486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2133720" y="5867280"/>
              <a:ext cx="4572000" cy="380880"/>
              <a:chOff x="2133720" y="5867280"/>
              <a:chExt cx="4572000" cy="380880"/>
            </a:xfrm>
          </p:grpSpPr>
          <p:sp>
            <p:nvSpPr>
              <p:cNvPr id="161" name=""/>
              <p:cNvSpPr/>
              <p:nvPr/>
            </p:nvSpPr>
            <p:spPr>
              <a:xfrm>
                <a:off x="2133720" y="5867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2133720" y="5867280"/>
                <a:ext cx="838080" cy="380880"/>
                <a:chOff x="2133720" y="5867280"/>
                <a:chExt cx="838080" cy="38088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13372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21004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2971800" y="5867280"/>
                <a:ext cx="838080" cy="380880"/>
                <a:chOff x="2971800" y="5867280"/>
                <a:chExt cx="838080" cy="3808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297180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04812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4495680" y="5867280"/>
                <a:ext cx="838080" cy="380880"/>
                <a:chOff x="4495680" y="5867280"/>
                <a:chExt cx="838080" cy="38088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449568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457200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5867280" y="5867280"/>
                <a:ext cx="838080" cy="380880"/>
                <a:chOff x="5867280" y="5867280"/>
                <a:chExt cx="838080" cy="3808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586728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94360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4" name=""/>
            <p:cNvSpPr/>
            <p:nvPr/>
          </p:nvSpPr>
          <p:spPr>
            <a:xfrm flipH="1">
              <a:off x="1600200" y="5867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 flipH="1">
            <a:off x="3276720" y="2895480"/>
            <a:ext cx="914400" cy="5335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505320" y="29718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БАЗОВЫЕ ЗАДАЧ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33520" y="2819520"/>
            <a:ext cx="2209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Эффективность и оцен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477120" y="3200400"/>
            <a:ext cx="2209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оррекция классифик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62520" y="990720"/>
            <a:ext cx="1676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Априорная классификац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477120" y="1752480"/>
            <a:ext cx="2209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Априорный словарь признак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38080" y="1295280"/>
            <a:ext cx="22100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Определить полный перечень признак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752480" y="4800600"/>
            <a:ext cx="22100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ачество распозна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400800" y="4648320"/>
            <a:ext cx="2209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ыбор алгорит ма распозна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09880" y="5715000"/>
            <a:ext cx="22100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Рабочие словари признаков и класс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 flipV="1">
            <a:off x="2819160" y="228600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3200400" y="159984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638680" y="1676520"/>
            <a:ext cx="9907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934320" y="2286000"/>
            <a:ext cx="1522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6933960" y="40384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5486040" y="51814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2895480" y="5562360"/>
            <a:ext cx="6098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 flipV="1">
            <a:off x="1676520" y="3657240"/>
            <a:ext cx="4572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666880" y="76212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Грамматическое распознава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219320" y="1447920"/>
            <a:ext cx="2057400" cy="1828800"/>
            <a:chOff x="1219320" y="1447920"/>
            <a:chExt cx="2057400" cy="1828800"/>
          </a:xfrm>
        </p:grpSpPr>
        <p:sp>
          <p:nvSpPr>
            <p:cNvPr id="398" name=""/>
            <p:cNvSpPr/>
            <p:nvPr/>
          </p:nvSpPr>
          <p:spPr>
            <a:xfrm>
              <a:off x="1219320" y="1447920"/>
              <a:ext cx="2057400" cy="18288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676520" y="2057760"/>
              <a:ext cx="228600" cy="2286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514600" y="2057760"/>
              <a:ext cx="228600" cy="2286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133720" y="2133720"/>
              <a:ext cx="7632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828800" y="289584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1676520" y="3809880"/>
            <a:ext cx="6400800" cy="22100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Лицо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,y)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: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черты лица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,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голова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,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нутри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,y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Голова(): окружность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Черты лица 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,y,z):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глаза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,нос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, рот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z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; =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и (и( над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(x,y),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над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y,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Глаза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,z):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точка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(x),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точка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(y),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слева 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,y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Нос 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: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рямоугольник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Рот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: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отрезок_прямой(), горизонтальный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3733920" y="1447920"/>
            <a:ext cx="4952880" cy="1523880"/>
            <a:chOff x="3733920" y="1447920"/>
            <a:chExt cx="4952880" cy="1523880"/>
          </a:xfrm>
        </p:grpSpPr>
        <p:sp>
          <p:nvSpPr>
            <p:cNvPr id="405" name=""/>
            <p:cNvSpPr/>
            <p:nvPr/>
          </p:nvSpPr>
          <p:spPr>
            <a:xfrm>
              <a:off x="3809880" y="1447920"/>
              <a:ext cx="4572000" cy="685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886200" y="1523880"/>
              <a:ext cx="4419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Типы объектов : точка, прямоугольник, отрезок прямой , окружност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733920" y="2362320"/>
              <a:ext cx="495288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962520" y="2514600"/>
              <a:ext cx="457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едикаты : Внутри, над, слева, горизонтальный, 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2860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838080" y="1600200"/>
            <a:ext cx="1523880" cy="2211840"/>
            <a:chOff x="838080" y="1600200"/>
            <a:chExt cx="1523880" cy="2211840"/>
          </a:xfrm>
        </p:grpSpPr>
        <p:sp>
          <p:nvSpPr>
            <p:cNvPr id="414" name=""/>
            <p:cNvSpPr/>
            <p:nvPr/>
          </p:nvSpPr>
          <p:spPr>
            <a:xfrm>
              <a:off x="914400" y="16761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38080" y="190476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914400" y="228564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838080" y="24379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066680" y="251424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371600" y="16002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143000" y="1828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447560" y="213336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838080" y="2971440"/>
              <a:ext cx="304920" cy="304560"/>
              <a:chOff x="838080" y="2971440"/>
              <a:chExt cx="304920" cy="304560"/>
            </a:xfrm>
          </p:grpSpPr>
          <p:sp>
            <p:nvSpPr>
              <p:cNvPr id="423" name=""/>
              <p:cNvSpPr/>
              <p:nvPr/>
            </p:nvSpPr>
            <p:spPr>
              <a:xfrm flipV="1">
                <a:off x="838080" y="297144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838080" y="297144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5" name=""/>
            <p:cNvSpPr/>
            <p:nvPr/>
          </p:nvSpPr>
          <p:spPr>
            <a:xfrm>
              <a:off x="1676160" y="350496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6" name=""/>
            <p:cNvGrpSpPr/>
            <p:nvPr/>
          </p:nvGrpSpPr>
          <p:grpSpPr>
            <a:xfrm>
              <a:off x="1676160" y="2971440"/>
              <a:ext cx="381240" cy="459360"/>
              <a:chOff x="1676160" y="2971440"/>
              <a:chExt cx="381240" cy="459360"/>
            </a:xfrm>
          </p:grpSpPr>
          <p:grpSp>
            <p:nvGrpSpPr>
              <p:cNvPr id="427" name=""/>
              <p:cNvGrpSpPr/>
              <p:nvPr/>
            </p:nvGrpSpPr>
            <p:grpSpPr>
              <a:xfrm>
                <a:off x="1752480" y="2971440"/>
                <a:ext cx="304920" cy="228240"/>
                <a:chOff x="1752480" y="2971440"/>
                <a:chExt cx="304920" cy="22824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1752480" y="297144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2057400" y="297144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0" name=""/>
              <p:cNvSpPr/>
              <p:nvPr/>
            </p:nvSpPr>
            <p:spPr>
              <a:xfrm>
                <a:off x="1676160" y="3123720"/>
                <a:ext cx="304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1752120" y="3504960"/>
              <a:ext cx="304920" cy="304560"/>
              <a:chOff x="1752120" y="3504960"/>
              <a:chExt cx="304920" cy="304560"/>
            </a:xfrm>
          </p:grpSpPr>
          <p:sp>
            <p:nvSpPr>
              <p:cNvPr id="432" name=""/>
              <p:cNvSpPr/>
              <p:nvPr/>
            </p:nvSpPr>
            <p:spPr>
              <a:xfrm>
                <a:off x="2057040" y="350496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H="1">
                <a:off x="1752120" y="380952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838080" y="3504960"/>
              <a:ext cx="304920" cy="304560"/>
              <a:chOff x="838080" y="3504960"/>
              <a:chExt cx="304920" cy="304560"/>
            </a:xfrm>
          </p:grpSpPr>
          <p:sp>
            <p:nvSpPr>
              <p:cNvPr id="435" name=""/>
              <p:cNvSpPr/>
              <p:nvPr/>
            </p:nvSpPr>
            <p:spPr>
              <a:xfrm>
                <a:off x="838080" y="350496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838080" y="380952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>
              <a:off x="990360" y="312408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914400" y="350496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3809880" y="1371600"/>
            <a:ext cx="1219320" cy="29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A::=a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F::=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B::=b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G::=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C::=c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R::=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D::=d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T::=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6019920" y="2057040"/>
            <a:ext cx="1218960" cy="991080"/>
            <a:chOff x="6019920" y="2057040"/>
            <a:chExt cx="1218960" cy="991080"/>
          </a:xfrm>
        </p:grpSpPr>
        <p:sp>
          <p:nvSpPr>
            <p:cNvPr id="441" name=""/>
            <p:cNvSpPr/>
            <p:nvPr/>
          </p:nvSpPr>
          <p:spPr>
            <a:xfrm>
              <a:off x="6019920" y="20574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324480" y="20574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33960" y="20574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238880" y="2057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23888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23888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6933960" y="30481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6019920" y="30481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6629040" y="3048120"/>
              <a:ext cx="30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6019920" y="27428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6019920" y="23623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6019920" y="20570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1219320" y="7621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Формальные граммати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895480" y="144756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447920" y="5029200"/>
            <a:ext cx="16761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90920" y="51814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63840" y="1650960"/>
            <a:ext cx="1962360" cy="1333440"/>
          </a:xfrm>
          <a:custGeom>
            <a:avLst/>
            <a:gdLst/>
            <a:ahLst/>
            <a:rect l="l" t="t" r="r" b="b"/>
            <a:pathLst>
              <a:path w="1236" h="840">
                <a:moveTo>
                  <a:pt x="468" y="2"/>
                </a:moveTo>
                <a:cubicBezTo>
                  <a:pt x="435" y="8"/>
                  <a:pt x="395" y="0"/>
                  <a:pt x="368" y="21"/>
                </a:cubicBezTo>
                <a:cubicBezTo>
                  <a:pt x="313" y="64"/>
                  <a:pt x="245" y="93"/>
                  <a:pt x="203" y="149"/>
                </a:cubicBezTo>
                <a:cubicBezTo>
                  <a:pt x="127" y="249"/>
                  <a:pt x="170" y="200"/>
                  <a:pt x="75" y="295"/>
                </a:cubicBezTo>
                <a:cubicBezTo>
                  <a:pt x="61" y="381"/>
                  <a:pt x="39" y="487"/>
                  <a:pt x="11" y="569"/>
                </a:cubicBezTo>
                <a:cubicBezTo>
                  <a:pt x="14" y="600"/>
                  <a:pt x="0" y="637"/>
                  <a:pt x="20" y="661"/>
                </a:cubicBezTo>
                <a:cubicBezTo>
                  <a:pt x="36" y="680"/>
                  <a:pt x="71" y="662"/>
                  <a:pt x="94" y="670"/>
                </a:cubicBezTo>
                <a:cubicBezTo>
                  <a:pt x="342" y="757"/>
                  <a:pt x="36" y="717"/>
                  <a:pt x="386" y="734"/>
                </a:cubicBezTo>
                <a:cubicBezTo>
                  <a:pt x="632" y="840"/>
                  <a:pt x="619" y="796"/>
                  <a:pt x="980" y="779"/>
                </a:cubicBezTo>
                <a:cubicBezTo>
                  <a:pt x="1027" y="764"/>
                  <a:pt x="1040" y="716"/>
                  <a:pt x="1081" y="688"/>
                </a:cubicBezTo>
                <a:cubicBezTo>
                  <a:pt x="1088" y="645"/>
                  <a:pt x="1114" y="534"/>
                  <a:pt x="1154" y="505"/>
                </a:cubicBezTo>
                <a:cubicBezTo>
                  <a:pt x="1164" y="498"/>
                  <a:pt x="1179" y="499"/>
                  <a:pt x="1191" y="496"/>
                </a:cubicBezTo>
                <a:cubicBezTo>
                  <a:pt x="1200" y="441"/>
                  <a:pt x="1223" y="395"/>
                  <a:pt x="1236" y="341"/>
                </a:cubicBezTo>
                <a:cubicBezTo>
                  <a:pt x="1197" y="332"/>
                  <a:pt x="1156" y="333"/>
                  <a:pt x="1118" y="322"/>
                </a:cubicBezTo>
                <a:cubicBezTo>
                  <a:pt x="1110" y="320"/>
                  <a:pt x="1108" y="306"/>
                  <a:pt x="1099" y="304"/>
                </a:cubicBezTo>
                <a:cubicBezTo>
                  <a:pt x="1051" y="294"/>
                  <a:pt x="953" y="286"/>
                  <a:pt x="953" y="286"/>
                </a:cubicBezTo>
                <a:cubicBezTo>
                  <a:pt x="926" y="277"/>
                  <a:pt x="894" y="275"/>
                  <a:pt x="871" y="258"/>
                </a:cubicBezTo>
                <a:cubicBezTo>
                  <a:pt x="783" y="192"/>
                  <a:pt x="828" y="208"/>
                  <a:pt x="743" y="194"/>
                </a:cubicBezTo>
                <a:cubicBezTo>
                  <a:pt x="724" y="136"/>
                  <a:pt x="735" y="101"/>
                  <a:pt x="670" y="85"/>
                </a:cubicBezTo>
                <a:cubicBezTo>
                  <a:pt x="622" y="37"/>
                  <a:pt x="533" y="24"/>
                  <a:pt x="468" y="2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41320" y="3409920"/>
            <a:ext cx="1457280" cy="1379520"/>
          </a:xfrm>
          <a:custGeom>
            <a:avLst/>
            <a:gdLst/>
            <a:ahLst/>
            <a:rect l="l" t="t" r="r" b="b"/>
            <a:pathLst>
              <a:path w="918" h="869">
                <a:moveTo>
                  <a:pt x="549" y="19"/>
                </a:moveTo>
                <a:cubicBezTo>
                  <a:pt x="379" y="67"/>
                  <a:pt x="534" y="0"/>
                  <a:pt x="494" y="74"/>
                </a:cubicBezTo>
                <a:cubicBezTo>
                  <a:pt x="477" y="106"/>
                  <a:pt x="448" y="131"/>
                  <a:pt x="421" y="156"/>
                </a:cubicBezTo>
                <a:cubicBezTo>
                  <a:pt x="399" y="177"/>
                  <a:pt x="371" y="191"/>
                  <a:pt x="348" y="211"/>
                </a:cubicBezTo>
                <a:cubicBezTo>
                  <a:pt x="328" y="228"/>
                  <a:pt x="316" y="253"/>
                  <a:pt x="293" y="266"/>
                </a:cubicBezTo>
                <a:cubicBezTo>
                  <a:pt x="271" y="278"/>
                  <a:pt x="244" y="276"/>
                  <a:pt x="220" y="284"/>
                </a:cubicBezTo>
                <a:cubicBezTo>
                  <a:pt x="180" y="297"/>
                  <a:pt x="141" y="316"/>
                  <a:pt x="101" y="330"/>
                </a:cubicBezTo>
                <a:cubicBezTo>
                  <a:pt x="77" y="354"/>
                  <a:pt x="47" y="374"/>
                  <a:pt x="28" y="403"/>
                </a:cubicBezTo>
                <a:cubicBezTo>
                  <a:pt x="5" y="438"/>
                  <a:pt x="8" y="555"/>
                  <a:pt x="0" y="604"/>
                </a:cubicBezTo>
                <a:cubicBezTo>
                  <a:pt x="31" y="625"/>
                  <a:pt x="58" y="653"/>
                  <a:pt x="92" y="668"/>
                </a:cubicBezTo>
                <a:cubicBezTo>
                  <a:pt x="114" y="678"/>
                  <a:pt x="143" y="666"/>
                  <a:pt x="165" y="677"/>
                </a:cubicBezTo>
                <a:cubicBezTo>
                  <a:pt x="311" y="750"/>
                  <a:pt x="138" y="709"/>
                  <a:pt x="256" y="796"/>
                </a:cubicBezTo>
                <a:cubicBezTo>
                  <a:pt x="305" y="832"/>
                  <a:pt x="426" y="858"/>
                  <a:pt x="494" y="869"/>
                </a:cubicBezTo>
                <a:cubicBezTo>
                  <a:pt x="500" y="851"/>
                  <a:pt x="510" y="833"/>
                  <a:pt x="512" y="814"/>
                </a:cubicBezTo>
                <a:cubicBezTo>
                  <a:pt x="513" y="805"/>
                  <a:pt x="495" y="792"/>
                  <a:pt x="503" y="787"/>
                </a:cubicBezTo>
                <a:cubicBezTo>
                  <a:pt x="521" y="775"/>
                  <a:pt x="545" y="779"/>
                  <a:pt x="567" y="778"/>
                </a:cubicBezTo>
                <a:cubicBezTo>
                  <a:pt x="665" y="773"/>
                  <a:pt x="762" y="772"/>
                  <a:pt x="860" y="769"/>
                </a:cubicBezTo>
                <a:cubicBezTo>
                  <a:pt x="890" y="722"/>
                  <a:pt x="905" y="677"/>
                  <a:pt x="915" y="622"/>
                </a:cubicBezTo>
                <a:cubicBezTo>
                  <a:pt x="912" y="531"/>
                  <a:pt x="916" y="439"/>
                  <a:pt x="905" y="348"/>
                </a:cubicBezTo>
                <a:cubicBezTo>
                  <a:pt x="904" y="337"/>
                  <a:pt x="885" y="339"/>
                  <a:pt x="878" y="330"/>
                </a:cubicBezTo>
                <a:cubicBezTo>
                  <a:pt x="830" y="268"/>
                  <a:pt x="918" y="333"/>
                  <a:pt x="841" y="284"/>
                </a:cubicBezTo>
                <a:cubicBezTo>
                  <a:pt x="832" y="229"/>
                  <a:pt x="806" y="173"/>
                  <a:pt x="768" y="129"/>
                </a:cubicBezTo>
                <a:cubicBezTo>
                  <a:pt x="762" y="122"/>
                  <a:pt x="749" y="124"/>
                  <a:pt x="741" y="119"/>
                </a:cubicBezTo>
                <a:cubicBezTo>
                  <a:pt x="716" y="103"/>
                  <a:pt x="692" y="83"/>
                  <a:pt x="668" y="65"/>
                </a:cubicBezTo>
                <a:cubicBezTo>
                  <a:pt x="664" y="62"/>
                  <a:pt x="551" y="20"/>
                  <a:pt x="549" y="19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18240" y="3672000"/>
            <a:ext cx="1322280" cy="1263600"/>
          </a:xfrm>
          <a:custGeom>
            <a:avLst/>
            <a:gdLst/>
            <a:ahLst/>
            <a:rect l="l" t="t" r="r" b="b"/>
            <a:pathLst>
              <a:path w="833" h="796">
                <a:moveTo>
                  <a:pt x="46" y="9"/>
                </a:moveTo>
                <a:cubicBezTo>
                  <a:pt x="54" y="82"/>
                  <a:pt x="43" y="148"/>
                  <a:pt x="55" y="220"/>
                </a:cubicBezTo>
                <a:cubicBezTo>
                  <a:pt x="49" y="360"/>
                  <a:pt x="14" y="502"/>
                  <a:pt x="37" y="640"/>
                </a:cubicBezTo>
                <a:cubicBezTo>
                  <a:pt x="43" y="677"/>
                  <a:pt x="55" y="744"/>
                  <a:pt x="55" y="777"/>
                </a:cubicBezTo>
                <a:cubicBezTo>
                  <a:pt x="55" y="786"/>
                  <a:pt x="37" y="747"/>
                  <a:pt x="46" y="750"/>
                </a:cubicBezTo>
                <a:cubicBezTo>
                  <a:pt x="74" y="758"/>
                  <a:pt x="95" y="781"/>
                  <a:pt x="119" y="796"/>
                </a:cubicBezTo>
                <a:cubicBezTo>
                  <a:pt x="285" y="785"/>
                  <a:pt x="441" y="759"/>
                  <a:pt x="604" y="732"/>
                </a:cubicBezTo>
                <a:cubicBezTo>
                  <a:pt x="635" y="700"/>
                  <a:pt x="732" y="695"/>
                  <a:pt x="732" y="695"/>
                </a:cubicBezTo>
                <a:cubicBezTo>
                  <a:pt x="777" y="672"/>
                  <a:pt x="771" y="652"/>
                  <a:pt x="814" y="668"/>
                </a:cubicBezTo>
                <a:cubicBezTo>
                  <a:pt x="833" y="549"/>
                  <a:pt x="800" y="411"/>
                  <a:pt x="787" y="293"/>
                </a:cubicBezTo>
                <a:cubicBezTo>
                  <a:pt x="784" y="226"/>
                  <a:pt x="786" y="159"/>
                  <a:pt x="778" y="92"/>
                </a:cubicBezTo>
                <a:cubicBezTo>
                  <a:pt x="772" y="45"/>
                  <a:pt x="700" y="57"/>
                  <a:pt x="677" y="55"/>
                </a:cubicBezTo>
                <a:cubicBezTo>
                  <a:pt x="533" y="46"/>
                  <a:pt x="304" y="41"/>
                  <a:pt x="174" y="37"/>
                </a:cubicBezTo>
                <a:cubicBezTo>
                  <a:pt x="130" y="24"/>
                  <a:pt x="65" y="0"/>
                  <a:pt x="19" y="9"/>
                </a:cubicBezTo>
                <a:cubicBezTo>
                  <a:pt x="9" y="11"/>
                  <a:pt x="0" y="37"/>
                  <a:pt x="10" y="37"/>
                </a:cubicBezTo>
                <a:cubicBezTo>
                  <a:pt x="25" y="37"/>
                  <a:pt x="34" y="18"/>
                  <a:pt x="46" y="9"/>
                </a:cubicBez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38862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05520" y="41148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62520" y="20574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9144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1371600"/>
            <a:ext cx="739116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1371600"/>
            <a:ext cx="350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СОБЫТИЯ И ИХ ВЕРОЯТ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57400" y="1752480"/>
            <a:ext cx="52578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появления события 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,B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совместного появления событий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и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B|A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при условии, что произощло 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,B)= Pr(A)* Pr(B|A) = Pr(B)* Pr(A|B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90720" y="3505320"/>
            <a:ext cx="7391160" cy="2895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95280" y="36576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БАЙЕСОВСКАЯ ЗАДАЧ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33720" y="4038480"/>
            <a:ext cx="4190760" cy="17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Гипотезы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} - Pr(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j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0,  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(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Эксперименты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},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причём известна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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0 , 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, 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0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 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* Pr(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-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91440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 (пример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639800" y="2000160"/>
            <a:ext cx="6437160" cy="2114640"/>
            <a:chOff x="1639800" y="2000160"/>
            <a:chExt cx="6437160" cy="2114640"/>
          </a:xfrm>
        </p:grpSpPr>
        <p:grpSp>
          <p:nvGrpSpPr>
            <p:cNvPr id="203" name=""/>
            <p:cNvGrpSpPr/>
            <p:nvPr/>
          </p:nvGrpSpPr>
          <p:grpSpPr>
            <a:xfrm>
              <a:off x="1644480" y="2004840"/>
              <a:ext cx="6427800" cy="2104920"/>
              <a:chOff x="1644480" y="2004840"/>
              <a:chExt cx="6427800" cy="2104920"/>
            </a:xfrm>
          </p:grpSpPr>
          <p:grpSp>
            <p:nvGrpSpPr>
              <p:cNvPr id="204" name=""/>
              <p:cNvGrpSpPr/>
              <p:nvPr/>
            </p:nvGrpSpPr>
            <p:grpSpPr>
              <a:xfrm>
                <a:off x="1644480" y="2004840"/>
                <a:ext cx="1434960" cy="701640"/>
                <a:chOff x="1644480" y="2004840"/>
                <a:chExt cx="1434960" cy="70164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1712880" y="20048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обознач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644480" y="20048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3079440" y="2004840"/>
                <a:ext cx="3557880" cy="701640"/>
                <a:chOff x="3079440" y="2004840"/>
                <a:chExt cx="3557880" cy="70164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147840" y="200484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поясн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079440" y="200484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6637320" y="2004840"/>
                <a:ext cx="1434960" cy="701640"/>
                <a:chOff x="6637320" y="2004840"/>
                <a:chExt cx="1434960" cy="70164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6705360" y="20048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личина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637320" y="20048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1644480" y="2706480"/>
                <a:ext cx="1434960" cy="701640"/>
                <a:chOff x="1644480" y="2706480"/>
                <a:chExt cx="1434960" cy="70164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1712880" y="27064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(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1644480" y="27064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3079440" y="2706480"/>
                <a:ext cx="3557880" cy="701640"/>
                <a:chOff x="3079440" y="2706480"/>
                <a:chExt cx="3557880" cy="70164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3147840" y="27064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роятность того, что идёт дождь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079440" y="27064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6637320" y="2706480"/>
                <a:ext cx="1434960" cy="701640"/>
                <a:chOff x="6637320" y="2706480"/>
                <a:chExt cx="1434960" cy="70164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6705360" y="27064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6637320" y="27064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1644480" y="3408120"/>
                <a:ext cx="1434960" cy="701640"/>
                <a:chOff x="1644480" y="3408120"/>
                <a:chExt cx="1434960" cy="70164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1712880" y="34081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(-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1644480" y="34081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3079440" y="3408120"/>
                <a:ext cx="3557880" cy="701640"/>
                <a:chOff x="3079440" y="3408120"/>
                <a:chExt cx="3557880" cy="70164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3147840" y="340812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роятность – «дождя нет»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079440" y="340812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6637320" y="3408120"/>
                <a:ext cx="1434960" cy="701640"/>
                <a:chOff x="6637320" y="3408120"/>
                <a:chExt cx="1434960" cy="70164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6705360" y="34081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637320" y="34081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1" name=""/>
            <p:cNvSpPr/>
            <p:nvPr/>
          </p:nvSpPr>
          <p:spPr>
            <a:xfrm>
              <a:off x="1639800" y="2000160"/>
              <a:ext cx="6437160" cy="2114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1487520" y="1251000"/>
            <a:ext cx="6437160" cy="4921200"/>
            <a:chOff x="1487520" y="1251000"/>
            <a:chExt cx="6437160" cy="4921200"/>
          </a:xfrm>
        </p:grpSpPr>
        <p:grpSp>
          <p:nvGrpSpPr>
            <p:cNvPr id="238" name=""/>
            <p:cNvGrpSpPr/>
            <p:nvPr/>
          </p:nvGrpSpPr>
          <p:grpSpPr>
            <a:xfrm>
              <a:off x="1492200" y="1255680"/>
              <a:ext cx="6427800" cy="4911840"/>
              <a:chOff x="1492200" y="1255680"/>
              <a:chExt cx="6427800" cy="491184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1492200" y="1255680"/>
                <a:ext cx="1434960" cy="701640"/>
                <a:chOff x="1492200" y="1255680"/>
                <a:chExt cx="1434960" cy="70164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1560600" y="12556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обознач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492200" y="12556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2927160" y="1255680"/>
                <a:ext cx="3557880" cy="701640"/>
                <a:chOff x="2927160" y="1255680"/>
                <a:chExt cx="3557880" cy="70164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2995560" y="12556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поясн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2927160" y="12556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6485040" y="1255680"/>
                <a:ext cx="1434960" cy="701640"/>
                <a:chOff x="6485040" y="1255680"/>
                <a:chExt cx="1434960" cy="70164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6553080" y="12556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личина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6485040" y="12556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1492200" y="1957320"/>
                <a:ext cx="1434960" cy="701640"/>
                <a:chOff x="1492200" y="1957320"/>
                <a:chExt cx="1434960" cy="70164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1560600" y="19573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1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492200" y="19573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2927160" y="1957320"/>
                <a:ext cx="3557880" cy="701640"/>
                <a:chOff x="2927160" y="1957320"/>
                <a:chExt cx="3557880" cy="70164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2995560" y="195732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и, зонтик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2927160" y="195732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6485040" y="1957320"/>
                <a:ext cx="1434960" cy="701640"/>
                <a:chOff x="6485040" y="1957320"/>
                <a:chExt cx="1434960" cy="70164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6553080" y="19573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6485040" y="19573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1492200" y="2658960"/>
                <a:ext cx="1434960" cy="701640"/>
                <a:chOff x="1492200" y="2658960"/>
                <a:chExt cx="1434960" cy="70164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1560600" y="265896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1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492200" y="265896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2927160" y="2658960"/>
                <a:ext cx="3557880" cy="701640"/>
                <a:chOff x="2927160" y="2658960"/>
                <a:chExt cx="3557880" cy="7016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2995560" y="265896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и, зонтов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2927160" y="265896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6485040" y="2658960"/>
                <a:ext cx="1434960" cy="701640"/>
                <a:chOff x="6485040" y="2658960"/>
                <a:chExt cx="1434960" cy="70164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6553080" y="265896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485040" y="265896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1492200" y="3360600"/>
                <a:ext cx="1434960" cy="701640"/>
                <a:chOff x="1492200" y="3360600"/>
                <a:chExt cx="1434960" cy="70164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1560600" y="336060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1492200" y="336060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2927160" y="3360600"/>
                <a:ext cx="3557880" cy="701640"/>
                <a:chOff x="2927160" y="3360600"/>
                <a:chExt cx="3557880" cy="70164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2995560" y="336060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ей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2927160" y="336060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6485040" y="3360600"/>
                <a:ext cx="1434960" cy="701640"/>
                <a:chOff x="6485040" y="3360600"/>
                <a:chExt cx="1434960" cy="70164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6553080" y="336060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6485040" y="336060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1492200" y="4062240"/>
                <a:ext cx="1434960" cy="701640"/>
                <a:chOff x="1492200" y="4062240"/>
                <a:chExt cx="1434960" cy="70164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1560600" y="40622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1492200" y="40622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2927160" y="4062240"/>
                <a:ext cx="3557880" cy="701640"/>
                <a:chOff x="2927160" y="4062240"/>
                <a:chExt cx="3557880" cy="7016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995560" y="406224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люди, зонтик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927160" y="406224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6485040" y="4062240"/>
                <a:ext cx="1434960" cy="701640"/>
                <a:chOff x="6485040" y="4062240"/>
                <a:chExt cx="1434960" cy="70164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6553080" y="40622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0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6485040" y="40622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1492200" y="4763880"/>
                <a:ext cx="1434960" cy="702000"/>
                <a:chOff x="1492200" y="4763880"/>
                <a:chExt cx="1434960" cy="70200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1560600" y="4763880"/>
                  <a:ext cx="129852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1492200" y="4763880"/>
                  <a:ext cx="143496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2927160" y="4763880"/>
                <a:ext cx="3557880" cy="702000"/>
                <a:chOff x="2927160" y="4763880"/>
                <a:chExt cx="3557880" cy="70200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2995560" y="4763880"/>
                  <a:ext cx="342108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люди, зонтов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927160" y="4763880"/>
                  <a:ext cx="355788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6485040" y="4763880"/>
                <a:ext cx="1434960" cy="702000"/>
                <a:chOff x="6485040" y="4763880"/>
                <a:chExt cx="1434960" cy="70200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6553080" y="4763880"/>
                  <a:ext cx="129852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7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6485040" y="4763880"/>
                  <a:ext cx="143496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1492200" y="5465880"/>
                <a:ext cx="1434960" cy="701640"/>
                <a:chOff x="1492200" y="5465880"/>
                <a:chExt cx="1434960" cy="70164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1560600" y="54658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1492200" y="54658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2927160" y="5465880"/>
                <a:ext cx="3557880" cy="701640"/>
                <a:chOff x="2927160" y="5465880"/>
                <a:chExt cx="3557880" cy="70164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2995560" y="54658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пусто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927160" y="54658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6485040" y="5465880"/>
                <a:ext cx="1434960" cy="701640"/>
                <a:chOff x="6485040" y="5465880"/>
                <a:chExt cx="1434960" cy="70164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6553080" y="54658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485040" y="54658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2" name=""/>
            <p:cNvSpPr/>
            <p:nvPr/>
          </p:nvSpPr>
          <p:spPr>
            <a:xfrm>
              <a:off x="1487520" y="1251000"/>
              <a:ext cx="6437160" cy="4921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3240" y="55706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0880" y="68580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 (пример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465280" y="1295280"/>
            <a:ext cx="4797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,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=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066680" y="2133720"/>
            <a:ext cx="55627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(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)/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+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 -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-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219320" y="3200400"/>
            <a:ext cx="6324480" cy="862920"/>
            <a:chOff x="1219320" y="3200400"/>
            <a:chExt cx="6324480" cy="862920"/>
          </a:xfrm>
        </p:grpSpPr>
        <p:sp>
          <p:nvSpPr>
            <p:cNvPr id="312" name=""/>
            <p:cNvSpPr/>
            <p:nvPr/>
          </p:nvSpPr>
          <p:spPr>
            <a:xfrm>
              <a:off x="1219320" y="3429000"/>
              <a:ext cx="1371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505320" y="3200400"/>
              <a:ext cx="3200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(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743200" y="3657600"/>
              <a:ext cx="4800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+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 -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Pr(|-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24080" y="3581280"/>
              <a:ext cx="33530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1143000" y="4114800"/>
            <a:ext cx="6553080" cy="2286000"/>
            <a:chOff x="1143000" y="4114800"/>
            <a:chExt cx="6553080" cy="2286000"/>
          </a:xfrm>
        </p:grpSpPr>
        <p:sp>
          <p:nvSpPr>
            <p:cNvPr id="317" name=""/>
            <p:cNvSpPr/>
            <p:nvPr/>
          </p:nvSpPr>
          <p:spPr>
            <a:xfrm>
              <a:off x="1143000" y="4114800"/>
              <a:ext cx="6553080" cy="2286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752480" y="4952880"/>
              <a:ext cx="1587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255840" y="4724280"/>
              <a:ext cx="3703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200400" y="5181480"/>
              <a:ext cx="3657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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657600" y="5105520"/>
              <a:ext cx="26668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9480" y="9144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ФОРМАЛИЗА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62120" y="1676520"/>
            <a:ext cx="3733560" cy="39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{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}-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состояния (классы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{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}-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действ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-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отер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 = {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}-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ектор признак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p(x |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-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условные распредел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-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априорные вероят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= [p(x |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]/p(x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R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=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отер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минимиза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419720" y="1523880"/>
            <a:ext cx="4190760" cy="4191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648320" y="1752480"/>
            <a:ext cx="3733560" cy="39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риме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R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=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+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R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=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+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ыбрать 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если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R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&lt; R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ru-RU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&gt; 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x |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x |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p(x |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         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p(x |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         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724280" y="4724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638680" y="45720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5638680" y="4724280"/>
            <a:ext cx="1526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019920" y="4724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1371600" y="914400"/>
            <a:ext cx="6400800" cy="3657600"/>
            <a:chOff x="1371600" y="914400"/>
            <a:chExt cx="6400800" cy="3657600"/>
          </a:xfrm>
        </p:grpSpPr>
        <p:sp>
          <p:nvSpPr>
            <p:cNvPr id="339" name=""/>
            <p:cNvSpPr/>
            <p:nvPr/>
          </p:nvSpPr>
          <p:spPr>
            <a:xfrm flipV="1">
              <a:off x="1600200" y="914400"/>
              <a:ext cx="0" cy="359640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371600" y="4327920"/>
              <a:ext cx="640080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146400" y="1140480"/>
              <a:ext cx="1095480" cy="852120"/>
            </a:xfrm>
            <a:custGeom>
              <a:avLst/>
              <a:gdLst/>
              <a:ahLst/>
              <a:rect l="l" t="t" r="r" b="b"/>
              <a:pathLst>
                <a:path w="690" h="671">
                  <a:moveTo>
                    <a:pt x="136" y="0"/>
                  </a:moveTo>
                  <a:cubicBezTo>
                    <a:pt x="31" y="52"/>
                    <a:pt x="32" y="199"/>
                    <a:pt x="0" y="300"/>
                  </a:cubicBezTo>
                  <a:cubicBezTo>
                    <a:pt x="3" y="354"/>
                    <a:pt x="1" y="409"/>
                    <a:pt x="9" y="463"/>
                  </a:cubicBezTo>
                  <a:cubicBezTo>
                    <a:pt x="41" y="671"/>
                    <a:pt x="428" y="595"/>
                    <a:pt x="527" y="600"/>
                  </a:cubicBezTo>
                  <a:cubicBezTo>
                    <a:pt x="569" y="597"/>
                    <a:pt x="614" y="603"/>
                    <a:pt x="654" y="590"/>
                  </a:cubicBezTo>
                  <a:cubicBezTo>
                    <a:pt x="671" y="585"/>
                    <a:pt x="683" y="493"/>
                    <a:pt x="690" y="472"/>
                  </a:cubicBezTo>
                  <a:cubicBezTo>
                    <a:pt x="687" y="411"/>
                    <a:pt x="688" y="350"/>
                    <a:pt x="681" y="290"/>
                  </a:cubicBezTo>
                  <a:cubicBezTo>
                    <a:pt x="672" y="208"/>
                    <a:pt x="610" y="198"/>
                    <a:pt x="545" y="181"/>
                  </a:cubicBezTo>
                  <a:cubicBezTo>
                    <a:pt x="474" y="162"/>
                    <a:pt x="434" y="139"/>
                    <a:pt x="372" y="109"/>
                  </a:cubicBezTo>
                  <a:cubicBezTo>
                    <a:pt x="344" y="80"/>
                    <a:pt x="310" y="48"/>
                    <a:pt x="272" y="36"/>
                  </a:cubicBezTo>
                  <a:cubicBezTo>
                    <a:pt x="224" y="4"/>
                    <a:pt x="200" y="7"/>
                    <a:pt x="136" y="0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913040" y="2991960"/>
              <a:ext cx="1287360" cy="848160"/>
            </a:xfrm>
            <a:custGeom>
              <a:avLst/>
              <a:gdLst/>
              <a:ahLst/>
              <a:rect l="l" t="t" r="r" b="b"/>
              <a:pathLst>
                <a:path w="1008" h="954">
                  <a:moveTo>
                    <a:pt x="686" y="57"/>
                  </a:moveTo>
                  <a:cubicBezTo>
                    <a:pt x="508" y="0"/>
                    <a:pt x="622" y="33"/>
                    <a:pt x="177" y="57"/>
                  </a:cubicBezTo>
                  <a:cubicBezTo>
                    <a:pt x="159" y="58"/>
                    <a:pt x="148" y="78"/>
                    <a:pt x="131" y="84"/>
                  </a:cubicBezTo>
                  <a:cubicBezTo>
                    <a:pt x="82" y="133"/>
                    <a:pt x="120" y="85"/>
                    <a:pt x="95" y="166"/>
                  </a:cubicBezTo>
                  <a:cubicBezTo>
                    <a:pt x="88" y="188"/>
                    <a:pt x="76" y="208"/>
                    <a:pt x="68" y="230"/>
                  </a:cubicBezTo>
                  <a:cubicBezTo>
                    <a:pt x="61" y="248"/>
                    <a:pt x="49" y="284"/>
                    <a:pt x="49" y="284"/>
                  </a:cubicBezTo>
                  <a:cubicBezTo>
                    <a:pt x="46" y="354"/>
                    <a:pt x="47" y="424"/>
                    <a:pt x="40" y="493"/>
                  </a:cubicBezTo>
                  <a:cubicBezTo>
                    <a:pt x="36" y="528"/>
                    <a:pt x="13" y="575"/>
                    <a:pt x="4" y="611"/>
                  </a:cubicBezTo>
                  <a:cubicBezTo>
                    <a:pt x="7" y="660"/>
                    <a:pt x="0" y="710"/>
                    <a:pt x="13" y="757"/>
                  </a:cubicBezTo>
                  <a:cubicBezTo>
                    <a:pt x="19" y="778"/>
                    <a:pt x="44" y="787"/>
                    <a:pt x="59" y="802"/>
                  </a:cubicBezTo>
                  <a:cubicBezTo>
                    <a:pt x="108" y="850"/>
                    <a:pt x="90" y="853"/>
                    <a:pt x="168" y="866"/>
                  </a:cubicBezTo>
                  <a:cubicBezTo>
                    <a:pt x="206" y="879"/>
                    <a:pt x="228" y="901"/>
                    <a:pt x="268" y="911"/>
                  </a:cubicBezTo>
                  <a:cubicBezTo>
                    <a:pt x="329" y="954"/>
                    <a:pt x="360" y="942"/>
                    <a:pt x="449" y="948"/>
                  </a:cubicBezTo>
                  <a:cubicBezTo>
                    <a:pt x="549" y="945"/>
                    <a:pt x="649" y="947"/>
                    <a:pt x="749" y="939"/>
                  </a:cubicBezTo>
                  <a:cubicBezTo>
                    <a:pt x="788" y="936"/>
                    <a:pt x="849" y="875"/>
                    <a:pt x="849" y="875"/>
                  </a:cubicBezTo>
                  <a:cubicBezTo>
                    <a:pt x="858" y="854"/>
                    <a:pt x="863" y="829"/>
                    <a:pt x="877" y="811"/>
                  </a:cubicBezTo>
                  <a:cubicBezTo>
                    <a:pt x="885" y="800"/>
                    <a:pt x="903" y="802"/>
                    <a:pt x="913" y="793"/>
                  </a:cubicBezTo>
                  <a:cubicBezTo>
                    <a:pt x="921" y="786"/>
                    <a:pt x="925" y="775"/>
                    <a:pt x="931" y="766"/>
                  </a:cubicBezTo>
                  <a:cubicBezTo>
                    <a:pt x="934" y="748"/>
                    <a:pt x="933" y="728"/>
                    <a:pt x="940" y="711"/>
                  </a:cubicBezTo>
                  <a:cubicBezTo>
                    <a:pt x="945" y="699"/>
                    <a:pt x="960" y="694"/>
                    <a:pt x="967" y="684"/>
                  </a:cubicBezTo>
                  <a:cubicBezTo>
                    <a:pt x="972" y="676"/>
                    <a:pt x="974" y="666"/>
                    <a:pt x="977" y="657"/>
                  </a:cubicBezTo>
                  <a:cubicBezTo>
                    <a:pt x="983" y="639"/>
                    <a:pt x="995" y="602"/>
                    <a:pt x="995" y="602"/>
                  </a:cubicBezTo>
                  <a:cubicBezTo>
                    <a:pt x="990" y="487"/>
                    <a:pt x="1008" y="226"/>
                    <a:pt x="849" y="175"/>
                  </a:cubicBezTo>
                  <a:cubicBezTo>
                    <a:pt x="823" y="135"/>
                    <a:pt x="812" y="149"/>
                    <a:pt x="777" y="121"/>
                  </a:cubicBezTo>
                  <a:cubicBezTo>
                    <a:pt x="762" y="109"/>
                    <a:pt x="757" y="85"/>
                    <a:pt x="740" y="75"/>
                  </a:cubicBezTo>
                  <a:cubicBezTo>
                    <a:pt x="724" y="65"/>
                    <a:pt x="704" y="63"/>
                    <a:pt x="686" y="57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479920" y="1828800"/>
              <a:ext cx="1225800" cy="951120"/>
            </a:xfrm>
            <a:custGeom>
              <a:avLst/>
              <a:gdLst/>
              <a:ahLst/>
              <a:rect l="l" t="t" r="r" b="b"/>
              <a:pathLst>
                <a:path w="1059" h="1085">
                  <a:moveTo>
                    <a:pt x="537" y="0"/>
                  </a:moveTo>
                  <a:cubicBezTo>
                    <a:pt x="459" y="19"/>
                    <a:pt x="389" y="60"/>
                    <a:pt x="310" y="73"/>
                  </a:cubicBezTo>
                  <a:cubicBezTo>
                    <a:pt x="195" y="157"/>
                    <a:pt x="343" y="56"/>
                    <a:pt x="237" y="109"/>
                  </a:cubicBezTo>
                  <a:cubicBezTo>
                    <a:pt x="224" y="116"/>
                    <a:pt x="214" y="128"/>
                    <a:pt x="201" y="136"/>
                  </a:cubicBezTo>
                  <a:cubicBezTo>
                    <a:pt x="35" y="234"/>
                    <a:pt x="184" y="136"/>
                    <a:pt x="101" y="191"/>
                  </a:cubicBezTo>
                  <a:cubicBezTo>
                    <a:pt x="72" y="234"/>
                    <a:pt x="71" y="287"/>
                    <a:pt x="55" y="336"/>
                  </a:cubicBezTo>
                  <a:cubicBezTo>
                    <a:pt x="40" y="456"/>
                    <a:pt x="0" y="637"/>
                    <a:pt x="55" y="746"/>
                  </a:cubicBezTo>
                  <a:cubicBezTo>
                    <a:pt x="66" y="768"/>
                    <a:pt x="103" y="802"/>
                    <a:pt x="119" y="818"/>
                  </a:cubicBezTo>
                  <a:cubicBezTo>
                    <a:pt x="128" y="836"/>
                    <a:pt x="134" y="857"/>
                    <a:pt x="146" y="873"/>
                  </a:cubicBezTo>
                  <a:cubicBezTo>
                    <a:pt x="162" y="894"/>
                    <a:pt x="197" y="907"/>
                    <a:pt x="219" y="918"/>
                  </a:cubicBezTo>
                  <a:cubicBezTo>
                    <a:pt x="288" y="953"/>
                    <a:pt x="266" y="974"/>
                    <a:pt x="373" y="1009"/>
                  </a:cubicBezTo>
                  <a:cubicBezTo>
                    <a:pt x="408" y="1021"/>
                    <a:pt x="483" y="1027"/>
                    <a:pt x="483" y="1027"/>
                  </a:cubicBezTo>
                  <a:cubicBezTo>
                    <a:pt x="565" y="1085"/>
                    <a:pt x="596" y="1049"/>
                    <a:pt x="728" y="1036"/>
                  </a:cubicBezTo>
                  <a:cubicBezTo>
                    <a:pt x="853" y="994"/>
                    <a:pt x="728" y="1045"/>
                    <a:pt x="810" y="991"/>
                  </a:cubicBezTo>
                  <a:cubicBezTo>
                    <a:pt x="829" y="978"/>
                    <a:pt x="879" y="956"/>
                    <a:pt x="901" y="946"/>
                  </a:cubicBezTo>
                  <a:cubicBezTo>
                    <a:pt x="924" y="921"/>
                    <a:pt x="948" y="916"/>
                    <a:pt x="973" y="891"/>
                  </a:cubicBezTo>
                  <a:cubicBezTo>
                    <a:pt x="982" y="870"/>
                    <a:pt x="994" y="849"/>
                    <a:pt x="1001" y="827"/>
                  </a:cubicBezTo>
                  <a:cubicBezTo>
                    <a:pt x="1012" y="791"/>
                    <a:pt x="1028" y="718"/>
                    <a:pt x="1028" y="718"/>
                  </a:cubicBezTo>
                  <a:cubicBezTo>
                    <a:pt x="1024" y="609"/>
                    <a:pt x="1059" y="274"/>
                    <a:pt x="892" y="218"/>
                  </a:cubicBezTo>
                  <a:cubicBezTo>
                    <a:pt x="857" y="185"/>
                    <a:pt x="830" y="181"/>
                    <a:pt x="782" y="173"/>
                  </a:cubicBezTo>
                  <a:cubicBezTo>
                    <a:pt x="773" y="164"/>
                    <a:pt x="766" y="152"/>
                    <a:pt x="755" y="146"/>
                  </a:cubicBezTo>
                  <a:cubicBezTo>
                    <a:pt x="738" y="137"/>
                    <a:pt x="701" y="127"/>
                    <a:pt x="701" y="127"/>
                  </a:cubicBezTo>
                  <a:cubicBezTo>
                    <a:pt x="677" y="104"/>
                    <a:pt x="665" y="83"/>
                    <a:pt x="637" y="64"/>
                  </a:cubicBezTo>
                  <a:cubicBezTo>
                    <a:pt x="634" y="55"/>
                    <a:pt x="636" y="42"/>
                    <a:pt x="628" y="36"/>
                  </a:cubicBezTo>
                  <a:cubicBezTo>
                    <a:pt x="600" y="16"/>
                    <a:pt x="562" y="25"/>
                    <a:pt x="537" y="0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905120" y="1706400"/>
              <a:ext cx="3657600" cy="249948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3200400" y="1097280"/>
              <a:ext cx="2819520" cy="347472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676520" y="2620800"/>
              <a:ext cx="5715000" cy="36576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581280" y="1645920"/>
              <a:ext cx="152640" cy="1216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657600" y="1828800"/>
              <a:ext cx="0" cy="2560320"/>
            </a:xfrm>
            <a:prstGeom prst="line">
              <a:avLst/>
            </a:prstGeom>
            <a:ln w="381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581280" y="2803680"/>
              <a:ext cx="152640" cy="1220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581280" y="3962160"/>
              <a:ext cx="152640" cy="1216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6172200" y="990720"/>
            <a:ext cx="2362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781680" y="2514600"/>
            <a:ext cx="2133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638680" y="3733920"/>
            <a:ext cx="2362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2895480" y="144756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1447920" y="5029200"/>
            <a:ext cx="16761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590920" y="51814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363840" y="1650960"/>
            <a:ext cx="1962360" cy="1333440"/>
          </a:xfrm>
          <a:custGeom>
            <a:avLst/>
            <a:gdLst/>
            <a:ahLst/>
            <a:rect l="l" t="t" r="r" b="b"/>
            <a:pathLst>
              <a:path w="1236" h="840">
                <a:moveTo>
                  <a:pt x="468" y="2"/>
                </a:moveTo>
                <a:cubicBezTo>
                  <a:pt x="435" y="8"/>
                  <a:pt x="395" y="0"/>
                  <a:pt x="368" y="21"/>
                </a:cubicBezTo>
                <a:cubicBezTo>
                  <a:pt x="313" y="64"/>
                  <a:pt x="245" y="93"/>
                  <a:pt x="203" y="149"/>
                </a:cubicBezTo>
                <a:cubicBezTo>
                  <a:pt x="127" y="249"/>
                  <a:pt x="170" y="200"/>
                  <a:pt x="75" y="295"/>
                </a:cubicBezTo>
                <a:cubicBezTo>
                  <a:pt x="61" y="381"/>
                  <a:pt x="39" y="487"/>
                  <a:pt x="11" y="569"/>
                </a:cubicBezTo>
                <a:cubicBezTo>
                  <a:pt x="14" y="600"/>
                  <a:pt x="0" y="637"/>
                  <a:pt x="20" y="661"/>
                </a:cubicBezTo>
                <a:cubicBezTo>
                  <a:pt x="36" y="680"/>
                  <a:pt x="71" y="662"/>
                  <a:pt x="94" y="670"/>
                </a:cubicBezTo>
                <a:cubicBezTo>
                  <a:pt x="342" y="757"/>
                  <a:pt x="36" y="717"/>
                  <a:pt x="386" y="734"/>
                </a:cubicBezTo>
                <a:cubicBezTo>
                  <a:pt x="632" y="840"/>
                  <a:pt x="619" y="796"/>
                  <a:pt x="980" y="779"/>
                </a:cubicBezTo>
                <a:cubicBezTo>
                  <a:pt x="1027" y="764"/>
                  <a:pt x="1040" y="716"/>
                  <a:pt x="1081" y="688"/>
                </a:cubicBezTo>
                <a:cubicBezTo>
                  <a:pt x="1088" y="645"/>
                  <a:pt x="1114" y="534"/>
                  <a:pt x="1154" y="505"/>
                </a:cubicBezTo>
                <a:cubicBezTo>
                  <a:pt x="1164" y="498"/>
                  <a:pt x="1179" y="499"/>
                  <a:pt x="1191" y="496"/>
                </a:cubicBezTo>
                <a:cubicBezTo>
                  <a:pt x="1200" y="441"/>
                  <a:pt x="1223" y="395"/>
                  <a:pt x="1236" y="341"/>
                </a:cubicBezTo>
                <a:cubicBezTo>
                  <a:pt x="1197" y="332"/>
                  <a:pt x="1156" y="333"/>
                  <a:pt x="1118" y="322"/>
                </a:cubicBezTo>
                <a:cubicBezTo>
                  <a:pt x="1110" y="320"/>
                  <a:pt x="1108" y="306"/>
                  <a:pt x="1099" y="304"/>
                </a:cubicBezTo>
                <a:cubicBezTo>
                  <a:pt x="1051" y="294"/>
                  <a:pt x="953" y="286"/>
                  <a:pt x="953" y="286"/>
                </a:cubicBezTo>
                <a:cubicBezTo>
                  <a:pt x="926" y="277"/>
                  <a:pt x="894" y="275"/>
                  <a:pt x="871" y="258"/>
                </a:cubicBezTo>
                <a:cubicBezTo>
                  <a:pt x="783" y="192"/>
                  <a:pt x="828" y="208"/>
                  <a:pt x="743" y="194"/>
                </a:cubicBezTo>
                <a:cubicBezTo>
                  <a:pt x="724" y="136"/>
                  <a:pt x="735" y="101"/>
                  <a:pt x="670" y="85"/>
                </a:cubicBezTo>
                <a:cubicBezTo>
                  <a:pt x="622" y="37"/>
                  <a:pt x="533" y="24"/>
                  <a:pt x="468" y="2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41320" y="3409920"/>
            <a:ext cx="1457280" cy="1379520"/>
          </a:xfrm>
          <a:custGeom>
            <a:avLst/>
            <a:gdLst/>
            <a:ahLst/>
            <a:rect l="l" t="t" r="r" b="b"/>
            <a:pathLst>
              <a:path w="918" h="869">
                <a:moveTo>
                  <a:pt x="549" y="19"/>
                </a:moveTo>
                <a:cubicBezTo>
                  <a:pt x="379" y="67"/>
                  <a:pt x="534" y="0"/>
                  <a:pt x="494" y="74"/>
                </a:cubicBezTo>
                <a:cubicBezTo>
                  <a:pt x="477" y="106"/>
                  <a:pt x="448" y="131"/>
                  <a:pt x="421" y="156"/>
                </a:cubicBezTo>
                <a:cubicBezTo>
                  <a:pt x="399" y="177"/>
                  <a:pt x="371" y="191"/>
                  <a:pt x="348" y="211"/>
                </a:cubicBezTo>
                <a:cubicBezTo>
                  <a:pt x="328" y="228"/>
                  <a:pt x="316" y="253"/>
                  <a:pt x="293" y="266"/>
                </a:cubicBezTo>
                <a:cubicBezTo>
                  <a:pt x="271" y="278"/>
                  <a:pt x="244" y="276"/>
                  <a:pt x="220" y="284"/>
                </a:cubicBezTo>
                <a:cubicBezTo>
                  <a:pt x="180" y="297"/>
                  <a:pt x="141" y="316"/>
                  <a:pt x="101" y="330"/>
                </a:cubicBezTo>
                <a:cubicBezTo>
                  <a:pt x="77" y="354"/>
                  <a:pt x="47" y="374"/>
                  <a:pt x="28" y="403"/>
                </a:cubicBezTo>
                <a:cubicBezTo>
                  <a:pt x="5" y="438"/>
                  <a:pt x="8" y="555"/>
                  <a:pt x="0" y="604"/>
                </a:cubicBezTo>
                <a:cubicBezTo>
                  <a:pt x="31" y="625"/>
                  <a:pt x="58" y="653"/>
                  <a:pt x="92" y="668"/>
                </a:cubicBezTo>
                <a:cubicBezTo>
                  <a:pt x="114" y="678"/>
                  <a:pt x="143" y="666"/>
                  <a:pt x="165" y="677"/>
                </a:cubicBezTo>
                <a:cubicBezTo>
                  <a:pt x="311" y="750"/>
                  <a:pt x="138" y="709"/>
                  <a:pt x="256" y="796"/>
                </a:cubicBezTo>
                <a:cubicBezTo>
                  <a:pt x="305" y="832"/>
                  <a:pt x="426" y="858"/>
                  <a:pt x="494" y="869"/>
                </a:cubicBezTo>
                <a:cubicBezTo>
                  <a:pt x="500" y="851"/>
                  <a:pt x="510" y="833"/>
                  <a:pt x="512" y="814"/>
                </a:cubicBezTo>
                <a:cubicBezTo>
                  <a:pt x="513" y="805"/>
                  <a:pt x="495" y="792"/>
                  <a:pt x="503" y="787"/>
                </a:cubicBezTo>
                <a:cubicBezTo>
                  <a:pt x="521" y="775"/>
                  <a:pt x="545" y="779"/>
                  <a:pt x="567" y="778"/>
                </a:cubicBezTo>
                <a:cubicBezTo>
                  <a:pt x="665" y="773"/>
                  <a:pt x="762" y="772"/>
                  <a:pt x="860" y="769"/>
                </a:cubicBezTo>
                <a:cubicBezTo>
                  <a:pt x="890" y="722"/>
                  <a:pt x="905" y="677"/>
                  <a:pt x="915" y="622"/>
                </a:cubicBezTo>
                <a:cubicBezTo>
                  <a:pt x="912" y="531"/>
                  <a:pt x="916" y="439"/>
                  <a:pt x="905" y="348"/>
                </a:cubicBezTo>
                <a:cubicBezTo>
                  <a:pt x="904" y="337"/>
                  <a:pt x="885" y="339"/>
                  <a:pt x="878" y="330"/>
                </a:cubicBezTo>
                <a:cubicBezTo>
                  <a:pt x="830" y="268"/>
                  <a:pt x="918" y="333"/>
                  <a:pt x="841" y="284"/>
                </a:cubicBezTo>
                <a:cubicBezTo>
                  <a:pt x="832" y="229"/>
                  <a:pt x="806" y="173"/>
                  <a:pt x="768" y="129"/>
                </a:cubicBezTo>
                <a:cubicBezTo>
                  <a:pt x="762" y="122"/>
                  <a:pt x="749" y="124"/>
                  <a:pt x="741" y="119"/>
                </a:cubicBezTo>
                <a:cubicBezTo>
                  <a:pt x="716" y="103"/>
                  <a:pt x="692" y="83"/>
                  <a:pt x="668" y="65"/>
                </a:cubicBezTo>
                <a:cubicBezTo>
                  <a:pt x="664" y="62"/>
                  <a:pt x="551" y="20"/>
                  <a:pt x="549" y="19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18240" y="3672000"/>
            <a:ext cx="1322280" cy="1263600"/>
          </a:xfrm>
          <a:custGeom>
            <a:avLst/>
            <a:gdLst/>
            <a:ahLst/>
            <a:rect l="l" t="t" r="r" b="b"/>
            <a:pathLst>
              <a:path w="833" h="796">
                <a:moveTo>
                  <a:pt x="46" y="9"/>
                </a:moveTo>
                <a:cubicBezTo>
                  <a:pt x="54" y="82"/>
                  <a:pt x="43" y="148"/>
                  <a:pt x="55" y="220"/>
                </a:cubicBezTo>
                <a:cubicBezTo>
                  <a:pt x="49" y="360"/>
                  <a:pt x="14" y="502"/>
                  <a:pt x="37" y="640"/>
                </a:cubicBezTo>
                <a:cubicBezTo>
                  <a:pt x="43" y="677"/>
                  <a:pt x="55" y="744"/>
                  <a:pt x="55" y="777"/>
                </a:cubicBezTo>
                <a:cubicBezTo>
                  <a:pt x="55" y="786"/>
                  <a:pt x="37" y="747"/>
                  <a:pt x="46" y="750"/>
                </a:cubicBezTo>
                <a:cubicBezTo>
                  <a:pt x="74" y="758"/>
                  <a:pt x="95" y="781"/>
                  <a:pt x="119" y="796"/>
                </a:cubicBezTo>
                <a:cubicBezTo>
                  <a:pt x="285" y="785"/>
                  <a:pt x="441" y="759"/>
                  <a:pt x="604" y="732"/>
                </a:cubicBezTo>
                <a:cubicBezTo>
                  <a:pt x="635" y="700"/>
                  <a:pt x="732" y="695"/>
                  <a:pt x="732" y="695"/>
                </a:cubicBezTo>
                <a:cubicBezTo>
                  <a:pt x="777" y="672"/>
                  <a:pt x="771" y="652"/>
                  <a:pt x="814" y="668"/>
                </a:cubicBezTo>
                <a:cubicBezTo>
                  <a:pt x="833" y="549"/>
                  <a:pt x="800" y="411"/>
                  <a:pt x="787" y="293"/>
                </a:cubicBezTo>
                <a:cubicBezTo>
                  <a:pt x="784" y="226"/>
                  <a:pt x="786" y="159"/>
                  <a:pt x="778" y="92"/>
                </a:cubicBezTo>
                <a:cubicBezTo>
                  <a:pt x="772" y="45"/>
                  <a:pt x="700" y="57"/>
                  <a:pt x="677" y="55"/>
                </a:cubicBezTo>
                <a:cubicBezTo>
                  <a:pt x="533" y="46"/>
                  <a:pt x="304" y="41"/>
                  <a:pt x="174" y="37"/>
                </a:cubicBezTo>
                <a:cubicBezTo>
                  <a:pt x="130" y="24"/>
                  <a:pt x="65" y="0"/>
                  <a:pt x="19" y="9"/>
                </a:cubicBezTo>
                <a:cubicBezTo>
                  <a:pt x="9" y="11"/>
                  <a:pt x="0" y="37"/>
                  <a:pt x="10" y="37"/>
                </a:cubicBezTo>
                <a:cubicBezTo>
                  <a:pt x="25" y="37"/>
                  <a:pt x="34" y="18"/>
                  <a:pt x="46" y="9"/>
                </a:cubicBez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219320" y="38862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105520" y="41148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62520" y="20574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334120" y="25146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419720" y="2362320"/>
            <a:ext cx="914400" cy="2286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410080" y="2666880"/>
            <a:ext cx="0" cy="16002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791320" y="2286000"/>
            <a:ext cx="2895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D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sqrt((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 baseline="30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(y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y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 baseline="30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8T17:23:07Z</dcterms:created>
  <dc:creator>Петр Соснин</dc:creator>
  <dc:description/>
  <dc:language>en-US</dc:language>
  <cp:lastModifiedBy>Peter Sosnin</cp:lastModifiedBy>
  <dcterms:modified xsi:type="dcterms:W3CDTF">2006-05-04T15:11:01Z</dcterms:modified>
  <cp:revision>12</cp:revision>
  <dc:subject/>
  <dc:title>РАСПОЗНАВАНИЕ ОБРАЗОВ</dc:title>
</cp:coreProperties>
</file>