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678-CDA0-49AC-A89C-6937856A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94E-F116-4BBB-ABF9-DD1EE4C4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3E6-112F-44D4-8917-F5518556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2A3A-DA83-4AA6-B29A-DB552B1E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BFB-2BEE-4C6E-AF12-C4BC6C1B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BE8-9DAD-4E6D-9C50-284FF3B7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ADD-25B3-43DF-81E2-56FB5160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B0C3-DB6F-4BFB-99CD-E84014A1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FFC5-6AAA-4D4C-BEF8-ADF2B16A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6D9-46E9-41B1-89DA-E0A8D2CE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CD6-4C10-4EA3-ADDB-D56696D7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D5D6-1674-4AFB-8679-D06CB629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F450-7E9B-4C88-9953-C4C02C13AB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141000">
            <a:off x="4191120" y="2209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1270600">
            <a:off x="3885840" y="32004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404400">
            <a:off x="4038480" y="3809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382200">
            <a:off x="3276360" y="4419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Валерий Г. Костин</cp:lastModifiedBy>
  <dcterms:modified xsi:type="dcterms:W3CDTF">2002-12-12T13:40:06Z</dcterms:modified>
  <cp:revision>8</cp:revision>
  <dc:subject/>
  <dc:title>ПРЕДСТАВЛЕНИЕ ЗНАНИЙ</dc:title>
</cp:coreProperties>
</file>