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CCC1-1652-42FB-9C4E-2A3B978F5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C832-EADF-4EF0-80AD-07166842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2F54-D3C0-483A-A1AE-F587D2D3F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2562-FAD6-48C8-B86D-EF95CA0B9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81C3-95FC-45F3-B047-C5E96837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C8A1-8C01-4FF8-A314-FA7699CD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2098-7764-41DE-B9F7-A22DC97C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AD17-48AB-4839-9964-5B92A45E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6980-FBD8-44AF-9FE9-2267880D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E9F4-2562-4D52-98E4-2C823AA4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3E68-3090-486E-8AE8-48216E2A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F8B2-BBDB-41CA-9D7A-8B127C9A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A6B3-A1F2-42FC-A76C-A1DD8CFAE0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990720" y="1066680"/>
            <a:ext cx="7695720" cy="5181480"/>
            <a:chOff x="990720" y="1066680"/>
            <a:chExt cx="7695720" cy="5181480"/>
          </a:xfrm>
        </p:grpSpPr>
        <p:sp>
          <p:nvSpPr>
            <p:cNvPr id="44" name=""/>
            <p:cNvSpPr/>
            <p:nvPr/>
          </p:nvSpPr>
          <p:spPr>
            <a:xfrm>
              <a:off x="990720" y="1066680"/>
              <a:ext cx="6478920" cy="230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505880" y="1727640"/>
              <a:ext cx="2300040" cy="61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 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«эксперт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203360" y="2047680"/>
              <a:ext cx="739440" cy="62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D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502960" y="2156400"/>
              <a:ext cx="870120" cy="61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5910840" y="1831320"/>
              <a:ext cx="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3576960" y="1831320"/>
              <a:ext cx="23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77320" y="1831320"/>
              <a:ext cx="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4715280" y="1831320"/>
              <a:ext cx="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59120" y="2895840"/>
              <a:ext cx="2661120" cy="38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  I</a:t>
              </a:r>
              <a:r>
                <a:rPr b="1" lang="en-US" sz="1400" spc="-1" strike="noStrike" baseline="30000">
                  <a:solidFill>
                    <a:srgbClr val="ff0000"/>
                  </a:solidFill>
                  <a:latin typeface="Times New Roman"/>
                </a:rPr>
                <a:t>Э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45000" y="2469240"/>
              <a:ext cx="0" cy="51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51840" y="2448360"/>
              <a:ext cx="69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24080" y="2448360"/>
              <a:ext cx="57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901960" y="3479040"/>
              <a:ext cx="4049280" cy="465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Модель экспертных действ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52960" y="3759480"/>
              <a:ext cx="2080800" cy="51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QA-протоко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207520" y="4044960"/>
              <a:ext cx="0" cy="40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64560" y="4044960"/>
              <a:ext cx="0" cy="40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1124280" y="4244400"/>
              <a:ext cx="7562160" cy="2003760"/>
              <a:chOff x="1124280" y="4244400"/>
              <a:chExt cx="7562160" cy="2003760"/>
            </a:xfrm>
          </p:grpSpPr>
          <p:sp>
            <p:nvSpPr>
              <p:cNvPr id="61" name=""/>
              <p:cNvSpPr/>
              <p:nvPr/>
            </p:nvSpPr>
            <p:spPr>
              <a:xfrm>
                <a:off x="1124280" y="4480200"/>
                <a:ext cx="2716920" cy="1767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Экспертная систем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" name=""/>
              <p:cNvGrpSpPr/>
              <p:nvPr/>
            </p:nvGrpSpPr>
            <p:grpSpPr>
              <a:xfrm>
                <a:off x="4290480" y="4244400"/>
                <a:ext cx="4395960" cy="1220760"/>
                <a:chOff x="4290480" y="4244400"/>
                <a:chExt cx="4395960" cy="12207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4290480" y="4460760"/>
                  <a:ext cx="1837440" cy="865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00"/>
                      </a:solidFill>
                      <a:latin typeface="Times New Roman"/>
                    </a:rPr>
                    <a:t>Sb(t) = пользователь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6525360" y="4460760"/>
                  <a:ext cx="739800" cy="865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lang="en-US" sz="1400" spc="-1" strike="noStrike">
                      <a:solidFill>
                        <a:srgbClr val="ff0000"/>
                      </a:solidFill>
                      <a:latin typeface="Times New Roman"/>
                    </a:rPr>
                    <a:t>D(t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7824600" y="4460760"/>
                  <a:ext cx="861840" cy="865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00"/>
                      </a:solidFill>
                      <a:latin typeface="Times New Roman"/>
                    </a:rPr>
                    <a:t>Ob(t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00"/>
                      </a:solidFill>
                      <a:latin typeface="Times New Roman"/>
                    </a:rPr>
                    <a:t>  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 flipV="1">
                  <a:off x="8232840" y="424440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 flipH="1">
                  <a:off x="5898960" y="4244400"/>
                  <a:ext cx="2333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5899320" y="424440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 flipV="1">
                  <a:off x="7037280" y="424440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7059600" y="4945680"/>
                  <a:ext cx="0" cy="51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5973480" y="4861440"/>
                  <a:ext cx="69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246080" y="4861440"/>
                  <a:ext cx="57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" name=""/>
              <p:cNvSpPr/>
              <p:nvPr/>
            </p:nvSpPr>
            <p:spPr>
              <a:xfrm>
                <a:off x="1335600" y="4845240"/>
                <a:ext cx="2135880" cy="44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«QA-протокол»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219680" y="5446440"/>
                <a:ext cx="2376360" cy="600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Модель опыта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эксперт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711960" y="4745160"/>
                <a:ext cx="694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520600" y="5446440"/>
                <a:ext cx="3033360" cy="380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         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Инструментарий  I</a:t>
                </a:r>
                <a:r>
                  <a:rPr b="1" lang="en-US" sz="1400" spc="-1" strike="noStrike" baseline="30000">
                    <a:solidFill>
                      <a:srgbClr val="ff0000"/>
                    </a:solidFill>
                    <a:latin typeface="Times New Roman"/>
                  </a:rPr>
                  <a:t>П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1671840" y="1567440"/>
              <a:ext cx="0" cy="220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РЕШЕНИЕ ЗАДА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ЭКСПЕРТИЗ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447920" y="1523520"/>
            <a:ext cx="6781680" cy="3429360"/>
            <a:chOff x="1447920" y="1523520"/>
            <a:chExt cx="6781680" cy="3429360"/>
          </a:xfrm>
        </p:grpSpPr>
        <p:sp>
          <p:nvSpPr>
            <p:cNvPr id="83" name=""/>
            <p:cNvSpPr/>
            <p:nvPr/>
          </p:nvSpPr>
          <p:spPr>
            <a:xfrm>
              <a:off x="1447920" y="2086920"/>
              <a:ext cx="1560240" cy="1376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Экспер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39520" y="1958760"/>
              <a:ext cx="1868760" cy="150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сследова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Оцени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85800" y="1731240"/>
              <a:ext cx="1042200" cy="117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7446960" y="152352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2526480" y="1523880"/>
              <a:ext cx="49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26840" y="152388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928760" y="152352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69360" y="4303080"/>
              <a:ext cx="4138560" cy="64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              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9640" y="3234600"/>
              <a:ext cx="0" cy="10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69200" y="2801160"/>
              <a:ext cx="93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52920" y="2265840"/>
              <a:ext cx="1876680" cy="2034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Оценка=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86240" y="3120120"/>
              <a:ext cx="147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43040" y="2521800"/>
              <a:ext cx="113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ПРИНЯТИЕ РЕШ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319040" y="1447920"/>
            <a:ext cx="6834240" cy="4058640"/>
            <a:chOff x="1319040" y="1447920"/>
            <a:chExt cx="6834240" cy="4058640"/>
          </a:xfrm>
        </p:grpSpPr>
        <p:sp>
          <p:nvSpPr>
            <p:cNvPr id="100" name=""/>
            <p:cNvSpPr/>
            <p:nvPr/>
          </p:nvSpPr>
          <p:spPr>
            <a:xfrm>
              <a:off x="1319040" y="2544480"/>
              <a:ext cx="1360800" cy="97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42800" y="2238120"/>
              <a:ext cx="1629720" cy="158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Оцени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Выбор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80280" y="1933920"/>
              <a:ext cx="910080" cy="57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6551640" y="1656000"/>
              <a:ext cx="0" cy="9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260080" y="1656360"/>
              <a:ext cx="429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60440" y="1656360"/>
              <a:ext cx="0" cy="9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4353840" y="1656000"/>
              <a:ext cx="0" cy="9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51280" y="4740840"/>
              <a:ext cx="4881600" cy="76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58880" y="3055320"/>
              <a:ext cx="81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80280" y="2792520"/>
              <a:ext cx="910080" cy="71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99000" y="2792520"/>
              <a:ext cx="854280" cy="87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24320" y="1447920"/>
              <a:ext cx="1658520" cy="298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Альтернатив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90440" y="2136240"/>
              <a:ext cx="1086120" cy="122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33480" y="3515040"/>
              <a:ext cx="93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28360" y="2902320"/>
              <a:ext cx="93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31000" y="3364920"/>
              <a:ext cx="46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81880" y="3821400"/>
              <a:ext cx="0" cy="9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ДИАГНОСТ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189080" y="1676160"/>
            <a:ext cx="7116840" cy="3535560"/>
            <a:chOff x="1189080" y="1676160"/>
            <a:chExt cx="7116840" cy="3535560"/>
          </a:xfrm>
        </p:grpSpPr>
        <p:sp>
          <p:nvSpPr>
            <p:cNvPr id="121" name=""/>
            <p:cNvSpPr/>
            <p:nvPr/>
          </p:nvSpPr>
          <p:spPr>
            <a:xfrm>
              <a:off x="1189080" y="4535640"/>
              <a:ext cx="4222800" cy="67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1546920" y="1676160"/>
              <a:ext cx="6759000" cy="3172320"/>
              <a:chOff x="1546920" y="1676160"/>
              <a:chExt cx="6759000" cy="3172320"/>
            </a:xfrm>
          </p:grpSpPr>
          <p:sp>
            <p:nvSpPr>
              <p:cNvPr id="123" name=""/>
              <p:cNvSpPr/>
              <p:nvPr/>
            </p:nvSpPr>
            <p:spPr>
              <a:xfrm>
                <a:off x="1546920" y="2217600"/>
                <a:ext cx="1302480" cy="1527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     </a:t>
                </a: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Sb(t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292560" y="2217600"/>
                <a:ext cx="1559160" cy="1941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Оцениван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Исследован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«Почему плохой?»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2447640" y="1676520"/>
                <a:ext cx="410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447640" y="1676520"/>
                <a:ext cx="0" cy="86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4451760" y="1676160"/>
                <a:ext cx="0" cy="86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733120" y="2917800"/>
                <a:ext cx="78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6535440" y="1676160"/>
                <a:ext cx="0" cy="146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635000" y="2828520"/>
                <a:ext cx="134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746600" y="3543480"/>
                <a:ext cx="1229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305680" y="2295360"/>
                <a:ext cx="2563920" cy="2266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17960" y="2561400"/>
                <a:ext cx="1539000" cy="1733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    </a:t>
                </a: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Ob(t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6074640" y="2209320"/>
                <a:ext cx="0" cy="66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932080" y="3276000"/>
                <a:ext cx="1299960" cy="533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причины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075800" y="3543480"/>
                <a:ext cx="123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249440" y="4021200"/>
                <a:ext cx="0" cy="82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КЛАССИФИЦИР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295280" y="1371600"/>
            <a:ext cx="6019560" cy="3795840"/>
            <a:chOff x="1295280" y="1371600"/>
            <a:chExt cx="6019560" cy="3795840"/>
          </a:xfrm>
        </p:grpSpPr>
        <p:sp>
          <p:nvSpPr>
            <p:cNvPr id="142" name=""/>
            <p:cNvSpPr/>
            <p:nvPr/>
          </p:nvSpPr>
          <p:spPr>
            <a:xfrm>
              <a:off x="5855400" y="1371600"/>
              <a:ext cx="1459440" cy="379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Система классо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- - - - - - 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15560" y="2161440"/>
              <a:ext cx="663480" cy="64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Kl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11600" y="2903040"/>
              <a:ext cx="667080" cy="69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Kl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33800" y="2169720"/>
              <a:ext cx="1214280" cy="142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61360" y="2169720"/>
              <a:ext cx="1563840" cy="116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сследова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«Какой класс?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2231280" y="1654920"/>
              <a:ext cx="333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31280" y="1654920"/>
              <a:ext cx="0" cy="82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041720" y="1654920"/>
              <a:ext cx="0" cy="82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95280" y="4120200"/>
              <a:ext cx="4003920" cy="74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87160" y="3072960"/>
              <a:ext cx="0" cy="12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9720" y="2811240"/>
              <a:ext cx="72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46840" y="2667600"/>
              <a:ext cx="1041840" cy="113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12720" y="2942280"/>
              <a:ext cx="125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74240" y="4120200"/>
              <a:ext cx="604800" cy="65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Kl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80240" y="3300120"/>
              <a:ext cx="41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5567400" y="1654920"/>
              <a:ext cx="0" cy="10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РЕШЕНИЕ ЗАДА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85800" y="1219320"/>
            <a:ext cx="7954920" cy="4359240"/>
            <a:chOff x="685800" y="1219320"/>
            <a:chExt cx="7954920" cy="4359240"/>
          </a:xfrm>
        </p:grpSpPr>
        <p:sp>
          <p:nvSpPr>
            <p:cNvPr id="162" name=""/>
            <p:cNvSpPr/>
            <p:nvPr/>
          </p:nvSpPr>
          <p:spPr>
            <a:xfrm>
              <a:off x="685800" y="3666240"/>
              <a:ext cx="119844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Tu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83040" y="3660480"/>
              <a:ext cx="1961280" cy="104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tu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2120" y="3747600"/>
              <a:ext cx="1307520" cy="61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        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00840" y="3835080"/>
              <a:ext cx="653760" cy="34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ru-RU" sz="1400" spc="-1" strike="noStrike" baseline="30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41920" y="3317040"/>
              <a:ext cx="762480" cy="871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224120" y="3579120"/>
              <a:ext cx="762480" cy="78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15040" y="3840120"/>
              <a:ext cx="762480" cy="69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53400" y="4706640"/>
              <a:ext cx="1961640" cy="69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instru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262480" y="4794120"/>
              <a:ext cx="1307520" cy="34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ru-RU" sz="1400" spc="-1" strike="noStrike" baseline="30000">
                  <a:solidFill>
                    <a:srgbClr val="ff0000"/>
                  </a:solidFill>
                  <a:latin typeface="Times New Roman"/>
                </a:rPr>
                <a:t>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03600" y="4619520"/>
              <a:ext cx="1743480" cy="69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instru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12680" y="4706640"/>
              <a:ext cx="871560" cy="34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({I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}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09920" y="2445480"/>
              <a:ext cx="1307520" cy="43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core 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92120" y="2706480"/>
              <a:ext cx="1416600" cy="43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core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83040" y="2968560"/>
              <a:ext cx="1416600" cy="43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cor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4000" y="2747160"/>
              <a:ext cx="1405080" cy="43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Integral  sc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794520" y="1479960"/>
              <a:ext cx="0" cy="217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94520" y="1480320"/>
              <a:ext cx="697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769160" y="1480320"/>
              <a:ext cx="0" cy="183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211480" y="3903840"/>
              <a:ext cx="217800" cy="696960"/>
            </a:xfrm>
            <a:prstGeom prst="upDownArrow">
              <a:avLst>
                <a:gd name="adj1" fmla="val 50000"/>
                <a:gd name="adj2" fmla="val 42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44680" y="3835080"/>
              <a:ext cx="2070360" cy="173880"/>
            </a:xfrm>
            <a:prstGeom prst="leftRightArrow">
              <a:avLst>
                <a:gd name="adj1" fmla="val 28870"/>
                <a:gd name="adj2" fmla="val 12579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16600" y="3940200"/>
              <a:ext cx="217800" cy="784800"/>
            </a:xfrm>
            <a:prstGeom prst="upDownArrow">
              <a:avLst>
                <a:gd name="adj1" fmla="val 39435"/>
                <a:gd name="adj2" fmla="val 4257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84240" y="3747600"/>
              <a:ext cx="980640" cy="173520"/>
            </a:xfrm>
            <a:prstGeom prst="leftRightArrow">
              <a:avLst>
                <a:gd name="adj1" fmla="val 50000"/>
                <a:gd name="adj2" fmla="val 866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608720" y="2876040"/>
              <a:ext cx="653760" cy="173880"/>
            </a:xfrm>
            <a:custGeom>
              <a:avLst/>
              <a:gdLst>
                <a:gd name="textAreaLeft" fmla="*/ 101880 w 653760"/>
                <a:gd name="textAreaRight" fmla="*/ 583560 w 653760"/>
                <a:gd name="textAreaTop" fmla="*/ 43560 h 173880"/>
                <a:gd name="textAreaBottom" fmla="*/ 130680 h 17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961" y="5400"/>
                  </a:lnTo>
                  <a:lnTo>
                    <a:pt x="16961" y="0"/>
                  </a:lnTo>
                  <a:lnTo>
                    <a:pt x="21600" y="10800"/>
                  </a:lnTo>
                  <a:lnTo>
                    <a:pt x="16961" y="21600"/>
                  </a:lnTo>
                  <a:lnTo>
                    <a:pt x="16961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7005960" y="1829520"/>
              <a:ext cx="0" cy="139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1447920" y="1829520"/>
              <a:ext cx="555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48280" y="1829520"/>
              <a:ext cx="0" cy="18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65240" y="2265480"/>
              <a:ext cx="0" cy="331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65240" y="5578560"/>
              <a:ext cx="577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8640720" y="2265120"/>
              <a:ext cx="0" cy="331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2864880" y="2265480"/>
              <a:ext cx="577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63000" y="3610080"/>
              <a:ext cx="980640" cy="26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({D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(t)}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93320" y="3485880"/>
              <a:ext cx="76248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r>
                <a:rPr b="1" lang="en-US" sz="14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29280" y="1219320"/>
              <a:ext cx="2397240" cy="26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etting of tas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756160" y="1567800"/>
              <a:ext cx="207036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Feed b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82160" y="5303160"/>
              <a:ext cx="185220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Executin of the tas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ОБЩ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46480" y="1554120"/>
            <a:ext cx="4848120" cy="14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Общая деятельность D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987720" y="2300400"/>
            <a:ext cx="1692360" cy="161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T(t) =&gt;QA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06560" y="2557440"/>
            <a:ext cx="1031760" cy="92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Sb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75000" y="2655720"/>
            <a:ext cx="8827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US" sz="1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24200" y="3230640"/>
            <a:ext cx="771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67160" y="3046320"/>
            <a:ext cx="933480" cy="7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L’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 rot="10800000">
            <a:off x="7448040" y="2673360"/>
            <a:ext cx="1009800" cy="93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Sb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t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 rot="10800000">
            <a:off x="6019560" y="2743200"/>
            <a:ext cx="809640" cy="76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US" sz="1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6892560" y="3354480"/>
            <a:ext cx="63972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7720" y="3230640"/>
            <a:ext cx="63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5552640" y="3295800"/>
            <a:ext cx="631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5126040" y="2050560"/>
            <a:ext cx="0" cy="62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532320" y="4414680"/>
            <a:ext cx="2778120" cy="995400"/>
            <a:chOff x="3532320" y="4414680"/>
            <a:chExt cx="2778120" cy="995400"/>
          </a:xfrm>
        </p:grpSpPr>
        <p:sp>
          <p:nvSpPr>
            <p:cNvPr id="213" name=""/>
            <p:cNvSpPr/>
            <p:nvPr/>
          </p:nvSpPr>
          <p:spPr>
            <a:xfrm>
              <a:off x="3532320" y="4414680"/>
              <a:ext cx="2778120" cy="99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I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89760" y="4538880"/>
              <a:ext cx="1388880" cy="62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L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 flipV="1">
            <a:off x="4921200" y="3668400"/>
            <a:ext cx="0" cy="111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09:54:36Z</dcterms:created>
  <dc:creator>Russian</dc:creator>
  <dc:description/>
  <dc:language>en-US</dc:language>
  <cp:lastModifiedBy>Валерий Г. Костин</cp:lastModifiedBy>
  <dcterms:modified xsi:type="dcterms:W3CDTF">2002-12-12T13:45:25Z</dcterms:modified>
  <cp:revision>2</cp:revision>
  <dc:subject/>
  <dc:title>ИИ и ИНТЕРРОГАТИВНАЯЛОГИКА</dc:title>
</cp:coreProperties>
</file>