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D7F7-F95E-465E-9B97-6FBB499B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F6C3-09BE-4B25-BA1D-FCE2404B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3A88-023A-49E2-BE1B-23AC62DA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216A-231E-4FB3-ACA2-1F6BD53F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7A97-8D6F-440D-BF4F-48FFC457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C4B2-9224-4BE3-A278-5B51FB14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854F-6DD1-4F91-9CA9-6609574F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B8C0-B9F5-47A5-A80A-98101CA6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A1F2-607F-4D27-9FB8-5445B3AB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1097-8F2E-4D52-863B-7EE5B691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91D0-83DC-46A1-8BF3-E918D06C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3044-F109-4214-804E-EAA9B8F7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39C7-8153-482D-B346-E526C38F3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ИСКУССТВЕННЫЙ  ИНТЕЛЛ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Л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Лабораторные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рактические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За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Экза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АКТИВНОСТЬ И 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4952880" y="990720"/>
            <a:ext cx="3580920" cy="2133360"/>
            <a:chOff x="4952880" y="990720"/>
            <a:chExt cx="3580920" cy="2133360"/>
          </a:xfrm>
        </p:grpSpPr>
        <p:grpSp>
          <p:nvGrpSpPr>
            <p:cNvPr id="569" name=""/>
            <p:cNvGrpSpPr/>
            <p:nvPr/>
          </p:nvGrpSpPr>
          <p:grpSpPr>
            <a:xfrm>
              <a:off x="4952880" y="1447920"/>
              <a:ext cx="3580920" cy="1676160"/>
              <a:chOff x="4952880" y="1447920"/>
              <a:chExt cx="3580920" cy="1676160"/>
            </a:xfrm>
          </p:grpSpPr>
          <p:sp>
            <p:nvSpPr>
              <p:cNvPr id="570" name=""/>
              <p:cNvSpPr/>
              <p:nvPr/>
            </p:nvSpPr>
            <p:spPr>
              <a:xfrm>
                <a:off x="4952880" y="1447920"/>
                <a:ext cx="3364560" cy="167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S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502960" y="1541520"/>
                <a:ext cx="2706840" cy="1430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101280" y="1447920"/>
                <a:ext cx="2432520" cy="1454040"/>
              </a:xfrm>
              <a:prstGeom prst="leftRightArrow">
                <a:avLst>
                  <a:gd name="adj1" fmla="val 50000"/>
                  <a:gd name="adj2" fmla="val 33304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управление</a:t>
                </a:r>
                <a:r>
                  <a:rPr b="1" lang="en-US" sz="1000" spc="-1" strike="noStrike">
                    <a:solidFill>
                      <a:srgbClr val="ff0066"/>
                    </a:solidFill>
                    <a:latin typeface="Times New Roman"/>
                  </a:rPr>
                  <a:t>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	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0066"/>
                    </a:solidFill>
                    <a:latin typeface="Times New Roman"/>
                  </a:rPr>
                  <a:t> 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502960" y="2082960"/>
                <a:ext cx="270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028280" y="2082960"/>
                <a:ext cx="0" cy="87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210160" y="1685880"/>
                <a:ext cx="0" cy="9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5257800" y="99072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реда мыш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838080" y="990720"/>
            <a:ext cx="3581640" cy="2346120"/>
            <a:chOff x="838080" y="990720"/>
            <a:chExt cx="3581640" cy="2346120"/>
          </a:xfrm>
        </p:grpSpPr>
        <p:grpSp>
          <p:nvGrpSpPr>
            <p:cNvPr id="578" name=""/>
            <p:cNvGrpSpPr/>
            <p:nvPr/>
          </p:nvGrpSpPr>
          <p:grpSpPr>
            <a:xfrm>
              <a:off x="838080" y="1295280"/>
              <a:ext cx="3581640" cy="2041560"/>
              <a:chOff x="838080" y="1295280"/>
              <a:chExt cx="3581640" cy="2041560"/>
            </a:xfrm>
          </p:grpSpPr>
          <p:sp>
            <p:nvSpPr>
              <p:cNvPr id="579" name=""/>
              <p:cNvSpPr/>
              <p:nvPr/>
            </p:nvSpPr>
            <p:spPr>
              <a:xfrm>
                <a:off x="838080" y="1412640"/>
                <a:ext cx="3397320" cy="149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S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114560" y="1295280"/>
                <a:ext cx="3305160" cy="2041560"/>
              </a:xfrm>
              <a:prstGeom prst="leftRightArrow">
                <a:avLst>
                  <a:gd name="adj1" fmla="val 50000"/>
                  <a:gd name="adj2" fmla="val 32229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еханизм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514600" y="1976400"/>
                <a:ext cx="1450800" cy="765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код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1600200" y="990720"/>
              <a:ext cx="24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ост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1752480" y="3352680"/>
            <a:ext cx="5029200" cy="3216240"/>
            <a:chOff x="1752480" y="3352680"/>
            <a:chExt cx="5029200" cy="3216240"/>
          </a:xfrm>
        </p:grpSpPr>
        <p:grpSp>
          <p:nvGrpSpPr>
            <p:cNvPr id="584" name=""/>
            <p:cNvGrpSpPr/>
            <p:nvPr/>
          </p:nvGrpSpPr>
          <p:grpSpPr>
            <a:xfrm>
              <a:off x="1752480" y="3733920"/>
              <a:ext cx="5029200" cy="2835000"/>
              <a:chOff x="1752480" y="3733920"/>
              <a:chExt cx="5029200" cy="2835000"/>
            </a:xfrm>
          </p:grpSpPr>
          <p:sp>
            <p:nvSpPr>
              <p:cNvPr id="585" name=""/>
              <p:cNvSpPr/>
              <p:nvPr/>
            </p:nvSpPr>
            <p:spPr>
              <a:xfrm>
                <a:off x="1752480" y="3733920"/>
                <a:ext cx="5029200" cy="2835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                                                                                     </a:t>
                </a: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800" spc="-1" strike="noStrike" baseline="30000">
                    <a:solidFill>
                      <a:srgbClr val="ff0066"/>
                    </a:solidFill>
                    <a:latin typeface="Times New Roman"/>
                  </a:rPr>
                  <a:t>ММ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                      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8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                                       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301120" y="3891240"/>
                <a:ext cx="356616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У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849760" y="4049280"/>
                <a:ext cx="1097280" cy="133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И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935360" y="436428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43920" y="483120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581280" y="420696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А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398400" y="4916520"/>
                <a:ext cx="237744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С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592960" y="475884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600" spc="-1" strike="noStrike" baseline="30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495680" y="4128120"/>
                <a:ext cx="1280160" cy="134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752480" y="5196960"/>
                <a:ext cx="502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2438280" y="3352680"/>
              <a:ext cx="419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изация активности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МОДЕЛИ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80880" y="533520"/>
            <a:ext cx="8458200" cy="6019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990720" y="762120"/>
            <a:ext cx="6781680" cy="2549520"/>
            <a:chOff x="990720" y="762120"/>
            <a:chExt cx="6781680" cy="2549520"/>
          </a:xfrm>
        </p:grpSpPr>
        <p:sp>
          <p:nvSpPr>
            <p:cNvPr id="599" name=""/>
            <p:cNvSpPr/>
            <p:nvPr/>
          </p:nvSpPr>
          <p:spPr>
            <a:xfrm rot="16200000">
              <a:off x="3878280" y="233640"/>
              <a:ext cx="1743120" cy="28000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990720" y="2924280"/>
              <a:ext cx="6781680" cy="387360"/>
              <a:chOff x="990720" y="2924280"/>
              <a:chExt cx="6781680" cy="387360"/>
            </a:xfrm>
          </p:grpSpPr>
          <p:sp>
            <p:nvSpPr>
              <p:cNvPr id="601" name=""/>
              <p:cNvSpPr/>
              <p:nvPr/>
            </p:nvSpPr>
            <p:spPr>
              <a:xfrm>
                <a:off x="99072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25836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00372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N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2184480" y="2468520"/>
              <a:ext cx="0" cy="45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213080" y="2583000"/>
              <a:ext cx="0" cy="33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719760" y="2523960"/>
              <a:ext cx="0" cy="39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89360" y="1254240"/>
              <a:ext cx="1922400" cy="6886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Опыт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826160" y="156384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65280" y="1942920"/>
              <a:ext cx="5132520" cy="3985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спознавание образ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587600" y="2241720"/>
              <a:ext cx="5729040" cy="3967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стественный язы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792600" y="1563840"/>
              <a:ext cx="1915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974400" y="797040"/>
              <a:ext cx="151092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УБЪЕКТ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1189080" y="3581280"/>
            <a:ext cx="6583320" cy="2720880"/>
            <a:chOff x="1189080" y="3581280"/>
            <a:chExt cx="6583320" cy="2720880"/>
          </a:xfrm>
        </p:grpSpPr>
        <p:sp>
          <p:nvSpPr>
            <p:cNvPr id="614" name=""/>
            <p:cNvSpPr/>
            <p:nvPr/>
          </p:nvSpPr>
          <p:spPr>
            <a:xfrm>
              <a:off x="1189080" y="3581280"/>
              <a:ext cx="6583320" cy="173196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авной субъект Sb</a:t>
              </a:r>
              <a:r>
                <a:rPr b="1" lang="en-US" sz="1400" spc="-1" strike="noStrike" baseline="30000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 = </a:t>
              </a:r>
              <a:r>
                <a:rPr b="1" lang="en-US" sz="1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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                                                                                                         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30000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                                                                                                         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. . .  .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1669320" y="5517000"/>
              <a:ext cx="5778720" cy="785160"/>
              <a:chOff x="1669320" y="5517000"/>
              <a:chExt cx="5778720" cy="785160"/>
            </a:xfrm>
          </p:grpSpPr>
          <p:sp>
            <p:nvSpPr>
              <p:cNvPr id="616" name=""/>
              <p:cNvSpPr/>
              <p:nvPr/>
            </p:nvSpPr>
            <p:spPr>
              <a:xfrm>
                <a:off x="1669320" y="5517000"/>
                <a:ext cx="127080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 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695760" y="5517000"/>
                <a:ext cx="127008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 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177960" y="5517000"/>
                <a:ext cx="127008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0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N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002680" y="5883480"/>
                <a:ext cx="4911840" cy="4186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дель общего опыта M (E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1404720" y="3988080"/>
              <a:ext cx="1716840" cy="101988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07120" y="3984480"/>
              <a:ext cx="1716120" cy="1048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95720" y="3984480"/>
              <a:ext cx="1716840" cy="1048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9380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620720" y="4309200"/>
              <a:ext cx="5935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1620360" y="4309200"/>
              <a:ext cx="12600" cy="884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620720" y="5193720"/>
              <a:ext cx="5929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556400" y="4309200"/>
              <a:ext cx="0" cy="8517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477120" y="4791960"/>
              <a:ext cx="0" cy="80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2836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67128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994920" y="4791960"/>
              <a:ext cx="1440" cy="82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052360" y="4791960"/>
              <a:ext cx="0" cy="82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380880" y="685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0880" y="342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МОДЕЛИ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04920" y="685800"/>
            <a:ext cx="8534160" cy="601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447920" y="1905120"/>
            <a:ext cx="6095520" cy="2971440"/>
            <a:chOff x="1447920" y="1905120"/>
            <a:chExt cx="6095520" cy="2971440"/>
          </a:xfrm>
        </p:grpSpPr>
        <p:sp>
          <p:nvSpPr>
            <p:cNvPr id="638" name=""/>
            <p:cNvSpPr/>
            <p:nvPr/>
          </p:nvSpPr>
          <p:spPr>
            <a:xfrm>
              <a:off x="1447920" y="1905120"/>
              <a:ext cx="6095520" cy="2971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447920" y="3335760"/>
              <a:ext cx="60955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4495320" y="3335400"/>
              <a:ext cx="0" cy="1540440"/>
            </a:xfrm>
            <a:prstGeom prst="line">
              <a:avLst/>
            </a:prstGeom>
            <a:ln w="57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 rot="1429200">
            <a:off x="1980720" y="1294920"/>
            <a:ext cx="2895840" cy="18288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rot="1429200">
            <a:off x="5105160" y="3428640"/>
            <a:ext cx="2895480" cy="18288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rot="19867200">
            <a:off x="4191120" y="1218960"/>
            <a:ext cx="3962160" cy="2057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Модели интеллекту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альных актив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19867200">
            <a:off x="1405080" y="3566880"/>
            <a:ext cx="3276360" cy="2057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ум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" y="1066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п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и его применения в человеко-компьютерных сред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ОСН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85800"/>
            <a:ext cx="84582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143000"/>
            <a:ext cx="7848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Предметная область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(задачи в человеко-компьютерных средах, для решения которых необходимо включить в работу интеллект и</a:t>
            </a: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или его модели ):        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решение задач и  принятие решений, экспертиза и диагностика, распознавание образов и анализ сцен, общение и перевод, обучение, игры и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другие задачи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286000"/>
            <a:ext cx="7848720" cy="9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Объект исследований и модел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ИНТЕЛЛЕКТ- как комплекс методов и средств, локализованных в мозговых структурах и обеспечивающих формирование, систематизацию и использование опыта человека  в процессах его взаимодействия с окружающей сре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505320"/>
            <a:ext cx="701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Основная Цель -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овысить «коэффициент полезного действия»  применений человеком его интеллектуальных способ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4191120"/>
            <a:ext cx="762012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стория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1954-первые попытки машинного перевода и распознавания образов, 1957 - «Логик-теоретик», 1964- универсальный решатель проблем, 1971- интеллектуальный робот «Шейки», 1974- фреймы (М.Минский), 1980 - «японский вызов» -проект компьютеров 5-го поколения, 1982 - экспертные системы, 1990 - «мягкие вычисления», 1995 - нейросети и генетические алгоритмы, 1997 - интеллектуальные агенты, 2000- онтологии и управление зна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1.ПРЕДМЕТНАЯ ОБЛ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57200"/>
            <a:ext cx="8534520" cy="6172200"/>
          </a:xfrm>
          <a:prstGeom prst="rect">
            <a:avLst/>
          </a:prstGeom>
          <a:solidFill>
            <a:srgbClr val="cc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990720"/>
            <a:ext cx="213372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bdu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I Abduction an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reativit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I Architectur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rt and Mus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utomat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utonomous Agent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Bayesian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Belief Revis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ase-Bas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aus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gnitive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gnitive Robot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mmon-Sens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mputer-Aid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ceptual Graph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figur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straint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straint Satisfa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ata Mining an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cover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cision Theor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du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scription Log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990720"/>
            <a:ext cx="22860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agnosi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course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tributed AI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Game Play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Evolutionary Algorith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Geometric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ductive Log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formation Extra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formation Retrieval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telligent User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terfac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 Acquisi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-Bas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present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Logic 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achine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achine Transl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eta-Heuristics for AI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odel-Bas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ulti-Agent 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atural Langua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cess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eural Network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onmonoton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990720"/>
            <a:ext cx="32004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Ontologi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ercep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hilosophica Foundation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lan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babilistic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Qualitative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l-Time 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 about Actions and Chan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 under Uncertaint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inforcement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source–Bound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use of 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obot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atisfiability Test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chedu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earch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pati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peech Process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empor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ext Mi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heorem Prov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User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Verification and Valid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457200"/>
            <a:ext cx="78483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  <a:ea typeface="Arial"/>
              </a:rPr>
              <a:t>Topics 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66"/>
                </a:solidFill>
                <a:latin typeface="Arial"/>
                <a:ea typeface="Arial"/>
              </a:rPr>
              <a:t>Submissions are invited on substantial, original and previously unpublished research in all fields of Artificial Intelligence, including, but not limited t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685800"/>
            <a:ext cx="853416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2.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7621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адача это тип вопроса на который в опыте нет ответа, но  он может быть построен и будет постро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90720" y="1600200"/>
            <a:ext cx="7467480" cy="1297800"/>
            <a:chOff x="990720" y="1600200"/>
            <a:chExt cx="7467480" cy="1297800"/>
          </a:xfrm>
        </p:grpSpPr>
        <p:sp>
          <p:nvSpPr>
            <p:cNvPr id="59" name=""/>
            <p:cNvSpPr/>
            <p:nvPr/>
          </p:nvSpPr>
          <p:spPr>
            <a:xfrm>
              <a:off x="3657600" y="160020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Вопро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90720" y="24382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облем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81640" y="24382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Задач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53440" y="24382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Запро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362320" y="205740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91120" y="2057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1905120"/>
              <a:ext cx="21337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066680" y="3124080"/>
            <a:ext cx="6851880" cy="3200400"/>
            <a:chOff x="1066680" y="3124080"/>
            <a:chExt cx="6851880" cy="3200400"/>
          </a:xfrm>
        </p:grpSpPr>
        <p:grpSp>
          <p:nvGrpSpPr>
            <p:cNvPr id="67" name=""/>
            <p:cNvGrpSpPr/>
            <p:nvPr/>
          </p:nvGrpSpPr>
          <p:grpSpPr>
            <a:xfrm>
              <a:off x="1295280" y="3124080"/>
              <a:ext cx="6623280" cy="3200400"/>
              <a:chOff x="1295280" y="3124080"/>
              <a:chExt cx="6623280" cy="3200400"/>
            </a:xfrm>
          </p:grpSpPr>
          <p:sp>
            <p:nvSpPr>
              <p:cNvPr id="68" name=""/>
              <p:cNvSpPr/>
              <p:nvPr/>
            </p:nvSpPr>
            <p:spPr>
              <a:xfrm>
                <a:off x="6934320" y="3809880"/>
                <a:ext cx="853920" cy="4572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Цели, продук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295280" y="5146560"/>
                <a:ext cx="60336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St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95600" y="5500440"/>
                <a:ext cx="430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2298240" y="6324480"/>
                <a:ext cx="441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81080" y="5181480"/>
                <a:ext cx="636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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475080" y="3733560"/>
                <a:ext cx="3443400" cy="22366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463920" y="3782880"/>
                <a:ext cx="1946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еятельность D(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511960" y="3976560"/>
                <a:ext cx="1164960" cy="4651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870440" y="4087440"/>
                <a:ext cx="1165320" cy="3970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106880" y="4189320"/>
                <a:ext cx="1341360" cy="3682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07680" y="4189320"/>
                <a:ext cx="109656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действие d</a:t>
                </a:r>
                <a:r>
                  <a:rPr b="1" lang="ru-RU" sz="12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411880" y="4306680"/>
                <a:ext cx="180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549680" y="4833720"/>
                <a:ext cx="1860480" cy="9018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587760" y="4890960"/>
                <a:ext cx="1539720" cy="426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87480" y="4935240"/>
                <a:ext cx="95328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пыт  E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727520" y="5340240"/>
                <a:ext cx="146520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ссуждение  D</a:t>
                </a:r>
                <a:r>
                  <a:rPr b="1" lang="en-US" sz="1200" spc="-1" strike="noStrike" baseline="30000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215040" y="5643360"/>
                <a:ext cx="90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10360" y="4441680"/>
                <a:ext cx="0" cy="70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205160" y="4441680"/>
                <a:ext cx="0" cy="46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400480" y="5500440"/>
                <a:ext cx="220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16880" y="56163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298600" y="56163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600280" y="5146560"/>
                <a:ext cx="803160" cy="2635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=Q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86600" y="5714640"/>
                <a:ext cx="831960" cy="3542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д R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200400" y="3124080"/>
                <a:ext cx="259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Природа вопрос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1066680" y="472428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иьту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flipV="1">
            <a:off x="533520" y="761760"/>
            <a:ext cx="838188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редставление (работа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971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оиск (работа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63360" y="1371600"/>
            <a:ext cx="7647120" cy="1736640"/>
            <a:chOff x="963360" y="1371600"/>
            <a:chExt cx="7647120" cy="1736640"/>
          </a:xfrm>
        </p:grpSpPr>
        <p:sp>
          <p:nvSpPr>
            <p:cNvPr id="99" name=""/>
            <p:cNvSpPr/>
            <p:nvPr/>
          </p:nvSpPr>
          <p:spPr>
            <a:xfrm>
              <a:off x="4038480" y="1371600"/>
              <a:ext cx="36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МОДЕЛ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963360" y="1577880"/>
              <a:ext cx="7647120" cy="1530360"/>
              <a:chOff x="963360" y="1577880"/>
              <a:chExt cx="7647120" cy="1530360"/>
            </a:xfrm>
          </p:grpSpPr>
          <p:sp>
            <p:nvSpPr>
              <p:cNvPr id="101" name=""/>
              <p:cNvSpPr/>
              <p:nvPr/>
            </p:nvSpPr>
            <p:spPr>
              <a:xfrm rot="20778000">
                <a:off x="1066680" y="1790640"/>
                <a:ext cx="1930680" cy="1104480"/>
              </a:xfrm>
              <a:custGeom>
                <a:avLst/>
                <a:gdLst/>
                <a:ahLst/>
                <a:rect l="l" t="t" r="r" b="b"/>
                <a:pathLst>
                  <a:path w="1304" h="784">
                    <a:moveTo>
                      <a:pt x="712" y="24"/>
                    </a:moveTo>
                    <a:cubicBezTo>
                      <a:pt x="520" y="0"/>
                      <a:pt x="240" y="80"/>
                      <a:pt x="136" y="168"/>
                    </a:cubicBezTo>
                    <a:cubicBezTo>
                      <a:pt x="32" y="256"/>
                      <a:pt x="0" y="456"/>
                      <a:pt x="88" y="552"/>
                    </a:cubicBezTo>
                    <a:cubicBezTo>
                      <a:pt x="176" y="648"/>
                      <a:pt x="464" y="784"/>
                      <a:pt x="664" y="744"/>
                    </a:cubicBezTo>
                    <a:cubicBezTo>
                      <a:pt x="864" y="704"/>
                      <a:pt x="1272" y="432"/>
                      <a:pt x="1288" y="312"/>
                    </a:cubicBezTo>
                    <a:cubicBezTo>
                      <a:pt x="1304" y="192"/>
                      <a:pt x="904" y="48"/>
                      <a:pt x="712" y="24"/>
                    </a:cubicBezTo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371600" y="213336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ВОПРО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276720" y="1676520"/>
                <a:ext cx="2361960" cy="129528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477120" y="1828800"/>
                <a:ext cx="2133360" cy="114264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819520" y="24382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9000" y="1981080"/>
                <a:ext cx="220968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ОДЕРЖАТЕЛЬНО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ДСТАВЛЕН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53080" y="2057400"/>
                <a:ext cx="1981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ФОРМАЛЬНОЕ ПРЕДСТАВЛЕН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15000" y="1904760"/>
                <a:ext cx="533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715000" y="22096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3733920" y="3143160"/>
            <a:ext cx="4952880" cy="3409920"/>
            <a:chOff x="3733920" y="3143160"/>
            <a:chExt cx="4952880" cy="3409920"/>
          </a:xfrm>
        </p:grpSpPr>
        <p:sp>
          <p:nvSpPr>
            <p:cNvPr id="111" name=""/>
            <p:cNvSpPr/>
            <p:nvPr/>
          </p:nvSpPr>
          <p:spPr>
            <a:xfrm flipH="1" rot="5317200">
              <a:off x="6047280" y="951480"/>
              <a:ext cx="228600" cy="4722840"/>
            </a:xfrm>
            <a:custGeom>
              <a:avLst/>
              <a:gdLst>
                <a:gd name="textAreaLeft" fmla="*/ 145800 w 228600"/>
                <a:gd name="textAreaRight" fmla="*/ 228600 w 228600"/>
                <a:gd name="textAreaTop" fmla="*/ 123120 h 4722840"/>
                <a:gd name="textAreaBottom" fmla="*/ 4599720 h 472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38480" y="3352680"/>
              <a:ext cx="457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Поисковый образ - система запрос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91120" y="3733920"/>
              <a:ext cx="4495680" cy="2819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43400" y="6080040"/>
              <a:ext cx="42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БАЗА ПРЕЦЕД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19720" y="3886200"/>
              <a:ext cx="411480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3886200"/>
              <a:ext cx="38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СИСТЕМА ДОСТУП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24280" y="4343400"/>
              <a:ext cx="365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РАЗДЕЛЫ И ПОДРАЗДЕЛ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7543800" y="4724280"/>
              <a:ext cx="990720" cy="1219320"/>
              <a:chOff x="7543800" y="4724280"/>
              <a:chExt cx="990720" cy="1219320"/>
            </a:xfrm>
          </p:grpSpPr>
          <p:sp>
            <p:nvSpPr>
              <p:cNvPr id="119" name=""/>
              <p:cNvSpPr/>
              <p:nvPr/>
            </p:nvSpPr>
            <p:spPr>
              <a:xfrm>
                <a:off x="7543800" y="4724280"/>
                <a:ext cx="99072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43800" y="571500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543800" y="51814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543800" y="49528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9246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7724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30592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791320" y="4724280"/>
              <a:ext cx="990360" cy="1219320"/>
              <a:chOff x="5791320" y="4724280"/>
              <a:chExt cx="990360" cy="1219320"/>
            </a:xfrm>
          </p:grpSpPr>
          <p:sp>
            <p:nvSpPr>
              <p:cNvPr id="127" name=""/>
              <p:cNvSpPr/>
              <p:nvPr/>
            </p:nvSpPr>
            <p:spPr>
              <a:xfrm>
                <a:off x="5791320" y="4724280"/>
                <a:ext cx="99036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91320" y="56386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91320" y="51814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791320" y="49528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9436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3244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6294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419720" y="4724280"/>
              <a:ext cx="990360" cy="1219320"/>
              <a:chOff x="4419720" y="4724280"/>
              <a:chExt cx="990360" cy="1219320"/>
            </a:xfrm>
          </p:grpSpPr>
          <p:sp>
            <p:nvSpPr>
              <p:cNvPr id="135" name=""/>
              <p:cNvSpPr/>
              <p:nvPr/>
            </p:nvSpPr>
            <p:spPr>
              <a:xfrm>
                <a:off x="4419720" y="4724280"/>
                <a:ext cx="99036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419720" y="487656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19720" y="51814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19720" y="579096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242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2578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006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 flipH="1">
              <a:off x="3733920" y="487692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62120" y="3733920"/>
            <a:ext cx="2895480" cy="2666880"/>
            <a:chOff x="762120" y="3733920"/>
            <a:chExt cx="2895480" cy="2666880"/>
          </a:xfrm>
        </p:grpSpPr>
        <p:sp>
          <p:nvSpPr>
            <p:cNvPr id="144" name=""/>
            <p:cNvSpPr/>
            <p:nvPr/>
          </p:nvSpPr>
          <p:spPr>
            <a:xfrm>
              <a:off x="762120" y="3733920"/>
              <a:ext cx="2819160" cy="2666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14400" y="388620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КОМБИНАТОР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990720" y="4495680"/>
              <a:ext cx="2209680" cy="1447920"/>
              <a:chOff x="990720" y="4495680"/>
              <a:chExt cx="2209680" cy="1447920"/>
            </a:xfrm>
          </p:grpSpPr>
          <p:sp>
            <p:nvSpPr>
              <p:cNvPr id="147" name=""/>
              <p:cNvSpPr/>
              <p:nvPr/>
            </p:nvSpPr>
            <p:spPr>
              <a:xfrm>
                <a:off x="99072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752480" y="44956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95280" y="51814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0020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600200" y="5410080"/>
                <a:ext cx="15228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981080" y="5105520"/>
                <a:ext cx="15264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81080" y="5791320"/>
                <a:ext cx="15264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362320" y="556272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51460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895480" y="51814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48120" y="579132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1219320" y="4571640"/>
                <a:ext cx="5331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19320" y="4876920"/>
                <a:ext cx="3808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05120" y="4572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905120" y="4648320"/>
                <a:ext cx="15228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219320" y="4876920"/>
                <a:ext cx="7596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676520" y="49528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71600" y="5334120"/>
                <a:ext cx="22860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981080" y="5257800"/>
                <a:ext cx="763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52480" y="556272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2209680" y="5714640"/>
                <a:ext cx="152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209680" y="5181480"/>
                <a:ext cx="22860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2286000" y="4952880"/>
                <a:ext cx="152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743200" y="49528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2514600" y="525744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86000" y="586728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048120" y="5410080"/>
                <a:ext cx="759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914400"/>
            <a:ext cx="8686800" cy="5638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990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КОМБИНАТОР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3716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Лабиринтная гипотеза: поиск метода решения задачи подобен поиску пути в лабирин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495288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ьная гипотеза: поиск метода решения задачи подобен построению «лабиринта» в котором с высокой гарантией найдется  путь, раскрывающий  метод решения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2209680"/>
            <a:ext cx="7086600" cy="2743200"/>
          </a:xfrm>
          <a:prstGeom prst="rect">
            <a:avLst/>
          </a:prstGeom>
          <a:solidFill>
            <a:srgbClr val="0099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209680" y="2590920"/>
            <a:ext cx="5639040" cy="2133360"/>
            <a:chOff x="2209680" y="2590920"/>
            <a:chExt cx="5639040" cy="2133360"/>
          </a:xfrm>
        </p:grpSpPr>
        <p:sp>
          <p:nvSpPr>
            <p:cNvPr id="181" name=""/>
            <p:cNvSpPr/>
            <p:nvPr/>
          </p:nvSpPr>
          <p:spPr>
            <a:xfrm flipV="1">
              <a:off x="2209680" y="2818800"/>
              <a:ext cx="685800" cy="9903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09680" y="3809880"/>
              <a:ext cx="1371600" cy="9140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895480" y="2590920"/>
              <a:ext cx="1905120" cy="228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209680" y="3352320"/>
              <a:ext cx="2286000" cy="45684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505320" y="4038480"/>
              <a:ext cx="2666880" cy="6854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19720" y="3352680"/>
              <a:ext cx="1828800" cy="68544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343400" y="3047760"/>
              <a:ext cx="1219320" cy="304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4724280"/>
              <a:ext cx="30481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24280" y="2590920"/>
              <a:ext cx="838440" cy="4568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6172200" y="3200040"/>
              <a:ext cx="1676520" cy="8377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3047760"/>
              <a:ext cx="83808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248520" y="3047400"/>
              <a:ext cx="152280" cy="99036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00800" y="3047760"/>
              <a:ext cx="1371600" cy="15228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24280" y="2590920"/>
              <a:ext cx="1676520" cy="4568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553080" y="3200400"/>
              <a:ext cx="1295640" cy="15235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95480" y="2819160"/>
              <a:ext cx="1447920" cy="5331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143000" y="23623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МОДЕЛЬ ЛАБИРИ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10280" y="4419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ГРА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3581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«ПУТ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33526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43800" y="26668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3.ОП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533520"/>
            <a:ext cx="8686800" cy="601956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762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РЕЦЕД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80880" y="1219320"/>
            <a:ext cx="4267440" cy="2438280"/>
            <a:chOff x="380880" y="1219320"/>
            <a:chExt cx="4267440" cy="2438280"/>
          </a:xfrm>
        </p:grpSpPr>
        <p:grpSp>
          <p:nvGrpSpPr>
            <p:cNvPr id="206" name=""/>
            <p:cNvGrpSpPr/>
            <p:nvPr/>
          </p:nvGrpSpPr>
          <p:grpSpPr>
            <a:xfrm>
              <a:off x="380880" y="1219320"/>
              <a:ext cx="3810240" cy="1981080"/>
              <a:chOff x="380880" y="1219320"/>
              <a:chExt cx="3810240" cy="1981080"/>
            </a:xfrm>
          </p:grpSpPr>
          <p:sp>
            <p:nvSpPr>
              <p:cNvPr id="207" name=""/>
              <p:cNvSpPr/>
              <p:nvPr/>
            </p:nvSpPr>
            <p:spPr>
              <a:xfrm>
                <a:off x="380880" y="1219320"/>
                <a:ext cx="381024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474840" y="1281240"/>
                <a:ext cx="1879560" cy="270720"/>
                <a:chOff x="474840" y="1281240"/>
                <a:chExt cx="1879560" cy="270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474840" y="13006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67000" y="12812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15960" y="136908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45840" y="13006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13960" y="130068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68680" y="130464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098080" y="130068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265120" y="1304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973800" y="155268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269800" y="15494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389320" y="155268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974520" y="18036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39480" y="180036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98240" y="18036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1453680" y="1800360"/>
                <a:ext cx="1783440" cy="186480"/>
                <a:chOff x="1453680" y="1800360"/>
                <a:chExt cx="1783440" cy="1864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1453680" y="18039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574640" y="18039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944440" y="180036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109680" y="18039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974520" y="2052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39840" y="204804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553760" y="205272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776240" y="205272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2596680" y="2048040"/>
                <a:ext cx="1405080" cy="249480"/>
                <a:chOff x="2596680" y="2048040"/>
                <a:chExt cx="1405080" cy="2494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2596680" y="205056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610440" y="20480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673440" y="21146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743640" y="20480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912480" y="2051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1404720" y="230040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63240" y="22971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195280" y="23004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38120" y="23004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445840" y="2300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530080" y="23004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1595160" y="2297160"/>
                <a:ext cx="2043360" cy="185400"/>
                <a:chOff x="1595160" y="2297160"/>
                <a:chExt cx="2043360" cy="18540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1595160" y="229968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330720" y="229716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549240" y="22996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"/>
              <p:cNvSpPr/>
              <p:nvPr/>
            </p:nvSpPr>
            <p:spPr>
              <a:xfrm>
                <a:off x="545760" y="254952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45800" y="2549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53880" y="2546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337760" y="2549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420920" y="25495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480680" y="254952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152080" y="254952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66520" y="27990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85200" y="279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377720" y="2799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458720" y="279900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19160" y="279900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356640" y="279576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591720" y="2863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652920" y="279576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814560" y="2799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08040" y="1876680"/>
                <a:ext cx="173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533520" y="1371600"/>
              <a:ext cx="3809880" cy="1981080"/>
              <a:chOff x="533520" y="1371600"/>
              <a:chExt cx="3809880" cy="1981080"/>
            </a:xfrm>
          </p:grpSpPr>
          <p:sp>
            <p:nvSpPr>
              <p:cNvPr id="266" name=""/>
              <p:cNvSpPr/>
              <p:nvPr/>
            </p:nvSpPr>
            <p:spPr>
              <a:xfrm>
                <a:off x="533520" y="1371600"/>
                <a:ext cx="380988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627120" y="1433520"/>
                <a:ext cx="1879200" cy="270720"/>
                <a:chOff x="627120" y="1433520"/>
                <a:chExt cx="1879200" cy="2707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27120" y="14529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9280" y="14335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68240" y="152136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97760" y="14529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966240" y="145296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020600" y="145692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250000" y="145296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417040" y="1456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1126080" y="170496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421720" y="17017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41240" y="170496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126440" y="195588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391760" y="195264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50520" y="19558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1605960" y="1952640"/>
                <a:ext cx="1783080" cy="186480"/>
                <a:chOff x="1605960" y="1952640"/>
                <a:chExt cx="1783080" cy="1864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1605960" y="19562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726560" y="19562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096360" y="195264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261600" y="19562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7" name=""/>
              <p:cNvSpPr/>
              <p:nvPr/>
            </p:nvSpPr>
            <p:spPr>
              <a:xfrm>
                <a:off x="1126440" y="2205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391760" y="220032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706040" y="22050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28160" y="220500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2748960" y="2200320"/>
                <a:ext cx="1404720" cy="249480"/>
                <a:chOff x="2748960" y="2200320"/>
                <a:chExt cx="1404720" cy="2494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2748960" y="220284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762360" y="22003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825360" y="22669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895560" y="22003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064400" y="2203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1557000" y="245268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15520" y="2449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347200" y="24526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90400" y="24526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98120" y="245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682360" y="245268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1747080" y="2449440"/>
                <a:ext cx="2043360" cy="185400"/>
                <a:chOff x="1747080" y="2449440"/>
                <a:chExt cx="2043360" cy="18540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1747080" y="245196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482640" y="244944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701160" y="24519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"/>
              <p:cNvSpPr/>
              <p:nvPr/>
            </p:nvSpPr>
            <p:spPr>
              <a:xfrm>
                <a:off x="698040" y="270180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98080" y="2701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05800" y="2698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90040" y="2701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572840" y="27018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632600" y="270180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304000" y="270180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018800" y="29512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437120" y="2948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529640" y="2951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611000" y="295128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071440" y="295128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508920" y="294804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743640" y="3016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05200" y="294804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966480" y="2951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660320" y="2028960"/>
                <a:ext cx="17280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85800" y="1524240"/>
              <a:ext cx="3809880" cy="1981080"/>
              <a:chOff x="685800" y="1524240"/>
              <a:chExt cx="3809880" cy="1981080"/>
            </a:xfrm>
          </p:grpSpPr>
          <p:sp>
            <p:nvSpPr>
              <p:cNvPr id="325" name=""/>
              <p:cNvSpPr/>
              <p:nvPr/>
            </p:nvSpPr>
            <p:spPr>
              <a:xfrm>
                <a:off x="685800" y="1524240"/>
                <a:ext cx="380988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779400" y="1586160"/>
                <a:ext cx="1879200" cy="270720"/>
                <a:chOff x="779400" y="1586160"/>
                <a:chExt cx="1879200" cy="2707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779400" y="16056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71560" y="158616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920520" y="167400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950040" y="16056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118520" y="160560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172880" y="160956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402280" y="160560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569320" y="1609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1278360" y="185760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74000" y="18543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693520" y="185760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278720" y="21085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44040" y="210528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702800" y="21085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1758240" y="2105280"/>
                <a:ext cx="1783080" cy="186480"/>
                <a:chOff x="1758240" y="2105280"/>
                <a:chExt cx="1783080" cy="1864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758240" y="210888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878840" y="210888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248640" y="210528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3413880" y="210888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1278720" y="2357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544040" y="235296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858320" y="235764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080440" y="235764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2901240" y="2352960"/>
                <a:ext cx="1404720" cy="249480"/>
                <a:chOff x="2901240" y="2352960"/>
                <a:chExt cx="1404720" cy="2494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2901240" y="235548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914640" y="235296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977640" y="24195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047840" y="23529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216680" y="2356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1709280" y="260532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567800" y="2602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499480" y="2605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542680" y="2605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50400" y="2605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834640" y="260532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1899360" y="2602080"/>
                <a:ext cx="2043360" cy="185400"/>
                <a:chOff x="1899360" y="2602080"/>
                <a:chExt cx="2043360" cy="18540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1899360" y="260460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634920" y="260208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853440" y="26046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>
                <a:off x="850320" y="285444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350360" y="28544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558080" y="2851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642320" y="2854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725120" y="28544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784880" y="285444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456280" y="285444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171080" y="3103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89400" y="3100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681920" y="3103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763280" y="310392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223720" y="310392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661200" y="310068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95920" y="3168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957480" y="310068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118760" y="31039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812600" y="2181600"/>
                <a:ext cx="17280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838080" y="1676520"/>
              <a:ext cx="3810240" cy="1981080"/>
              <a:chOff x="838080" y="1676520"/>
              <a:chExt cx="3810240" cy="1981080"/>
            </a:xfrm>
          </p:grpSpPr>
          <p:sp>
            <p:nvSpPr>
              <p:cNvPr id="384" name=""/>
              <p:cNvSpPr/>
              <p:nvPr/>
            </p:nvSpPr>
            <p:spPr>
              <a:xfrm>
                <a:off x="838080" y="1676520"/>
                <a:ext cx="381024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932040" y="1738440"/>
                <a:ext cx="1879560" cy="270720"/>
                <a:chOff x="932040" y="1738440"/>
                <a:chExt cx="1879560" cy="2707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932040" y="17578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024200" y="17384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073160" y="182628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103040" y="17578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271160" y="175788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325880" y="176184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555280" y="175788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722320" y="1761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"/>
              <p:cNvSpPr/>
              <p:nvPr/>
            </p:nvSpPr>
            <p:spPr>
              <a:xfrm>
                <a:off x="1431000" y="200988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727000" y="20066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846520" y="200988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431720" y="22608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696680" y="225756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855440" y="22608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1910880" y="2257560"/>
                <a:ext cx="1783440" cy="186480"/>
                <a:chOff x="1910880" y="2257560"/>
                <a:chExt cx="1783440" cy="18648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1910880" y="22611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031840" y="22611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3401640" y="225756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566880" y="22611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"/>
              <p:cNvSpPr/>
              <p:nvPr/>
            </p:nvSpPr>
            <p:spPr>
              <a:xfrm>
                <a:off x="1431720" y="2509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697040" y="250524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010960" y="250992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233440" y="250992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3053880" y="2505240"/>
                <a:ext cx="1405080" cy="249480"/>
                <a:chOff x="3053880" y="2505240"/>
                <a:chExt cx="1405080" cy="2494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053880" y="250776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067640" y="25052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130640" y="2571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200840" y="25052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369680" y="2508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1861920" y="275760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720440" y="2754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652480" y="2757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695320" y="27576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903040" y="2757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987280" y="27576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2052360" y="2754360"/>
                <a:ext cx="2043360" cy="185400"/>
                <a:chOff x="2052360" y="2754360"/>
                <a:chExt cx="2043360" cy="18540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052360" y="275688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787920" y="275436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006440" y="27568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"/>
              <p:cNvSpPr/>
              <p:nvPr/>
            </p:nvSpPr>
            <p:spPr>
              <a:xfrm>
                <a:off x="1002960" y="300672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503000" y="30067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11080" y="3003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794960" y="3006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878120" y="30067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937880" y="300672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09280" y="300672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323720" y="32562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742400" y="325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834920" y="3256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915920" y="325620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376360" y="325620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813840" y="325296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048920" y="332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110120" y="325296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271760" y="3256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965240" y="2333880"/>
                <a:ext cx="173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914400" y="4419720"/>
            <a:ext cx="3809880" cy="1981080"/>
            <a:chOff x="914400" y="4419720"/>
            <a:chExt cx="3809880" cy="1981080"/>
          </a:xfrm>
        </p:grpSpPr>
        <p:sp>
          <p:nvSpPr>
            <p:cNvPr id="443" name=""/>
            <p:cNvSpPr/>
            <p:nvPr/>
          </p:nvSpPr>
          <p:spPr>
            <a:xfrm>
              <a:off x="914400" y="4419720"/>
              <a:ext cx="3809880" cy="1981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1008000" y="4481640"/>
              <a:ext cx="1879200" cy="270720"/>
              <a:chOff x="1008000" y="4481640"/>
              <a:chExt cx="1879200" cy="270720"/>
            </a:xfrm>
          </p:grpSpPr>
          <p:sp>
            <p:nvSpPr>
              <p:cNvPr id="445" name=""/>
              <p:cNvSpPr/>
              <p:nvPr/>
            </p:nvSpPr>
            <p:spPr>
              <a:xfrm>
                <a:off x="1008000" y="450108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100160" y="44816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149120" y="4569480"/>
                <a:ext cx="43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78640" y="450108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347120" y="4501080"/>
                <a:ext cx="5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401480" y="4505040"/>
                <a:ext cx="11239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ак как [мотивы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630880" y="4501080"/>
                <a:ext cx="144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797920" y="4505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1506960" y="4753080"/>
              <a:ext cx="1184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поскольку  [цели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02600" y="4749840"/>
              <a:ext cx="1105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922120" y="4753080"/>
              <a:ext cx="892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07320" y="5004000"/>
              <a:ext cx="30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72640" y="5000760"/>
              <a:ext cx="83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31400" y="50040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1986840" y="5000760"/>
              <a:ext cx="1783080" cy="186480"/>
              <a:chOff x="1986840" y="5000760"/>
              <a:chExt cx="1783080" cy="186480"/>
            </a:xfrm>
          </p:grpSpPr>
          <p:sp>
            <p:nvSpPr>
              <p:cNvPr id="460" name=""/>
              <p:cNvSpPr/>
              <p:nvPr/>
            </p:nvSpPr>
            <p:spPr>
              <a:xfrm>
                <a:off x="1986840" y="5004360"/>
                <a:ext cx="1152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107440" y="5004360"/>
                <a:ext cx="12427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если [пред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477240" y="5000760"/>
                <a:ext cx="153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'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42480" y="5004360"/>
                <a:ext cx="1274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1507320" y="52531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772640" y="5248440"/>
              <a:ext cx="157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086920" y="5253120"/>
              <a:ext cx="153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309040" y="5253120"/>
              <a:ext cx="11055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3129840" y="5248440"/>
              <a:ext cx="1404720" cy="249480"/>
              <a:chOff x="3129840" y="5248440"/>
              <a:chExt cx="1404720" cy="249480"/>
            </a:xfrm>
          </p:grpSpPr>
          <p:sp>
            <p:nvSpPr>
              <p:cNvPr id="469" name=""/>
              <p:cNvSpPr/>
              <p:nvPr/>
            </p:nvSpPr>
            <p:spPr>
              <a:xfrm>
                <a:off x="3129840" y="5250960"/>
                <a:ext cx="8665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   [реакц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143240" y="52484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206240" y="531504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276440" y="524844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445280" y="5252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1937880" y="5500800"/>
              <a:ext cx="6483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96400" y="549756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28080" y="55008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771280" y="550080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979000" y="55008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63240" y="5500800"/>
              <a:ext cx="2293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2127960" y="5497560"/>
              <a:ext cx="2043360" cy="185400"/>
              <a:chOff x="2127960" y="5497560"/>
              <a:chExt cx="2043360" cy="185400"/>
            </a:xfrm>
          </p:grpSpPr>
          <p:sp>
            <p:nvSpPr>
              <p:cNvPr id="481" name=""/>
              <p:cNvSpPr/>
              <p:nvPr/>
            </p:nvSpPr>
            <p:spPr>
              <a:xfrm>
                <a:off x="2127960" y="5500080"/>
                <a:ext cx="158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из-за чего [пост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863520" y="5497560"/>
                <a:ext cx="1958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"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082040" y="550008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1078920" y="5749920"/>
              <a:ext cx="4579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78960" y="574992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786680" y="574704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870920" y="57499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53720" y="5749920"/>
              <a:ext cx="511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13480" y="5749920"/>
              <a:ext cx="6040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-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84880" y="5749920"/>
              <a:ext cx="630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 ---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99680" y="59994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18000" y="599616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10520" y="59994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91880" y="5999400"/>
              <a:ext cx="419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52320" y="5999400"/>
              <a:ext cx="13114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были альтернатив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89800" y="5996160"/>
              <a:ext cx="21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[ {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124520" y="606420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86080" y="5996160"/>
              <a:ext cx="148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} 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47360" y="59994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41200" y="5077080"/>
              <a:ext cx="172800" cy="1098360"/>
            </a:xfrm>
            <a:custGeom>
              <a:avLst/>
              <a:gdLst/>
              <a:ahLst/>
              <a:rect l="l" t="t" r="r" b="b"/>
              <a:pathLst>
                <a:path w="230" h="1701">
                  <a:moveTo>
                    <a:pt x="230" y="0"/>
                  </a:moveTo>
                  <a:lnTo>
                    <a:pt x="207" y="4"/>
                  </a:lnTo>
                  <a:lnTo>
                    <a:pt x="186" y="12"/>
                  </a:lnTo>
                  <a:lnTo>
                    <a:pt x="167" y="25"/>
                  </a:lnTo>
                  <a:lnTo>
                    <a:pt x="150" y="43"/>
                  </a:lnTo>
                  <a:lnTo>
                    <a:pt x="134" y="64"/>
                  </a:lnTo>
                  <a:lnTo>
                    <a:pt x="125" y="87"/>
                  </a:lnTo>
                  <a:lnTo>
                    <a:pt x="117" y="114"/>
                  </a:lnTo>
                  <a:lnTo>
                    <a:pt x="115" y="143"/>
                  </a:lnTo>
                  <a:lnTo>
                    <a:pt x="115" y="711"/>
                  </a:lnTo>
                  <a:lnTo>
                    <a:pt x="113" y="740"/>
                  </a:lnTo>
                  <a:lnTo>
                    <a:pt x="105" y="764"/>
                  </a:lnTo>
                  <a:lnTo>
                    <a:pt x="96" y="789"/>
                  </a:lnTo>
                  <a:lnTo>
                    <a:pt x="80" y="811"/>
                  </a:lnTo>
                  <a:lnTo>
                    <a:pt x="65" y="826"/>
                  </a:lnTo>
                  <a:lnTo>
                    <a:pt x="44" y="839"/>
                  </a:lnTo>
                  <a:lnTo>
                    <a:pt x="23" y="849"/>
                  </a:lnTo>
                  <a:lnTo>
                    <a:pt x="0" y="851"/>
                  </a:lnTo>
                  <a:lnTo>
                    <a:pt x="23" y="855"/>
                  </a:lnTo>
                  <a:lnTo>
                    <a:pt x="44" y="862"/>
                  </a:lnTo>
                  <a:lnTo>
                    <a:pt x="65" y="876"/>
                  </a:lnTo>
                  <a:lnTo>
                    <a:pt x="80" y="893"/>
                  </a:lnTo>
                  <a:lnTo>
                    <a:pt x="96" y="914"/>
                  </a:lnTo>
                  <a:lnTo>
                    <a:pt x="105" y="937"/>
                  </a:lnTo>
                  <a:lnTo>
                    <a:pt x="113" y="964"/>
                  </a:lnTo>
                  <a:lnTo>
                    <a:pt x="115" y="993"/>
                  </a:lnTo>
                  <a:lnTo>
                    <a:pt x="115" y="1559"/>
                  </a:lnTo>
                  <a:lnTo>
                    <a:pt x="117" y="1588"/>
                  </a:lnTo>
                  <a:lnTo>
                    <a:pt x="125" y="1615"/>
                  </a:lnTo>
                  <a:lnTo>
                    <a:pt x="134" y="1638"/>
                  </a:lnTo>
                  <a:lnTo>
                    <a:pt x="150" y="1659"/>
                  </a:lnTo>
                  <a:lnTo>
                    <a:pt x="167" y="1676"/>
                  </a:lnTo>
                  <a:lnTo>
                    <a:pt x="186" y="1690"/>
                  </a:lnTo>
                  <a:lnTo>
                    <a:pt x="207" y="1699"/>
                  </a:lnTo>
                  <a:lnTo>
                    <a:pt x="230" y="1701"/>
                  </a:ln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609480" y="388620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ОВТОРНОЕ ИСПОЛ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105520" y="838080"/>
            <a:ext cx="3657600" cy="5334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4343400" y="1371600"/>
            <a:ext cx="4267080" cy="4511160"/>
            <a:chOff x="4343400" y="1371600"/>
            <a:chExt cx="4267080" cy="4511160"/>
          </a:xfrm>
        </p:grpSpPr>
        <p:sp>
          <p:nvSpPr>
            <p:cNvPr id="504" name=""/>
            <p:cNvSpPr/>
            <p:nvPr/>
          </p:nvSpPr>
          <p:spPr>
            <a:xfrm>
              <a:off x="4343400" y="3809880"/>
              <a:ext cx="976320" cy="486000"/>
            </a:xfrm>
            <a:prstGeom prst="leftArrow">
              <a:avLst>
                <a:gd name="adj1" fmla="val 50000"/>
                <a:gd name="adj2" fmla="val 50222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334120" y="1371600"/>
              <a:ext cx="3276360" cy="449568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867280" y="1676520"/>
              <a:ext cx="2590920" cy="42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ПЫТ - 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ЕДСТА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ЕЦЕДЕНТ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ДЛЯ И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ОВТОРН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ИСПОЛЬ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РАЦИОНА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В ОТНОШЕНИЯ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С ОКРУЖАЮЩИ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МИРОМ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ЭВРИСТ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86400" y="2362320"/>
              <a:ext cx="823680" cy="485640"/>
            </a:xfrm>
            <a:prstGeom prst="rightArrow">
              <a:avLst>
                <a:gd name="adj1" fmla="val 50000"/>
                <a:gd name="adj2" fmla="val 42402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562720" y="990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457200" y="609480"/>
            <a:ext cx="8381880" cy="601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838080"/>
            <a:ext cx="8001000" cy="55627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ОП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066680" y="2057400"/>
            <a:ext cx="7239240" cy="4038480"/>
            <a:chOff x="1066680" y="2057400"/>
            <a:chExt cx="7239240" cy="4038480"/>
          </a:xfrm>
        </p:grpSpPr>
        <p:sp>
          <p:nvSpPr>
            <p:cNvPr id="513" name=""/>
            <p:cNvSpPr/>
            <p:nvPr/>
          </p:nvSpPr>
          <p:spPr>
            <a:xfrm>
              <a:off x="1066680" y="2057400"/>
              <a:ext cx="7162920" cy="3962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43000" y="4038480"/>
              <a:ext cx="71629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48320" y="4038480"/>
              <a:ext cx="0" cy="20574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71800" y="266688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ЗН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00600" y="464796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371600" y="464796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914400" y="1371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сихофизиологические структуры и акти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666880" y="99072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У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ОП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914400"/>
            <a:ext cx="8382240" cy="5715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20560" y="1371600"/>
            <a:ext cx="898560" cy="30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За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746280" y="1447920"/>
            <a:ext cx="7788240" cy="5005800"/>
            <a:chOff x="746280" y="1447920"/>
            <a:chExt cx="7788240" cy="5005800"/>
          </a:xfrm>
        </p:grpSpPr>
        <p:sp>
          <p:nvSpPr>
            <p:cNvPr id="525" name=""/>
            <p:cNvSpPr/>
            <p:nvPr/>
          </p:nvSpPr>
          <p:spPr>
            <a:xfrm>
              <a:off x="1419120" y="362916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78560" y="1677960"/>
              <a:ext cx="0" cy="195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78560" y="2602080"/>
              <a:ext cx="213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317840" y="3629160"/>
              <a:ext cx="0" cy="184788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43400" y="5735520"/>
              <a:ext cx="8985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2000" y="5715000"/>
              <a:ext cx="8985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19120" y="1677960"/>
              <a:ext cx="0" cy="379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419120" y="167796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419120" y="547704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7713720" y="1677600"/>
              <a:ext cx="0" cy="379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543040" y="1677960"/>
              <a:ext cx="0" cy="5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1419120" y="2192400"/>
              <a:ext cx="11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436760" y="1749600"/>
              <a:ext cx="1047600" cy="307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 - опы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589720" y="1689120"/>
              <a:ext cx="1461960" cy="307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етаум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589720" y="2612880"/>
              <a:ext cx="144936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етанавы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442880" y="3651120"/>
              <a:ext cx="101124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629400" y="3654360"/>
              <a:ext cx="101124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6280" y="1852560"/>
              <a:ext cx="672840" cy="204840"/>
            </a:xfrm>
            <a:custGeom>
              <a:avLst/>
              <a:gdLst>
                <a:gd name="textAreaLeft" fmla="*/ 105120 w 672840"/>
                <a:gd name="textAreaRight" fmla="*/ 625320 w 672840"/>
                <a:gd name="textAreaTop" fmla="*/ 61920 h 204840"/>
                <a:gd name="textAreaBottom" fmla="*/ 142920 h 2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6541"/>
                  </a:moveTo>
                  <a:lnTo>
                    <a:pt x="17721" y="6541"/>
                  </a:lnTo>
                  <a:lnTo>
                    <a:pt x="17721" y="0"/>
                  </a:lnTo>
                  <a:lnTo>
                    <a:pt x="21600" y="10800"/>
                  </a:lnTo>
                  <a:lnTo>
                    <a:pt x="17721" y="21600"/>
                  </a:lnTo>
                  <a:lnTo>
                    <a:pt x="17721" y="15059"/>
                  </a:lnTo>
                  <a:lnTo>
                    <a:pt x="3375" y="15059"/>
                  </a:lnTo>
                  <a:close/>
                </a:path>
                <a:path w="21600" h="21600">
                  <a:moveTo>
                    <a:pt x="0" y="6541"/>
                  </a:moveTo>
                  <a:lnTo>
                    <a:pt x="675" y="6541"/>
                  </a:lnTo>
                  <a:lnTo>
                    <a:pt x="675" y="15059"/>
                  </a:lnTo>
                  <a:lnTo>
                    <a:pt x="0" y="15059"/>
                  </a:lnTo>
                  <a:close/>
                </a:path>
                <a:path w="21600" h="21600">
                  <a:moveTo>
                    <a:pt x="1350" y="6541"/>
                  </a:moveTo>
                  <a:lnTo>
                    <a:pt x="2700" y="6541"/>
                  </a:lnTo>
                  <a:lnTo>
                    <a:pt x="2700" y="15059"/>
                  </a:lnTo>
                  <a:lnTo>
                    <a:pt x="1350" y="1505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419120" y="1986120"/>
              <a:ext cx="38210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88080" y="1986120"/>
              <a:ext cx="0" cy="3798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92680" y="1986120"/>
              <a:ext cx="0" cy="3798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5240160" y="2176560"/>
              <a:ext cx="2724480" cy="15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5240160" y="3112560"/>
              <a:ext cx="2724480" cy="3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05000" y="4348080"/>
              <a:ext cx="9003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53200" y="434808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915160" y="219240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15160" y="311616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36040" y="1968480"/>
              <a:ext cx="6508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36040" y="2905200"/>
              <a:ext cx="6760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519360" y="1447920"/>
              <a:ext cx="501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534520" y="1447920"/>
              <a:ext cx="0" cy="19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60640" y="144792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229360" y="1968480"/>
              <a:ext cx="0" cy="1144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88080" y="144792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193240" y="217656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193240" y="311292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048120" y="6400800"/>
              <a:ext cx="2971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86200" y="6095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2880" y="6095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79132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D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133720" y="59436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D(t</a:t>
              </a:r>
              <a:r>
                <a:rPr b="1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13:18:30Z</dcterms:created>
  <dc:creator>Валерий Г. Костин</dc:creator>
  <dc:description/>
  <dc:language>en-US</dc:language>
  <cp:lastModifiedBy>Валерий Г. Костин</cp:lastModifiedBy>
  <dcterms:modified xsi:type="dcterms:W3CDTF">2002-12-12T13:19:52Z</dcterms:modified>
  <cp:revision>1</cp:revision>
  <dc:subject/>
  <dc:title>ИСКУССТВЕННЫЙ  ИНТЕЛЛЕКТ</dc:title>
</cp:coreProperties>
</file>