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AED9-FFA2-4983-898B-BD5FCDCF3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E9A3-D611-4C6C-BF78-407EFDBF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7556-C3A6-49AB-8E55-539B2C4E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423E-0B88-4611-AA9E-403573EA9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AAB4-543E-44B4-9A6E-A010B75D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443E-4071-4DD3-AD0A-C6A7556C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7C6B-87A6-459D-A22F-C5015F5D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D435-302E-4D36-AD81-22273494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C748-6385-4923-8912-CB647C08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2C20-13AC-4DBF-860C-F67B39DB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A009-2997-4A33-B97A-E840B709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D03E-832E-4ECC-90A5-458BEA00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DD7D-E17D-47C3-9FC4-F23FA6F243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990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05120" y="1600200"/>
            <a:ext cx="5638680" cy="2286000"/>
            <a:chOff x="1905120" y="1600200"/>
            <a:chExt cx="5638680" cy="2286000"/>
          </a:xfrm>
        </p:grpSpPr>
        <p:sp>
          <p:nvSpPr>
            <p:cNvPr id="45" name=""/>
            <p:cNvSpPr/>
            <p:nvPr/>
          </p:nvSpPr>
          <p:spPr>
            <a:xfrm>
              <a:off x="1905120" y="1600200"/>
              <a:ext cx="56386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274320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19720" y="2743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080" y="1919520"/>
              <a:ext cx="541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ЗНАНИЯ КАК СИСТЕМА ДОСТУП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4600" y="30625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048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523880" y="1828800"/>
            <a:ext cx="914040" cy="4419000"/>
            <a:chOff x="1523880" y="1828800"/>
            <a:chExt cx="914040" cy="4419000"/>
          </a:xfrm>
        </p:grpSpPr>
        <p:sp>
          <p:nvSpPr>
            <p:cNvPr id="52" name=""/>
            <p:cNvSpPr/>
            <p:nvPr/>
          </p:nvSpPr>
          <p:spPr>
            <a:xfrm flipH="1">
              <a:off x="1523880" y="1828800"/>
              <a:ext cx="591120" cy="44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1524240" y="3581640"/>
              <a:ext cx="913680" cy="91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133720" y="43434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СТРУКТУР ДАННЫХ И ОПЕР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4724280"/>
            <a:ext cx="0" cy="4572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51814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ОБЪЕКТОВ (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55627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601992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472428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8600" y="6094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0880" y="9144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ФРЕЙМОВЫЕ ПРЕДСТА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43000" y="160020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ДВИЖЕНИЕ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т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чт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ак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де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т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 помощью чег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зачем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ог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90720" y="297180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еревозка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т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руз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едств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врем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38080" y="411480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руз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ип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очность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условия хранени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условия перевозк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90720" y="516564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едство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ип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граничени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наличное количеств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8600" y="76212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3505320" y="914400"/>
            <a:ext cx="2361960" cy="685800"/>
            <a:chOff x="3505320" y="914400"/>
            <a:chExt cx="2361960" cy="685800"/>
          </a:xfrm>
        </p:grpSpPr>
        <p:sp>
          <p:nvSpPr>
            <p:cNvPr id="428" name=""/>
            <p:cNvSpPr/>
            <p:nvPr/>
          </p:nvSpPr>
          <p:spPr>
            <a:xfrm>
              <a:off x="3505320" y="914400"/>
              <a:ext cx="236196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57600" y="990720"/>
              <a:ext cx="2057400" cy="520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звлечение знаний (методы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1828800" y="1828800"/>
            <a:ext cx="1980720" cy="457200"/>
            <a:chOff x="1828800" y="1828800"/>
            <a:chExt cx="1980720" cy="457200"/>
          </a:xfrm>
        </p:grpSpPr>
        <p:sp>
          <p:nvSpPr>
            <p:cNvPr id="431" name=""/>
            <p:cNvSpPr/>
            <p:nvPr/>
          </p:nvSpPr>
          <p:spPr>
            <a:xfrm>
              <a:off x="1828800" y="1828800"/>
              <a:ext cx="19807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94040" y="1905120"/>
              <a:ext cx="1733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ммуник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380880" y="2590920"/>
            <a:ext cx="1447920" cy="457200"/>
            <a:chOff x="380880" y="2590920"/>
            <a:chExt cx="1447920" cy="457200"/>
          </a:xfrm>
        </p:grpSpPr>
        <p:sp>
          <p:nvSpPr>
            <p:cNvPr id="434" name=""/>
            <p:cNvSpPr/>
            <p:nvPr/>
          </p:nvSpPr>
          <p:spPr>
            <a:xfrm>
              <a:off x="380880" y="2590920"/>
              <a:ext cx="14479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1480" y="2667240"/>
              <a:ext cx="126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асс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191120" y="2666880"/>
            <a:ext cx="1218960" cy="457200"/>
            <a:chOff x="4191120" y="2666880"/>
            <a:chExt cx="1218960" cy="457200"/>
          </a:xfrm>
        </p:grpSpPr>
        <p:sp>
          <p:nvSpPr>
            <p:cNvPr id="437" name=""/>
            <p:cNvSpPr/>
            <p:nvPr/>
          </p:nvSpPr>
          <p:spPr>
            <a:xfrm>
              <a:off x="4191120" y="2666880"/>
              <a:ext cx="121896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92640" y="2743200"/>
              <a:ext cx="1066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762120" y="3657600"/>
            <a:ext cx="1523880" cy="457200"/>
            <a:chOff x="762120" y="3657600"/>
            <a:chExt cx="1523880" cy="457200"/>
          </a:xfrm>
        </p:grpSpPr>
        <p:sp>
          <p:nvSpPr>
            <p:cNvPr id="440" name=""/>
            <p:cNvSpPr/>
            <p:nvPr/>
          </p:nvSpPr>
          <p:spPr>
            <a:xfrm>
              <a:off x="762120" y="36576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89200" y="37339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762120" y="4419720"/>
            <a:ext cx="18288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914400" y="4495680"/>
            <a:ext cx="1600200" cy="520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токол мыслей вслу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762120" y="5257800"/>
            <a:ext cx="1143000" cy="457200"/>
            <a:chOff x="762120" y="5257800"/>
            <a:chExt cx="1143000" cy="457200"/>
          </a:xfrm>
        </p:grpSpPr>
        <p:sp>
          <p:nvSpPr>
            <p:cNvPr id="445" name=""/>
            <p:cNvSpPr/>
            <p:nvPr/>
          </p:nvSpPr>
          <p:spPr>
            <a:xfrm>
              <a:off x="762120" y="5257800"/>
              <a:ext cx="11430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57520" y="5334120"/>
              <a:ext cx="10000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лек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457200" y="30481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7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6629400" y="2133720"/>
            <a:ext cx="2056680" cy="3733560"/>
            <a:chOff x="6629400" y="2133720"/>
            <a:chExt cx="2056680" cy="3733560"/>
          </a:xfrm>
        </p:grpSpPr>
        <p:grpSp>
          <p:nvGrpSpPr>
            <p:cNvPr id="452" name=""/>
            <p:cNvGrpSpPr/>
            <p:nvPr/>
          </p:nvGrpSpPr>
          <p:grpSpPr>
            <a:xfrm>
              <a:off x="6629400" y="2133720"/>
              <a:ext cx="1974240" cy="457200"/>
              <a:chOff x="6629400" y="2133720"/>
              <a:chExt cx="1974240" cy="457200"/>
            </a:xfrm>
          </p:grpSpPr>
          <p:sp>
            <p:nvSpPr>
              <p:cNvPr id="453" name=""/>
              <p:cNvSpPr/>
              <p:nvPr/>
            </p:nvSpPr>
            <p:spPr>
              <a:xfrm>
                <a:off x="6629400" y="2133720"/>
                <a:ext cx="1974240" cy="4572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793920" y="2210040"/>
                <a:ext cx="1725480" cy="3070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текстологическ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7205400" y="3048120"/>
              <a:ext cx="1398240" cy="609480"/>
              <a:chOff x="7205400" y="3048120"/>
              <a:chExt cx="1398240" cy="609480"/>
            </a:xfrm>
          </p:grpSpPr>
          <p:sp>
            <p:nvSpPr>
              <p:cNvPr id="456" name=""/>
              <p:cNvSpPr/>
              <p:nvPr/>
            </p:nvSpPr>
            <p:spPr>
              <a:xfrm>
                <a:off x="7205400" y="3048120"/>
                <a:ext cx="139824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205400" y="3124440"/>
                <a:ext cx="1398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учебник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205400" y="4191120"/>
              <a:ext cx="1316160" cy="609480"/>
              <a:chOff x="7205400" y="4191120"/>
              <a:chExt cx="1316160" cy="609480"/>
            </a:xfrm>
          </p:grpSpPr>
          <p:sp>
            <p:nvSpPr>
              <p:cNvPr id="459" name=""/>
              <p:cNvSpPr/>
              <p:nvPr/>
            </p:nvSpPr>
            <p:spPr>
              <a:xfrm>
                <a:off x="7205400" y="4191120"/>
                <a:ext cx="13161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287120" y="4191120"/>
                <a:ext cx="1234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литератур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7205400" y="5257800"/>
              <a:ext cx="1480680" cy="609480"/>
              <a:chOff x="7205400" y="5257800"/>
              <a:chExt cx="1480680" cy="609480"/>
            </a:xfrm>
          </p:grpSpPr>
          <p:sp>
            <p:nvSpPr>
              <p:cNvPr id="462" name=""/>
              <p:cNvSpPr/>
              <p:nvPr/>
            </p:nvSpPr>
            <p:spPr>
              <a:xfrm>
                <a:off x="7205400" y="5257800"/>
                <a:ext cx="148068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282800" y="5333760"/>
                <a:ext cx="1403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документ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6876000" y="25909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876000" y="556272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876000" y="457200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76000" y="342900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2971800" y="3429000"/>
            <a:ext cx="1523880" cy="457200"/>
            <a:chOff x="2971800" y="3429000"/>
            <a:chExt cx="1523880" cy="457200"/>
          </a:xfrm>
        </p:grpSpPr>
        <p:sp>
          <p:nvSpPr>
            <p:cNvPr id="469" name=""/>
            <p:cNvSpPr/>
            <p:nvPr/>
          </p:nvSpPr>
          <p:spPr>
            <a:xfrm>
              <a:off x="2971800" y="34290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98880" y="35053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5029200" y="3429000"/>
            <a:ext cx="1523880" cy="457200"/>
            <a:chOff x="5029200" y="3429000"/>
            <a:chExt cx="1523880" cy="457200"/>
          </a:xfrm>
        </p:grpSpPr>
        <p:sp>
          <p:nvSpPr>
            <p:cNvPr id="472" name=""/>
            <p:cNvSpPr/>
            <p:nvPr/>
          </p:nvSpPr>
          <p:spPr>
            <a:xfrm>
              <a:off x="5029200" y="34290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56280" y="35053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352680" y="3886200"/>
            <a:ext cx="1447560" cy="2514600"/>
            <a:chOff x="3352680" y="3886200"/>
            <a:chExt cx="1447560" cy="2514600"/>
          </a:xfrm>
        </p:grpSpPr>
        <p:grpSp>
          <p:nvGrpSpPr>
            <p:cNvPr id="475" name=""/>
            <p:cNvGrpSpPr/>
            <p:nvPr/>
          </p:nvGrpSpPr>
          <p:grpSpPr>
            <a:xfrm>
              <a:off x="3581280" y="5791320"/>
              <a:ext cx="1218960" cy="609480"/>
              <a:chOff x="3581280" y="5791320"/>
              <a:chExt cx="1218960" cy="609480"/>
            </a:xfrm>
          </p:grpSpPr>
          <p:sp>
            <p:nvSpPr>
              <p:cNvPr id="476" name=""/>
              <p:cNvSpPr/>
              <p:nvPr/>
            </p:nvSpPr>
            <p:spPr>
              <a:xfrm>
                <a:off x="3581280" y="579132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657240" y="579132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Ролевые игр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3581280" y="4952880"/>
              <a:ext cx="1218960" cy="609480"/>
              <a:chOff x="3581280" y="4952880"/>
              <a:chExt cx="1218960" cy="609480"/>
            </a:xfrm>
          </p:grpSpPr>
          <p:sp>
            <p:nvSpPr>
              <p:cNvPr id="479" name=""/>
              <p:cNvSpPr/>
              <p:nvPr/>
            </p:nvSpPr>
            <p:spPr>
              <a:xfrm>
                <a:off x="3581280" y="495288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657240" y="495288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Круглый сто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3581280" y="4114800"/>
              <a:ext cx="1218960" cy="609480"/>
              <a:chOff x="3581280" y="4114800"/>
              <a:chExt cx="1218960" cy="609480"/>
            </a:xfrm>
          </p:grpSpPr>
          <p:sp>
            <p:nvSpPr>
              <p:cNvPr id="482" name=""/>
              <p:cNvSpPr/>
              <p:nvPr/>
            </p:nvSpPr>
            <p:spPr>
              <a:xfrm>
                <a:off x="3581280" y="411480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657240" y="411480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зговой штурм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3352680" y="388620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52680" y="6172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52680" y="4419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352680" y="5181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257800" y="3886200"/>
            <a:ext cx="1447560" cy="2514600"/>
            <a:chOff x="5257800" y="3886200"/>
            <a:chExt cx="1447560" cy="2514600"/>
          </a:xfrm>
        </p:grpSpPr>
        <p:grpSp>
          <p:nvGrpSpPr>
            <p:cNvPr id="489" name=""/>
            <p:cNvGrpSpPr/>
            <p:nvPr/>
          </p:nvGrpSpPr>
          <p:grpSpPr>
            <a:xfrm>
              <a:off x="5486400" y="5486400"/>
              <a:ext cx="1218960" cy="380880"/>
              <a:chOff x="5486400" y="5486400"/>
              <a:chExt cx="1218960" cy="380880"/>
            </a:xfrm>
          </p:grpSpPr>
          <p:sp>
            <p:nvSpPr>
              <p:cNvPr id="490" name=""/>
              <p:cNvSpPr/>
              <p:nvPr/>
            </p:nvSpPr>
            <p:spPr>
              <a:xfrm>
                <a:off x="5486400" y="548640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562360" y="548640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иалог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5486400" y="4876920"/>
              <a:ext cx="121896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562360" y="487692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тервью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5486400" y="4191120"/>
              <a:ext cx="1218960" cy="380880"/>
              <a:chOff x="5486400" y="4191120"/>
              <a:chExt cx="1218960" cy="380880"/>
            </a:xfrm>
          </p:grpSpPr>
          <p:sp>
            <p:nvSpPr>
              <p:cNvPr id="495" name=""/>
              <p:cNvSpPr/>
              <p:nvPr/>
            </p:nvSpPr>
            <p:spPr>
              <a:xfrm>
                <a:off x="5486400" y="419112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562360" y="419112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Анкетиров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5257800" y="388620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257800" y="6172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257800" y="4419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257800" y="51055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5486400" y="6019920"/>
              <a:ext cx="1218960" cy="380880"/>
              <a:chOff x="5486400" y="6019920"/>
              <a:chExt cx="1218960" cy="380880"/>
            </a:xfrm>
          </p:grpSpPr>
          <p:sp>
            <p:nvSpPr>
              <p:cNvPr id="502" name=""/>
              <p:cNvSpPr/>
              <p:nvPr/>
            </p:nvSpPr>
            <p:spPr>
              <a:xfrm>
                <a:off x="5486400" y="601992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562360" y="601992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иалог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5257800" y="5638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 flipH="1">
            <a:off x="13712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29000" y="22096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3504960" y="160020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62720" y="1600200"/>
            <a:ext cx="1676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4114440" y="31240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105520" y="3124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68580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" y="838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ЩАЯ СХЕ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486400" y="1219320"/>
            <a:ext cx="2895480" cy="4114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867280" y="1819440"/>
            <a:ext cx="2286000" cy="771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867280" y="3019320"/>
            <a:ext cx="2210040" cy="857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867280" y="4219560"/>
            <a:ext cx="2286000" cy="85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914400" y="3105000"/>
            <a:ext cx="1371240" cy="1285560"/>
            <a:chOff x="914400" y="3105000"/>
            <a:chExt cx="1371240" cy="1285560"/>
          </a:xfrm>
        </p:grpSpPr>
        <p:sp>
          <p:nvSpPr>
            <p:cNvPr id="519" name=""/>
            <p:cNvSpPr/>
            <p:nvPr/>
          </p:nvSpPr>
          <p:spPr>
            <a:xfrm>
              <a:off x="2043720" y="3105000"/>
              <a:ext cx="241920" cy="1285560"/>
            </a:xfrm>
            <a:custGeom>
              <a:avLst/>
              <a:gdLst>
                <a:gd name="textAreaLeft" fmla="*/ 0 w 241920"/>
                <a:gd name="textAreaRight" fmla="*/ 87480 w 241920"/>
                <a:gd name="textAreaTop" fmla="*/ 33480 h 1285560"/>
                <a:gd name="textAreaBottom" fmla="*/ 1252080 h 12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14400" y="3105000"/>
              <a:ext cx="80640" cy="1285560"/>
            </a:xfrm>
            <a:custGeom>
              <a:avLst/>
              <a:gdLst>
                <a:gd name="textAreaLeft" fmla="*/ 51480 w 80640"/>
                <a:gd name="textAreaRight" fmla="*/ 81000 w 80640"/>
                <a:gd name="textAreaTop" fmla="*/ 33480 h 1285560"/>
                <a:gd name="textAreaBottom" fmla="*/ 1252080 h 12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5040" y="3190680"/>
              <a:ext cx="12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14400" y="3619080"/>
              <a:ext cx="13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СТОЧНИК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 flipV="1">
            <a:off x="2438280" y="3018960"/>
            <a:ext cx="6858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438280" y="3705120"/>
            <a:ext cx="685800" cy="771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048120" y="3105000"/>
            <a:ext cx="2438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48120" y="4476600"/>
            <a:ext cx="2819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562720" y="241884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3105000"/>
            <a:ext cx="30456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43600" y="2076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ТНТЕРПРЕТАТО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19920" y="319104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ЗНАНИЯ О ПРЕДСТАВЛЕН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95880" y="44766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БАЗ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743200" y="353376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48120" y="2162160"/>
            <a:ext cx="1981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НЖЕНЕ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ОГНИТОЛО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3019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038480" y="36194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38480" y="3619440"/>
            <a:ext cx="0" cy="857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48320" y="3705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962520" y="31910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МАНТИЧЕСКИЕ СЕ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514600" y="35812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371600" y="38862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81280" y="34290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6483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64832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3623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767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769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1480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685800"/>
            <a:ext cx="861048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838080"/>
            <a:ext cx="4419720" cy="266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3505320"/>
            <a:ext cx="1981080" cy="1828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276720"/>
            <a:ext cx="2133720" cy="33526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352680"/>
            <a:ext cx="2514600" cy="2514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838080"/>
            <a:ext cx="3276360" cy="3048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809880"/>
            <a:ext cx="114300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3962520"/>
            <a:ext cx="1143000" cy="2361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3886200"/>
            <a:ext cx="144792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038480"/>
            <a:ext cx="144792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1447920"/>
            <a:ext cx="220968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600200"/>
            <a:ext cx="221004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1219320"/>
            <a:ext cx="3200400" cy="19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371600"/>
            <a:ext cx="3200400" cy="1981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2819520"/>
            <a:ext cx="266688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123720" y="2971800"/>
            <a:ext cx="2667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4114800"/>
            <a:ext cx="16002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267080"/>
            <a:ext cx="16002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2590920"/>
            <a:ext cx="10666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572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4952880"/>
            <a:ext cx="9907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066680" y="4572000"/>
            <a:ext cx="10670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172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ЭКЗЕМПЛЯ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6248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56386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61722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ЛАСТЬ ИНТЕРПРЕ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1981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4419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4572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ОДЕЛ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17524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53341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066680"/>
            <a:ext cx="35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Я МОДЕЛЕЙ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50532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23623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РЕЙМ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124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ТЕ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5909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ЛОГИКО-ЛИГВИСТ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004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ДУКЦИО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495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3341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RX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971800"/>
            <a:ext cx="0" cy="32004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7339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6483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486400"/>
            <a:ext cx="9144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04760" y="1447920"/>
            <a:ext cx="190476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1447920"/>
            <a:ext cx="1600200" cy="16002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1447920"/>
            <a:ext cx="1447560" cy="914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380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800" y="1295280"/>
            <a:ext cx="2743200" cy="3200400"/>
            <a:chOff x="685800" y="1295280"/>
            <a:chExt cx="2743200" cy="3200400"/>
          </a:xfrm>
        </p:grpSpPr>
        <p:sp>
          <p:nvSpPr>
            <p:cNvPr id="116" name=""/>
            <p:cNvSpPr/>
            <p:nvPr/>
          </p:nvSpPr>
          <p:spPr>
            <a:xfrm>
              <a:off x="685800" y="12952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НЯТ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18288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МЕ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19810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4400" y="30481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ЦЕСС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403848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ОЯ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20" y="16765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212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12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419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80880" y="4343400"/>
            <a:ext cx="8229600" cy="2135880"/>
            <a:chOff x="380880" y="4343400"/>
            <a:chExt cx="8229600" cy="2135880"/>
          </a:xfrm>
        </p:grpSpPr>
        <p:sp>
          <p:nvSpPr>
            <p:cNvPr id="126" name=""/>
            <p:cNvSpPr/>
            <p:nvPr/>
          </p:nvSpPr>
          <p:spPr>
            <a:xfrm>
              <a:off x="2819520" y="434340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ТНОШ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24280" y="5791320"/>
              <a:ext cx="243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ДЕНТ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8120" y="617220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ЛАСС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720" y="579132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080" y="53341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СТРАН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487692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РЕМ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495288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ЧИННО-СЛЕД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8680" y="541008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АГМ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828800" y="4648320"/>
              <a:ext cx="99072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514240" y="4724280"/>
              <a:ext cx="6858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52680" y="4724280"/>
              <a:ext cx="15264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4876920"/>
              <a:ext cx="15264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4724280"/>
              <a:ext cx="99036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7080" y="4648320"/>
              <a:ext cx="1600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4572000"/>
              <a:ext cx="243864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1828800" y="1066680"/>
            <a:ext cx="990720" cy="3812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895120" y="1143000"/>
            <a:ext cx="304920" cy="685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1295280"/>
            <a:ext cx="0" cy="28958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219320"/>
            <a:ext cx="1676520" cy="1904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1219320"/>
            <a:ext cx="152388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24760" y="327672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ИФИКАТ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1447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МПЕРАТИВ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2362320"/>
            <a:ext cx="26463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ВАНТИФИК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А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ОЛИ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1143000"/>
            <a:ext cx="1122480" cy="380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36576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А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38862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1219320"/>
            <a:ext cx="13716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371600"/>
            <a:ext cx="6858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23623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24382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2590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144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А)СИНТАГ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6827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ношениме или императив с квантификаторами, модификаторами, модальностями 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2057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3200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18288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048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00200" y="3809880"/>
            <a:ext cx="5790960" cy="2438640"/>
            <a:chOff x="1600200" y="3809880"/>
            <a:chExt cx="5790960" cy="2438640"/>
          </a:xfrm>
        </p:grpSpPr>
        <p:grpSp>
          <p:nvGrpSpPr>
            <p:cNvPr id="168" name=""/>
            <p:cNvGrpSpPr/>
            <p:nvPr/>
          </p:nvGrpSpPr>
          <p:grpSpPr>
            <a:xfrm>
              <a:off x="1600200" y="4387680"/>
              <a:ext cx="1523880" cy="1860840"/>
              <a:chOff x="1600200" y="4387680"/>
              <a:chExt cx="1523880" cy="18608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00200" y="4387680"/>
                <a:ext cx="1523880" cy="489240"/>
                <a:chOff x="1600200" y="4387680"/>
                <a:chExt cx="1523880" cy="48924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1828800" y="4724280"/>
                  <a:ext cx="990720" cy="152640"/>
                  <a:chOff x="1828800" y="4724280"/>
                  <a:chExt cx="990720" cy="1526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1828800" y="47242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666880" y="47242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905120" y="48006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>
                  <a:off x="1600200" y="43876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09680" y="44197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43200" y="44197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600200" y="4844880"/>
                <a:ext cx="1523880" cy="489240"/>
                <a:chOff x="1600200" y="4844880"/>
                <a:chExt cx="1523880" cy="4892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1828800" y="5181480"/>
                  <a:ext cx="990720" cy="152640"/>
                  <a:chOff x="1828800" y="5181480"/>
                  <a:chExt cx="990720" cy="15264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1828800" y="51814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666880" y="51814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05120" y="52578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1600200" y="48448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209680" y="48769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743200" y="48769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1600200" y="5302080"/>
                <a:ext cx="1523880" cy="489240"/>
                <a:chOff x="1600200" y="5302080"/>
                <a:chExt cx="1523880" cy="48924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1828800" y="5638680"/>
                  <a:ext cx="990720" cy="152640"/>
                  <a:chOff x="1828800" y="5638680"/>
                  <a:chExt cx="990720" cy="1526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1828800" y="56386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666880" y="56386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905120" y="57150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1600200" y="53020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209680" y="53341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743200" y="53341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00200" y="5759280"/>
                <a:ext cx="1523880" cy="489240"/>
                <a:chOff x="1600200" y="5759280"/>
                <a:chExt cx="1523880" cy="48924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1828800" y="6095880"/>
                  <a:ext cx="990720" cy="152640"/>
                  <a:chOff x="1828800" y="6095880"/>
                  <a:chExt cx="990720" cy="1526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1828800" y="60958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666880" y="60958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1905120" y="61722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1600200" y="57592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209680" y="57913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743200" y="57913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952880" y="4495680"/>
              <a:ext cx="2438280" cy="1371240"/>
              <a:chOff x="4952880" y="4495680"/>
              <a:chExt cx="2438280" cy="13712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952880" y="4495680"/>
                <a:ext cx="1572120" cy="585720"/>
                <a:chOff x="4952880" y="4495680"/>
                <a:chExt cx="1572120" cy="58572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5188680" y="4898880"/>
                  <a:ext cx="1022040" cy="182520"/>
                  <a:chOff x="5188680" y="4898880"/>
                  <a:chExt cx="1022040" cy="1825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5188680" y="4898880"/>
                    <a:ext cx="15696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053400" y="4898880"/>
                    <a:ext cx="15732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267160" y="4989960"/>
                    <a:ext cx="785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4952880" y="4495680"/>
                  <a:ext cx="392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581800" y="4533840"/>
                  <a:ext cx="393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32240" y="4533840"/>
                  <a:ext cx="3927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053760" y="4899240"/>
                <a:ext cx="1022040" cy="182160"/>
                <a:chOff x="6053760" y="4899240"/>
                <a:chExt cx="1022040" cy="18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053760" y="4899240"/>
                  <a:ext cx="15696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918480" y="4899240"/>
                  <a:ext cx="15732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132240" y="4990320"/>
                  <a:ext cx="78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5975280" y="44956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47240" y="45334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97680" y="4533480"/>
                <a:ext cx="393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65800" y="5130360"/>
                <a:ext cx="966960" cy="60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921200">
                <a:off x="5834880" y="5123520"/>
                <a:ext cx="5698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89920" y="5684400"/>
                <a:ext cx="157320" cy="182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447240" y="5043960"/>
                <a:ext cx="550080" cy="73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61880" y="5318280"/>
                <a:ext cx="550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200400" y="38098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ПИСАНИЕ СИТУ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14600" y="41148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И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52880" y="411480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83808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АЗОВАЯ СТРУКТУР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638680"/>
            <a:ext cx="75438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914400" y="4648320"/>
            <a:ext cx="1417248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14400" y="4114800"/>
            <a:ext cx="141724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914400" y="3505320"/>
            <a:ext cx="1417248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14400" y="2590920"/>
            <a:ext cx="14172480" cy="6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914400" y="1447920"/>
            <a:ext cx="14172480" cy="838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5105520"/>
            <a:ext cx="3200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0688600">
            <a:off x="3128400" y="2421720"/>
            <a:ext cx="29718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формальные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T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q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0889600">
            <a:off x="2955240" y="3163680"/>
            <a:ext cx="512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дентификационно–измерительная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T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1114600">
            <a:off x="3126960" y="3747600"/>
            <a:ext cx="356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классификационная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K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21204600">
            <a:off x="3202560" y="426672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описательная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S({T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20120" y="990720"/>
            <a:ext cx="0" cy="487656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1880" y="571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15200" y="5715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32880" y="1600200"/>
            <a:ext cx="47304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ИФИК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048120" y="1295280"/>
            <a:ext cx="3429000" cy="1447920"/>
            <a:chOff x="3048120" y="1295280"/>
            <a:chExt cx="3429000" cy="1447920"/>
          </a:xfrm>
        </p:grpSpPr>
        <p:sp>
          <p:nvSpPr>
            <p:cNvPr id="247" name=""/>
            <p:cNvSpPr/>
            <p:nvPr/>
          </p:nvSpPr>
          <p:spPr>
            <a:xfrm>
              <a:off x="3809880" y="19051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95680" y="1295280"/>
              <a:ext cx="22860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769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485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34120" y="19051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0481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625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8640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3962160" y="1447920"/>
              <a:ext cx="60948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8320" y="1447920"/>
              <a:ext cx="76176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200040" y="1981080"/>
              <a:ext cx="6094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86200" y="2057400"/>
              <a:ext cx="2286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029200" y="2057400"/>
              <a:ext cx="38088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86400" y="2057400"/>
              <a:ext cx="7632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62720" y="1981080"/>
              <a:ext cx="8380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7621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Естественны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скусств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5880" y="1828800"/>
            <a:ext cx="2667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7391520" y="1828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9144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изна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12952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фференциальне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5308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2590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нтеграль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86600" y="21337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695720" y="21337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327672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стемы классифик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219320" y="4267080"/>
            <a:ext cx="1218600" cy="1142640"/>
            <a:chOff x="1219320" y="4267080"/>
            <a:chExt cx="1218600" cy="1142640"/>
          </a:xfrm>
        </p:grpSpPr>
        <p:sp>
          <p:nvSpPr>
            <p:cNvPr id="273" name=""/>
            <p:cNvSpPr/>
            <p:nvPr/>
          </p:nvSpPr>
          <p:spPr>
            <a:xfrm>
              <a:off x="1490040" y="474840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33760" y="4267080"/>
              <a:ext cx="81000" cy="120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6948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5692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031840" y="474840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1932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4440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8620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544040" y="4387320"/>
              <a:ext cx="216360" cy="36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88120" y="4387320"/>
              <a:ext cx="270720" cy="36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272960" y="4808160"/>
              <a:ext cx="216360" cy="4813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17040" y="4868640"/>
              <a:ext cx="81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923480" y="4868640"/>
              <a:ext cx="13536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86200" y="4868640"/>
              <a:ext cx="27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13200" y="4808160"/>
              <a:ext cx="297720" cy="541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819520" y="4267080"/>
            <a:ext cx="1218960" cy="1143000"/>
            <a:chOff x="2819520" y="4267080"/>
            <a:chExt cx="1218960" cy="1143000"/>
          </a:xfrm>
        </p:grpSpPr>
        <p:sp>
          <p:nvSpPr>
            <p:cNvPr id="289" name=""/>
            <p:cNvSpPr/>
            <p:nvPr/>
          </p:nvSpPr>
          <p:spPr>
            <a:xfrm>
              <a:off x="3090960" y="4748040"/>
              <a:ext cx="81000" cy="12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33600" y="42670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7040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5748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32040" y="4748040"/>
              <a:ext cx="81000" cy="12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1952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4496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3144600" y="4387680"/>
              <a:ext cx="2156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87600" y="4387680"/>
              <a:ext cx="2714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873520" y="4808520"/>
              <a:ext cx="217440" cy="480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17960" y="4869000"/>
              <a:ext cx="81000" cy="4204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3524400" y="4869000"/>
              <a:ext cx="134640" cy="4204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13040" y="4808520"/>
              <a:ext cx="298440" cy="541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086600" y="4114800"/>
            <a:ext cx="1528920" cy="1187280"/>
            <a:chOff x="7086600" y="4114800"/>
            <a:chExt cx="1528920" cy="1187280"/>
          </a:xfrm>
        </p:grpSpPr>
        <p:sp>
          <p:nvSpPr>
            <p:cNvPr id="303" name=""/>
            <p:cNvSpPr/>
            <p:nvPr/>
          </p:nvSpPr>
          <p:spPr>
            <a:xfrm>
              <a:off x="7358040" y="459576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01040" y="41148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3748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29600" y="5181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899480" y="459576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8660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1204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5348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412040" y="4235400"/>
              <a:ext cx="21600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55040" y="4235400"/>
              <a:ext cx="2714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40600" y="4656240"/>
              <a:ext cx="217440" cy="480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85040" y="4716360"/>
              <a:ext cx="81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791120" y="4716360"/>
              <a:ext cx="135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53480" y="4716360"/>
              <a:ext cx="27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80480" y="4656240"/>
              <a:ext cx="298440" cy="541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534520" y="51055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01000" y="4648320"/>
              <a:ext cx="533520" cy="5331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876920" y="4191120"/>
            <a:ext cx="1299960" cy="1492200"/>
            <a:chOff x="4876920" y="4191120"/>
            <a:chExt cx="1299960" cy="1492200"/>
          </a:xfrm>
        </p:grpSpPr>
        <p:grpSp>
          <p:nvGrpSpPr>
            <p:cNvPr id="321" name=""/>
            <p:cNvGrpSpPr/>
            <p:nvPr/>
          </p:nvGrpSpPr>
          <p:grpSpPr>
            <a:xfrm>
              <a:off x="4876920" y="4191120"/>
              <a:ext cx="1218960" cy="1143000"/>
              <a:chOff x="4876920" y="4191120"/>
              <a:chExt cx="1218960" cy="1143000"/>
            </a:xfrm>
          </p:grpSpPr>
          <p:sp>
            <p:nvSpPr>
              <p:cNvPr id="322" name=""/>
              <p:cNvSpPr/>
              <p:nvPr/>
            </p:nvSpPr>
            <p:spPr>
              <a:xfrm>
                <a:off x="5148360" y="46720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91000" y="41911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52780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01488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689440" y="46720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87692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334120" y="51814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74344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5202000" y="4311720"/>
                <a:ext cx="215640" cy="360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45000" y="4311720"/>
                <a:ext cx="271440" cy="360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930920" y="4732200"/>
                <a:ext cx="217440" cy="4813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175360" y="4792680"/>
                <a:ext cx="158760" cy="3888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5581800" y="4792680"/>
                <a:ext cx="134640" cy="4208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743440" y="4792680"/>
                <a:ext cx="27000" cy="4208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770440" y="4732200"/>
                <a:ext cx="298440" cy="5414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10048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181480" y="4800600"/>
                <a:ext cx="0" cy="3808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5715000" y="55627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95880" y="55627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714640" y="5334120"/>
              <a:ext cx="304920" cy="3045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19920" y="5257800"/>
              <a:ext cx="15228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60020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2408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0552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467480" y="373392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7220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5867280"/>
            <a:ext cx="70866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Times New Roman"/>
              </a:rPr>
              <a:t>РАЗЛОЖЕНИЕ  В  БАЗИСЕ  КЛАССИФИКАЦИЙ   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N= 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…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…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МАНТИЧЕСКИЕ СЕ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33520" y="5105520"/>
            <a:ext cx="761760" cy="685800"/>
            <a:chOff x="533520" y="5105520"/>
            <a:chExt cx="761760" cy="685800"/>
          </a:xfrm>
        </p:grpSpPr>
        <p:sp>
          <p:nvSpPr>
            <p:cNvPr id="354" name=""/>
            <p:cNvSpPr/>
            <p:nvPr/>
          </p:nvSpPr>
          <p:spPr>
            <a:xfrm>
              <a:off x="533520" y="510552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9480" y="525780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1981080" y="5105520"/>
            <a:ext cx="762120" cy="685800"/>
            <a:chOff x="1981080" y="5105520"/>
            <a:chExt cx="762120" cy="685800"/>
          </a:xfrm>
        </p:grpSpPr>
        <p:sp>
          <p:nvSpPr>
            <p:cNvPr id="357" name=""/>
            <p:cNvSpPr/>
            <p:nvPr/>
          </p:nvSpPr>
          <p:spPr>
            <a:xfrm>
              <a:off x="1981080" y="510552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57400" y="525780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3657600" y="5181480"/>
            <a:ext cx="762120" cy="685800"/>
            <a:chOff x="3657600" y="5181480"/>
            <a:chExt cx="762120" cy="685800"/>
          </a:xfrm>
        </p:grpSpPr>
        <p:sp>
          <p:nvSpPr>
            <p:cNvPr id="360" name=""/>
            <p:cNvSpPr/>
            <p:nvPr/>
          </p:nvSpPr>
          <p:spPr>
            <a:xfrm>
              <a:off x="3657600" y="518148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33920" y="533376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4952880" y="4572000"/>
            <a:ext cx="762120" cy="685800"/>
            <a:chOff x="4952880" y="4572000"/>
            <a:chExt cx="762120" cy="685800"/>
          </a:xfrm>
        </p:grpSpPr>
        <p:sp>
          <p:nvSpPr>
            <p:cNvPr id="363" name=""/>
            <p:cNvSpPr/>
            <p:nvPr/>
          </p:nvSpPr>
          <p:spPr>
            <a:xfrm>
              <a:off x="4952880" y="457200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29200" y="472428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543800" y="4572000"/>
            <a:ext cx="762120" cy="685800"/>
            <a:chOff x="7543800" y="4572000"/>
            <a:chExt cx="762120" cy="685800"/>
          </a:xfrm>
        </p:grpSpPr>
        <p:sp>
          <p:nvSpPr>
            <p:cNvPr id="366" name=""/>
            <p:cNvSpPr/>
            <p:nvPr/>
          </p:nvSpPr>
          <p:spPr>
            <a:xfrm>
              <a:off x="7543800" y="457200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20120" y="472428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6248520" y="4572000"/>
            <a:ext cx="761760" cy="685800"/>
            <a:chOff x="6248520" y="4572000"/>
            <a:chExt cx="761760" cy="685800"/>
          </a:xfrm>
        </p:grpSpPr>
        <p:sp>
          <p:nvSpPr>
            <p:cNvPr id="369" name=""/>
            <p:cNvSpPr/>
            <p:nvPr/>
          </p:nvSpPr>
          <p:spPr>
            <a:xfrm>
              <a:off x="6248520" y="457200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24480" y="472428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962520" y="2133720"/>
            <a:ext cx="761760" cy="685800"/>
            <a:chOff x="3962520" y="2133720"/>
            <a:chExt cx="761760" cy="685800"/>
          </a:xfrm>
        </p:grpSpPr>
        <p:sp>
          <p:nvSpPr>
            <p:cNvPr id="372" name=""/>
            <p:cNvSpPr/>
            <p:nvPr/>
          </p:nvSpPr>
          <p:spPr>
            <a:xfrm>
              <a:off x="3962520" y="213372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38480" y="228600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1981080" y="3276720"/>
            <a:ext cx="762120" cy="685800"/>
            <a:chOff x="1981080" y="3276720"/>
            <a:chExt cx="762120" cy="685800"/>
          </a:xfrm>
        </p:grpSpPr>
        <p:sp>
          <p:nvSpPr>
            <p:cNvPr id="375" name=""/>
            <p:cNvSpPr/>
            <p:nvPr/>
          </p:nvSpPr>
          <p:spPr>
            <a:xfrm>
              <a:off x="1981080" y="327672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57400" y="342900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 flipV="1">
            <a:off x="990720" y="3962160"/>
            <a:ext cx="1371600" cy="1143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286000" y="3962160"/>
            <a:ext cx="152280" cy="1143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2438280" y="3962520"/>
            <a:ext cx="1447920" cy="12189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514600" y="2743200"/>
            <a:ext cx="1676520" cy="23623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038480" y="2819160"/>
            <a:ext cx="152640" cy="23619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4190760" y="2819520"/>
            <a:ext cx="990360" cy="17524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590920" y="2590920"/>
            <a:ext cx="1371600" cy="761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6370800">
            <a:off x="5309640" y="3981240"/>
            <a:ext cx="45648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86400" y="5257800"/>
            <a:ext cx="2692440" cy="685800"/>
          </a:xfrm>
          <a:custGeom>
            <a:avLst/>
            <a:gdLst/>
            <a:ahLst/>
            <a:rect l="l" t="t" r="r" b="b"/>
            <a:pathLst>
              <a:path w="1696" h="432">
                <a:moveTo>
                  <a:pt x="1584" y="0"/>
                </a:moveTo>
                <a:cubicBezTo>
                  <a:pt x="1640" y="112"/>
                  <a:pt x="1696" y="224"/>
                  <a:pt x="1536" y="288"/>
                </a:cubicBezTo>
                <a:cubicBezTo>
                  <a:pt x="1376" y="352"/>
                  <a:pt x="880" y="432"/>
                  <a:pt x="624" y="384"/>
                </a:cubicBezTo>
                <a:cubicBezTo>
                  <a:pt x="368" y="336"/>
                  <a:pt x="104" y="64"/>
                  <a:pt x="0" y="0"/>
                </a:cubicBezTo>
              </a:path>
            </a:pathLst>
          </a:custGeom>
          <a:noFill/>
          <a:ln w="936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257440" y="1600200"/>
            <a:ext cx="2514600" cy="99072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772400" y="1600200"/>
            <a:ext cx="990720" cy="13716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257800" y="2590920"/>
            <a:ext cx="3505320" cy="38088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91520" y="1752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1532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43600" y="2286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00800" y="2819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153280" y="1828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172200" y="1676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91440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ОДУКЦИОННЫЕ СИСТЕ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745200" y="2305080"/>
            <a:ext cx="3445920" cy="2876040"/>
            <a:chOff x="745200" y="2305080"/>
            <a:chExt cx="3445920" cy="2876040"/>
          </a:xfrm>
        </p:grpSpPr>
        <p:sp>
          <p:nvSpPr>
            <p:cNvPr id="399" name=""/>
            <p:cNvSpPr/>
            <p:nvPr/>
          </p:nvSpPr>
          <p:spPr>
            <a:xfrm rot="10927200">
              <a:off x="762120" y="2362320"/>
              <a:ext cx="3124080" cy="977760"/>
            </a:xfrm>
            <a:custGeom>
              <a:avLst/>
              <a:gdLst/>
              <a:ahLst/>
              <a:rect l="l" t="t" r="r" b="b"/>
              <a:pathLst>
                <a:path w="2392" h="760">
                  <a:moveTo>
                    <a:pt x="776" y="40"/>
                  </a:moveTo>
                  <a:cubicBezTo>
                    <a:pt x="560" y="80"/>
                    <a:pt x="208" y="176"/>
                    <a:pt x="104" y="280"/>
                  </a:cubicBezTo>
                  <a:cubicBezTo>
                    <a:pt x="0" y="384"/>
                    <a:pt x="16" y="592"/>
                    <a:pt x="152" y="664"/>
                  </a:cubicBezTo>
                  <a:cubicBezTo>
                    <a:pt x="288" y="736"/>
                    <a:pt x="728" y="736"/>
                    <a:pt x="920" y="712"/>
                  </a:cubicBezTo>
                  <a:cubicBezTo>
                    <a:pt x="1112" y="688"/>
                    <a:pt x="1168" y="512"/>
                    <a:pt x="1304" y="520"/>
                  </a:cubicBezTo>
                  <a:cubicBezTo>
                    <a:pt x="1440" y="528"/>
                    <a:pt x="1568" y="760"/>
                    <a:pt x="1736" y="760"/>
                  </a:cubicBezTo>
                  <a:cubicBezTo>
                    <a:pt x="1904" y="760"/>
                    <a:pt x="2232" y="616"/>
                    <a:pt x="2312" y="520"/>
                  </a:cubicBezTo>
                  <a:cubicBezTo>
                    <a:pt x="2392" y="424"/>
                    <a:pt x="2368" y="264"/>
                    <a:pt x="2216" y="184"/>
                  </a:cubicBezTo>
                  <a:cubicBezTo>
                    <a:pt x="2064" y="104"/>
                    <a:pt x="1632" y="64"/>
                    <a:pt x="1400" y="40"/>
                  </a:cubicBezTo>
                  <a:cubicBezTo>
                    <a:pt x="1168" y="16"/>
                    <a:pt x="992" y="0"/>
                    <a:pt x="776" y="40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90720" y="3581280"/>
              <a:ext cx="3048120" cy="609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43000" y="4572000"/>
              <a:ext cx="2819520" cy="609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640" y="320040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8640" y="411480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90720" y="3733560"/>
              <a:ext cx="320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РАССУЖДАЮЩАЯ СИСТЕМА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47920" y="472428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  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295640" y="274320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66"/>
                  </a:solidFill>
                  <a:latin typeface="Times New Roman"/>
                </a:rPr>
                <a:t>ОКУРУЖАЮЩИЙ МИР </a:t>
              </a: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1447920" y="14479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S({i: C,P,A</a:t>
            </a:r>
            <a:r>
              <a:rPr b="1" lang="en-US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B,Q}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81480" y="12952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ТИПЫ ПРОДУКЦ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0" y="18288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ИЗМЕНЯЕТСЯ ХОД РАССУЖДЕН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0" y="22860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ОБРАЖЕНИЕ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449568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управление событи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0" y="27432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СОПОСТАВЛЕНИЯ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0" y="32004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РЕГИСТ РАЦИЯ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0" y="359568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ИНФОРМАЦИОННАЯ ПОДДЕРЖКА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0" y="4038480"/>
            <a:ext cx="41911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ХОД СОБЫТ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0" y="556272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ПРЕОБРОАЗОВАНИЯ ФОРМЫ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502920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ПРОДОЛЖАЕТСЯ  ХОД РАССУЖДЕН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8:54Z</dcterms:created>
  <dc:creator>Петр Соснин</dc:creator>
  <dc:description/>
  <dc:language>en-US</dc:language>
  <cp:lastModifiedBy>Peter Sosnin</cp:lastModifiedBy>
  <dcterms:modified xsi:type="dcterms:W3CDTF">2006-04-26T14:32:38Z</dcterms:modified>
  <cp:revision>17</cp:revision>
  <dc:subject/>
  <dc:title>ПРЕДСТАВЛЕНИЕ ЗНАНИЙ</dc:title>
</cp:coreProperties>
</file>