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EB6B-E05D-4B4C-B5B6-927D81A4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0767-040A-4813-B05D-DC9F541C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8360-B004-40C5-90FE-CD768BB1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2056-990C-4259-8CDC-5CE4C8401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7B94-F080-4CE4-A552-0CD9B58E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F700-46C4-48FC-B1D7-01AA197D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B0EF-FB5E-445C-BEF0-2847384E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B384-6778-4BF2-BB73-C2299C78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3DF5-50F5-4E64-87BA-8F62DC27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5A5D-B816-4672-B807-04489A12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EC9B-3630-400F-9DED-A31D3A0A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4EC3-DC97-4CD6-A2E2-B7902E85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FED2-C03C-481E-94EA-A8B62538BA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990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05120" y="1600200"/>
            <a:ext cx="5638680" cy="2286000"/>
            <a:chOff x="1905120" y="1600200"/>
            <a:chExt cx="5638680" cy="2286000"/>
          </a:xfrm>
        </p:grpSpPr>
        <p:sp>
          <p:nvSpPr>
            <p:cNvPr id="45" name=""/>
            <p:cNvSpPr/>
            <p:nvPr/>
          </p:nvSpPr>
          <p:spPr>
            <a:xfrm>
              <a:off x="1905120" y="1600200"/>
              <a:ext cx="56386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274320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19720" y="2743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1919520"/>
              <a:ext cx="541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ЗНАНИЯ КАК СИСТЕМА ДОСТУП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4600" y="30625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048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523880" y="1828800"/>
            <a:ext cx="914040" cy="4419000"/>
            <a:chOff x="1523880" y="1828800"/>
            <a:chExt cx="914040" cy="4419000"/>
          </a:xfrm>
        </p:grpSpPr>
        <p:sp>
          <p:nvSpPr>
            <p:cNvPr id="52" name=""/>
            <p:cNvSpPr/>
            <p:nvPr/>
          </p:nvSpPr>
          <p:spPr>
            <a:xfrm flipH="1">
              <a:off x="1523880" y="1828800"/>
              <a:ext cx="591120" cy="44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1524240" y="3581640"/>
              <a:ext cx="91368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133720" y="43434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СТРУКТУР ДАННЫХ И ОПЕР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4724280"/>
            <a:ext cx="0" cy="4572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51814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ОБЪЕКТОВ (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55627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60199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472428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685800"/>
            <a:ext cx="861048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838080"/>
            <a:ext cx="4419720" cy="266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3505320"/>
            <a:ext cx="1981080" cy="1828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276720"/>
            <a:ext cx="2133720" cy="33526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352680"/>
            <a:ext cx="2514600" cy="2514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838080"/>
            <a:ext cx="3276360" cy="3048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809880"/>
            <a:ext cx="114300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3962520"/>
            <a:ext cx="1143000" cy="2361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3886200"/>
            <a:ext cx="144792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038480"/>
            <a:ext cx="144792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1447920"/>
            <a:ext cx="220968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600200"/>
            <a:ext cx="221004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1219320"/>
            <a:ext cx="3200400" cy="19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371600"/>
            <a:ext cx="3200400" cy="1981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2819520"/>
            <a:ext cx="266688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123720" y="2971800"/>
            <a:ext cx="2667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4114800"/>
            <a:ext cx="16002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267080"/>
            <a:ext cx="16002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2590920"/>
            <a:ext cx="10666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572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4952880"/>
            <a:ext cx="9907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066680" y="4572000"/>
            <a:ext cx="10670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ЭКЗЕМПЛЯ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6248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56386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61722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ЛАСТЬ ИНТЕРПРЕ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1981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4419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4572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ОДЕЛ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17524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5334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06668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Я МОДЕЛЕЙ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5053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23623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РЕЙМ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124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ТЕ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5909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ЛОГИКО-ЛИГВИСТ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004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ДУКЦИО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495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3341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RX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971800"/>
            <a:ext cx="0" cy="32004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7339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6483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486400"/>
            <a:ext cx="9144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4760" y="1447920"/>
            <a:ext cx="190476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1447920"/>
            <a:ext cx="1600200" cy="16002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1447920"/>
            <a:ext cx="1447560" cy="914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380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800" y="1295280"/>
            <a:ext cx="2743200" cy="3200400"/>
            <a:chOff x="685800" y="1295280"/>
            <a:chExt cx="2743200" cy="3200400"/>
          </a:xfrm>
        </p:grpSpPr>
        <p:sp>
          <p:nvSpPr>
            <p:cNvPr id="116" name=""/>
            <p:cNvSpPr/>
            <p:nvPr/>
          </p:nvSpPr>
          <p:spPr>
            <a:xfrm>
              <a:off x="685800" y="12952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НЯТ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18288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МЕ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19810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4400" y="30481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ЦЕСС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403848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ОЯ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20" y="16765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12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12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419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80880" y="4343400"/>
            <a:ext cx="8229600" cy="2135880"/>
            <a:chOff x="380880" y="4343400"/>
            <a:chExt cx="8229600" cy="2135880"/>
          </a:xfrm>
        </p:grpSpPr>
        <p:sp>
          <p:nvSpPr>
            <p:cNvPr id="126" name=""/>
            <p:cNvSpPr/>
            <p:nvPr/>
          </p:nvSpPr>
          <p:spPr>
            <a:xfrm>
              <a:off x="2819520" y="434340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ТНОШ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4280" y="5791320"/>
              <a:ext cx="243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ДЕНТ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8120" y="617220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ЛАСС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579132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080" y="53341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СТРАН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487692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РЕМ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495288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ЧИННО-СЛЕД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680" y="541008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АГМ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28800" y="4648320"/>
              <a:ext cx="99072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514240" y="4724280"/>
              <a:ext cx="6858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52680" y="4724280"/>
              <a:ext cx="15264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4876920"/>
              <a:ext cx="15264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4724280"/>
              <a:ext cx="99036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7080" y="4648320"/>
              <a:ext cx="1600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4572000"/>
              <a:ext cx="243864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1828800" y="1066680"/>
            <a:ext cx="990720" cy="3812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895120" y="1143000"/>
            <a:ext cx="304920" cy="685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1295280"/>
            <a:ext cx="0" cy="28958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219320"/>
            <a:ext cx="1676520" cy="1904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219320"/>
            <a:ext cx="152388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24760" y="327672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ИФИКА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1447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МПЕРАТИВ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2362320"/>
            <a:ext cx="26463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ВАНТИФИК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А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ОЛИ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1143000"/>
            <a:ext cx="1122480" cy="380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36576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А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38862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1219320"/>
            <a:ext cx="13716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371600"/>
            <a:ext cx="6858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23623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2438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2590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144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А)СИНТАГ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682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ношениме или императив с квантификаторами, модификаторами, модальностями 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2057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3200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18288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048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00200" y="3809880"/>
            <a:ext cx="5790960" cy="2438640"/>
            <a:chOff x="1600200" y="3809880"/>
            <a:chExt cx="5790960" cy="2438640"/>
          </a:xfrm>
        </p:grpSpPr>
        <p:grpSp>
          <p:nvGrpSpPr>
            <p:cNvPr id="168" name=""/>
            <p:cNvGrpSpPr/>
            <p:nvPr/>
          </p:nvGrpSpPr>
          <p:grpSpPr>
            <a:xfrm>
              <a:off x="1600200" y="4387680"/>
              <a:ext cx="1523880" cy="1860840"/>
              <a:chOff x="1600200" y="4387680"/>
              <a:chExt cx="1523880" cy="18608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00200" y="4387680"/>
                <a:ext cx="1523880" cy="489240"/>
                <a:chOff x="1600200" y="4387680"/>
                <a:chExt cx="1523880" cy="48924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1828800" y="4724280"/>
                  <a:ext cx="990720" cy="152640"/>
                  <a:chOff x="1828800" y="4724280"/>
                  <a:chExt cx="990720" cy="1526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1828800" y="47242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666880" y="47242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05120" y="48006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>
                  <a:off x="1600200" y="43876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09680" y="44197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43200" y="44197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600200" y="4844880"/>
                <a:ext cx="1523880" cy="489240"/>
                <a:chOff x="1600200" y="4844880"/>
                <a:chExt cx="1523880" cy="4892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1828800" y="5181480"/>
                  <a:ext cx="990720" cy="152640"/>
                  <a:chOff x="1828800" y="5181480"/>
                  <a:chExt cx="990720" cy="15264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1828800" y="51814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666880" y="51814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05120" y="52578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1600200" y="48448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209680" y="48769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743200" y="48769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1600200" y="5302080"/>
                <a:ext cx="1523880" cy="489240"/>
                <a:chOff x="1600200" y="5302080"/>
                <a:chExt cx="1523880" cy="48924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1828800" y="5638680"/>
                  <a:ext cx="990720" cy="152640"/>
                  <a:chOff x="1828800" y="5638680"/>
                  <a:chExt cx="990720" cy="1526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1828800" y="56386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666880" y="56386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905120" y="57150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1600200" y="53020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209680" y="53341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743200" y="53341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00200" y="5759280"/>
                <a:ext cx="1523880" cy="489240"/>
                <a:chOff x="1600200" y="5759280"/>
                <a:chExt cx="1523880" cy="48924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1828800" y="6095880"/>
                  <a:ext cx="990720" cy="152640"/>
                  <a:chOff x="1828800" y="6095880"/>
                  <a:chExt cx="990720" cy="1526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1828800" y="60958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666880" y="60958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1905120" y="61722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1600200" y="57592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209680" y="57913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743200" y="57913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952880" y="4495680"/>
              <a:ext cx="2438280" cy="1371240"/>
              <a:chOff x="4952880" y="4495680"/>
              <a:chExt cx="2438280" cy="13712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952880" y="4495680"/>
                <a:ext cx="1572120" cy="585720"/>
                <a:chOff x="4952880" y="4495680"/>
                <a:chExt cx="1572120" cy="58572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5188680" y="4898880"/>
                  <a:ext cx="1022040" cy="182520"/>
                  <a:chOff x="5188680" y="4898880"/>
                  <a:chExt cx="1022040" cy="1825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5188680" y="4898880"/>
                    <a:ext cx="15696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053400" y="4898880"/>
                    <a:ext cx="15732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267160" y="4989960"/>
                    <a:ext cx="785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4952880" y="4495680"/>
                  <a:ext cx="392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581800" y="4533840"/>
                  <a:ext cx="393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32240" y="4533840"/>
                  <a:ext cx="3927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053760" y="4899240"/>
                <a:ext cx="1022040" cy="182160"/>
                <a:chOff x="6053760" y="4899240"/>
                <a:chExt cx="1022040" cy="18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053760" y="4899240"/>
                  <a:ext cx="15696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918480" y="4899240"/>
                  <a:ext cx="15732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132240" y="4990320"/>
                  <a:ext cx="78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5975280" y="44956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47240" y="45334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97680" y="4533480"/>
                <a:ext cx="393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65800" y="5130360"/>
                <a:ext cx="966960" cy="60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921200">
                <a:off x="5834880" y="5123520"/>
                <a:ext cx="5698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89920" y="5684400"/>
                <a:ext cx="157320" cy="182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447240" y="5043960"/>
                <a:ext cx="550080" cy="73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61880" y="5318280"/>
                <a:ext cx="550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200400" y="38098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ПИСАНИЕ СИТУ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14600" y="41148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И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52880" y="411480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8380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АЗОВАЯ СТРУКТУР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6386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14400" y="4648320"/>
            <a:ext cx="1417248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14400" y="4114800"/>
            <a:ext cx="141724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914400" y="3505320"/>
            <a:ext cx="1417248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14400" y="2590920"/>
            <a:ext cx="1417248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914400" y="1447920"/>
            <a:ext cx="14172480" cy="838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5105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1141000">
            <a:off x="4191120" y="22093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1270600">
            <a:off x="3885840" y="32004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1404400">
            <a:off x="4038480" y="3809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21382200">
            <a:off x="3276360" y="44193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8:54Z</dcterms:created>
  <dc:creator>Петр Соснин</dc:creator>
  <dc:description/>
  <dc:language>en-US</dc:language>
  <cp:lastModifiedBy>Валерий Г. Костин</cp:lastModifiedBy>
  <dcterms:modified xsi:type="dcterms:W3CDTF">2002-12-12T13:40:06Z</dcterms:modified>
  <cp:revision>8</cp:revision>
  <dc:subject/>
  <dc:title>ПРЕДСТАВЛЕНИЕ ЗНАНИЙ</dc:title>
</cp:coreProperties>
</file>