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1BD26-8723-415F-8F4C-CCACE5AEE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015A1-2D8F-4E82-89E7-F44AD33EB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EE9AF-34A6-44E6-8DCF-A14D613CB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AF970-19C1-4B51-864A-074F504EC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2A9A1-355E-41D9-9F82-C7C4CD639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509F6-CBE0-418D-A41E-91A4F80AC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3A177-C65B-42E2-AF11-1FF349D64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0E96E-DC8D-470A-BFD0-CFEE9C472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356D7-DBD7-4DC8-9F8D-C6B5FFC7A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660D3-556F-4A73-AB7C-6C819A263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7A8C8-481E-4FFC-977D-1B2E17999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BF380-191A-49EB-82C5-30283468D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A1D63-A2BA-4304-A332-FDA514996A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Arial"/>
              </a:rPr>
              <a:t>ИСКУССТВЕННЫЙ  ИНТЕЛЛЕК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2971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Лек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Лабораторные рабо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Практические занят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Зач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Экзаме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АКТИВНОСТЬ И  ОПЫ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228600" y="762120"/>
            <a:ext cx="868680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8" name=""/>
          <p:cNvGrpSpPr/>
          <p:nvPr/>
        </p:nvGrpSpPr>
        <p:grpSpPr>
          <a:xfrm>
            <a:off x="4952880" y="990720"/>
            <a:ext cx="3580920" cy="2133360"/>
            <a:chOff x="4952880" y="990720"/>
            <a:chExt cx="3580920" cy="2133360"/>
          </a:xfrm>
        </p:grpSpPr>
        <p:grpSp>
          <p:nvGrpSpPr>
            <p:cNvPr id="569" name=""/>
            <p:cNvGrpSpPr/>
            <p:nvPr/>
          </p:nvGrpSpPr>
          <p:grpSpPr>
            <a:xfrm>
              <a:off x="4952880" y="1447920"/>
              <a:ext cx="3580920" cy="1676160"/>
              <a:chOff x="4952880" y="1447920"/>
              <a:chExt cx="3580920" cy="1676160"/>
            </a:xfrm>
          </p:grpSpPr>
          <p:sp>
            <p:nvSpPr>
              <p:cNvPr id="570" name=""/>
              <p:cNvSpPr/>
              <p:nvPr/>
            </p:nvSpPr>
            <p:spPr>
              <a:xfrm>
                <a:off x="4952880" y="1447920"/>
                <a:ext cx="3364560" cy="16761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Sb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5502960" y="1541520"/>
                <a:ext cx="2706840" cy="1430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R</a:t>
                </a:r>
                <a:r>
                  <a:rPr b="1" lang="en-US" sz="1400" spc="-1" strike="noStrike" baseline="30000">
                    <a:solidFill>
                      <a:srgbClr val="ff0066"/>
                    </a:solidFill>
                    <a:latin typeface="Times New Roman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R</a:t>
                </a:r>
                <a:r>
                  <a:rPr b="1" lang="en-US" sz="1400" spc="-1" strike="noStrike" baseline="30000">
                    <a:solidFill>
                      <a:srgbClr val="ff0066"/>
                    </a:solidFill>
                    <a:latin typeface="Times New Roman"/>
                  </a:rPr>
                  <a:t>C</a:t>
                </a:r>
                <a:r>
                  <a:rPr b="1" lang="ru-RU" sz="1400" spc="-1" strike="noStrike" baseline="-25000">
                    <a:solidFill>
                      <a:srgbClr val="ff0066"/>
                    </a:solidFill>
                    <a:latin typeface="Times New Roman"/>
                  </a:rPr>
                  <a:t>Л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6101280" y="1447920"/>
                <a:ext cx="2432520" cy="1454040"/>
              </a:xfrm>
              <a:prstGeom prst="leftRightArrow">
                <a:avLst>
                  <a:gd name="adj1" fmla="val 50000"/>
                  <a:gd name="adj2" fmla="val 33304"/>
                </a:avLst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0066"/>
                    </a:solidFill>
                    <a:latin typeface="Times New Roman"/>
                  </a:rPr>
                  <a:t>           </a:t>
                </a:r>
                <a:r>
                  <a:rPr b="1" lang="ru-RU" sz="1400" spc="-1" strike="noStrike">
                    <a:solidFill>
                      <a:srgbClr val="ff0066"/>
                    </a:solidFill>
                    <a:latin typeface="Times New Roman"/>
                  </a:rPr>
                  <a:t>управление</a:t>
                </a:r>
                <a:r>
                  <a:rPr b="1" lang="en-US" sz="1000" spc="-1" strike="noStrike">
                    <a:solidFill>
                      <a:srgbClr val="ff0066"/>
                    </a:solidFill>
                    <a:latin typeface="Times New Roman"/>
                  </a:rPr>
                  <a:t>       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ff0066"/>
                    </a:solidFill>
                    <a:latin typeface="Symbol"/>
                    <a:ea typeface="Symbol"/>
                  </a:rPr>
                  <a:t></a:t>
                </a:r>
                <a:r>
                  <a:rPr b="1" lang="ru-RU" sz="1400" spc="-1" strike="noStrike" baseline="30000">
                    <a:solidFill>
                      <a:srgbClr val="ff0066"/>
                    </a:solidFill>
                    <a:latin typeface="Times New Roman"/>
                  </a:rPr>
                  <a:t>М</a:t>
                </a:r>
                <a:r>
                  <a:rPr b="1" lang="ru-RU" sz="1400" spc="-1" strike="noStrike" baseline="-25000">
                    <a:solidFill>
                      <a:srgbClr val="ff0066"/>
                    </a:solidFill>
                    <a:latin typeface="Times New Roman"/>
                  </a:rPr>
                  <a:t>Л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(t)        </a:t>
                </a:r>
                <a:r>
                  <a:rPr b="1" lang="ru-RU" sz="1400" spc="-1" strike="noStrike">
                    <a:solidFill>
                      <a:srgbClr val="ff0066"/>
                    </a:solidFill>
                    <a:latin typeface="Symbol"/>
                    <a:ea typeface="Symbol"/>
                  </a:rPr>
                  <a:t></a:t>
                </a:r>
                <a:r>
                  <a:rPr b="1" lang="ru-RU" sz="1400" spc="-1" strike="noStrike" baseline="30000">
                    <a:solidFill>
                      <a:srgbClr val="ff0066"/>
                    </a:solidFill>
                    <a:latin typeface="Times New Roman"/>
                  </a:rPr>
                  <a:t>М</a:t>
                </a:r>
                <a:r>
                  <a:rPr b="1" lang="ru-RU" sz="1400" spc="-1" strike="noStrike" baseline="-25000">
                    <a:solidFill>
                      <a:srgbClr val="ff0066"/>
                    </a:solidFill>
                    <a:latin typeface="Times New Roman"/>
                  </a:rPr>
                  <a:t>П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(t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                     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	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0066"/>
                    </a:solidFill>
                    <a:latin typeface="Times New Roman"/>
                  </a:rPr>
                  <a:t>                      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R</a:t>
                </a:r>
                <a:r>
                  <a:rPr b="1" lang="en-US" sz="1400" spc="-1" strike="noStrike" baseline="30000">
                    <a:solidFill>
                      <a:srgbClr val="ff0066"/>
                    </a:solidFill>
                    <a:latin typeface="Times New Roman"/>
                  </a:rPr>
                  <a:t>C</a:t>
                </a:r>
                <a:r>
                  <a:rPr b="1" lang="ru-RU" sz="1400" spc="-1" strike="noStrike" baseline="-25000">
                    <a:solidFill>
                      <a:srgbClr val="ff0066"/>
                    </a:solidFill>
                    <a:latin typeface="Times New Roman"/>
                  </a:rPr>
                  <a:t>П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5502960" y="2082960"/>
                <a:ext cx="2706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7028280" y="2082960"/>
                <a:ext cx="0" cy="87444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8210160" y="1685880"/>
                <a:ext cx="0" cy="9525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6" name=""/>
            <p:cNvSpPr/>
            <p:nvPr/>
          </p:nvSpPr>
          <p:spPr>
            <a:xfrm>
              <a:off x="5257800" y="990720"/>
              <a:ext cx="213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Среда мышлени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7" name=""/>
          <p:cNvGrpSpPr/>
          <p:nvPr/>
        </p:nvGrpSpPr>
        <p:grpSpPr>
          <a:xfrm>
            <a:off x="838080" y="990720"/>
            <a:ext cx="3581640" cy="2346120"/>
            <a:chOff x="838080" y="990720"/>
            <a:chExt cx="3581640" cy="2346120"/>
          </a:xfrm>
        </p:grpSpPr>
        <p:grpSp>
          <p:nvGrpSpPr>
            <p:cNvPr id="578" name=""/>
            <p:cNvGrpSpPr/>
            <p:nvPr/>
          </p:nvGrpSpPr>
          <p:grpSpPr>
            <a:xfrm>
              <a:off x="838080" y="1295280"/>
              <a:ext cx="3581640" cy="2041560"/>
              <a:chOff x="838080" y="1295280"/>
              <a:chExt cx="3581640" cy="2041560"/>
            </a:xfrm>
          </p:grpSpPr>
          <p:sp>
            <p:nvSpPr>
              <p:cNvPr id="579" name=""/>
              <p:cNvSpPr/>
              <p:nvPr/>
            </p:nvSpPr>
            <p:spPr>
              <a:xfrm>
                <a:off x="838080" y="1412640"/>
                <a:ext cx="3397320" cy="14986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Sb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1114560" y="1295280"/>
                <a:ext cx="3305160" cy="2041560"/>
              </a:xfrm>
              <a:prstGeom prst="leftRightArrow">
                <a:avLst>
                  <a:gd name="adj1" fmla="val 50000"/>
                  <a:gd name="adj2" fmla="val 32229"/>
                </a:avLst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ff0066"/>
                    </a:solidFill>
                    <a:latin typeface="Symbol"/>
                    <a:ea typeface="Symbol"/>
                  </a:rPr>
                  <a:t>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(t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механизмы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2514600" y="1976400"/>
                <a:ext cx="1450800" cy="76500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E</a:t>
                </a:r>
                <a:r>
                  <a:rPr b="1" lang="en-US" sz="1400" spc="-1" strike="noStrike" baseline="-25000">
                    <a:solidFill>
                      <a:srgbClr val="ff0066"/>
                    </a:solidFill>
                    <a:latin typeface="Times New Roman"/>
                  </a:rPr>
                  <a:t>i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(t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коды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2" name=""/>
            <p:cNvSpPr/>
            <p:nvPr/>
          </p:nvSpPr>
          <p:spPr>
            <a:xfrm>
              <a:off x="1600200" y="990720"/>
              <a:ext cx="2438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Активность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3" name=""/>
          <p:cNvGrpSpPr/>
          <p:nvPr/>
        </p:nvGrpSpPr>
        <p:grpSpPr>
          <a:xfrm>
            <a:off x="1752480" y="3352680"/>
            <a:ext cx="5029200" cy="3216240"/>
            <a:chOff x="1752480" y="3352680"/>
            <a:chExt cx="5029200" cy="3216240"/>
          </a:xfrm>
        </p:grpSpPr>
        <p:grpSp>
          <p:nvGrpSpPr>
            <p:cNvPr id="584" name=""/>
            <p:cNvGrpSpPr/>
            <p:nvPr/>
          </p:nvGrpSpPr>
          <p:grpSpPr>
            <a:xfrm>
              <a:off x="1752480" y="3733920"/>
              <a:ext cx="5029200" cy="2835000"/>
              <a:chOff x="1752480" y="3733920"/>
              <a:chExt cx="5029200" cy="2835000"/>
            </a:xfrm>
          </p:grpSpPr>
          <p:sp>
            <p:nvSpPr>
              <p:cNvPr id="585" name=""/>
              <p:cNvSpPr/>
              <p:nvPr/>
            </p:nvSpPr>
            <p:spPr>
              <a:xfrm>
                <a:off x="1752480" y="3733920"/>
                <a:ext cx="5029200" cy="2835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ff0066"/>
                    </a:solidFill>
                    <a:latin typeface="Symbol"/>
                    <a:ea typeface="Symbol"/>
                  </a:rPr>
                  <a:t>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(t)                                                                                      </a:t>
                </a:r>
                <a:r>
                  <a:rPr b="1" lang="ru-RU" sz="1800" spc="-1" strike="noStrike">
                    <a:solidFill>
                      <a:srgbClr val="ff0066"/>
                    </a:solidFill>
                    <a:latin typeface="Symbol"/>
                    <a:ea typeface="Symbol"/>
                  </a:rPr>
                  <a:t></a:t>
                </a:r>
                <a:r>
                  <a:rPr b="1" lang="ru-RU" sz="1800" spc="-1" strike="noStrike" baseline="30000">
                    <a:solidFill>
                      <a:srgbClr val="ff0066"/>
                    </a:solidFill>
                    <a:latin typeface="Times New Roman"/>
                  </a:rPr>
                  <a:t>ММ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(t)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   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ff0066"/>
                    </a:solidFill>
                    <a:latin typeface="Times New Roman"/>
                  </a:rPr>
                  <a:t>                                                                        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ff0066"/>
                    </a:solidFill>
                    <a:latin typeface="Times New Roman"/>
                  </a:rPr>
                  <a:t> </a:t>
                </a:r>
                <a:r>
                  <a:rPr b="1" lang="ru-RU" sz="1800" spc="-1" strike="noStrike">
                    <a:solidFill>
                      <a:srgbClr val="ff0066"/>
                    </a:solidFill>
                    <a:latin typeface="Symbol"/>
                    <a:ea typeface="Symbol"/>
                  </a:rPr>
                  <a:t></a:t>
                </a:r>
                <a:r>
                  <a:rPr b="1" lang="ru-RU" sz="1800" spc="-1" strike="noStrike" baseline="30000">
                    <a:solidFill>
                      <a:srgbClr val="ff0066"/>
                    </a:solidFill>
                    <a:latin typeface="Times New Roman"/>
                  </a:rPr>
                  <a:t>М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(t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                                                                                     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2301120" y="3891240"/>
                <a:ext cx="3566160" cy="11037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ff0066"/>
                    </a:solidFill>
                    <a:latin typeface="Symbol"/>
                    <a:ea typeface="Symbol"/>
                  </a:rPr>
                  <a:t></a:t>
                </a:r>
                <a:r>
                  <a:rPr b="1" lang="en-US" sz="1400" spc="-1" strike="noStrike" baseline="30000">
                    <a:solidFill>
                      <a:srgbClr val="ff0066"/>
                    </a:solidFill>
                    <a:latin typeface="Times New Roman"/>
                  </a:rPr>
                  <a:t>У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(t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2849760" y="4049280"/>
                <a:ext cx="1097280" cy="1330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ff0066"/>
                    </a:solidFill>
                    <a:latin typeface="Symbol"/>
                    <a:ea typeface="Symbol"/>
                  </a:rPr>
                  <a:t></a:t>
                </a:r>
                <a:r>
                  <a:rPr b="1" lang="en-US" sz="1400" spc="-1" strike="noStrike" baseline="30000">
                    <a:solidFill>
                      <a:srgbClr val="ff0066"/>
                    </a:solidFill>
                    <a:latin typeface="Times New Roman"/>
                  </a:rPr>
                  <a:t>И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(t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1935360" y="4364280"/>
                <a:ext cx="1097280" cy="11037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ff0066"/>
                    </a:solidFill>
                    <a:latin typeface="Symbol"/>
                    <a:ea typeface="Symbol"/>
                  </a:rPr>
                  <a:t></a:t>
                </a:r>
                <a:r>
                  <a:rPr b="1" lang="en-US" sz="1400" spc="-1" strike="noStrike" baseline="30000">
                    <a:solidFill>
                      <a:srgbClr val="ff0066"/>
                    </a:solidFill>
                    <a:latin typeface="Times New Roman"/>
                  </a:rPr>
                  <a:t>2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(t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1843920" y="4831200"/>
                <a:ext cx="1097280" cy="11037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ff0066"/>
                    </a:solidFill>
                    <a:latin typeface="Symbol"/>
                    <a:ea typeface="Symbol"/>
                  </a:rPr>
                  <a:t></a:t>
                </a:r>
                <a:r>
                  <a:rPr b="1" lang="en-US" sz="1400" spc="-1" strike="noStrike" baseline="30000">
                    <a:solidFill>
                      <a:srgbClr val="ff0066"/>
                    </a:solidFill>
                    <a:latin typeface="Times New Roman"/>
                  </a:rPr>
                  <a:t>1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(t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3581280" y="4206960"/>
                <a:ext cx="1097280" cy="11037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ff0066"/>
                    </a:solidFill>
                    <a:latin typeface="Symbol"/>
                    <a:ea typeface="Symbol"/>
                  </a:rPr>
                  <a:t></a:t>
                </a:r>
                <a:r>
                  <a:rPr b="1" lang="en-US" sz="1400" spc="-1" strike="noStrike" baseline="30000">
                    <a:solidFill>
                      <a:srgbClr val="ff0066"/>
                    </a:solidFill>
                    <a:latin typeface="Times New Roman"/>
                  </a:rPr>
                  <a:t>А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(t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3398400" y="4916520"/>
                <a:ext cx="2377440" cy="11037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ff0066"/>
                    </a:solidFill>
                    <a:latin typeface="Symbol"/>
                    <a:ea typeface="Symbol"/>
                  </a:rPr>
                  <a:t></a:t>
                </a:r>
                <a:r>
                  <a:rPr b="1" lang="en-US" sz="1400" spc="-1" strike="noStrike" baseline="30000">
                    <a:solidFill>
                      <a:srgbClr val="ff0066"/>
                    </a:solidFill>
                    <a:latin typeface="Times New Roman"/>
                  </a:rPr>
                  <a:t>С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(t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5592960" y="4758840"/>
                <a:ext cx="1097280" cy="11037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ff0066"/>
                    </a:solidFill>
                    <a:latin typeface="Times New Roman"/>
                  </a:rPr>
                  <a:t>        </a:t>
                </a:r>
                <a:r>
                  <a:rPr b="1" lang="ru-RU" sz="1400" spc="-1" strike="noStrike">
                    <a:solidFill>
                      <a:srgbClr val="ff0066"/>
                    </a:solidFill>
                    <a:latin typeface="Symbol"/>
                    <a:ea typeface="Symbol"/>
                  </a:rPr>
                  <a:t></a:t>
                </a:r>
                <a:r>
                  <a:rPr b="1" lang="en-US" sz="1600" spc="-1" strike="noStrike" baseline="30000">
                    <a:solidFill>
                      <a:srgbClr val="ff0066"/>
                    </a:solidFill>
                    <a:latin typeface="Times New Roman"/>
                  </a:rPr>
                  <a:t>л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(t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4495680" y="4128120"/>
                <a:ext cx="1280160" cy="13431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ff0066"/>
                    </a:solidFill>
                    <a:latin typeface="Symbol"/>
                    <a:ea typeface="Symbol"/>
                  </a:rPr>
                  <a:t></a:t>
                </a:r>
                <a:r>
                  <a:rPr b="1" lang="en-US" sz="1400" spc="-1" strike="noStrike" baseline="30000">
                    <a:solidFill>
                      <a:srgbClr val="ff0066"/>
                    </a:solidFill>
                    <a:latin typeface="Times New Roman"/>
                  </a:rPr>
                  <a:t>П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(t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1752480" y="5196960"/>
                <a:ext cx="5029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5" name=""/>
            <p:cNvSpPr/>
            <p:nvPr/>
          </p:nvSpPr>
          <p:spPr>
            <a:xfrm>
              <a:off x="2438280" y="3352680"/>
              <a:ext cx="419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Структуризация активности   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МОДЕЛИ ОПЫ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380880" y="533520"/>
            <a:ext cx="8458200" cy="60195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8" name=""/>
          <p:cNvGrpSpPr/>
          <p:nvPr/>
        </p:nvGrpSpPr>
        <p:grpSpPr>
          <a:xfrm>
            <a:off x="990720" y="762120"/>
            <a:ext cx="6781680" cy="2549520"/>
            <a:chOff x="990720" y="762120"/>
            <a:chExt cx="6781680" cy="2549520"/>
          </a:xfrm>
        </p:grpSpPr>
        <p:sp>
          <p:nvSpPr>
            <p:cNvPr id="599" name=""/>
            <p:cNvSpPr/>
            <p:nvPr/>
          </p:nvSpPr>
          <p:spPr>
            <a:xfrm rot="16200000">
              <a:off x="3878280" y="233640"/>
              <a:ext cx="1743120" cy="2800080"/>
            </a:xfrm>
            <a:prstGeom prst="rect">
              <a:avLst/>
            </a:prstGeom>
            <a:solidFill>
              <a:srgbClr val="cc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Sb</a:t>
              </a:r>
              <a:r>
                <a:rPr b="1" lang="en-US" sz="1400" spc="-1" strike="noStrike" baseline="-25000">
                  <a:solidFill>
                    <a:srgbClr val="ff0066"/>
                  </a:solidFill>
                  <a:latin typeface="Times New Roman"/>
                </a:rPr>
                <a:t>i</a:t>
              </a: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(t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00" name=""/>
            <p:cNvGrpSpPr/>
            <p:nvPr/>
          </p:nvGrpSpPr>
          <p:grpSpPr>
            <a:xfrm>
              <a:off x="990720" y="2924280"/>
              <a:ext cx="6781680" cy="387360"/>
              <a:chOff x="990720" y="2924280"/>
              <a:chExt cx="6781680" cy="387360"/>
            </a:xfrm>
          </p:grpSpPr>
          <p:sp>
            <p:nvSpPr>
              <p:cNvPr id="601" name=""/>
              <p:cNvSpPr/>
              <p:nvPr/>
            </p:nvSpPr>
            <p:spPr>
              <a:xfrm>
                <a:off x="990720" y="2924280"/>
                <a:ext cx="1768680" cy="387360"/>
              </a:xfrm>
              <a:prstGeom prst="rect">
                <a:avLst/>
              </a:prstGeom>
              <a:solidFill>
                <a:srgbClr val="cc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M</a:t>
                </a:r>
                <a:r>
                  <a:rPr b="1" lang="en-US" sz="1400" spc="-1" strike="noStrike" baseline="-25000">
                    <a:solidFill>
                      <a:srgbClr val="ff0066"/>
                    </a:solidFill>
                    <a:latin typeface="Times New Roman"/>
                  </a:rPr>
                  <a:t>1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(E</a:t>
                </a:r>
                <a:r>
                  <a:rPr b="1" lang="en-US" sz="1400" spc="-1" strike="noStrike" baseline="-25000">
                    <a:solidFill>
                      <a:srgbClr val="ff0066"/>
                    </a:solidFill>
                    <a:latin typeface="Times New Roman"/>
                  </a:rPr>
                  <a:t>i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(t)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3258360" y="2924280"/>
                <a:ext cx="1768680" cy="387360"/>
              </a:xfrm>
              <a:prstGeom prst="rect">
                <a:avLst/>
              </a:prstGeom>
              <a:solidFill>
                <a:srgbClr val="cc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 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M</a:t>
                </a:r>
                <a:r>
                  <a:rPr b="1" lang="en-US" sz="1400" spc="-1" strike="noStrike" baseline="-25000">
                    <a:solidFill>
                      <a:srgbClr val="ff0066"/>
                    </a:solidFill>
                    <a:latin typeface="Times New Roman"/>
                  </a:rPr>
                  <a:t>2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(E</a:t>
                </a:r>
                <a:r>
                  <a:rPr b="1" lang="en-US" sz="1400" spc="-1" strike="noStrike" baseline="-25000">
                    <a:solidFill>
                      <a:srgbClr val="ff0066"/>
                    </a:solidFill>
                    <a:latin typeface="Times New Roman"/>
                  </a:rPr>
                  <a:t>i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(t)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6003720" y="2924280"/>
                <a:ext cx="1768680" cy="387360"/>
              </a:xfrm>
              <a:prstGeom prst="rect">
                <a:avLst/>
              </a:prstGeom>
              <a:solidFill>
                <a:srgbClr val="cc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M</a:t>
                </a:r>
                <a:r>
                  <a:rPr b="1" lang="en-US" sz="1400" spc="-1" strike="noStrike" baseline="-25000">
                    <a:solidFill>
                      <a:srgbClr val="ff0066"/>
                    </a:solidFill>
                    <a:latin typeface="Times New Roman"/>
                  </a:rPr>
                  <a:t>N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(E</a:t>
                </a:r>
                <a:r>
                  <a:rPr b="1" lang="en-US" sz="1400" spc="-1" strike="noStrike" baseline="-25000">
                    <a:solidFill>
                      <a:srgbClr val="ff0066"/>
                    </a:solidFill>
                    <a:latin typeface="Times New Roman"/>
                  </a:rPr>
                  <a:t>2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(t)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04" name=""/>
            <p:cNvSpPr/>
            <p:nvPr/>
          </p:nvSpPr>
          <p:spPr>
            <a:xfrm>
              <a:off x="2184480" y="2468520"/>
              <a:ext cx="0" cy="453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4213080" y="2583000"/>
              <a:ext cx="0" cy="339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6719760" y="2523960"/>
              <a:ext cx="0" cy="398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3789360" y="1254240"/>
              <a:ext cx="1922400" cy="688680"/>
            </a:xfrm>
            <a:prstGeom prst="rect">
              <a:avLst/>
            </a:prstGeom>
            <a:solidFill>
              <a:srgbClr val="cc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r>
                <a:rPr b="1" lang="ru-RU" sz="1400" spc="-1" strike="noStrike">
                  <a:solidFill>
                    <a:srgbClr val="ff0066"/>
                  </a:solidFill>
                  <a:latin typeface="Times New Roman"/>
                </a:rPr>
                <a:t>Опыт  </a:t>
              </a: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E</a:t>
              </a:r>
              <a:r>
                <a:rPr b="1" lang="en-US" sz="1400" spc="-1" strike="noStrike" baseline="-25000">
                  <a:solidFill>
                    <a:srgbClr val="ff0066"/>
                  </a:solidFill>
                  <a:latin typeface="Times New Roman"/>
                </a:rPr>
                <a:t>i</a:t>
              </a: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(t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4826160" y="1563840"/>
              <a:ext cx="0" cy="5299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465280" y="1942920"/>
              <a:ext cx="5132520" cy="398520"/>
            </a:xfrm>
            <a:prstGeom prst="rect">
              <a:avLst/>
            </a:prstGeom>
            <a:solidFill>
              <a:srgbClr val="cc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Распознавание образов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1587600" y="2241720"/>
              <a:ext cx="5729040" cy="396720"/>
            </a:xfrm>
            <a:prstGeom prst="rect">
              <a:avLst/>
            </a:prstGeom>
            <a:solidFill>
              <a:srgbClr val="cc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Естественный язык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3792600" y="1563840"/>
              <a:ext cx="19159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3974400" y="797040"/>
              <a:ext cx="1510920" cy="33624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66"/>
                  </a:solidFill>
                  <a:latin typeface="Times New Roman"/>
                </a:rPr>
                <a:t>СУБЪЕКТ </a:t>
              </a: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Sb</a:t>
              </a:r>
              <a:r>
                <a:rPr b="1" lang="en-US" sz="1400" spc="-1" strike="noStrike" baseline="-25000">
                  <a:solidFill>
                    <a:srgbClr val="ff0066"/>
                  </a:solidFill>
                  <a:latin typeface="Times New Roman"/>
                </a:rPr>
                <a:t>i</a:t>
              </a: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(t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3" name=""/>
          <p:cNvGrpSpPr/>
          <p:nvPr/>
        </p:nvGrpSpPr>
        <p:grpSpPr>
          <a:xfrm>
            <a:off x="1189080" y="3581280"/>
            <a:ext cx="6583320" cy="2720880"/>
            <a:chOff x="1189080" y="3581280"/>
            <a:chExt cx="6583320" cy="2720880"/>
          </a:xfrm>
        </p:grpSpPr>
        <p:sp>
          <p:nvSpPr>
            <p:cNvPr id="614" name=""/>
            <p:cNvSpPr/>
            <p:nvPr/>
          </p:nvSpPr>
          <p:spPr>
            <a:xfrm>
              <a:off x="1189080" y="3581280"/>
              <a:ext cx="6583320" cy="1731960"/>
            </a:xfrm>
            <a:prstGeom prst="rect">
              <a:avLst/>
            </a:prstGeom>
            <a:solidFill>
              <a:srgbClr val="cce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Составной субъект Sb</a:t>
              </a:r>
              <a:r>
                <a:rPr b="1" lang="en-US" sz="1400" spc="-1" strike="noStrike" baseline="30000">
                  <a:solidFill>
                    <a:srgbClr val="ff0066"/>
                  </a:solidFill>
                  <a:latin typeface="Times New Roman"/>
                </a:rPr>
                <a:t>C</a:t>
              </a: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(t) = </a:t>
              </a:r>
              <a:r>
                <a:rPr b="1" lang="en-US" sz="14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</a:t>
              </a: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Sb</a:t>
              </a:r>
              <a:r>
                <a:rPr b="1" lang="en-US" sz="1400" spc="-1" strike="noStrike" baseline="-25000">
                  <a:solidFill>
                    <a:srgbClr val="ff0066"/>
                  </a:solidFill>
                  <a:latin typeface="Times New Roman"/>
                </a:rPr>
                <a:t>2</a:t>
              </a: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(t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                                                                                                            </a:t>
              </a: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E</a:t>
              </a:r>
              <a:r>
                <a:rPr b="1" lang="en-US" sz="1400" spc="-1" strike="noStrike" baseline="30000">
                  <a:solidFill>
                    <a:srgbClr val="ff0066"/>
                  </a:solidFill>
                  <a:latin typeface="Times New Roman"/>
                </a:rPr>
                <a:t>C</a:t>
              </a: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(t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                                                                                                            </a:t>
              </a: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. . .  .       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5" name=""/>
            <p:cNvGrpSpPr/>
            <p:nvPr/>
          </p:nvGrpSpPr>
          <p:grpSpPr>
            <a:xfrm>
              <a:off x="1669320" y="5517000"/>
              <a:ext cx="5778720" cy="785160"/>
              <a:chOff x="1669320" y="5517000"/>
              <a:chExt cx="5778720" cy="785160"/>
            </a:xfrm>
          </p:grpSpPr>
          <p:sp>
            <p:nvSpPr>
              <p:cNvPr id="616" name=""/>
              <p:cNvSpPr/>
              <p:nvPr/>
            </p:nvSpPr>
            <p:spPr>
              <a:xfrm>
                <a:off x="1669320" y="5517000"/>
                <a:ext cx="1270800" cy="366480"/>
              </a:xfrm>
              <a:prstGeom prst="rect">
                <a:avLst/>
              </a:prstGeom>
              <a:solidFill>
                <a:srgbClr val="ccec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M (E</a:t>
                </a:r>
                <a:r>
                  <a:rPr b="1" lang="en-US" sz="1400" spc="-1" strike="noStrike" baseline="-25000">
                    <a:solidFill>
                      <a:srgbClr val="ff0066"/>
                    </a:solidFill>
                    <a:latin typeface="Times New Roman"/>
                  </a:rPr>
                  <a:t>1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(t)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3695760" y="5517000"/>
                <a:ext cx="1270080" cy="366480"/>
              </a:xfrm>
              <a:prstGeom prst="rect">
                <a:avLst/>
              </a:prstGeom>
              <a:solidFill>
                <a:srgbClr val="ccec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M (E</a:t>
                </a:r>
                <a:r>
                  <a:rPr b="1" lang="en-US" sz="1400" spc="-1" strike="noStrike" baseline="-25000">
                    <a:solidFill>
                      <a:srgbClr val="ff0066"/>
                    </a:solidFill>
                    <a:latin typeface="Times New Roman"/>
                  </a:rPr>
                  <a:t>2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(t)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6177960" y="5517000"/>
                <a:ext cx="1270080" cy="366480"/>
              </a:xfrm>
              <a:prstGeom prst="rect">
                <a:avLst/>
              </a:prstGeom>
              <a:solidFill>
                <a:srgbClr val="ccec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M</a:t>
                </a:r>
                <a:r>
                  <a:rPr b="0" lang="en-US" sz="1400" spc="-1" strike="noStrike">
                    <a:solidFill>
                      <a:srgbClr val="ff0066"/>
                    </a:solidFill>
                    <a:latin typeface="Times New Roman"/>
                  </a:rPr>
                  <a:t> 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(E</a:t>
                </a:r>
                <a:r>
                  <a:rPr b="1" lang="en-US" sz="1400" spc="-1" strike="noStrike" baseline="-25000">
                    <a:solidFill>
                      <a:srgbClr val="ff0066"/>
                    </a:solidFill>
                    <a:latin typeface="Times New Roman"/>
                  </a:rPr>
                  <a:t>N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(t)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2002680" y="5883480"/>
                <a:ext cx="4911840" cy="418680"/>
              </a:xfrm>
              <a:prstGeom prst="rect">
                <a:avLst/>
              </a:prstGeom>
              <a:solidFill>
                <a:srgbClr val="ccec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                      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Модель общего опыта M (E</a:t>
                </a:r>
                <a:r>
                  <a:rPr b="1" lang="en-US" sz="1400" spc="-1" strike="noStrike" baseline="30000">
                    <a:solidFill>
                      <a:srgbClr val="ff0066"/>
                    </a:solidFill>
                    <a:latin typeface="Times New Roman"/>
                  </a:rPr>
                  <a:t>C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(t)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20" name=""/>
            <p:cNvSpPr/>
            <p:nvPr/>
          </p:nvSpPr>
          <p:spPr>
            <a:xfrm>
              <a:off x="1404720" y="3988080"/>
              <a:ext cx="1716840" cy="1019880"/>
            </a:xfrm>
            <a:prstGeom prst="rect">
              <a:avLst/>
            </a:prstGeom>
            <a:solidFill>
              <a:srgbClr val="cce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0066"/>
                  </a:solidFill>
                  <a:latin typeface="Times New Roman"/>
                </a:rPr>
                <a:t>  </a:t>
              </a: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Sb</a:t>
              </a:r>
              <a:r>
                <a:rPr b="1" lang="en-US" sz="1400" spc="-1" strike="noStrike" baseline="-25000">
                  <a:solidFill>
                    <a:srgbClr val="ff0066"/>
                  </a:solidFill>
                  <a:latin typeface="Times New Roman"/>
                </a:rPr>
                <a:t>1</a:t>
              </a: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(t)</a:t>
              </a:r>
              <a:r>
                <a:rPr b="1" lang="ru-RU" sz="14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3507120" y="3984480"/>
              <a:ext cx="1716120" cy="1048320"/>
            </a:xfrm>
            <a:prstGeom prst="rect">
              <a:avLst/>
            </a:prstGeom>
            <a:solidFill>
              <a:srgbClr val="cce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Sb</a:t>
              </a:r>
              <a:r>
                <a:rPr b="1" lang="en-US" sz="1400" spc="-1" strike="noStrike" baseline="-25000">
                  <a:solidFill>
                    <a:srgbClr val="ff0066"/>
                  </a:solidFill>
                  <a:latin typeface="Times New Roman"/>
                </a:rPr>
                <a:t>2</a:t>
              </a: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(t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5895720" y="3984480"/>
              <a:ext cx="1716840" cy="1048320"/>
            </a:xfrm>
            <a:prstGeom prst="rect">
              <a:avLst/>
            </a:prstGeom>
            <a:solidFill>
              <a:srgbClr val="cce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Sb</a:t>
              </a:r>
              <a:r>
                <a:rPr b="1" lang="en-US" sz="1400" spc="-1" strike="noStrike" baseline="-25000">
                  <a:solidFill>
                    <a:srgbClr val="ff0066"/>
                  </a:solidFill>
                  <a:latin typeface="Times New Roman"/>
                </a:rPr>
                <a:t>N</a:t>
              </a: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(t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6193800" y="4389840"/>
              <a:ext cx="1194480" cy="562320"/>
            </a:xfrm>
            <a:prstGeom prst="rect">
              <a:avLst/>
            </a:prstGeom>
            <a:solidFill>
              <a:srgbClr val="cce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E</a:t>
              </a:r>
              <a:r>
                <a:rPr b="1" lang="en-US" sz="1400" spc="-1" strike="noStrike" baseline="-25000">
                  <a:solidFill>
                    <a:srgbClr val="ff0066"/>
                  </a:solidFill>
                  <a:latin typeface="Times New Roman"/>
                </a:rPr>
                <a:t>N</a:t>
              </a: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(t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1620720" y="4309200"/>
              <a:ext cx="593568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 flipH="1">
              <a:off x="1620360" y="4309200"/>
              <a:ext cx="12600" cy="88416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1620720" y="5193720"/>
              <a:ext cx="592992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7556400" y="4309200"/>
              <a:ext cx="0" cy="85176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6477120" y="4791960"/>
              <a:ext cx="0" cy="80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1728360" y="4389840"/>
              <a:ext cx="1194480" cy="562320"/>
            </a:xfrm>
            <a:prstGeom prst="rect">
              <a:avLst/>
            </a:prstGeom>
            <a:solidFill>
              <a:srgbClr val="cce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E</a:t>
              </a:r>
              <a:r>
                <a:rPr b="1" lang="en-US" sz="1400" spc="-1" strike="noStrike" baseline="-25000">
                  <a:solidFill>
                    <a:srgbClr val="ff0066"/>
                  </a:solidFill>
                  <a:latin typeface="Times New Roman"/>
                </a:rPr>
                <a:t>1</a:t>
              </a: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(t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3671280" y="4389840"/>
              <a:ext cx="1194480" cy="562320"/>
            </a:xfrm>
            <a:prstGeom prst="rect">
              <a:avLst/>
            </a:prstGeom>
            <a:solidFill>
              <a:srgbClr val="cce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E</a:t>
              </a:r>
              <a:r>
                <a:rPr b="1" lang="en-US" sz="1400" spc="-1" strike="noStrike" baseline="-25000">
                  <a:solidFill>
                    <a:srgbClr val="ff0066"/>
                  </a:solidFill>
                  <a:latin typeface="Times New Roman"/>
                </a:rPr>
                <a:t>2</a:t>
              </a: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(t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3994920" y="4791960"/>
              <a:ext cx="1440" cy="826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2052360" y="4791960"/>
              <a:ext cx="0" cy="826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380880" y="6858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380880" y="34290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МОДЕЛИ ОПЫ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304920" y="685800"/>
            <a:ext cx="8534160" cy="60199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7" name=""/>
          <p:cNvGrpSpPr/>
          <p:nvPr/>
        </p:nvGrpSpPr>
        <p:grpSpPr>
          <a:xfrm>
            <a:off x="1447920" y="1905120"/>
            <a:ext cx="6095520" cy="2971440"/>
            <a:chOff x="1447920" y="1905120"/>
            <a:chExt cx="6095520" cy="2971440"/>
          </a:xfrm>
        </p:grpSpPr>
        <p:sp>
          <p:nvSpPr>
            <p:cNvPr id="638" name=""/>
            <p:cNvSpPr/>
            <p:nvPr/>
          </p:nvSpPr>
          <p:spPr>
            <a:xfrm>
              <a:off x="1447920" y="1905120"/>
              <a:ext cx="6095520" cy="29714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1447920" y="3335760"/>
              <a:ext cx="6095520" cy="0"/>
            </a:xfrm>
            <a:prstGeom prst="line">
              <a:avLst/>
            </a:prstGeom>
            <a:ln w="5724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 flipV="1">
              <a:off x="4495320" y="3335400"/>
              <a:ext cx="0" cy="1540440"/>
            </a:xfrm>
            <a:prstGeom prst="line">
              <a:avLst/>
            </a:prstGeom>
            <a:ln w="5724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1" name=""/>
          <p:cNvSpPr/>
          <p:nvPr/>
        </p:nvSpPr>
        <p:spPr>
          <a:xfrm rot="1429200">
            <a:off x="1980720" y="1294920"/>
            <a:ext cx="2895840" cy="1828800"/>
          </a:xfrm>
          <a:prstGeom prst="ellipse">
            <a:avLst/>
          </a:prstGeom>
          <a:solidFill>
            <a:srgbClr val="ccec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Модели зна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 rot="1429200">
            <a:off x="5105160" y="3428640"/>
            <a:ext cx="2895480" cy="1828800"/>
          </a:xfrm>
          <a:prstGeom prst="ellipse">
            <a:avLst/>
          </a:prstGeom>
          <a:solidFill>
            <a:srgbClr val="ccec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Модели навы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 rot="19867200">
            <a:off x="4191120" y="1218960"/>
            <a:ext cx="3962160" cy="20574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Times New Roman"/>
              </a:rPr>
              <a:t>Модели интеллекту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Times New Roman"/>
              </a:rPr>
              <a:t>альных активност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 rot="19867200">
            <a:off x="1405080" y="3566880"/>
            <a:ext cx="3276360" cy="20574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Модели ум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457200" y="10666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Опы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685800" y="601992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Times New Roman"/>
              </a:rPr>
              <a:t>и его применения в человеко-компьютерных сред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1.ОСНОВ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685800"/>
            <a:ext cx="845820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838080" y="1143000"/>
            <a:ext cx="7848720" cy="9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Times New Roman"/>
              </a:rPr>
              <a:t>Предметная область </a:t>
            </a:r>
            <a:r>
              <a:rPr b="1" lang="ru-RU" sz="1600" spc="-1" strike="noStrike">
                <a:solidFill>
                  <a:srgbClr val="990000"/>
                </a:solidFill>
                <a:latin typeface="Times New Roman"/>
              </a:rPr>
              <a:t>(задачи в человеко-компьютерных средах, для решения которых необходимо включить в работу интеллект и</a:t>
            </a:r>
            <a:r>
              <a:rPr b="1" lang="en-US" sz="1600" spc="-1" strike="noStrike">
                <a:solidFill>
                  <a:srgbClr val="990000"/>
                </a:solidFill>
                <a:latin typeface="Times New Roman"/>
              </a:rPr>
              <a:t>/</a:t>
            </a:r>
            <a:r>
              <a:rPr b="1" lang="ru-RU" sz="1600" spc="-1" strike="noStrike">
                <a:solidFill>
                  <a:srgbClr val="990000"/>
                </a:solidFill>
                <a:latin typeface="Times New Roman"/>
              </a:rPr>
              <a:t>или его модели ):         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решение задач и  принятие решений, экспертиза и диагностика, распознавание образов и анализ сцен, общение и перевод, обучение, игры и </a:t>
            </a:r>
            <a:r>
              <a:rPr b="1" lang="ru-RU" sz="1600" spc="-1" strike="noStrike">
                <a:solidFill>
                  <a:srgbClr val="990000"/>
                </a:solidFill>
                <a:latin typeface="Times New Roman"/>
              </a:rPr>
              <a:t>другие задачи…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38080" y="2286000"/>
            <a:ext cx="7848720" cy="98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Объект исследований и моделирова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ИНТЕЛЛЕКТ- как комплекс методов и средств, локализованных в мозговых структурах и обеспечивающих формирование, систематизацию и использование опыта человека  в процессах его взаимодействия с окружающей средо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14400" y="3505320"/>
            <a:ext cx="7010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Основная Цель - 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повысить «коэффициент полезного действия»  применений человеком его интеллектуальных способносте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914400" y="4191120"/>
            <a:ext cx="7620120" cy="191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Times New Roman"/>
              </a:rPr>
              <a:t>История: 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1954-первые попытки машинного перевода и распознавания образов, 1957 - «Логик-теоретик», 1964- универсальный решатель проблем, 1971- интеллектуальный робот «Шейки», 1974- фреймы (М.Минский), 1980 - «японский вызов» -проект компьютеров 5-го поколения, 1982 - экспертные системы, 1990 - «мягкие вычисления», 1995 - нейросети и генетические алгоритмы, 1997 - интеллектуальные агенты, 2000- онтологии и управление знаниям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7632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1.1.ПРЕДМЕТНАЯ ОБЛА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28600" y="457200"/>
            <a:ext cx="8534520" cy="6172200"/>
          </a:xfrm>
          <a:prstGeom prst="rect">
            <a:avLst/>
          </a:prstGeom>
          <a:solidFill>
            <a:srgbClr val="ccff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990720"/>
            <a:ext cx="2133720" cy="5486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Abduction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AI Abduction and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Creativity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AI Architectures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Art and Music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Automated Reasoning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Autonomous Agents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Bayesian Learning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Belief Revision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Case-Based Reasoning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Causal Reasoning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Cognitive Modelling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Cognitive Robotics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Common-Sense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Reasoning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Computer-Aided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Learning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Conceptual Graphs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Configuration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Constraint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Programming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Constraint Satisfaction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Data Mining and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Knowledge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Discovery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Decision Theory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Deduction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Description Logics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Desig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743200" y="990720"/>
            <a:ext cx="2286000" cy="5486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Diagnosis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Discourse Modelling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Distributed AI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Game Playing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Evolutionary Algorithms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Geometric Reasoning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Inductive Logic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Programming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Information Extraction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Information Retrieval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Intelligent User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Interfaces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Knowledge Acquisition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Knowledge-Based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Systems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Knowledge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Representation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Logic Programming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Machine Learning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Machine Translation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Meta-Heuristics for AI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Model-Based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Reasoning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Multi-Agent Systems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Natural Language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Processing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Neural Networks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Nonmonotonic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Reas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257800" y="990720"/>
            <a:ext cx="3200400" cy="5486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Ontologies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Perception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Philosophica Foundations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Planning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Probabilistic Reasoning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Qualitative Reasoning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Real-Time Systems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Reasoning about Actions and Change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Reasoning under Uncertainty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Reinforcement Learning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Resource–Bounded Reasoning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Reuse of Knowledge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Robotics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Satisfiability Testing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Scheduling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Search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Spatial Reasoning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Speech Processing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Temporal Reasoning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Text Mining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Theorem Proving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User Modelling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Verification and Validation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Vi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62120" y="457200"/>
            <a:ext cx="784836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Arial"/>
                <a:ea typeface="Arial"/>
              </a:rPr>
              <a:t>Topics </a:t>
            </a: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ff0066"/>
                </a:solidFill>
                <a:latin typeface="Arial"/>
                <a:ea typeface="Arial"/>
              </a:rPr>
              <a:t>Submissions are invited on substantial, original and previously unpublished research in all fields of Artificial Intelligence, including, but not limited to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04920" y="685800"/>
            <a:ext cx="853416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1.2.ЗАДАЧ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762120"/>
            <a:ext cx="830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Задача это тип вопроса на который в опыте нет ответа, но  он может быть построен и будет построе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990720" y="1600200"/>
            <a:ext cx="7467480" cy="1297800"/>
            <a:chOff x="990720" y="1600200"/>
            <a:chExt cx="7467480" cy="1297800"/>
          </a:xfrm>
        </p:grpSpPr>
        <p:sp>
          <p:nvSpPr>
            <p:cNvPr id="59" name=""/>
            <p:cNvSpPr/>
            <p:nvPr/>
          </p:nvSpPr>
          <p:spPr>
            <a:xfrm>
              <a:off x="3657600" y="1600200"/>
              <a:ext cx="2438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66"/>
                  </a:solidFill>
                  <a:latin typeface="Times New Roman"/>
                </a:rPr>
                <a:t>Вопрос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990720" y="2438280"/>
              <a:ext cx="190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66"/>
                  </a:solidFill>
                  <a:latin typeface="Times New Roman"/>
                </a:rPr>
                <a:t>Проблем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581640" y="2438280"/>
              <a:ext cx="1904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66"/>
                  </a:solidFill>
                  <a:latin typeface="Times New Roman"/>
                </a:rPr>
                <a:t>Задач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553440" y="2438280"/>
              <a:ext cx="1904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66"/>
                  </a:solidFill>
                  <a:latin typeface="Times New Roman"/>
                </a:rPr>
                <a:t>Запрос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 flipH="1">
              <a:off x="2362320" y="2057400"/>
              <a:ext cx="129528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191120" y="20574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800600" y="1905120"/>
              <a:ext cx="213372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1066680" y="3124080"/>
            <a:ext cx="6851880" cy="3200400"/>
            <a:chOff x="1066680" y="3124080"/>
            <a:chExt cx="6851880" cy="3200400"/>
          </a:xfrm>
        </p:grpSpPr>
        <p:grpSp>
          <p:nvGrpSpPr>
            <p:cNvPr id="67" name=""/>
            <p:cNvGrpSpPr/>
            <p:nvPr/>
          </p:nvGrpSpPr>
          <p:grpSpPr>
            <a:xfrm>
              <a:off x="1295280" y="3124080"/>
              <a:ext cx="6623280" cy="3200400"/>
              <a:chOff x="1295280" y="3124080"/>
              <a:chExt cx="6623280" cy="3200400"/>
            </a:xfrm>
          </p:grpSpPr>
          <p:sp>
            <p:nvSpPr>
              <p:cNvPr id="68" name=""/>
              <p:cNvSpPr/>
              <p:nvPr/>
            </p:nvSpPr>
            <p:spPr>
              <a:xfrm>
                <a:off x="6934320" y="3809880"/>
                <a:ext cx="853920" cy="45720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Цели, продукт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1295280" y="5146560"/>
                <a:ext cx="603360" cy="27504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0066"/>
                    </a:solidFill>
                    <a:latin typeface="Times New Roman"/>
                  </a:rPr>
                  <a:t>St(t)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1695600" y="5500440"/>
                <a:ext cx="430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>
                <a:off x="2298240" y="6324480"/>
                <a:ext cx="44182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1981080" y="5181480"/>
                <a:ext cx="6368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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3475080" y="3733560"/>
                <a:ext cx="3443400" cy="2236680"/>
              </a:xfrm>
              <a:prstGeom prst="rect">
                <a:avLst/>
              </a:prstGeom>
              <a:solidFill>
                <a:srgbClr val="ffffcc"/>
              </a:solidFill>
              <a:ln w="381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3463920" y="3782880"/>
                <a:ext cx="194616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Деятельность D(t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5511960" y="3976560"/>
                <a:ext cx="1164960" cy="465120"/>
              </a:xfrm>
              <a:prstGeom prst="rect">
                <a:avLst/>
              </a:prstGeom>
              <a:solidFill>
                <a:srgbClr val="ffff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870440" y="4087440"/>
                <a:ext cx="1165320" cy="397080"/>
              </a:xfrm>
              <a:prstGeom prst="rect">
                <a:avLst/>
              </a:prstGeom>
              <a:solidFill>
                <a:srgbClr val="ffff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106880" y="4189320"/>
                <a:ext cx="1341360" cy="368280"/>
              </a:xfrm>
              <a:prstGeom prst="rect">
                <a:avLst/>
              </a:prstGeom>
              <a:solidFill>
                <a:srgbClr val="ffff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07680" y="4189320"/>
                <a:ext cx="1096560" cy="482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0066"/>
                    </a:solidFill>
                    <a:latin typeface="Times New Roman"/>
                  </a:rPr>
                  <a:t>действие d</a:t>
                </a:r>
                <a:r>
                  <a:rPr b="1" lang="ru-RU" sz="1200" spc="-1" strike="noStrike" baseline="-25000">
                    <a:solidFill>
                      <a:srgbClr val="ff0066"/>
                    </a:solidFill>
                    <a:latin typeface="Times New Roman"/>
                  </a:rPr>
                  <a:t>i</a:t>
                </a:r>
                <a:r>
                  <a:rPr b="1" lang="ru-RU" sz="1200" spc="-1" strike="noStrike">
                    <a:solidFill>
                      <a:srgbClr val="ff0066"/>
                    </a:solidFill>
                    <a:latin typeface="Times New Roman"/>
                  </a:rPr>
                  <a:t>(t)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5411880" y="4306680"/>
                <a:ext cx="1807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549680" y="4833720"/>
                <a:ext cx="1860480" cy="901800"/>
              </a:xfrm>
              <a:prstGeom prst="rect">
                <a:avLst/>
              </a:prstGeom>
              <a:solidFill>
                <a:srgbClr val="ffff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3587760" y="4890960"/>
                <a:ext cx="1539720" cy="426960"/>
              </a:xfrm>
              <a:prstGeom prst="rect">
                <a:avLst/>
              </a:prstGeom>
              <a:solidFill>
                <a:srgbClr val="ffff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3687480" y="4935240"/>
                <a:ext cx="953280" cy="27504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 </a:t>
                </a: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Опыт  E(t)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4727520" y="5340240"/>
                <a:ext cx="1465200" cy="27504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Рассуждение  D</a:t>
                </a:r>
                <a:r>
                  <a:rPr b="1" lang="en-US" sz="1200" spc="-1" strike="noStrike" baseline="30000">
                    <a:solidFill>
                      <a:srgbClr val="ff0066"/>
                    </a:solidFill>
                    <a:latin typeface="Times New Roman"/>
                  </a:rPr>
                  <a:t>R</a:t>
                </a: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(t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6215040" y="5643360"/>
                <a:ext cx="903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10360" y="4441680"/>
                <a:ext cx="0" cy="704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4205160" y="4441680"/>
                <a:ext cx="0" cy="469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2400480" y="5500440"/>
                <a:ext cx="2207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16880" y="5616360"/>
                <a:ext cx="0" cy="708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2298600" y="5616360"/>
                <a:ext cx="0" cy="708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2600280" y="5146560"/>
                <a:ext cx="803160" cy="26352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Symbol"/>
                    <a:ea typeface="Symbol"/>
                  </a:rPr>
                  <a:t></a:t>
                </a: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(t)=Q(t)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086600" y="5714640"/>
                <a:ext cx="831960" cy="35424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Код R(t)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3200400" y="3124080"/>
                <a:ext cx="259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66"/>
                    </a:solidFill>
                    <a:latin typeface="Times New Roman"/>
                  </a:rPr>
                  <a:t>Природа вопроса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>
              <a:off x="1066680" y="4724280"/>
              <a:ext cx="1219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66"/>
                  </a:solidFill>
                  <a:latin typeface="Times New Roman"/>
                </a:rPr>
                <a:t>Сиьтуаци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 flipV="1">
            <a:off x="533520" y="761760"/>
            <a:ext cx="8381880" cy="5867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ЗАДАЧ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838080" y="99072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Представление (работа 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38080" y="2971800"/>
            <a:ext cx="495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Поиск (работа 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963360" y="1371600"/>
            <a:ext cx="7647120" cy="1736640"/>
            <a:chOff x="963360" y="1371600"/>
            <a:chExt cx="7647120" cy="1736640"/>
          </a:xfrm>
        </p:grpSpPr>
        <p:sp>
          <p:nvSpPr>
            <p:cNvPr id="99" name=""/>
            <p:cNvSpPr/>
            <p:nvPr/>
          </p:nvSpPr>
          <p:spPr>
            <a:xfrm>
              <a:off x="4038480" y="1371600"/>
              <a:ext cx="3657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0000"/>
                  </a:solidFill>
                  <a:latin typeface="Times New Roman"/>
                </a:rPr>
                <a:t>МОДЕЛИРОВАНИ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963360" y="1577880"/>
              <a:ext cx="7647120" cy="1530360"/>
              <a:chOff x="963360" y="1577880"/>
              <a:chExt cx="7647120" cy="1530360"/>
            </a:xfrm>
          </p:grpSpPr>
          <p:sp>
            <p:nvSpPr>
              <p:cNvPr id="101" name=""/>
              <p:cNvSpPr/>
              <p:nvPr/>
            </p:nvSpPr>
            <p:spPr>
              <a:xfrm rot="20778000">
                <a:off x="1066680" y="1790640"/>
                <a:ext cx="1930680" cy="1104480"/>
              </a:xfrm>
              <a:custGeom>
                <a:avLst/>
                <a:gdLst/>
                <a:ahLst/>
                <a:rect l="l" t="t" r="r" b="b"/>
                <a:pathLst>
                  <a:path w="1304" h="784">
                    <a:moveTo>
                      <a:pt x="712" y="24"/>
                    </a:moveTo>
                    <a:cubicBezTo>
                      <a:pt x="520" y="0"/>
                      <a:pt x="240" y="80"/>
                      <a:pt x="136" y="168"/>
                    </a:cubicBezTo>
                    <a:cubicBezTo>
                      <a:pt x="32" y="256"/>
                      <a:pt x="0" y="456"/>
                      <a:pt x="88" y="552"/>
                    </a:cubicBezTo>
                    <a:cubicBezTo>
                      <a:pt x="176" y="648"/>
                      <a:pt x="464" y="784"/>
                      <a:pt x="664" y="744"/>
                    </a:cubicBezTo>
                    <a:cubicBezTo>
                      <a:pt x="864" y="704"/>
                      <a:pt x="1272" y="432"/>
                      <a:pt x="1288" y="312"/>
                    </a:cubicBezTo>
                    <a:cubicBezTo>
                      <a:pt x="1304" y="192"/>
                      <a:pt x="904" y="48"/>
                      <a:pt x="712" y="24"/>
                    </a:cubicBezTo>
                    <a:close/>
                  </a:path>
                </a:pathLst>
              </a:custGeom>
              <a:solidFill>
                <a:srgbClr val="0099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371600" y="2133360"/>
                <a:ext cx="1371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ВОПРОС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3276720" y="1676520"/>
                <a:ext cx="2361960" cy="1295280"/>
              </a:xfrm>
              <a:prstGeom prst="ellipse">
                <a:avLst/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6477120" y="1828800"/>
                <a:ext cx="2133360" cy="114264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2819520" y="243828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3429000" y="1981080"/>
                <a:ext cx="2209680" cy="63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СОДЕРЖАТЕЛЬНОЕ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ПРЕДСТАВЛЕНИЕ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6553080" y="2057400"/>
                <a:ext cx="198144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ФОРМАЛЬНОЕ ПРЕДСТАВЛЕНИЕ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715000" y="1904760"/>
                <a:ext cx="53352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5715000" y="2209680"/>
                <a:ext cx="6858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0066"/>
                    </a:solidFill>
                    <a:latin typeface="Times New Roman"/>
                  </a:rPr>
                  <a:t>+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0" name=""/>
          <p:cNvGrpSpPr/>
          <p:nvPr/>
        </p:nvGrpSpPr>
        <p:grpSpPr>
          <a:xfrm>
            <a:off x="3733920" y="3143160"/>
            <a:ext cx="4952880" cy="3409920"/>
            <a:chOff x="3733920" y="3143160"/>
            <a:chExt cx="4952880" cy="3409920"/>
          </a:xfrm>
        </p:grpSpPr>
        <p:sp>
          <p:nvSpPr>
            <p:cNvPr id="111" name=""/>
            <p:cNvSpPr/>
            <p:nvPr/>
          </p:nvSpPr>
          <p:spPr>
            <a:xfrm flipH="1" rot="5317200">
              <a:off x="6047280" y="951480"/>
              <a:ext cx="228600" cy="4722840"/>
            </a:xfrm>
            <a:custGeom>
              <a:avLst/>
              <a:gdLst>
                <a:gd name="textAreaLeft" fmla="*/ 145800 w 228600"/>
                <a:gd name="textAreaRight" fmla="*/ 228600 w 228600"/>
                <a:gd name="textAreaTop" fmla="*/ 123120 h 4722840"/>
                <a:gd name="textAreaBottom" fmla="*/ 4599720 h 4722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038480" y="3352680"/>
              <a:ext cx="457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0000"/>
                  </a:solidFill>
                  <a:latin typeface="Times New Roman"/>
                </a:rPr>
                <a:t>Поисковый образ - система запросов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191120" y="3733920"/>
              <a:ext cx="4495680" cy="281916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343400" y="6080040"/>
              <a:ext cx="4267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66"/>
                  </a:solidFill>
                  <a:latin typeface="Times New Roman"/>
                </a:rPr>
                <a:t>БАЗА ПРЕЦЕДЕНТОВ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419720" y="3886200"/>
              <a:ext cx="4114800" cy="3049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572000" y="3886200"/>
              <a:ext cx="3809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СИСТЕМА ДОСТУП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724280" y="4343400"/>
              <a:ext cx="3657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РАЗДЕЛЫ И ПОДРАЗДЕЛЫ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7543800" y="4724280"/>
              <a:ext cx="990720" cy="1219320"/>
              <a:chOff x="7543800" y="4724280"/>
              <a:chExt cx="990720" cy="1219320"/>
            </a:xfrm>
          </p:grpSpPr>
          <p:sp>
            <p:nvSpPr>
              <p:cNvPr id="119" name=""/>
              <p:cNvSpPr/>
              <p:nvPr/>
            </p:nvSpPr>
            <p:spPr>
              <a:xfrm>
                <a:off x="7543800" y="4724280"/>
                <a:ext cx="990720" cy="121932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543800" y="5715000"/>
                <a:ext cx="990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543800" y="5181480"/>
                <a:ext cx="990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543800" y="4952880"/>
                <a:ext cx="990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7924680" y="4724280"/>
                <a:ext cx="0" cy="1219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7772400" y="4724280"/>
                <a:ext cx="0" cy="1219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8305920" y="4724280"/>
                <a:ext cx="0" cy="1219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6" name=""/>
            <p:cNvGrpSpPr/>
            <p:nvPr/>
          </p:nvGrpSpPr>
          <p:grpSpPr>
            <a:xfrm>
              <a:off x="5791320" y="4724280"/>
              <a:ext cx="990360" cy="1219320"/>
              <a:chOff x="5791320" y="4724280"/>
              <a:chExt cx="990360" cy="1219320"/>
            </a:xfrm>
          </p:grpSpPr>
          <p:sp>
            <p:nvSpPr>
              <p:cNvPr id="127" name=""/>
              <p:cNvSpPr/>
              <p:nvPr/>
            </p:nvSpPr>
            <p:spPr>
              <a:xfrm>
                <a:off x="5791320" y="4724280"/>
                <a:ext cx="990360" cy="121932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5791320" y="5638680"/>
                <a:ext cx="990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5791320" y="5181480"/>
                <a:ext cx="990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5791320" y="4952880"/>
                <a:ext cx="990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5943600" y="4724280"/>
                <a:ext cx="0" cy="1219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6324480" y="4724280"/>
                <a:ext cx="0" cy="1219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6629400" y="4724280"/>
                <a:ext cx="0" cy="1219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" name=""/>
            <p:cNvGrpSpPr/>
            <p:nvPr/>
          </p:nvGrpSpPr>
          <p:grpSpPr>
            <a:xfrm>
              <a:off x="4419720" y="4724280"/>
              <a:ext cx="990360" cy="1219320"/>
              <a:chOff x="4419720" y="4724280"/>
              <a:chExt cx="990360" cy="1219320"/>
            </a:xfrm>
          </p:grpSpPr>
          <p:sp>
            <p:nvSpPr>
              <p:cNvPr id="135" name=""/>
              <p:cNvSpPr/>
              <p:nvPr/>
            </p:nvSpPr>
            <p:spPr>
              <a:xfrm>
                <a:off x="4419720" y="4724280"/>
                <a:ext cx="990360" cy="121932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419720" y="4876560"/>
                <a:ext cx="990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419720" y="5181480"/>
                <a:ext cx="990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419720" y="5790960"/>
                <a:ext cx="990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4724280" y="4724280"/>
                <a:ext cx="0" cy="1219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257800" y="4724280"/>
                <a:ext cx="0" cy="1219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4800600" y="4724280"/>
                <a:ext cx="0" cy="1219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2" name=""/>
            <p:cNvSpPr/>
            <p:nvPr/>
          </p:nvSpPr>
          <p:spPr>
            <a:xfrm flipH="1">
              <a:off x="3733920" y="4876920"/>
              <a:ext cx="38088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762120" y="3733920"/>
            <a:ext cx="2895480" cy="2666880"/>
            <a:chOff x="762120" y="3733920"/>
            <a:chExt cx="2895480" cy="2666880"/>
          </a:xfrm>
        </p:grpSpPr>
        <p:sp>
          <p:nvSpPr>
            <p:cNvPr id="144" name=""/>
            <p:cNvSpPr/>
            <p:nvPr/>
          </p:nvSpPr>
          <p:spPr>
            <a:xfrm>
              <a:off x="762120" y="3733920"/>
              <a:ext cx="2819160" cy="26668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914400" y="3886200"/>
              <a:ext cx="2743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0000"/>
                  </a:solidFill>
                  <a:latin typeface="Times New Roman"/>
                </a:rPr>
                <a:t>КОМБИНАТОРИК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6" name=""/>
            <p:cNvGrpSpPr/>
            <p:nvPr/>
          </p:nvGrpSpPr>
          <p:grpSpPr>
            <a:xfrm>
              <a:off x="990720" y="4495680"/>
              <a:ext cx="2209680" cy="1447920"/>
              <a:chOff x="990720" y="4495680"/>
              <a:chExt cx="2209680" cy="1447920"/>
            </a:xfrm>
          </p:grpSpPr>
          <p:sp>
            <p:nvSpPr>
              <p:cNvPr id="147" name=""/>
              <p:cNvSpPr/>
              <p:nvPr/>
            </p:nvSpPr>
            <p:spPr>
              <a:xfrm>
                <a:off x="990720" y="4800600"/>
                <a:ext cx="152280" cy="1522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1752480" y="4495680"/>
                <a:ext cx="152640" cy="1526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1295280" y="5181480"/>
                <a:ext cx="152640" cy="1526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1600200" y="4800600"/>
                <a:ext cx="152280" cy="1522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600200" y="5410080"/>
                <a:ext cx="152280" cy="1526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1981080" y="5105520"/>
                <a:ext cx="152640" cy="1522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1981080" y="5791320"/>
                <a:ext cx="152640" cy="1522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2362320" y="5562720"/>
                <a:ext cx="152280" cy="1522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2514600" y="4800600"/>
                <a:ext cx="152280" cy="1522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2895480" y="5181480"/>
                <a:ext cx="152640" cy="1526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3048120" y="5791320"/>
                <a:ext cx="152280" cy="1522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flipV="1">
                <a:off x="1219320" y="4571640"/>
                <a:ext cx="53316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1219320" y="4876920"/>
                <a:ext cx="380880" cy="7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1905120" y="4572000"/>
                <a:ext cx="60948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1905120" y="4648320"/>
                <a:ext cx="15228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1219320" y="4876920"/>
                <a:ext cx="7596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1676520" y="4952880"/>
                <a:ext cx="22860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1371600" y="5334120"/>
                <a:ext cx="228600" cy="7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1981080" y="5257800"/>
                <a:ext cx="7632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1752480" y="5562720"/>
                <a:ext cx="15264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 flipV="1">
                <a:off x="2209680" y="5714640"/>
                <a:ext cx="15264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2209680" y="5181480"/>
                <a:ext cx="22860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 flipV="1">
                <a:off x="2286000" y="4952880"/>
                <a:ext cx="15228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2743200" y="4952880"/>
                <a:ext cx="22860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 flipV="1">
                <a:off x="2514600" y="5257440"/>
                <a:ext cx="30492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2286000" y="5867280"/>
                <a:ext cx="762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3048120" y="5410080"/>
                <a:ext cx="7596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ЗАДАЧ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28600" y="914400"/>
            <a:ext cx="8686800" cy="56386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828800" y="99072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КОМБИНАТОР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1371600"/>
            <a:ext cx="784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Лабиринтная гипотеза: поиск метода решения задачи подобен поиску пути в лабиринт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33520" y="4952880"/>
            <a:ext cx="7848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Модельная гипотеза: поиск метода решения задачи подобен построению «лабиринта» в котором с высокой гарантией найдется  путь, раскрывающий  метод решения задач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066680" y="2209680"/>
            <a:ext cx="7086600" cy="2743200"/>
          </a:xfrm>
          <a:prstGeom prst="rect">
            <a:avLst/>
          </a:prstGeom>
          <a:solidFill>
            <a:srgbClr val="0099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2209680" y="2590920"/>
            <a:ext cx="5639040" cy="2133360"/>
            <a:chOff x="2209680" y="2590920"/>
            <a:chExt cx="5639040" cy="2133360"/>
          </a:xfrm>
        </p:grpSpPr>
        <p:sp>
          <p:nvSpPr>
            <p:cNvPr id="181" name=""/>
            <p:cNvSpPr/>
            <p:nvPr/>
          </p:nvSpPr>
          <p:spPr>
            <a:xfrm flipV="1">
              <a:off x="2209680" y="2818800"/>
              <a:ext cx="685800" cy="99036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209680" y="3809880"/>
              <a:ext cx="1371600" cy="91404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 flipV="1">
              <a:off x="2895480" y="2590920"/>
              <a:ext cx="1905120" cy="22824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 flipV="1">
              <a:off x="2209680" y="3352320"/>
              <a:ext cx="2286000" cy="456840"/>
            </a:xfrm>
            <a:prstGeom prst="line">
              <a:avLst/>
            </a:prstGeom>
            <a:ln w="57240">
              <a:solidFill>
                <a:srgbClr val="99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 flipV="1">
              <a:off x="3505320" y="4038480"/>
              <a:ext cx="2666880" cy="68544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419720" y="3352680"/>
              <a:ext cx="1828800" cy="685440"/>
            </a:xfrm>
            <a:prstGeom prst="line">
              <a:avLst/>
            </a:prstGeom>
            <a:ln w="57240">
              <a:solidFill>
                <a:srgbClr val="99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V="1">
              <a:off x="4343400" y="3047760"/>
              <a:ext cx="1219320" cy="30456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581280" y="4724280"/>
              <a:ext cx="3048120" cy="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724280" y="2590920"/>
              <a:ext cx="838440" cy="45684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flipV="1">
              <a:off x="6172200" y="3200040"/>
              <a:ext cx="1676520" cy="83772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562720" y="3047760"/>
              <a:ext cx="838080" cy="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flipV="1">
              <a:off x="6248520" y="3047400"/>
              <a:ext cx="152280" cy="990360"/>
            </a:xfrm>
            <a:prstGeom prst="line">
              <a:avLst/>
            </a:prstGeom>
            <a:ln w="57240">
              <a:solidFill>
                <a:srgbClr val="99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400800" y="3047760"/>
              <a:ext cx="1371600" cy="152280"/>
            </a:xfrm>
            <a:prstGeom prst="line">
              <a:avLst/>
            </a:prstGeom>
            <a:ln w="57240">
              <a:solidFill>
                <a:srgbClr val="99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724280" y="2590920"/>
              <a:ext cx="1676520" cy="45684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flipV="1">
              <a:off x="6553080" y="3200400"/>
              <a:ext cx="1295640" cy="152352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895480" y="2819160"/>
              <a:ext cx="1447920" cy="53316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7" name=""/>
          <p:cNvSpPr/>
          <p:nvPr/>
        </p:nvSpPr>
        <p:spPr>
          <a:xfrm>
            <a:off x="1143000" y="2362320"/>
            <a:ext cx="281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Times New Roman"/>
              </a:rPr>
              <a:t>МОДЕЛЬ ЛАБИРИН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010280" y="4419720"/>
            <a:ext cx="99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Times New Roman"/>
              </a:rPr>
              <a:t>ГРА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124080" y="3581280"/>
            <a:ext cx="160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Times New Roman"/>
              </a:rPr>
              <a:t>«ПУТЬ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295280" y="3352680"/>
            <a:ext cx="457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Times New Roman"/>
              </a:rPr>
              <a:t>S</a:t>
            </a:r>
            <a:r>
              <a:rPr b="1" lang="en-US" sz="1800" spc="-1" strike="noStrike" baseline="-25000">
                <a:solidFill>
                  <a:srgbClr val="99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543800" y="2666880"/>
            <a:ext cx="457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Times New Roman"/>
              </a:rPr>
              <a:t>S</a:t>
            </a:r>
            <a:r>
              <a:rPr b="1" lang="en-US" sz="1800" spc="-1" strike="noStrike" baseline="-25000">
                <a:solidFill>
                  <a:srgbClr val="990000"/>
                </a:solidFill>
                <a:latin typeface="Times New Roman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1.3.ОПЫ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52280" y="533520"/>
            <a:ext cx="8686800" cy="6019560"/>
          </a:xfrm>
          <a:prstGeom prst="rect">
            <a:avLst/>
          </a:prstGeom>
          <a:solidFill>
            <a:srgbClr val="ffff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38080" y="76212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ПРЕЦЕДЕН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380880" y="1219320"/>
            <a:ext cx="4267440" cy="2438280"/>
            <a:chOff x="380880" y="1219320"/>
            <a:chExt cx="4267440" cy="2438280"/>
          </a:xfrm>
        </p:grpSpPr>
        <p:grpSp>
          <p:nvGrpSpPr>
            <p:cNvPr id="206" name=""/>
            <p:cNvGrpSpPr/>
            <p:nvPr/>
          </p:nvGrpSpPr>
          <p:grpSpPr>
            <a:xfrm>
              <a:off x="380880" y="1219320"/>
              <a:ext cx="3810240" cy="1981080"/>
              <a:chOff x="380880" y="1219320"/>
              <a:chExt cx="3810240" cy="1981080"/>
            </a:xfrm>
          </p:grpSpPr>
          <p:sp>
            <p:nvSpPr>
              <p:cNvPr id="207" name=""/>
              <p:cNvSpPr/>
              <p:nvPr/>
            </p:nvSpPr>
            <p:spPr>
              <a:xfrm>
                <a:off x="380880" y="1219320"/>
                <a:ext cx="3810240" cy="19810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08" name=""/>
              <p:cNvGrpSpPr/>
              <p:nvPr/>
            </p:nvGrpSpPr>
            <p:grpSpPr>
              <a:xfrm>
                <a:off x="474840" y="1281240"/>
                <a:ext cx="1879560" cy="270720"/>
                <a:chOff x="474840" y="1281240"/>
                <a:chExt cx="1879560" cy="270720"/>
              </a:xfrm>
            </p:grpSpPr>
            <p:sp>
              <p:nvSpPr>
                <p:cNvPr id="209" name=""/>
                <p:cNvSpPr/>
                <p:nvPr/>
              </p:nvSpPr>
              <p:spPr>
                <a:xfrm>
                  <a:off x="474840" y="1300680"/>
                  <a:ext cx="860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d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567000" y="1281240"/>
                  <a:ext cx="676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e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615960" y="1369080"/>
                  <a:ext cx="435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i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645840" y="1300680"/>
                  <a:ext cx="1515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(t)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813960" y="1300680"/>
                  <a:ext cx="511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: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868680" y="1304640"/>
                  <a:ext cx="11239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так как [мотивы  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2098080" y="1300680"/>
                  <a:ext cx="1440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M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2265120" y="1304640"/>
                  <a:ext cx="892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 </a:t>
                  </a: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]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7" name=""/>
              <p:cNvSpPr/>
              <p:nvPr/>
            </p:nvSpPr>
            <p:spPr>
              <a:xfrm>
                <a:off x="973800" y="1552680"/>
                <a:ext cx="11847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поскольку  [цели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2269800" y="154944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2389320" y="1552680"/>
                <a:ext cx="892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</a:t>
                </a: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]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974520" y="1803600"/>
                <a:ext cx="305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1239480" y="1800360"/>
                <a:ext cx="83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1398240" y="1803600"/>
                <a:ext cx="381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3" name=""/>
              <p:cNvGrpSpPr/>
              <p:nvPr/>
            </p:nvGrpSpPr>
            <p:grpSpPr>
              <a:xfrm>
                <a:off x="1453680" y="1800360"/>
                <a:ext cx="1783440" cy="186480"/>
                <a:chOff x="1453680" y="1800360"/>
                <a:chExt cx="1783440" cy="186480"/>
              </a:xfrm>
            </p:grpSpPr>
            <p:sp>
              <p:nvSpPr>
                <p:cNvPr id="224" name=""/>
                <p:cNvSpPr/>
                <p:nvPr/>
              </p:nvSpPr>
              <p:spPr>
                <a:xfrm>
                  <a:off x="1453680" y="1803960"/>
                  <a:ext cx="1152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   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1574640" y="1803960"/>
                  <a:ext cx="12427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если [предусловия 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2944440" y="1800360"/>
                  <a:ext cx="1530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U'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3109680" y="1803960"/>
                  <a:ext cx="1274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 </a:t>
                  </a: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],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8" name=""/>
              <p:cNvSpPr/>
              <p:nvPr/>
            </p:nvSpPr>
            <p:spPr>
              <a:xfrm>
                <a:off x="974520" y="205272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1239840" y="2048040"/>
                <a:ext cx="1576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ы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1553760" y="2052720"/>
                <a:ext cx="153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1776240" y="2052720"/>
                <a:ext cx="1105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             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2596680" y="2048040"/>
                <a:ext cx="1405080" cy="249480"/>
                <a:chOff x="2596680" y="2048040"/>
                <a:chExt cx="1405080" cy="249480"/>
              </a:xfrm>
            </p:grpSpPr>
            <p:sp>
              <p:nvSpPr>
                <p:cNvPr id="233" name=""/>
                <p:cNvSpPr/>
                <p:nvPr/>
              </p:nvSpPr>
              <p:spPr>
                <a:xfrm>
                  <a:off x="2596680" y="2050560"/>
                  <a:ext cx="8665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то   [реакция 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3610440" y="2048040"/>
                  <a:ext cx="676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r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3673440" y="2114640"/>
                  <a:ext cx="860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q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3743640" y="2048040"/>
                  <a:ext cx="1515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(t)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3912480" y="2051640"/>
                  <a:ext cx="892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],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1404720" y="2300400"/>
                <a:ext cx="6483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 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1263240" y="229716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б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2195280" y="23004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2238120" y="230040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2445840" y="230040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2530080" y="2300400"/>
                <a:ext cx="2293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44" name=""/>
              <p:cNvGrpSpPr/>
              <p:nvPr/>
            </p:nvGrpSpPr>
            <p:grpSpPr>
              <a:xfrm>
                <a:off x="1595160" y="2297160"/>
                <a:ext cx="2043360" cy="185400"/>
                <a:chOff x="1595160" y="2297160"/>
                <a:chExt cx="2043360" cy="185400"/>
              </a:xfrm>
            </p:grpSpPr>
            <p:sp>
              <p:nvSpPr>
                <p:cNvPr id="245" name=""/>
                <p:cNvSpPr/>
                <p:nvPr/>
              </p:nvSpPr>
              <p:spPr>
                <a:xfrm>
                  <a:off x="1595160" y="2299680"/>
                  <a:ext cx="15811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из-за чего [постусловия 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3330720" y="2297160"/>
                  <a:ext cx="1958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U"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3549240" y="2299680"/>
                  <a:ext cx="892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 </a:t>
                  </a: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]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48" name=""/>
              <p:cNvSpPr/>
              <p:nvPr/>
            </p:nvSpPr>
            <p:spPr>
              <a:xfrm>
                <a:off x="545760" y="2549520"/>
                <a:ext cx="4579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1045800" y="254952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1253880" y="254664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о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1337760" y="254952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1420920" y="254952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-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1480680" y="2549520"/>
                <a:ext cx="6040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------------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2152080" y="2549520"/>
                <a:ext cx="630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------- --- -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866520" y="2799000"/>
                <a:ext cx="381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1285200" y="27957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р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1377720" y="279900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1458720" y="2799000"/>
                <a:ext cx="4197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1919160" y="2799000"/>
                <a:ext cx="1311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были альтернативы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3356640" y="2795760"/>
                <a:ext cx="215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[ {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3591720" y="28638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p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3652920" y="2795760"/>
                <a:ext cx="1486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} ]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3814560" y="27990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,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1508040" y="1876680"/>
                <a:ext cx="173160" cy="1098360"/>
              </a:xfrm>
              <a:custGeom>
                <a:avLst/>
                <a:gdLst/>
                <a:ahLst/>
                <a:rect l="l" t="t" r="r" b="b"/>
                <a:pathLst>
                  <a:path w="230" h="1701">
                    <a:moveTo>
                      <a:pt x="230" y="0"/>
                    </a:moveTo>
                    <a:lnTo>
                      <a:pt x="207" y="4"/>
                    </a:lnTo>
                    <a:lnTo>
                      <a:pt x="186" y="12"/>
                    </a:lnTo>
                    <a:lnTo>
                      <a:pt x="167" y="25"/>
                    </a:lnTo>
                    <a:lnTo>
                      <a:pt x="150" y="43"/>
                    </a:lnTo>
                    <a:lnTo>
                      <a:pt x="134" y="64"/>
                    </a:lnTo>
                    <a:lnTo>
                      <a:pt x="125" y="87"/>
                    </a:lnTo>
                    <a:lnTo>
                      <a:pt x="117" y="114"/>
                    </a:lnTo>
                    <a:lnTo>
                      <a:pt x="115" y="143"/>
                    </a:lnTo>
                    <a:lnTo>
                      <a:pt x="115" y="711"/>
                    </a:lnTo>
                    <a:lnTo>
                      <a:pt x="113" y="740"/>
                    </a:lnTo>
                    <a:lnTo>
                      <a:pt x="105" y="764"/>
                    </a:lnTo>
                    <a:lnTo>
                      <a:pt x="96" y="789"/>
                    </a:lnTo>
                    <a:lnTo>
                      <a:pt x="80" y="811"/>
                    </a:lnTo>
                    <a:lnTo>
                      <a:pt x="65" y="826"/>
                    </a:lnTo>
                    <a:lnTo>
                      <a:pt x="44" y="839"/>
                    </a:lnTo>
                    <a:lnTo>
                      <a:pt x="23" y="849"/>
                    </a:lnTo>
                    <a:lnTo>
                      <a:pt x="0" y="851"/>
                    </a:lnTo>
                    <a:lnTo>
                      <a:pt x="23" y="855"/>
                    </a:lnTo>
                    <a:lnTo>
                      <a:pt x="44" y="862"/>
                    </a:lnTo>
                    <a:lnTo>
                      <a:pt x="65" y="876"/>
                    </a:lnTo>
                    <a:lnTo>
                      <a:pt x="80" y="893"/>
                    </a:lnTo>
                    <a:lnTo>
                      <a:pt x="96" y="914"/>
                    </a:lnTo>
                    <a:lnTo>
                      <a:pt x="105" y="937"/>
                    </a:lnTo>
                    <a:lnTo>
                      <a:pt x="113" y="964"/>
                    </a:lnTo>
                    <a:lnTo>
                      <a:pt x="115" y="993"/>
                    </a:lnTo>
                    <a:lnTo>
                      <a:pt x="115" y="1559"/>
                    </a:lnTo>
                    <a:lnTo>
                      <a:pt x="117" y="1588"/>
                    </a:lnTo>
                    <a:lnTo>
                      <a:pt x="125" y="1615"/>
                    </a:lnTo>
                    <a:lnTo>
                      <a:pt x="134" y="1638"/>
                    </a:lnTo>
                    <a:lnTo>
                      <a:pt x="150" y="1659"/>
                    </a:lnTo>
                    <a:lnTo>
                      <a:pt x="167" y="1676"/>
                    </a:lnTo>
                    <a:lnTo>
                      <a:pt x="186" y="1690"/>
                    </a:lnTo>
                    <a:lnTo>
                      <a:pt x="207" y="1699"/>
                    </a:lnTo>
                    <a:lnTo>
                      <a:pt x="230" y="1701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5" name=""/>
            <p:cNvGrpSpPr/>
            <p:nvPr/>
          </p:nvGrpSpPr>
          <p:grpSpPr>
            <a:xfrm>
              <a:off x="533520" y="1371600"/>
              <a:ext cx="3809880" cy="1981080"/>
              <a:chOff x="533520" y="1371600"/>
              <a:chExt cx="3809880" cy="1981080"/>
            </a:xfrm>
          </p:grpSpPr>
          <p:sp>
            <p:nvSpPr>
              <p:cNvPr id="266" name=""/>
              <p:cNvSpPr/>
              <p:nvPr/>
            </p:nvSpPr>
            <p:spPr>
              <a:xfrm>
                <a:off x="533520" y="1371600"/>
                <a:ext cx="3809880" cy="19810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7" name=""/>
              <p:cNvGrpSpPr/>
              <p:nvPr/>
            </p:nvGrpSpPr>
            <p:grpSpPr>
              <a:xfrm>
                <a:off x="627120" y="1433520"/>
                <a:ext cx="1879200" cy="270720"/>
                <a:chOff x="627120" y="1433520"/>
                <a:chExt cx="1879200" cy="27072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27120" y="1452960"/>
                  <a:ext cx="860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d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719280" y="1433520"/>
                  <a:ext cx="676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e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768240" y="1521360"/>
                  <a:ext cx="435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i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797760" y="1452960"/>
                  <a:ext cx="1515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(t)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966240" y="1452960"/>
                  <a:ext cx="511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: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>
                  <a:off x="1020600" y="1456920"/>
                  <a:ext cx="11239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так как [мотивы  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>
                  <a:off x="2250000" y="1452960"/>
                  <a:ext cx="1440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M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2417040" y="1456920"/>
                  <a:ext cx="892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 </a:t>
                  </a: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]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76" name=""/>
              <p:cNvSpPr/>
              <p:nvPr/>
            </p:nvSpPr>
            <p:spPr>
              <a:xfrm>
                <a:off x="1126080" y="1704960"/>
                <a:ext cx="11847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поскольку  [цели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2421720" y="170172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2541240" y="1704960"/>
                <a:ext cx="892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</a:t>
                </a: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]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1126440" y="1955880"/>
                <a:ext cx="305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1391760" y="1952640"/>
                <a:ext cx="83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1550520" y="1955880"/>
                <a:ext cx="381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1605960" y="1952640"/>
                <a:ext cx="1783080" cy="186480"/>
                <a:chOff x="1605960" y="1952640"/>
                <a:chExt cx="1783080" cy="186480"/>
              </a:xfrm>
            </p:grpSpPr>
            <p:sp>
              <p:nvSpPr>
                <p:cNvPr id="283" name=""/>
                <p:cNvSpPr/>
                <p:nvPr/>
              </p:nvSpPr>
              <p:spPr>
                <a:xfrm>
                  <a:off x="1605960" y="1956240"/>
                  <a:ext cx="1152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   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1726560" y="1956240"/>
                  <a:ext cx="12427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если [предусловия 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3096360" y="1952640"/>
                  <a:ext cx="1530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U'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3261600" y="1956240"/>
                  <a:ext cx="1274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 </a:t>
                  </a: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],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87" name=""/>
              <p:cNvSpPr/>
              <p:nvPr/>
            </p:nvSpPr>
            <p:spPr>
              <a:xfrm>
                <a:off x="1126440" y="220500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1391760" y="2200320"/>
                <a:ext cx="1576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ы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1706040" y="2205000"/>
                <a:ext cx="153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1928160" y="2205000"/>
                <a:ext cx="1105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             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91" name=""/>
              <p:cNvGrpSpPr/>
              <p:nvPr/>
            </p:nvGrpSpPr>
            <p:grpSpPr>
              <a:xfrm>
                <a:off x="2748960" y="2200320"/>
                <a:ext cx="1404720" cy="249480"/>
                <a:chOff x="2748960" y="2200320"/>
                <a:chExt cx="1404720" cy="249480"/>
              </a:xfrm>
            </p:grpSpPr>
            <p:sp>
              <p:nvSpPr>
                <p:cNvPr id="292" name=""/>
                <p:cNvSpPr/>
                <p:nvPr/>
              </p:nvSpPr>
              <p:spPr>
                <a:xfrm>
                  <a:off x="2748960" y="2202840"/>
                  <a:ext cx="8665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то   [реакция 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3762360" y="2200320"/>
                  <a:ext cx="676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r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>
                  <a:off x="3825360" y="2266920"/>
                  <a:ext cx="860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q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3895560" y="2200320"/>
                  <a:ext cx="1515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(t)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4064400" y="2203920"/>
                  <a:ext cx="892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],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97" name=""/>
              <p:cNvSpPr/>
              <p:nvPr/>
            </p:nvSpPr>
            <p:spPr>
              <a:xfrm>
                <a:off x="1557000" y="2452680"/>
                <a:ext cx="6483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 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1415520" y="244944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б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2347200" y="24526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2390400" y="245268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598120" y="245268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2682360" y="2452680"/>
                <a:ext cx="2293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03" name=""/>
              <p:cNvGrpSpPr/>
              <p:nvPr/>
            </p:nvGrpSpPr>
            <p:grpSpPr>
              <a:xfrm>
                <a:off x="1747080" y="2449440"/>
                <a:ext cx="2043360" cy="185400"/>
                <a:chOff x="1747080" y="2449440"/>
                <a:chExt cx="2043360" cy="185400"/>
              </a:xfrm>
            </p:grpSpPr>
            <p:sp>
              <p:nvSpPr>
                <p:cNvPr id="304" name=""/>
                <p:cNvSpPr/>
                <p:nvPr/>
              </p:nvSpPr>
              <p:spPr>
                <a:xfrm>
                  <a:off x="1747080" y="2451960"/>
                  <a:ext cx="15811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из-за чего [постусловия 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3482640" y="2449440"/>
                  <a:ext cx="1958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U"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>
                  <a:off x="3701160" y="2451960"/>
                  <a:ext cx="892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 </a:t>
                  </a: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]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7" name=""/>
              <p:cNvSpPr/>
              <p:nvPr/>
            </p:nvSpPr>
            <p:spPr>
              <a:xfrm>
                <a:off x="698040" y="2701800"/>
                <a:ext cx="4579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1198080" y="270180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1405800" y="269892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о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1490040" y="270180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1572840" y="270180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-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1632600" y="2701800"/>
                <a:ext cx="6040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------------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2304000" y="2701800"/>
                <a:ext cx="630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------- --- -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1018800" y="2951280"/>
                <a:ext cx="381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1437120" y="29480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р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1529640" y="295128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1611000" y="2951280"/>
                <a:ext cx="4197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2071440" y="2951280"/>
                <a:ext cx="1311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были альтернативы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3508920" y="2948040"/>
                <a:ext cx="215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[ {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3743640" y="30160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p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3805200" y="2948040"/>
                <a:ext cx="1486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} ]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3966480" y="29512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,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1660320" y="2028960"/>
                <a:ext cx="172800" cy="1098360"/>
              </a:xfrm>
              <a:custGeom>
                <a:avLst/>
                <a:gdLst/>
                <a:ahLst/>
                <a:rect l="l" t="t" r="r" b="b"/>
                <a:pathLst>
                  <a:path w="230" h="1701">
                    <a:moveTo>
                      <a:pt x="230" y="0"/>
                    </a:moveTo>
                    <a:lnTo>
                      <a:pt x="207" y="4"/>
                    </a:lnTo>
                    <a:lnTo>
                      <a:pt x="186" y="12"/>
                    </a:lnTo>
                    <a:lnTo>
                      <a:pt x="167" y="25"/>
                    </a:lnTo>
                    <a:lnTo>
                      <a:pt x="150" y="43"/>
                    </a:lnTo>
                    <a:lnTo>
                      <a:pt x="134" y="64"/>
                    </a:lnTo>
                    <a:lnTo>
                      <a:pt x="125" y="87"/>
                    </a:lnTo>
                    <a:lnTo>
                      <a:pt x="117" y="114"/>
                    </a:lnTo>
                    <a:lnTo>
                      <a:pt x="115" y="143"/>
                    </a:lnTo>
                    <a:lnTo>
                      <a:pt x="115" y="711"/>
                    </a:lnTo>
                    <a:lnTo>
                      <a:pt x="113" y="740"/>
                    </a:lnTo>
                    <a:lnTo>
                      <a:pt x="105" y="764"/>
                    </a:lnTo>
                    <a:lnTo>
                      <a:pt x="96" y="789"/>
                    </a:lnTo>
                    <a:lnTo>
                      <a:pt x="80" y="811"/>
                    </a:lnTo>
                    <a:lnTo>
                      <a:pt x="65" y="826"/>
                    </a:lnTo>
                    <a:lnTo>
                      <a:pt x="44" y="839"/>
                    </a:lnTo>
                    <a:lnTo>
                      <a:pt x="23" y="849"/>
                    </a:lnTo>
                    <a:lnTo>
                      <a:pt x="0" y="851"/>
                    </a:lnTo>
                    <a:lnTo>
                      <a:pt x="23" y="855"/>
                    </a:lnTo>
                    <a:lnTo>
                      <a:pt x="44" y="862"/>
                    </a:lnTo>
                    <a:lnTo>
                      <a:pt x="65" y="876"/>
                    </a:lnTo>
                    <a:lnTo>
                      <a:pt x="80" y="893"/>
                    </a:lnTo>
                    <a:lnTo>
                      <a:pt x="96" y="914"/>
                    </a:lnTo>
                    <a:lnTo>
                      <a:pt x="105" y="937"/>
                    </a:lnTo>
                    <a:lnTo>
                      <a:pt x="113" y="964"/>
                    </a:lnTo>
                    <a:lnTo>
                      <a:pt x="115" y="993"/>
                    </a:lnTo>
                    <a:lnTo>
                      <a:pt x="115" y="1559"/>
                    </a:lnTo>
                    <a:lnTo>
                      <a:pt x="117" y="1588"/>
                    </a:lnTo>
                    <a:lnTo>
                      <a:pt x="125" y="1615"/>
                    </a:lnTo>
                    <a:lnTo>
                      <a:pt x="134" y="1638"/>
                    </a:lnTo>
                    <a:lnTo>
                      <a:pt x="150" y="1659"/>
                    </a:lnTo>
                    <a:lnTo>
                      <a:pt x="167" y="1676"/>
                    </a:lnTo>
                    <a:lnTo>
                      <a:pt x="186" y="1690"/>
                    </a:lnTo>
                    <a:lnTo>
                      <a:pt x="207" y="1699"/>
                    </a:lnTo>
                    <a:lnTo>
                      <a:pt x="230" y="1701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685800" y="1524240"/>
              <a:ext cx="3809880" cy="1981080"/>
              <a:chOff x="685800" y="1524240"/>
              <a:chExt cx="3809880" cy="1981080"/>
            </a:xfrm>
          </p:grpSpPr>
          <p:sp>
            <p:nvSpPr>
              <p:cNvPr id="325" name=""/>
              <p:cNvSpPr/>
              <p:nvPr/>
            </p:nvSpPr>
            <p:spPr>
              <a:xfrm>
                <a:off x="685800" y="1524240"/>
                <a:ext cx="3809880" cy="19810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26" name=""/>
              <p:cNvGrpSpPr/>
              <p:nvPr/>
            </p:nvGrpSpPr>
            <p:grpSpPr>
              <a:xfrm>
                <a:off x="779400" y="1586160"/>
                <a:ext cx="1879200" cy="270720"/>
                <a:chOff x="779400" y="1586160"/>
                <a:chExt cx="1879200" cy="270720"/>
              </a:xfrm>
            </p:grpSpPr>
            <p:sp>
              <p:nvSpPr>
                <p:cNvPr id="327" name=""/>
                <p:cNvSpPr/>
                <p:nvPr/>
              </p:nvSpPr>
              <p:spPr>
                <a:xfrm>
                  <a:off x="779400" y="1605600"/>
                  <a:ext cx="860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d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8" name=""/>
                <p:cNvSpPr/>
                <p:nvPr/>
              </p:nvSpPr>
              <p:spPr>
                <a:xfrm>
                  <a:off x="871560" y="1586160"/>
                  <a:ext cx="676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e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9" name=""/>
                <p:cNvSpPr/>
                <p:nvPr/>
              </p:nvSpPr>
              <p:spPr>
                <a:xfrm>
                  <a:off x="920520" y="1674000"/>
                  <a:ext cx="435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i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950040" y="1605600"/>
                  <a:ext cx="1515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(t)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1" name=""/>
                <p:cNvSpPr/>
                <p:nvPr/>
              </p:nvSpPr>
              <p:spPr>
                <a:xfrm>
                  <a:off x="1118520" y="1605600"/>
                  <a:ext cx="511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: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2" name=""/>
                <p:cNvSpPr/>
                <p:nvPr/>
              </p:nvSpPr>
              <p:spPr>
                <a:xfrm>
                  <a:off x="1172880" y="1609560"/>
                  <a:ext cx="11239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так как [мотивы  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>
                  <a:off x="2402280" y="1605600"/>
                  <a:ext cx="1440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M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4" name=""/>
                <p:cNvSpPr/>
                <p:nvPr/>
              </p:nvSpPr>
              <p:spPr>
                <a:xfrm>
                  <a:off x="2569320" y="1609560"/>
                  <a:ext cx="892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 </a:t>
                  </a: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]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35" name=""/>
              <p:cNvSpPr/>
              <p:nvPr/>
            </p:nvSpPr>
            <p:spPr>
              <a:xfrm>
                <a:off x="1278360" y="1857600"/>
                <a:ext cx="11847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поскольку  [цели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2574000" y="185436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2693520" y="1857600"/>
                <a:ext cx="892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</a:t>
                </a: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]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1278720" y="2108520"/>
                <a:ext cx="305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1544040" y="2105280"/>
                <a:ext cx="83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1702800" y="2108520"/>
                <a:ext cx="381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41" name=""/>
              <p:cNvGrpSpPr/>
              <p:nvPr/>
            </p:nvGrpSpPr>
            <p:grpSpPr>
              <a:xfrm>
                <a:off x="1758240" y="2105280"/>
                <a:ext cx="1783080" cy="186480"/>
                <a:chOff x="1758240" y="2105280"/>
                <a:chExt cx="1783080" cy="186480"/>
              </a:xfrm>
            </p:grpSpPr>
            <p:sp>
              <p:nvSpPr>
                <p:cNvPr id="342" name=""/>
                <p:cNvSpPr/>
                <p:nvPr/>
              </p:nvSpPr>
              <p:spPr>
                <a:xfrm>
                  <a:off x="1758240" y="2108880"/>
                  <a:ext cx="1152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   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3" name=""/>
                <p:cNvSpPr/>
                <p:nvPr/>
              </p:nvSpPr>
              <p:spPr>
                <a:xfrm>
                  <a:off x="1878840" y="2108880"/>
                  <a:ext cx="12427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если [предусловия 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>
                  <a:off x="3248640" y="2105280"/>
                  <a:ext cx="1530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U'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5" name=""/>
                <p:cNvSpPr/>
                <p:nvPr/>
              </p:nvSpPr>
              <p:spPr>
                <a:xfrm>
                  <a:off x="3413880" y="2108880"/>
                  <a:ext cx="1274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 </a:t>
                  </a: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],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46" name=""/>
              <p:cNvSpPr/>
              <p:nvPr/>
            </p:nvSpPr>
            <p:spPr>
              <a:xfrm>
                <a:off x="1278720" y="235764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1544040" y="2352960"/>
                <a:ext cx="1576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ы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1858320" y="2357640"/>
                <a:ext cx="153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2080440" y="2357640"/>
                <a:ext cx="1105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             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50" name=""/>
              <p:cNvGrpSpPr/>
              <p:nvPr/>
            </p:nvGrpSpPr>
            <p:grpSpPr>
              <a:xfrm>
                <a:off x="2901240" y="2352960"/>
                <a:ext cx="1404720" cy="249480"/>
                <a:chOff x="2901240" y="2352960"/>
                <a:chExt cx="1404720" cy="249480"/>
              </a:xfrm>
            </p:grpSpPr>
            <p:sp>
              <p:nvSpPr>
                <p:cNvPr id="351" name=""/>
                <p:cNvSpPr/>
                <p:nvPr/>
              </p:nvSpPr>
              <p:spPr>
                <a:xfrm>
                  <a:off x="2901240" y="2355480"/>
                  <a:ext cx="8665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то   [реакция 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>
                  <a:off x="3914640" y="2352960"/>
                  <a:ext cx="676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r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>
                  <a:off x="3977640" y="2419560"/>
                  <a:ext cx="860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q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>
                  <a:off x="4047840" y="2352960"/>
                  <a:ext cx="1515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(t)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5" name=""/>
                <p:cNvSpPr/>
                <p:nvPr/>
              </p:nvSpPr>
              <p:spPr>
                <a:xfrm>
                  <a:off x="4216680" y="2356560"/>
                  <a:ext cx="892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],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56" name=""/>
              <p:cNvSpPr/>
              <p:nvPr/>
            </p:nvSpPr>
            <p:spPr>
              <a:xfrm>
                <a:off x="1709280" y="2605320"/>
                <a:ext cx="6483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 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1567800" y="260208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б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2499480" y="2605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2542680" y="260532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2750400" y="260532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2834640" y="2605320"/>
                <a:ext cx="2293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62" name=""/>
              <p:cNvGrpSpPr/>
              <p:nvPr/>
            </p:nvGrpSpPr>
            <p:grpSpPr>
              <a:xfrm>
                <a:off x="1899360" y="2602080"/>
                <a:ext cx="2043360" cy="185400"/>
                <a:chOff x="1899360" y="2602080"/>
                <a:chExt cx="2043360" cy="185400"/>
              </a:xfrm>
            </p:grpSpPr>
            <p:sp>
              <p:nvSpPr>
                <p:cNvPr id="363" name=""/>
                <p:cNvSpPr/>
                <p:nvPr/>
              </p:nvSpPr>
              <p:spPr>
                <a:xfrm>
                  <a:off x="1899360" y="2604600"/>
                  <a:ext cx="15811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из-за чего [постусловия 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4" name=""/>
                <p:cNvSpPr/>
                <p:nvPr/>
              </p:nvSpPr>
              <p:spPr>
                <a:xfrm>
                  <a:off x="3634920" y="2602080"/>
                  <a:ext cx="1958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U"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5" name=""/>
                <p:cNvSpPr/>
                <p:nvPr/>
              </p:nvSpPr>
              <p:spPr>
                <a:xfrm>
                  <a:off x="3853440" y="2604600"/>
                  <a:ext cx="892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 </a:t>
                  </a: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]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66" name=""/>
              <p:cNvSpPr/>
              <p:nvPr/>
            </p:nvSpPr>
            <p:spPr>
              <a:xfrm>
                <a:off x="850320" y="2854440"/>
                <a:ext cx="4579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1350360" y="285444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1558080" y="285156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о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1642320" y="285444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1725120" y="285444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-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1784880" y="2854440"/>
                <a:ext cx="6040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------------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2456280" y="2854440"/>
                <a:ext cx="630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------- --- -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1171080" y="3103920"/>
                <a:ext cx="381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1589400" y="31006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р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1681920" y="310392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1763280" y="3103920"/>
                <a:ext cx="4197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2223720" y="3103920"/>
                <a:ext cx="1311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были альтернативы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3661200" y="3100680"/>
                <a:ext cx="215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[ {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3895920" y="31687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p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3957480" y="3100680"/>
                <a:ext cx="1486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} ]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4118760" y="31039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,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1812600" y="2181600"/>
                <a:ext cx="172800" cy="1098360"/>
              </a:xfrm>
              <a:custGeom>
                <a:avLst/>
                <a:gdLst/>
                <a:ahLst/>
                <a:rect l="l" t="t" r="r" b="b"/>
                <a:pathLst>
                  <a:path w="230" h="1701">
                    <a:moveTo>
                      <a:pt x="230" y="0"/>
                    </a:moveTo>
                    <a:lnTo>
                      <a:pt x="207" y="4"/>
                    </a:lnTo>
                    <a:lnTo>
                      <a:pt x="186" y="12"/>
                    </a:lnTo>
                    <a:lnTo>
                      <a:pt x="167" y="25"/>
                    </a:lnTo>
                    <a:lnTo>
                      <a:pt x="150" y="43"/>
                    </a:lnTo>
                    <a:lnTo>
                      <a:pt x="134" y="64"/>
                    </a:lnTo>
                    <a:lnTo>
                      <a:pt x="125" y="87"/>
                    </a:lnTo>
                    <a:lnTo>
                      <a:pt x="117" y="114"/>
                    </a:lnTo>
                    <a:lnTo>
                      <a:pt x="115" y="143"/>
                    </a:lnTo>
                    <a:lnTo>
                      <a:pt x="115" y="711"/>
                    </a:lnTo>
                    <a:lnTo>
                      <a:pt x="113" y="740"/>
                    </a:lnTo>
                    <a:lnTo>
                      <a:pt x="105" y="764"/>
                    </a:lnTo>
                    <a:lnTo>
                      <a:pt x="96" y="789"/>
                    </a:lnTo>
                    <a:lnTo>
                      <a:pt x="80" y="811"/>
                    </a:lnTo>
                    <a:lnTo>
                      <a:pt x="65" y="826"/>
                    </a:lnTo>
                    <a:lnTo>
                      <a:pt x="44" y="839"/>
                    </a:lnTo>
                    <a:lnTo>
                      <a:pt x="23" y="849"/>
                    </a:lnTo>
                    <a:lnTo>
                      <a:pt x="0" y="851"/>
                    </a:lnTo>
                    <a:lnTo>
                      <a:pt x="23" y="855"/>
                    </a:lnTo>
                    <a:lnTo>
                      <a:pt x="44" y="862"/>
                    </a:lnTo>
                    <a:lnTo>
                      <a:pt x="65" y="876"/>
                    </a:lnTo>
                    <a:lnTo>
                      <a:pt x="80" y="893"/>
                    </a:lnTo>
                    <a:lnTo>
                      <a:pt x="96" y="914"/>
                    </a:lnTo>
                    <a:lnTo>
                      <a:pt x="105" y="937"/>
                    </a:lnTo>
                    <a:lnTo>
                      <a:pt x="113" y="964"/>
                    </a:lnTo>
                    <a:lnTo>
                      <a:pt x="115" y="993"/>
                    </a:lnTo>
                    <a:lnTo>
                      <a:pt x="115" y="1559"/>
                    </a:lnTo>
                    <a:lnTo>
                      <a:pt x="117" y="1588"/>
                    </a:lnTo>
                    <a:lnTo>
                      <a:pt x="125" y="1615"/>
                    </a:lnTo>
                    <a:lnTo>
                      <a:pt x="134" y="1638"/>
                    </a:lnTo>
                    <a:lnTo>
                      <a:pt x="150" y="1659"/>
                    </a:lnTo>
                    <a:lnTo>
                      <a:pt x="167" y="1676"/>
                    </a:lnTo>
                    <a:lnTo>
                      <a:pt x="186" y="1690"/>
                    </a:lnTo>
                    <a:lnTo>
                      <a:pt x="207" y="1699"/>
                    </a:lnTo>
                    <a:lnTo>
                      <a:pt x="230" y="1701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3" name=""/>
            <p:cNvGrpSpPr/>
            <p:nvPr/>
          </p:nvGrpSpPr>
          <p:grpSpPr>
            <a:xfrm>
              <a:off x="838080" y="1676520"/>
              <a:ext cx="3810240" cy="1981080"/>
              <a:chOff x="838080" y="1676520"/>
              <a:chExt cx="3810240" cy="1981080"/>
            </a:xfrm>
          </p:grpSpPr>
          <p:sp>
            <p:nvSpPr>
              <p:cNvPr id="384" name=""/>
              <p:cNvSpPr/>
              <p:nvPr/>
            </p:nvSpPr>
            <p:spPr>
              <a:xfrm>
                <a:off x="838080" y="1676520"/>
                <a:ext cx="3810240" cy="19810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85" name=""/>
              <p:cNvGrpSpPr/>
              <p:nvPr/>
            </p:nvGrpSpPr>
            <p:grpSpPr>
              <a:xfrm>
                <a:off x="932040" y="1738440"/>
                <a:ext cx="1879560" cy="270720"/>
                <a:chOff x="932040" y="1738440"/>
                <a:chExt cx="1879560" cy="270720"/>
              </a:xfrm>
            </p:grpSpPr>
            <p:sp>
              <p:nvSpPr>
                <p:cNvPr id="386" name=""/>
                <p:cNvSpPr/>
                <p:nvPr/>
              </p:nvSpPr>
              <p:spPr>
                <a:xfrm>
                  <a:off x="932040" y="1757880"/>
                  <a:ext cx="860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d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7" name=""/>
                <p:cNvSpPr/>
                <p:nvPr/>
              </p:nvSpPr>
              <p:spPr>
                <a:xfrm>
                  <a:off x="1024200" y="1738440"/>
                  <a:ext cx="676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e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8" name=""/>
                <p:cNvSpPr/>
                <p:nvPr/>
              </p:nvSpPr>
              <p:spPr>
                <a:xfrm>
                  <a:off x="1073160" y="1826280"/>
                  <a:ext cx="435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i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9" name=""/>
                <p:cNvSpPr/>
                <p:nvPr/>
              </p:nvSpPr>
              <p:spPr>
                <a:xfrm>
                  <a:off x="1103040" y="1757880"/>
                  <a:ext cx="1515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(t)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0" name=""/>
                <p:cNvSpPr/>
                <p:nvPr/>
              </p:nvSpPr>
              <p:spPr>
                <a:xfrm>
                  <a:off x="1271160" y="1757880"/>
                  <a:ext cx="511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: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1" name=""/>
                <p:cNvSpPr/>
                <p:nvPr/>
              </p:nvSpPr>
              <p:spPr>
                <a:xfrm>
                  <a:off x="1325880" y="1761840"/>
                  <a:ext cx="11239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так как [мотивы  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2" name=""/>
                <p:cNvSpPr/>
                <p:nvPr/>
              </p:nvSpPr>
              <p:spPr>
                <a:xfrm>
                  <a:off x="2555280" y="1757880"/>
                  <a:ext cx="1440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M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3" name=""/>
                <p:cNvSpPr/>
                <p:nvPr/>
              </p:nvSpPr>
              <p:spPr>
                <a:xfrm>
                  <a:off x="2722320" y="1761840"/>
                  <a:ext cx="892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 </a:t>
                  </a: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]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94" name=""/>
              <p:cNvSpPr/>
              <p:nvPr/>
            </p:nvSpPr>
            <p:spPr>
              <a:xfrm>
                <a:off x="1431000" y="2009880"/>
                <a:ext cx="11847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поскольку  [цели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2727000" y="200664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2846520" y="2009880"/>
                <a:ext cx="892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</a:t>
                </a: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]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1431720" y="2260800"/>
                <a:ext cx="305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1696680" y="2257560"/>
                <a:ext cx="83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1855440" y="2260800"/>
                <a:ext cx="381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00" name=""/>
              <p:cNvGrpSpPr/>
              <p:nvPr/>
            </p:nvGrpSpPr>
            <p:grpSpPr>
              <a:xfrm>
                <a:off x="1910880" y="2257560"/>
                <a:ext cx="1783440" cy="186480"/>
                <a:chOff x="1910880" y="2257560"/>
                <a:chExt cx="1783440" cy="186480"/>
              </a:xfrm>
            </p:grpSpPr>
            <p:sp>
              <p:nvSpPr>
                <p:cNvPr id="401" name=""/>
                <p:cNvSpPr/>
                <p:nvPr/>
              </p:nvSpPr>
              <p:spPr>
                <a:xfrm>
                  <a:off x="1910880" y="2261160"/>
                  <a:ext cx="1152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   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2" name=""/>
                <p:cNvSpPr/>
                <p:nvPr/>
              </p:nvSpPr>
              <p:spPr>
                <a:xfrm>
                  <a:off x="2031840" y="2261160"/>
                  <a:ext cx="12427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если [предусловия 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3" name=""/>
                <p:cNvSpPr/>
                <p:nvPr/>
              </p:nvSpPr>
              <p:spPr>
                <a:xfrm>
                  <a:off x="3401640" y="2257560"/>
                  <a:ext cx="1530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U'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4" name=""/>
                <p:cNvSpPr/>
                <p:nvPr/>
              </p:nvSpPr>
              <p:spPr>
                <a:xfrm>
                  <a:off x="3566880" y="2261160"/>
                  <a:ext cx="1274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 </a:t>
                  </a: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],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05" name=""/>
              <p:cNvSpPr/>
              <p:nvPr/>
            </p:nvSpPr>
            <p:spPr>
              <a:xfrm>
                <a:off x="1431720" y="250992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1697040" y="2505240"/>
                <a:ext cx="1576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ы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2010960" y="2509920"/>
                <a:ext cx="153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2233440" y="2509920"/>
                <a:ext cx="1105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             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09" name=""/>
              <p:cNvGrpSpPr/>
              <p:nvPr/>
            </p:nvGrpSpPr>
            <p:grpSpPr>
              <a:xfrm>
                <a:off x="3053880" y="2505240"/>
                <a:ext cx="1405080" cy="249480"/>
                <a:chOff x="3053880" y="2505240"/>
                <a:chExt cx="1405080" cy="249480"/>
              </a:xfrm>
            </p:grpSpPr>
            <p:sp>
              <p:nvSpPr>
                <p:cNvPr id="410" name=""/>
                <p:cNvSpPr/>
                <p:nvPr/>
              </p:nvSpPr>
              <p:spPr>
                <a:xfrm>
                  <a:off x="3053880" y="2507760"/>
                  <a:ext cx="8665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то   [реакция 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1" name=""/>
                <p:cNvSpPr/>
                <p:nvPr/>
              </p:nvSpPr>
              <p:spPr>
                <a:xfrm>
                  <a:off x="4067640" y="2505240"/>
                  <a:ext cx="676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r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2" name=""/>
                <p:cNvSpPr/>
                <p:nvPr/>
              </p:nvSpPr>
              <p:spPr>
                <a:xfrm>
                  <a:off x="4130640" y="2571840"/>
                  <a:ext cx="860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q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3" name=""/>
                <p:cNvSpPr/>
                <p:nvPr/>
              </p:nvSpPr>
              <p:spPr>
                <a:xfrm>
                  <a:off x="4200840" y="2505240"/>
                  <a:ext cx="1515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(t)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4" name=""/>
                <p:cNvSpPr/>
                <p:nvPr/>
              </p:nvSpPr>
              <p:spPr>
                <a:xfrm>
                  <a:off x="4369680" y="2508840"/>
                  <a:ext cx="892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],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5" name=""/>
              <p:cNvSpPr/>
              <p:nvPr/>
            </p:nvSpPr>
            <p:spPr>
              <a:xfrm>
                <a:off x="1861920" y="2757600"/>
                <a:ext cx="6483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 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1720440" y="275436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б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2652480" y="27576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2695320" y="275760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2903040" y="275760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2987280" y="2757600"/>
                <a:ext cx="2293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21" name=""/>
              <p:cNvGrpSpPr/>
              <p:nvPr/>
            </p:nvGrpSpPr>
            <p:grpSpPr>
              <a:xfrm>
                <a:off x="2052360" y="2754360"/>
                <a:ext cx="2043360" cy="185400"/>
                <a:chOff x="2052360" y="2754360"/>
                <a:chExt cx="2043360" cy="185400"/>
              </a:xfrm>
            </p:grpSpPr>
            <p:sp>
              <p:nvSpPr>
                <p:cNvPr id="422" name=""/>
                <p:cNvSpPr/>
                <p:nvPr/>
              </p:nvSpPr>
              <p:spPr>
                <a:xfrm>
                  <a:off x="2052360" y="2756880"/>
                  <a:ext cx="15811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из-за чего [постусловия 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3" name=""/>
                <p:cNvSpPr/>
                <p:nvPr/>
              </p:nvSpPr>
              <p:spPr>
                <a:xfrm>
                  <a:off x="3787920" y="2754360"/>
                  <a:ext cx="1958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U"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4" name=""/>
                <p:cNvSpPr/>
                <p:nvPr/>
              </p:nvSpPr>
              <p:spPr>
                <a:xfrm>
                  <a:off x="4006440" y="2756880"/>
                  <a:ext cx="892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 </a:t>
                  </a: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]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5" name=""/>
              <p:cNvSpPr/>
              <p:nvPr/>
            </p:nvSpPr>
            <p:spPr>
              <a:xfrm>
                <a:off x="1002960" y="3006720"/>
                <a:ext cx="4579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1503000" y="300672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1711080" y="300384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о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1794960" y="300672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1878120" y="300672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-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1937880" y="3006720"/>
                <a:ext cx="6040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------------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2609280" y="3006720"/>
                <a:ext cx="630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------- --- -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1323720" y="3256200"/>
                <a:ext cx="381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1742400" y="32529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р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1834920" y="325620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1915920" y="3256200"/>
                <a:ext cx="4197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2376360" y="3256200"/>
                <a:ext cx="1311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были альтернативы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3813840" y="3252960"/>
                <a:ext cx="215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[ {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4048920" y="33210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p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4110120" y="3252960"/>
                <a:ext cx="1486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} ]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4271760" y="32562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,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1965240" y="2333880"/>
                <a:ext cx="173160" cy="1098360"/>
              </a:xfrm>
              <a:custGeom>
                <a:avLst/>
                <a:gdLst/>
                <a:ahLst/>
                <a:rect l="l" t="t" r="r" b="b"/>
                <a:pathLst>
                  <a:path w="230" h="1701">
                    <a:moveTo>
                      <a:pt x="230" y="0"/>
                    </a:moveTo>
                    <a:lnTo>
                      <a:pt x="207" y="4"/>
                    </a:lnTo>
                    <a:lnTo>
                      <a:pt x="186" y="12"/>
                    </a:lnTo>
                    <a:lnTo>
                      <a:pt x="167" y="25"/>
                    </a:lnTo>
                    <a:lnTo>
                      <a:pt x="150" y="43"/>
                    </a:lnTo>
                    <a:lnTo>
                      <a:pt x="134" y="64"/>
                    </a:lnTo>
                    <a:lnTo>
                      <a:pt x="125" y="87"/>
                    </a:lnTo>
                    <a:lnTo>
                      <a:pt x="117" y="114"/>
                    </a:lnTo>
                    <a:lnTo>
                      <a:pt x="115" y="143"/>
                    </a:lnTo>
                    <a:lnTo>
                      <a:pt x="115" y="711"/>
                    </a:lnTo>
                    <a:lnTo>
                      <a:pt x="113" y="740"/>
                    </a:lnTo>
                    <a:lnTo>
                      <a:pt x="105" y="764"/>
                    </a:lnTo>
                    <a:lnTo>
                      <a:pt x="96" y="789"/>
                    </a:lnTo>
                    <a:lnTo>
                      <a:pt x="80" y="811"/>
                    </a:lnTo>
                    <a:lnTo>
                      <a:pt x="65" y="826"/>
                    </a:lnTo>
                    <a:lnTo>
                      <a:pt x="44" y="839"/>
                    </a:lnTo>
                    <a:lnTo>
                      <a:pt x="23" y="849"/>
                    </a:lnTo>
                    <a:lnTo>
                      <a:pt x="0" y="851"/>
                    </a:lnTo>
                    <a:lnTo>
                      <a:pt x="23" y="855"/>
                    </a:lnTo>
                    <a:lnTo>
                      <a:pt x="44" y="862"/>
                    </a:lnTo>
                    <a:lnTo>
                      <a:pt x="65" y="876"/>
                    </a:lnTo>
                    <a:lnTo>
                      <a:pt x="80" y="893"/>
                    </a:lnTo>
                    <a:lnTo>
                      <a:pt x="96" y="914"/>
                    </a:lnTo>
                    <a:lnTo>
                      <a:pt x="105" y="937"/>
                    </a:lnTo>
                    <a:lnTo>
                      <a:pt x="113" y="964"/>
                    </a:lnTo>
                    <a:lnTo>
                      <a:pt x="115" y="993"/>
                    </a:lnTo>
                    <a:lnTo>
                      <a:pt x="115" y="1559"/>
                    </a:lnTo>
                    <a:lnTo>
                      <a:pt x="117" y="1588"/>
                    </a:lnTo>
                    <a:lnTo>
                      <a:pt x="125" y="1615"/>
                    </a:lnTo>
                    <a:lnTo>
                      <a:pt x="134" y="1638"/>
                    </a:lnTo>
                    <a:lnTo>
                      <a:pt x="150" y="1659"/>
                    </a:lnTo>
                    <a:lnTo>
                      <a:pt x="167" y="1676"/>
                    </a:lnTo>
                    <a:lnTo>
                      <a:pt x="186" y="1690"/>
                    </a:lnTo>
                    <a:lnTo>
                      <a:pt x="207" y="1699"/>
                    </a:lnTo>
                    <a:lnTo>
                      <a:pt x="230" y="1701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42" name=""/>
          <p:cNvGrpSpPr/>
          <p:nvPr/>
        </p:nvGrpSpPr>
        <p:grpSpPr>
          <a:xfrm>
            <a:off x="914400" y="4419720"/>
            <a:ext cx="3809880" cy="1981080"/>
            <a:chOff x="914400" y="4419720"/>
            <a:chExt cx="3809880" cy="1981080"/>
          </a:xfrm>
        </p:grpSpPr>
        <p:sp>
          <p:nvSpPr>
            <p:cNvPr id="443" name=""/>
            <p:cNvSpPr/>
            <p:nvPr/>
          </p:nvSpPr>
          <p:spPr>
            <a:xfrm>
              <a:off x="914400" y="4419720"/>
              <a:ext cx="3809880" cy="19810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4" name=""/>
            <p:cNvGrpSpPr/>
            <p:nvPr/>
          </p:nvGrpSpPr>
          <p:grpSpPr>
            <a:xfrm>
              <a:off x="1008000" y="4481640"/>
              <a:ext cx="1879200" cy="270720"/>
              <a:chOff x="1008000" y="4481640"/>
              <a:chExt cx="1879200" cy="270720"/>
            </a:xfrm>
          </p:grpSpPr>
          <p:sp>
            <p:nvSpPr>
              <p:cNvPr id="445" name=""/>
              <p:cNvSpPr/>
              <p:nvPr/>
            </p:nvSpPr>
            <p:spPr>
              <a:xfrm>
                <a:off x="1008000" y="4501080"/>
                <a:ext cx="8604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1100160" y="4481640"/>
                <a:ext cx="6768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1149120" y="4569480"/>
                <a:ext cx="4356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1178640" y="4501080"/>
                <a:ext cx="15156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(t)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1347120" y="4501080"/>
                <a:ext cx="5112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: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1401480" y="4505040"/>
                <a:ext cx="112392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так как [мотивы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2630880" y="4501080"/>
                <a:ext cx="14400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M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2797920" y="4505040"/>
                <a:ext cx="8928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</a:t>
                </a: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]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53" name=""/>
            <p:cNvSpPr/>
            <p:nvPr/>
          </p:nvSpPr>
          <p:spPr>
            <a:xfrm>
              <a:off x="1506960" y="4753080"/>
              <a:ext cx="118476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поскольку  [цели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2802600" y="4749840"/>
              <a:ext cx="11052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2922120" y="4753080"/>
              <a:ext cx="8928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]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1507320" y="5004000"/>
              <a:ext cx="30564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  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1772640" y="5000760"/>
              <a:ext cx="8316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в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1931400" y="5004000"/>
              <a:ext cx="38160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    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9" name=""/>
            <p:cNvGrpSpPr/>
            <p:nvPr/>
          </p:nvGrpSpPr>
          <p:grpSpPr>
            <a:xfrm>
              <a:off x="1986840" y="5000760"/>
              <a:ext cx="1783080" cy="186480"/>
              <a:chOff x="1986840" y="5000760"/>
              <a:chExt cx="1783080" cy="186480"/>
            </a:xfrm>
          </p:grpSpPr>
          <p:sp>
            <p:nvSpPr>
              <p:cNvPr id="460" name=""/>
              <p:cNvSpPr/>
              <p:nvPr/>
            </p:nvSpPr>
            <p:spPr>
              <a:xfrm>
                <a:off x="1986840" y="5004360"/>
                <a:ext cx="11520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2107440" y="5004360"/>
                <a:ext cx="124272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если [предусловия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3477240" y="5000760"/>
                <a:ext cx="15300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U'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3642480" y="5004360"/>
                <a:ext cx="12744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</a:t>
                </a: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],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4" name=""/>
            <p:cNvSpPr/>
            <p:nvPr/>
          </p:nvSpPr>
          <p:spPr>
            <a:xfrm>
              <a:off x="1507320" y="5253120"/>
              <a:ext cx="7704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1772640" y="5248440"/>
              <a:ext cx="15768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ы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2086920" y="5253120"/>
              <a:ext cx="15300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2309040" y="5253120"/>
              <a:ext cx="110556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                       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8" name=""/>
            <p:cNvGrpSpPr/>
            <p:nvPr/>
          </p:nvGrpSpPr>
          <p:grpSpPr>
            <a:xfrm>
              <a:off x="3129840" y="5248440"/>
              <a:ext cx="1404720" cy="249480"/>
              <a:chOff x="3129840" y="5248440"/>
              <a:chExt cx="1404720" cy="249480"/>
            </a:xfrm>
          </p:grpSpPr>
          <p:sp>
            <p:nvSpPr>
              <p:cNvPr id="469" name=""/>
              <p:cNvSpPr/>
              <p:nvPr/>
            </p:nvSpPr>
            <p:spPr>
              <a:xfrm>
                <a:off x="3129840" y="5250960"/>
                <a:ext cx="86652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то   [реакция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4143240" y="5248440"/>
                <a:ext cx="6768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4206240" y="5315040"/>
                <a:ext cx="8604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q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4276440" y="5248440"/>
                <a:ext cx="15156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(t)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4445280" y="5252040"/>
                <a:ext cx="8928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],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4" name=""/>
            <p:cNvSpPr/>
            <p:nvPr/>
          </p:nvSpPr>
          <p:spPr>
            <a:xfrm>
              <a:off x="1937880" y="5500800"/>
              <a:ext cx="64836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           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1796400" y="5497560"/>
              <a:ext cx="7704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б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2728080" y="5500800"/>
              <a:ext cx="3888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2771280" y="5500800"/>
              <a:ext cx="19116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2979000" y="5500800"/>
              <a:ext cx="7704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3063240" y="5500800"/>
              <a:ext cx="22932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0" name=""/>
            <p:cNvGrpSpPr/>
            <p:nvPr/>
          </p:nvGrpSpPr>
          <p:grpSpPr>
            <a:xfrm>
              <a:off x="2127960" y="5497560"/>
              <a:ext cx="2043360" cy="185400"/>
              <a:chOff x="2127960" y="5497560"/>
              <a:chExt cx="2043360" cy="185400"/>
            </a:xfrm>
          </p:grpSpPr>
          <p:sp>
            <p:nvSpPr>
              <p:cNvPr id="481" name=""/>
              <p:cNvSpPr/>
              <p:nvPr/>
            </p:nvSpPr>
            <p:spPr>
              <a:xfrm>
                <a:off x="2127960" y="5500080"/>
                <a:ext cx="158112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из-за чего [постусловия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3863520" y="5497560"/>
                <a:ext cx="19584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U"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4082040" y="5500080"/>
                <a:ext cx="8928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</a:t>
                </a: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]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1078920" y="5749920"/>
              <a:ext cx="45792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      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1578960" y="5749920"/>
              <a:ext cx="19116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1786680" y="5747040"/>
              <a:ext cx="7704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о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1870920" y="5749920"/>
              <a:ext cx="7704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1953720" y="5749920"/>
              <a:ext cx="5112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2013480" y="5749920"/>
              <a:ext cx="60408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------------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2684880" y="5749920"/>
              <a:ext cx="63000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------- --- -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399680" y="5999400"/>
              <a:ext cx="38160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    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1818000" y="5996160"/>
              <a:ext cx="8604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р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1910520" y="5999400"/>
              <a:ext cx="7704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1991880" y="5999400"/>
              <a:ext cx="41976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     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2452320" y="5999400"/>
              <a:ext cx="131148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были альтернативы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3889800" y="5996160"/>
              <a:ext cx="21564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[ {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4124520" y="6064200"/>
              <a:ext cx="8604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4186080" y="5996160"/>
              <a:ext cx="14868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} ]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4347360" y="5999400"/>
              <a:ext cx="3888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,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2041200" y="5077080"/>
              <a:ext cx="172800" cy="1098360"/>
            </a:xfrm>
            <a:custGeom>
              <a:avLst/>
              <a:gdLst/>
              <a:ahLst/>
              <a:rect l="l" t="t" r="r" b="b"/>
              <a:pathLst>
                <a:path w="230" h="1701">
                  <a:moveTo>
                    <a:pt x="230" y="0"/>
                  </a:moveTo>
                  <a:lnTo>
                    <a:pt x="207" y="4"/>
                  </a:lnTo>
                  <a:lnTo>
                    <a:pt x="186" y="12"/>
                  </a:lnTo>
                  <a:lnTo>
                    <a:pt x="167" y="25"/>
                  </a:lnTo>
                  <a:lnTo>
                    <a:pt x="150" y="43"/>
                  </a:lnTo>
                  <a:lnTo>
                    <a:pt x="134" y="64"/>
                  </a:lnTo>
                  <a:lnTo>
                    <a:pt x="125" y="87"/>
                  </a:lnTo>
                  <a:lnTo>
                    <a:pt x="117" y="114"/>
                  </a:lnTo>
                  <a:lnTo>
                    <a:pt x="115" y="143"/>
                  </a:lnTo>
                  <a:lnTo>
                    <a:pt x="115" y="711"/>
                  </a:lnTo>
                  <a:lnTo>
                    <a:pt x="113" y="740"/>
                  </a:lnTo>
                  <a:lnTo>
                    <a:pt x="105" y="764"/>
                  </a:lnTo>
                  <a:lnTo>
                    <a:pt x="96" y="789"/>
                  </a:lnTo>
                  <a:lnTo>
                    <a:pt x="80" y="811"/>
                  </a:lnTo>
                  <a:lnTo>
                    <a:pt x="65" y="826"/>
                  </a:lnTo>
                  <a:lnTo>
                    <a:pt x="44" y="839"/>
                  </a:lnTo>
                  <a:lnTo>
                    <a:pt x="23" y="849"/>
                  </a:lnTo>
                  <a:lnTo>
                    <a:pt x="0" y="851"/>
                  </a:lnTo>
                  <a:lnTo>
                    <a:pt x="23" y="855"/>
                  </a:lnTo>
                  <a:lnTo>
                    <a:pt x="44" y="862"/>
                  </a:lnTo>
                  <a:lnTo>
                    <a:pt x="65" y="876"/>
                  </a:lnTo>
                  <a:lnTo>
                    <a:pt x="80" y="893"/>
                  </a:lnTo>
                  <a:lnTo>
                    <a:pt x="96" y="914"/>
                  </a:lnTo>
                  <a:lnTo>
                    <a:pt x="105" y="937"/>
                  </a:lnTo>
                  <a:lnTo>
                    <a:pt x="113" y="964"/>
                  </a:lnTo>
                  <a:lnTo>
                    <a:pt x="115" y="993"/>
                  </a:lnTo>
                  <a:lnTo>
                    <a:pt x="115" y="1559"/>
                  </a:lnTo>
                  <a:lnTo>
                    <a:pt x="117" y="1588"/>
                  </a:lnTo>
                  <a:lnTo>
                    <a:pt x="125" y="1615"/>
                  </a:lnTo>
                  <a:lnTo>
                    <a:pt x="134" y="1638"/>
                  </a:lnTo>
                  <a:lnTo>
                    <a:pt x="150" y="1659"/>
                  </a:lnTo>
                  <a:lnTo>
                    <a:pt x="167" y="1676"/>
                  </a:lnTo>
                  <a:lnTo>
                    <a:pt x="186" y="1690"/>
                  </a:lnTo>
                  <a:lnTo>
                    <a:pt x="207" y="1699"/>
                  </a:lnTo>
                  <a:lnTo>
                    <a:pt x="230" y="1701"/>
                  </a:lnTo>
                </a:path>
              </a:pathLst>
            </a:cu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1" name=""/>
          <p:cNvSpPr/>
          <p:nvPr/>
        </p:nvSpPr>
        <p:spPr>
          <a:xfrm>
            <a:off x="609480" y="3886200"/>
            <a:ext cx="4038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ПОВТОРНОЕ ИСПОЛН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5105520" y="838080"/>
            <a:ext cx="3657600" cy="533412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3" name=""/>
          <p:cNvGrpSpPr/>
          <p:nvPr/>
        </p:nvGrpSpPr>
        <p:grpSpPr>
          <a:xfrm>
            <a:off x="4343400" y="1371600"/>
            <a:ext cx="4267080" cy="4511160"/>
            <a:chOff x="4343400" y="1371600"/>
            <a:chExt cx="4267080" cy="4511160"/>
          </a:xfrm>
        </p:grpSpPr>
        <p:sp>
          <p:nvSpPr>
            <p:cNvPr id="504" name=""/>
            <p:cNvSpPr/>
            <p:nvPr/>
          </p:nvSpPr>
          <p:spPr>
            <a:xfrm>
              <a:off x="4343400" y="3809880"/>
              <a:ext cx="976320" cy="486000"/>
            </a:xfrm>
            <a:prstGeom prst="leftArrow">
              <a:avLst>
                <a:gd name="adj1" fmla="val 50000"/>
                <a:gd name="adj2" fmla="val 50222"/>
              </a:avLst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5334120" y="1371600"/>
              <a:ext cx="3276360" cy="4495680"/>
            </a:xfrm>
            <a:prstGeom prst="rect">
              <a:avLst/>
            </a:prstGeom>
            <a:solidFill>
              <a:srgbClr val="ffcc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5867280" y="1676520"/>
              <a:ext cx="2590920" cy="420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70000"/>
                </a:lnSpc>
                <a:spcBef>
                  <a:spcPts val="15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ОПЫТ - СИСТЕМ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0000"/>
                </a:lnSpc>
                <a:spcBef>
                  <a:spcPts val="15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ПРЕДСТАВЛЕНИ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0000"/>
                </a:lnSpc>
                <a:spcBef>
                  <a:spcPts val="15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ПРЕЦЕДЕНТОВ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0000"/>
                </a:lnSpc>
                <a:spcBef>
                  <a:spcPts val="15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ДЛЯ ИХ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0000"/>
                </a:lnSpc>
                <a:spcBef>
                  <a:spcPts val="15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ПОВТОРНОГО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0000"/>
                </a:lnSpc>
                <a:spcBef>
                  <a:spcPts val="15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ИСПОЛЬЗОВАНИ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0000"/>
                </a:lnSpc>
                <a:spcBef>
                  <a:spcPts val="15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(РАЦИОНАЛЬНОСТ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0000"/>
                </a:lnSpc>
                <a:spcBef>
                  <a:spcPts val="15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В ОТНОШЕНИЯХ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0000"/>
                </a:lnSpc>
                <a:spcBef>
                  <a:spcPts val="15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С ОКРУЖАЮЩИ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0000"/>
                </a:lnSpc>
                <a:spcBef>
                  <a:spcPts val="15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МИРОМ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0000"/>
                </a:lnSpc>
                <a:spcBef>
                  <a:spcPts val="15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ЭВРИСТИК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4586400" y="2362320"/>
              <a:ext cx="823680" cy="485640"/>
            </a:xfrm>
            <a:prstGeom prst="rightArrow">
              <a:avLst>
                <a:gd name="adj1" fmla="val 50000"/>
                <a:gd name="adj2" fmla="val 42402"/>
              </a:avLst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8" name=""/>
          <p:cNvSpPr/>
          <p:nvPr/>
        </p:nvSpPr>
        <p:spPr>
          <a:xfrm>
            <a:off x="5562720" y="990720"/>
            <a:ext cx="281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ЧЕЛОВЕ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"/>
          <p:cNvSpPr/>
          <p:nvPr/>
        </p:nvSpPr>
        <p:spPr>
          <a:xfrm>
            <a:off x="457200" y="609480"/>
            <a:ext cx="8381880" cy="60199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685800" y="838080"/>
            <a:ext cx="8001000" cy="5562720"/>
          </a:xfrm>
          <a:prstGeom prst="rect">
            <a:avLst/>
          </a:prstGeom>
          <a:solidFill>
            <a:srgbClr val="99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ОПЫ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2" name=""/>
          <p:cNvGrpSpPr/>
          <p:nvPr/>
        </p:nvGrpSpPr>
        <p:grpSpPr>
          <a:xfrm>
            <a:off x="1066680" y="2057400"/>
            <a:ext cx="7239240" cy="4038480"/>
            <a:chOff x="1066680" y="2057400"/>
            <a:chExt cx="7239240" cy="4038480"/>
          </a:xfrm>
        </p:grpSpPr>
        <p:sp>
          <p:nvSpPr>
            <p:cNvPr id="513" name=""/>
            <p:cNvSpPr/>
            <p:nvPr/>
          </p:nvSpPr>
          <p:spPr>
            <a:xfrm>
              <a:off x="1066680" y="2057400"/>
              <a:ext cx="7162920" cy="396216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1143000" y="4038480"/>
              <a:ext cx="7162920" cy="0"/>
            </a:xfrm>
            <a:prstGeom prst="line">
              <a:avLst/>
            </a:prstGeom>
            <a:ln w="572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4648320" y="4038480"/>
              <a:ext cx="0" cy="2057400"/>
            </a:xfrm>
            <a:prstGeom prst="line">
              <a:avLst/>
            </a:prstGeom>
            <a:ln w="572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971800" y="2666880"/>
              <a:ext cx="3200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66"/>
                  </a:solidFill>
                  <a:latin typeface="Times New Roman"/>
                </a:rPr>
                <a:t>ЗНАНИ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4800600" y="4647960"/>
              <a:ext cx="3200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66"/>
                  </a:solidFill>
                  <a:latin typeface="Times New Roman"/>
                </a:rPr>
                <a:t>НАВЫК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371600" y="4647960"/>
              <a:ext cx="3200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66"/>
                  </a:solidFill>
                  <a:latin typeface="Times New Roman"/>
                </a:rPr>
                <a:t>УМЕНИ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9" name=""/>
          <p:cNvSpPr/>
          <p:nvPr/>
        </p:nvSpPr>
        <p:spPr>
          <a:xfrm>
            <a:off x="914400" y="137160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Психофизиологические структуры и актив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2666880" y="990720"/>
            <a:ext cx="381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СУБЪЕК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Arial"/>
              </a:rPr>
              <a:t>ОПЫ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380880" y="914400"/>
            <a:ext cx="8382240" cy="57150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520560" y="1371600"/>
            <a:ext cx="898560" cy="307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Запро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4" name=""/>
          <p:cNvGrpSpPr/>
          <p:nvPr/>
        </p:nvGrpSpPr>
        <p:grpSpPr>
          <a:xfrm>
            <a:off x="746280" y="1447920"/>
            <a:ext cx="7788240" cy="5005800"/>
            <a:chOff x="746280" y="1447920"/>
            <a:chExt cx="7788240" cy="5005800"/>
          </a:xfrm>
        </p:grpSpPr>
        <p:sp>
          <p:nvSpPr>
            <p:cNvPr id="525" name=""/>
            <p:cNvSpPr/>
            <p:nvPr/>
          </p:nvSpPr>
          <p:spPr>
            <a:xfrm>
              <a:off x="1419120" y="3629160"/>
              <a:ext cx="6294600" cy="0"/>
            </a:xfrm>
            <a:prstGeom prst="line">
              <a:avLst/>
            </a:prstGeom>
            <a:ln w="381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578560" y="1677960"/>
              <a:ext cx="0" cy="1951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5578560" y="2602080"/>
              <a:ext cx="2135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4317840" y="3629160"/>
              <a:ext cx="0" cy="1847880"/>
            </a:xfrm>
            <a:prstGeom prst="line">
              <a:avLst/>
            </a:prstGeom>
            <a:ln w="381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3443400" y="5735520"/>
              <a:ext cx="89856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  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d</a:t>
              </a:r>
              <a:r>
                <a:rPr b="1" lang="en-US" sz="1600" spc="-1" strike="noStrike" baseline="-25000">
                  <a:solidFill>
                    <a:srgbClr val="ff0066"/>
                  </a:solidFill>
                  <a:latin typeface="Times New Roman"/>
                </a:rPr>
                <a:t>i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(t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4572000" y="5715000"/>
              <a:ext cx="898560" cy="40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d</a:t>
              </a:r>
              <a:r>
                <a:rPr b="1" lang="en-US" sz="1600" spc="-1" strike="noStrike" baseline="-25000">
                  <a:solidFill>
                    <a:srgbClr val="ff0066"/>
                  </a:solidFill>
                  <a:latin typeface="Times New Roman"/>
                </a:rPr>
                <a:t>j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(t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419120" y="1677960"/>
              <a:ext cx="0" cy="3799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1419120" y="1677960"/>
              <a:ext cx="6294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1419120" y="5477040"/>
              <a:ext cx="6294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 flipV="1">
              <a:off x="7713720" y="1677600"/>
              <a:ext cx="0" cy="3799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543040" y="1677960"/>
              <a:ext cx="0" cy="51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 flipH="1">
              <a:off x="1419120" y="2192400"/>
              <a:ext cx="1123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1436760" y="1749600"/>
              <a:ext cx="1047600" cy="307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E - опыт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5589720" y="1689120"/>
              <a:ext cx="1461960" cy="307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метаумени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589720" y="2612880"/>
              <a:ext cx="1449360" cy="3081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метанавык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442880" y="3651120"/>
              <a:ext cx="1011240" cy="3081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умени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6629400" y="3654360"/>
              <a:ext cx="1011240" cy="3081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навык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746280" y="1852560"/>
              <a:ext cx="672840" cy="204840"/>
            </a:xfrm>
            <a:custGeom>
              <a:avLst/>
              <a:gdLst>
                <a:gd name="textAreaLeft" fmla="*/ 105120 w 672840"/>
                <a:gd name="textAreaRight" fmla="*/ 625320 w 672840"/>
                <a:gd name="textAreaTop" fmla="*/ 61920 h 204840"/>
                <a:gd name="textAreaBottom" fmla="*/ 142920 h 204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6541"/>
                  </a:moveTo>
                  <a:lnTo>
                    <a:pt x="17721" y="6541"/>
                  </a:lnTo>
                  <a:lnTo>
                    <a:pt x="17721" y="0"/>
                  </a:lnTo>
                  <a:lnTo>
                    <a:pt x="21600" y="10800"/>
                  </a:lnTo>
                  <a:lnTo>
                    <a:pt x="17721" y="21600"/>
                  </a:lnTo>
                  <a:lnTo>
                    <a:pt x="17721" y="15059"/>
                  </a:lnTo>
                  <a:lnTo>
                    <a:pt x="3375" y="15059"/>
                  </a:lnTo>
                  <a:close/>
                </a:path>
                <a:path w="21600" h="21600">
                  <a:moveTo>
                    <a:pt x="0" y="6541"/>
                  </a:moveTo>
                  <a:lnTo>
                    <a:pt x="675" y="6541"/>
                  </a:lnTo>
                  <a:lnTo>
                    <a:pt x="675" y="15059"/>
                  </a:lnTo>
                  <a:lnTo>
                    <a:pt x="0" y="15059"/>
                  </a:lnTo>
                  <a:close/>
                </a:path>
                <a:path w="21600" h="21600">
                  <a:moveTo>
                    <a:pt x="1350" y="6541"/>
                  </a:moveTo>
                  <a:lnTo>
                    <a:pt x="2700" y="6541"/>
                  </a:lnTo>
                  <a:lnTo>
                    <a:pt x="2700" y="15059"/>
                  </a:lnTo>
                  <a:lnTo>
                    <a:pt x="1350" y="15059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1419120" y="1986120"/>
              <a:ext cx="382104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4888080" y="1986120"/>
              <a:ext cx="0" cy="379872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3892680" y="1986120"/>
              <a:ext cx="0" cy="379872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5240160" y="2176560"/>
              <a:ext cx="2724480" cy="1584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 flipV="1">
              <a:off x="5240160" y="3112560"/>
              <a:ext cx="2724480" cy="324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105000" y="4348080"/>
              <a:ext cx="900360" cy="40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{d</a:t>
              </a:r>
              <a:r>
                <a:rPr b="1" lang="en-US" sz="1600" spc="-1" strike="noStrike" baseline="-25000">
                  <a:solidFill>
                    <a:srgbClr val="ff0066"/>
                  </a:solidFill>
                  <a:latin typeface="Times New Roman"/>
                </a:rPr>
                <a:t>i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(t)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5353200" y="4348080"/>
              <a:ext cx="900000" cy="40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{d</a:t>
              </a:r>
              <a:r>
                <a:rPr b="1" lang="en-US" sz="1600" spc="-1" strike="noStrike" baseline="-25000">
                  <a:solidFill>
                    <a:srgbClr val="ff0066"/>
                  </a:solidFill>
                  <a:latin typeface="Times New Roman"/>
                </a:rPr>
                <a:t>j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(t)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5915160" y="2192400"/>
              <a:ext cx="900000" cy="40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{w</a:t>
              </a:r>
              <a:r>
                <a:rPr b="1" lang="en-US" sz="1600" spc="-1" strike="noStrike" baseline="-25000">
                  <a:solidFill>
                    <a:srgbClr val="ff0066"/>
                  </a:solidFill>
                  <a:latin typeface="Times New Roman"/>
                </a:rPr>
                <a:t>k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5915160" y="3116160"/>
              <a:ext cx="900000" cy="40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{w</a:t>
              </a:r>
              <a:r>
                <a:rPr b="1" lang="en-US" sz="1600" spc="-1" strike="noStrike" baseline="-25000">
                  <a:solidFill>
                    <a:srgbClr val="ff0066"/>
                  </a:solidFill>
                  <a:latin typeface="Times New Roman"/>
                </a:rPr>
                <a:t>l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7736040" y="1968480"/>
              <a:ext cx="65088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w</a:t>
              </a:r>
              <a:r>
                <a:rPr b="1" lang="en-US" sz="1600" spc="-1" strike="noStrike" baseline="-25000">
                  <a:solidFill>
                    <a:srgbClr val="ff0066"/>
                  </a:solidFill>
                  <a:latin typeface="Times New Roman"/>
                </a:rPr>
                <a:t>k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736040" y="2905200"/>
              <a:ext cx="676080" cy="41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w</a:t>
              </a:r>
              <a:r>
                <a:rPr b="1" lang="en-US" sz="1600" spc="-1" strike="noStrike" baseline="-25000">
                  <a:solidFill>
                    <a:srgbClr val="ff0066"/>
                  </a:solidFill>
                  <a:latin typeface="Times New Roman"/>
                </a:rPr>
                <a:t>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3519360" y="1447920"/>
              <a:ext cx="5015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8534520" y="1447920"/>
              <a:ext cx="0" cy="1977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3860640" y="1447920"/>
              <a:ext cx="0" cy="520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5229360" y="1968480"/>
              <a:ext cx="0" cy="1144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4888080" y="1447920"/>
              <a:ext cx="0" cy="520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8193240" y="2176560"/>
              <a:ext cx="341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8193240" y="3112920"/>
              <a:ext cx="341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3048120" y="6400800"/>
              <a:ext cx="29718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3886200" y="60958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952880" y="60958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791320" y="586728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66"/>
                  </a:solidFill>
                  <a:latin typeface="Times New Roman"/>
                </a:rPr>
                <a:t>D(t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2133720" y="5943600"/>
              <a:ext cx="838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66"/>
                  </a:solidFill>
                  <a:latin typeface="Times New Roman"/>
                </a:rPr>
                <a:t>D(t</a:t>
              </a:r>
              <a:r>
                <a:rPr b="1" lang="en-US" sz="2400" spc="-1" strike="noStrike" baseline="-25000">
                  <a:solidFill>
                    <a:srgbClr val="ff0066"/>
                  </a:solidFill>
                  <a:latin typeface="Times New Roman"/>
                </a:rPr>
                <a:t>0</a:t>
              </a:r>
              <a:r>
                <a:rPr b="1" lang="en-US" sz="2400" spc="-1" strike="noStrike">
                  <a:solidFill>
                    <a:srgbClr val="ff0066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2T13:18:30Z</dcterms:created>
  <dc:creator>Валерий Г. Костин</dc:creator>
  <dc:description/>
  <dc:language>en-US</dc:language>
  <cp:lastModifiedBy>Валерий Г. Костин</cp:lastModifiedBy>
  <dcterms:modified xsi:type="dcterms:W3CDTF">2002-12-12T13:19:52Z</dcterms:modified>
  <cp:revision>1</cp:revision>
  <dc:subject/>
  <dc:title>ИСКУССТВЕННЫЙ  ИНТЕЛЛЕКТ</dc:title>
</cp:coreProperties>
</file>