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995B-9503-487D-9E2A-5B237957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FA5-3D11-4DD0-AA38-0DFD704B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C4A4-1D01-44FD-AA00-96C30C5A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B18-25F0-4C0B-9C97-105C5C08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AB60-21A2-4251-93DE-9718B1A7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11B5-C0A7-435F-AF0D-727008CA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0344-97A7-492F-90B2-A1BFA8C1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C128-2372-49A4-9B21-C35F0217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5C54-8978-4BFB-B30D-7E210AA5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2AF2-1C57-49EE-AF2D-4D9F0299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CFD-DBC7-4025-A15C-6D57D62F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63C2-FCCA-45BC-AB2F-5A8237CB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081E-CE8D-4EF9-939F-4778151B33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БАЗОВ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520" y="28195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ффективность и 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77120" y="320040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ррекция клас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990720"/>
            <a:ext cx="1676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ая классифик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175248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ый словар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29528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ределить полный перечен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48006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ачество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46483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ыбор алгорит ма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57150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Рабочие словари признаков и клас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2819160" y="22860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00400" y="15998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38680" y="1676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933960" y="40384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486040" y="5181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2895480" y="55623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1676520" y="365724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76212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Грамматическое распозна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19320" y="1447920"/>
            <a:ext cx="2057400" cy="1828800"/>
            <a:chOff x="1219320" y="1447920"/>
            <a:chExt cx="2057400" cy="1828800"/>
          </a:xfrm>
        </p:grpSpPr>
        <p:sp>
          <p:nvSpPr>
            <p:cNvPr id="398" name=""/>
            <p:cNvSpPr/>
            <p:nvPr/>
          </p:nvSpPr>
          <p:spPr>
            <a:xfrm>
              <a:off x="1219320" y="1447920"/>
              <a:ext cx="2057400" cy="1828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460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2133720"/>
              <a:ext cx="763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28800" y="28958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76520" y="3809880"/>
            <a:ext cx="6400800" cy="2210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Лицо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)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нутри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): окружность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,z):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нос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 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z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 =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 (и( над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x,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ад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,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z)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x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слев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ос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ямоугольник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отрезок_прямой(), горизонтальный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733920" y="1447920"/>
            <a:ext cx="4952880" cy="1523880"/>
            <a:chOff x="3733920" y="1447920"/>
            <a:chExt cx="4952880" cy="1523880"/>
          </a:xfrm>
        </p:grpSpPr>
        <p:sp>
          <p:nvSpPr>
            <p:cNvPr id="405" name=""/>
            <p:cNvSpPr/>
            <p:nvPr/>
          </p:nvSpPr>
          <p:spPr>
            <a:xfrm>
              <a:off x="3809880" y="1447920"/>
              <a:ext cx="457200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1523880"/>
              <a:ext cx="441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ипы объектов : точка, прямоугольник, отрезок прямой , окружно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33920" y="2362320"/>
              <a:ext cx="49528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62520" y="2514600"/>
              <a:ext cx="45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едикаты : Внутри, над, слева, горизонтальный, 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38080" y="1600200"/>
            <a:ext cx="1523880" cy="2211840"/>
            <a:chOff x="838080" y="1600200"/>
            <a:chExt cx="1523880" cy="2211840"/>
          </a:xfrm>
        </p:grpSpPr>
        <p:sp>
          <p:nvSpPr>
            <p:cNvPr id="414" name=""/>
            <p:cNvSpPr/>
            <p:nvPr/>
          </p:nvSpPr>
          <p:spPr>
            <a:xfrm>
              <a:off x="914400" y="167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8080" y="19047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914400" y="2285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38080" y="24379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66680" y="25142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1600" y="16002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43000" y="1828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7560" y="21333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838080" y="2971440"/>
              <a:ext cx="304920" cy="304560"/>
              <a:chOff x="838080" y="2971440"/>
              <a:chExt cx="304920" cy="30456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838080" y="2971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38080" y="29714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67616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1676160" y="2971440"/>
              <a:ext cx="381240" cy="459360"/>
              <a:chOff x="1676160" y="2971440"/>
              <a:chExt cx="381240" cy="4593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1752480" y="2971440"/>
                <a:ext cx="304920" cy="228240"/>
                <a:chOff x="1752480" y="2971440"/>
                <a:chExt cx="304920" cy="2282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752480" y="29714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57400" y="297144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1676160" y="312372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1752120" y="3504960"/>
              <a:ext cx="304920" cy="304560"/>
              <a:chOff x="1752120" y="3504960"/>
              <a:chExt cx="304920" cy="304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05704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175212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838080" y="3504960"/>
              <a:ext cx="304920" cy="304560"/>
              <a:chOff x="838080" y="3504960"/>
              <a:chExt cx="304920" cy="304560"/>
            </a:xfrm>
          </p:grpSpPr>
          <p:sp>
            <p:nvSpPr>
              <p:cNvPr id="435" name=""/>
              <p:cNvSpPr/>
              <p:nvPr/>
            </p:nvSpPr>
            <p:spPr>
              <a:xfrm>
                <a:off x="83808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3808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990360" y="31240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1440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809880" y="1371600"/>
            <a:ext cx="12193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::=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F::=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::=b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G::=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::=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::=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::=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T::=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019920" y="2057040"/>
            <a:ext cx="1218960" cy="991080"/>
            <a:chOff x="6019920" y="2057040"/>
            <a:chExt cx="1218960" cy="991080"/>
          </a:xfrm>
        </p:grpSpPr>
        <p:sp>
          <p:nvSpPr>
            <p:cNvPr id="441" name=""/>
            <p:cNvSpPr/>
            <p:nvPr/>
          </p:nvSpPr>
          <p:spPr>
            <a:xfrm>
              <a:off x="601992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2448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3396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238880" y="20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38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38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93396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01992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629040" y="304812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019920" y="2742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01992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019920" y="2057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219320" y="762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ьные грамма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остояния (класс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 = {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ктор призна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условные распре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априорные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= [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минимиз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1523880"/>
            <a:ext cx="4190760" cy="419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175248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ыбрать 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если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&lt; 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&gt;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4572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638680" y="47242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992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9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4120" y="2514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9720" y="236232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10080" y="26668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91320" y="2286000"/>
            <a:ext cx="289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sqrt((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(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Peter Sosnin</cp:lastModifiedBy>
  <dcterms:modified xsi:type="dcterms:W3CDTF">2006-05-04T15:11:01Z</dcterms:modified>
  <cp:revision>12</cp:revision>
  <dc:subject/>
  <dc:title>РАСПОЗНАВАНИЕ ОБРАЗОВ</dc:title>
</cp:coreProperties>
</file>