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2D51-AA9E-4812-A78B-F9595165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96AD-AB1F-4B4B-9A2C-3AAF9B29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7B9E-4F92-4293-B83B-771FDA46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EC2F-42C2-42FB-9147-74D28D25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B4AD-8C7F-4176-A188-DE64424C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65C5-5218-4625-9CB7-1699B33B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6A42-EB9B-46A8-9D98-D24FD511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7466-5113-4F0B-8AFE-BE039E7C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BB1C-BCD3-4CB5-9533-37F7CD09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C833-24B0-4D7B-B793-2F9FCB95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709E-419E-4546-B7A8-B61E56D3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6F71-AC91-40BC-82D7-8CE75E64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0A68-97B4-44BB-8CFF-74CD60775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8229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Феномен прир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Шкалирование: прошлое настоящее будущее (А-систем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раньше, позже (В-системы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2895480"/>
            <a:ext cx="388620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Основные свойств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аправл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Линей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прерыв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оканчиваем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Гомог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1371600"/>
            <a:ext cx="6248160" cy="36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нтериорные, задающие местоположение объекта перед други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ом или ориентир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стериорные, определяющие положение объекта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видимой (тыльной) стороны другого объек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ппозитивные, определяющие местоположение объекта в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ивоположении к другому объекту или локализатор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вальные,   задающие   местоположение   объекта    межд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умя други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ппроксимативные,   задающие   приблизительное   положенш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а в пространстве относительно расстояния или направления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где-то в парк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рективные, определяющие направление движения или де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ия над объектом относительно пространственного ориентира ил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а координ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ициальные, указывающие направление при фиксированн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905120"/>
            <a:ext cx="632448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рминальные, указывающие направление при фиксирован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неч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имитативные, указывающие направление при фиксиров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и конечной точ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клюзивные, задающие перемещение или действие, происх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ящее внутри некоторого объекта или ЛО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клюзивные,  задающие перемещение  или  действие,  проис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ходящее по  направлению внутрь некоторого объекта  или  Л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рансверсальные,  указывающие  на   пересекаемый 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ый ориентир  («перейти через улицу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тинеративные, указывающие на маршрут движения или пер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щения или фиксирующие ЛОК, в котором совершается действи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идти по улице»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52880" y="1600200"/>
            <a:ext cx="3962520" cy="3124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600200"/>
            <a:ext cx="4190760" cy="3124080"/>
          </a:xfrm>
          <a:prstGeom prst="rect">
            <a:avLst/>
          </a:prstGeom>
          <a:solidFill>
            <a:srgbClr val="cccc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в естественном язы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1981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Рус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9810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Англий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019560" y="25146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25146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3505320"/>
            <a:ext cx="152424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62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505320"/>
            <a:ext cx="15238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447560" y="2438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36232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4952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Заполненность отрезка времени действ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54100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Единичность или повторяем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579132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Завершённость действия или незаверш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62485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Одновремённость или разновремё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-2666880" y="990720"/>
            <a:ext cx="15086520" cy="3276000"/>
            <a:chOff x="-2666880" y="990720"/>
            <a:chExt cx="15086520" cy="3276000"/>
          </a:xfrm>
        </p:grpSpPr>
        <p:sp>
          <p:nvSpPr>
            <p:cNvPr id="70" name=""/>
            <p:cNvSpPr/>
            <p:nvPr/>
          </p:nvSpPr>
          <p:spPr>
            <a:xfrm>
              <a:off x="1676520" y="990720"/>
              <a:ext cx="548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3366"/>
                  </a:solidFill>
                  <a:latin typeface="Times New Roman"/>
                </a:rPr>
                <a:t>Время в лигвиститк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9480" y="3123720"/>
              <a:ext cx="7924680" cy="0"/>
              <a:chOff x="609480" y="3123720"/>
              <a:chExt cx="7924680" cy="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609480" y="3123720"/>
                <a:ext cx="2113200" cy="0"/>
                <a:chOff x="609480" y="3123720"/>
                <a:chExt cx="2113200" cy="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60948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13796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66608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19420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2723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511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792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3077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362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6436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8928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209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9490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7792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006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80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479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909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576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148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483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55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38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7220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81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152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487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1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2666880" y="1752480"/>
              <a:ext cx="700992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343400" y="1676520"/>
              <a:ext cx="807624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71800" y="1371600"/>
              <a:ext cx="3276720" cy="1600200"/>
            </a:xfrm>
            <a:custGeom>
              <a:avLst/>
              <a:gdLst/>
              <a:ahLst/>
              <a:rect l="l" t="t" r="r" b="b"/>
              <a:pathLst>
                <a:path w="2016" h="616">
                  <a:moveTo>
                    <a:pt x="0" y="616"/>
                  </a:moveTo>
                  <a:cubicBezTo>
                    <a:pt x="0" y="496"/>
                    <a:pt x="0" y="376"/>
                    <a:pt x="96" y="280"/>
                  </a:cubicBezTo>
                  <a:cubicBezTo>
                    <a:pt x="192" y="184"/>
                    <a:pt x="448" y="80"/>
                    <a:pt x="576" y="40"/>
                  </a:cubicBezTo>
                  <a:cubicBezTo>
                    <a:pt x="704" y="0"/>
                    <a:pt x="728" y="24"/>
                    <a:pt x="864" y="40"/>
                  </a:cubicBezTo>
                  <a:cubicBezTo>
                    <a:pt x="1000" y="56"/>
                    <a:pt x="1240" y="88"/>
                    <a:pt x="1392" y="136"/>
                  </a:cubicBezTo>
                  <a:cubicBezTo>
                    <a:pt x="1544" y="184"/>
                    <a:pt x="1672" y="248"/>
                    <a:pt x="1776" y="328"/>
                  </a:cubicBezTo>
                  <a:cubicBezTo>
                    <a:pt x="1880" y="408"/>
                    <a:pt x="1976" y="568"/>
                    <a:pt x="2016" y="6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3520" y="198108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57600" y="182880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213372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520" y="4114800"/>
            <a:ext cx="8458200" cy="2516760"/>
            <a:chOff x="533520" y="4114800"/>
            <a:chExt cx="8458200" cy="2516760"/>
          </a:xfrm>
        </p:grpSpPr>
        <p:sp>
          <p:nvSpPr>
            <p:cNvPr id="111" name=""/>
            <p:cNvSpPr/>
            <p:nvPr/>
          </p:nvSpPr>
          <p:spPr>
            <a:xfrm>
              <a:off x="533520" y="411480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 – давн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52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3520" y="495288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 - пред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3520" y="54100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 – после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520" y="57913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П близк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09880" y="4114800"/>
              <a:ext cx="23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3366"/>
                  </a:solidFill>
                  <a:latin typeface="Times New Roman"/>
                </a:rPr>
                <a:t>ДН - давнонастоящ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9880" y="45720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9880" y="50292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 момент отсчёт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4100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 - близк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58672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 - 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09880" y="63244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411480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  - близк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24480" y="4572000"/>
              <a:ext cx="266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 -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4480" y="495288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00800" y="53341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00800" y="579132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 – далёко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и челов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1523880"/>
            <a:ext cx="2361960" cy="838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38080" y="3733920"/>
            <a:ext cx="7772400" cy="1066680"/>
            <a:chOff x="838080" y="3733920"/>
            <a:chExt cx="7772400" cy="1066680"/>
          </a:xfrm>
        </p:grpSpPr>
        <p:sp>
          <p:nvSpPr>
            <p:cNvPr id="131" name=""/>
            <p:cNvSpPr/>
            <p:nvPr/>
          </p:nvSpPr>
          <p:spPr>
            <a:xfrm>
              <a:off x="838080" y="4267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19720" y="4191120"/>
              <a:ext cx="75960" cy="759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29000" y="38098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10080" y="37339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19320" y="42670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4480" y="426708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505320" y="1752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собы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371600" y="5638680"/>
            <a:ext cx="6248520" cy="304560"/>
            <a:chOff x="1371600" y="5638680"/>
            <a:chExt cx="6248520" cy="304560"/>
          </a:xfrm>
        </p:grpSpPr>
        <p:sp>
          <p:nvSpPr>
            <p:cNvPr id="140" name=""/>
            <p:cNvSpPr/>
            <p:nvPr/>
          </p:nvSpPr>
          <p:spPr>
            <a:xfrm>
              <a:off x="137160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05120" y="59432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97144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400" y="59432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56386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594324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82040" y="56386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9240" y="59432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28600" y="6248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интерва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981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точеч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97180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29718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32767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27672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266688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3352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3505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9144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точеч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676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одновременно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событием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20574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раньш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243828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позж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3962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4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</a:rPr>
              <a:t>t*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4290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) 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ит раньше на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5105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5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295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4648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048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144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интерваль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76520"/>
            <a:ext cx="5715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1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441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следует за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2438280"/>
            <a:ext cx="3962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4952880"/>
            <a:ext cx="7315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4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(t*,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и продолжается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5943600"/>
            <a:ext cx="5105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5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295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5410080"/>
            <a:ext cx="159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429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743200"/>
            <a:ext cx="563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Частные случа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: 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0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4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5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3124080"/>
            <a:ext cx="487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7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епосредственно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редшествует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3733920"/>
            <a:ext cx="5715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4038480"/>
            <a:ext cx="6324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пересекается 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чала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4495680"/>
            <a:ext cx="624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3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концы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Формальная сис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676520"/>
            <a:ext cx="8077320" cy="26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ПФ языка будем строить по следующим правила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1.    Любой элемент из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2.    Выражения вида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,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 есть ПП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3.    Если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то (а&amp; р) —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4.      Выражения     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 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— ППФ,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{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4 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5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5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} t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T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5.      Выражения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4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,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— ППФ 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6.      Других ППФ не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1219320"/>
            <a:ext cx="5334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 ={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……….. 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114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равила вы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502920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  &amp;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055520"/>
            <a:ext cx="739152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е группы средств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ксические (наречия и их конструкции, предлоги, имена существительные и именные группы, глаголы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правленного действия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рамматико-морфологические (падежн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ые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значения предлогов, которые управляют падежной формой существительных, а также местоимений и числительных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76212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Естественный язы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948040"/>
            <a:ext cx="388620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ы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ход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доех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р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рог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б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са),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прята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ес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камейку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2857680"/>
            <a:ext cx="32767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рас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устам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л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ол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лет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оро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лете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находи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сягаем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ж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реп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агазин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мина).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2635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Times New Roman"/>
              </a:rPr>
              <a:t>Предлог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066680"/>
            <a:ext cx="5943600" cy="37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териорные, определяющие положение объекта во внешне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 относительно некоторого начала координат,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ого  ориентира,   или  локализатора   (например,  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ОКа с именем Париж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иорные, определяющие положение объекта во внутре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м  пространстве относительно начала координат или некотор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нного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спозитивные,   задающие   местоположение   объекта   в  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ранстве в самом общем виде («где-то на север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упериорные, указывающие местоположение объекта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верхней поверхности некоторого локализатора, или ориент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фериорные,  характеризующие положение объекта 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нижней поверхности локализатора или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инантные, указывающие местоположение объекта над н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торым   локализатором   или   ориентиром,   когда   нет   в   наличи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с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6:28:45Z</dcterms:created>
  <dc:creator>.</dc:creator>
  <dc:description/>
  <dc:language>en-US</dc:language>
  <cp:lastModifiedBy>Peter Sosnin</cp:lastModifiedBy>
  <dcterms:modified xsi:type="dcterms:W3CDTF">2005-11-28T06:52:25Z</dcterms:modified>
  <cp:revision>9</cp:revision>
  <dc:subject/>
  <dc:title>ЛОГИКА ВРЕМЕНИ</dc:title>
</cp:coreProperties>
</file>