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F37-1BA7-436D-A24D-494F8A5D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A225-9B24-4EEA-A20D-C0B02148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BD71-8E14-4F8A-8F91-1C14464D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166-CB19-46DA-85FC-4AD48018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75E-623A-4A03-A693-3E03E46C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F795-EDB1-4F5F-A7EF-8DE49A9E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DB9E-66E5-4221-B8B7-2C588820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8048-C894-4EC3-A98C-260D03D5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1CC-B21A-4BBC-88B6-FD9D3B0B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6E3-DFFE-40F9-9B4C-6BD14DD4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8D3-8A32-4F40-84F6-CF7AD920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235-0E38-423C-B6E5-EB1D1D03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DB7A-4684-42CC-9083-8165AF935A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.5.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520"/>
            <a:ext cx="68580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АЛЬНЫЕ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ЯЗЫК ТЕОР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1.Алфав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2.Слов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слов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на принадлежность словар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3.Пред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синтакси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479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05520" y="1523880"/>
            <a:ext cx="3504600" cy="838440"/>
            <a:chOff x="5105520" y="1523880"/>
            <a:chExt cx="35046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5943240" y="1523880"/>
              <a:ext cx="914040" cy="838080"/>
              <a:chOff x="5943240" y="1523880"/>
              <a:chExt cx="914040" cy="838080"/>
            </a:xfrm>
          </p:grpSpPr>
          <p:sp>
            <p:nvSpPr>
              <p:cNvPr id="47" name=""/>
              <p:cNvSpPr/>
              <p:nvPr/>
            </p:nvSpPr>
            <p:spPr>
              <a:xfrm>
                <a:off x="6171480" y="1523880"/>
                <a:ext cx="68544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943240" y="1752480"/>
                <a:ext cx="91404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5105520" y="213372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24680" y="175248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10280" y="1752480"/>
              <a:ext cx="91404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952880" y="2819520"/>
            <a:ext cx="3353040" cy="990360"/>
            <a:chOff x="4952880" y="2819520"/>
            <a:chExt cx="3353040" cy="990360"/>
          </a:xfrm>
        </p:grpSpPr>
        <p:sp>
          <p:nvSpPr>
            <p:cNvPr id="53" name=""/>
            <p:cNvSpPr/>
            <p:nvPr/>
          </p:nvSpPr>
          <p:spPr>
            <a:xfrm>
              <a:off x="4952880" y="3276720"/>
              <a:ext cx="17528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9920" y="2819520"/>
              <a:ext cx="22860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3276720"/>
              <a:ext cx="6858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4267080"/>
            <a:ext cx="8153280" cy="2304360"/>
            <a:chOff x="685800" y="4267080"/>
            <a:chExt cx="8153280" cy="2304360"/>
          </a:xfrm>
        </p:grpSpPr>
        <p:sp>
          <p:nvSpPr>
            <p:cNvPr id="57" name=""/>
            <p:cNvSpPr/>
            <p:nvPr/>
          </p:nvSpPr>
          <p:spPr>
            <a:xfrm>
              <a:off x="685800" y="4495680"/>
              <a:ext cx="8153280" cy="20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.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.ПРАВИЛА ВЫВОДА = правила  образов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СЕМАНТИЧЕСКИ ПРАВИЛЬНЫЕ ПРЕДЛОЖ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1. Лем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2.Теоре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819520" y="4267080"/>
              <a:ext cx="4038480" cy="457200"/>
              <a:chOff x="2819520" y="4267080"/>
              <a:chExt cx="4038480" cy="4572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2819520" y="4495680"/>
                <a:ext cx="1371600" cy="228600"/>
                <a:chOff x="2819520" y="4495680"/>
                <a:chExt cx="1371600" cy="228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8195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5053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505320" y="4267080"/>
                <a:ext cx="6858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800600" y="4267080"/>
                <a:ext cx="2057400" cy="457200"/>
                <a:chOff x="4800600" y="4267080"/>
                <a:chExt cx="2057400" cy="4572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1722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4800600" y="4495680"/>
                  <a:ext cx="1371600" cy="228600"/>
                  <a:chOff x="4800600" y="4495680"/>
                  <a:chExt cx="1371600" cy="2286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48006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54864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>
                  <a:off x="54864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5800" y="3581280"/>
            <a:ext cx="7315200" cy="2819520"/>
            <a:chOff x="685800" y="3581280"/>
            <a:chExt cx="7315200" cy="2819520"/>
          </a:xfrm>
        </p:grpSpPr>
        <p:sp>
          <p:nvSpPr>
            <p:cNvPr id="402" name=""/>
            <p:cNvSpPr/>
            <p:nvPr/>
          </p:nvSpPr>
          <p:spPr>
            <a:xfrm>
              <a:off x="6477120" y="3886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2480" y="35812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В  А  Р  И  А  Н  Т  Ы               М  О  Д  Е  Л  Е  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85800" y="4267080"/>
              <a:ext cx="2209680" cy="1928880"/>
              <a:chOff x="685800" y="4267080"/>
              <a:chExt cx="2209680" cy="192888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267080"/>
                <a:ext cx="220968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1:  P1      P2      P3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2:  P1              P2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3   P1               P3,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4:  P2            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5:     P3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6:     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1523880" y="5257440"/>
                <a:ext cx="205920" cy="152640"/>
                <a:chOff x="1523880" y="5257440"/>
                <a:chExt cx="205920" cy="152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23880" y="52578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626840" y="52574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523880" y="4952880"/>
                <a:ext cx="205920" cy="152640"/>
                <a:chOff x="1523880" y="4952880"/>
                <a:chExt cx="205920" cy="152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52388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62684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523880" y="4647960"/>
                <a:ext cx="205920" cy="152640"/>
                <a:chOff x="1523880" y="4647960"/>
                <a:chExt cx="205920" cy="152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23880" y="464832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626840" y="464796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828800" y="4343040"/>
                <a:ext cx="205920" cy="152640"/>
                <a:chOff x="1828800" y="4343040"/>
                <a:chExt cx="205920" cy="152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8288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9317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371600" y="4343040"/>
                <a:ext cx="205920" cy="152640"/>
                <a:chOff x="1371600" y="4343040"/>
                <a:chExt cx="205920" cy="1526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3716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4745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14300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81080" y="4572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43000" y="4876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810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81080" y="52578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43000" y="52578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428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4800" y="4343400"/>
              <a:ext cx="129528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42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911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83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112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4343400"/>
              <a:ext cx="2133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57200" y="806400"/>
            <a:ext cx="7467480" cy="2471040"/>
            <a:chOff x="457200" y="806400"/>
            <a:chExt cx="7467480" cy="2471040"/>
          </a:xfrm>
        </p:grpSpPr>
        <p:sp>
          <p:nvSpPr>
            <p:cNvPr id="438" name=""/>
            <p:cNvSpPr/>
            <p:nvPr/>
          </p:nvSpPr>
          <p:spPr>
            <a:xfrm>
              <a:off x="457200" y="8064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111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179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1797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29200" y="1263600"/>
              <a:ext cx="0" cy="304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5320" y="1568520"/>
              <a:ext cx="28954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080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38280" y="2330280"/>
              <a:ext cx="17528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2330280"/>
              <a:ext cx="19051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3828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339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320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627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8168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905120" y="2908080"/>
              <a:ext cx="990360" cy="337320"/>
              <a:chOff x="1905120" y="2908080"/>
              <a:chExt cx="99036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2438280" y="29080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05120" y="2908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4864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148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29401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62720" y="11113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670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2863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9880" y="19494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102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911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8640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915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029200" y="2940120"/>
              <a:ext cx="990360" cy="337320"/>
              <a:chOff x="5029200" y="2940120"/>
              <a:chExt cx="990360" cy="337320"/>
            </a:xfrm>
          </p:grpSpPr>
          <p:sp>
            <p:nvSpPr>
              <p:cNvPr id="468" name=""/>
              <p:cNvSpPr/>
              <p:nvPr/>
            </p:nvSpPr>
            <p:spPr>
              <a:xfrm>
                <a:off x="5562360" y="29401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940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581280" y="2863800"/>
              <a:ext cx="990360" cy="337320"/>
              <a:chOff x="3581280" y="2863800"/>
              <a:chExt cx="990360" cy="337320"/>
            </a:xfrm>
          </p:grpSpPr>
          <p:sp>
            <p:nvSpPr>
              <p:cNvPr id="471" name=""/>
              <p:cNvSpPr/>
              <p:nvPr/>
            </p:nvSpPr>
            <p:spPr>
              <a:xfrm>
                <a:off x="411444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8128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934320" y="2863800"/>
              <a:ext cx="990360" cy="337320"/>
              <a:chOff x="6934320" y="2863800"/>
              <a:chExt cx="990360" cy="337320"/>
            </a:xfrm>
          </p:grpSpPr>
          <p:sp>
            <p:nvSpPr>
              <p:cNvPr id="474" name=""/>
              <p:cNvSpPr/>
              <p:nvPr/>
            </p:nvSpPr>
            <p:spPr>
              <a:xfrm>
                <a:off x="746748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3432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00600" y="990720"/>
            <a:ext cx="2819520" cy="3581280"/>
          </a:xfrm>
          <a:prstGeom prst="flowChartExtra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990720"/>
            <a:ext cx="2819160" cy="3581280"/>
          </a:xfrm>
          <a:prstGeom prst="flowChartExtra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1066680"/>
            <a:ext cx="2361960" cy="289584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1066680"/>
            <a:ext cx="2057400" cy="259092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9144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914400"/>
            <a:ext cx="7632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2209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685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5181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езолю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14400" y="5715000"/>
            <a:ext cx="7086600" cy="510120"/>
            <a:chOff x="914400" y="5715000"/>
            <a:chExt cx="7086600" cy="510120"/>
          </a:xfrm>
        </p:grpSpPr>
        <p:grpSp>
          <p:nvGrpSpPr>
            <p:cNvPr id="488" name=""/>
            <p:cNvGrpSpPr/>
            <p:nvPr/>
          </p:nvGrpSpPr>
          <p:grpSpPr>
            <a:xfrm>
              <a:off x="914400" y="5715000"/>
              <a:ext cx="2514600" cy="510120"/>
              <a:chOff x="914400" y="5715000"/>
              <a:chExt cx="2514600" cy="510120"/>
            </a:xfrm>
          </p:grpSpPr>
          <p:sp>
            <p:nvSpPr>
              <p:cNvPr id="489" name=""/>
              <p:cNvSpPr/>
              <p:nvPr/>
            </p:nvSpPr>
            <p:spPr>
              <a:xfrm>
                <a:off x="914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1828800" y="5867280"/>
                <a:ext cx="152280" cy="152640"/>
                <a:chOff x="1828800" y="5867280"/>
                <a:chExt cx="152280" cy="1526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828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905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2895840" y="5715000"/>
              <a:ext cx="2514600" cy="510120"/>
              <a:chOff x="2895840" y="5715000"/>
              <a:chExt cx="2514600" cy="510120"/>
            </a:xfrm>
          </p:grpSpPr>
          <p:sp>
            <p:nvSpPr>
              <p:cNvPr id="494" name=""/>
              <p:cNvSpPr/>
              <p:nvPr/>
            </p:nvSpPr>
            <p:spPr>
              <a:xfrm>
                <a:off x="289584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3810240" y="5867280"/>
                <a:ext cx="152280" cy="152640"/>
                <a:chOff x="3810240" y="5867280"/>
                <a:chExt cx="152280" cy="1526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81024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388656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4114800" y="5715000"/>
              <a:ext cx="15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53240" y="5943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486400" y="5715000"/>
              <a:ext cx="2514600" cy="510120"/>
              <a:chOff x="5486400" y="5715000"/>
              <a:chExt cx="2514600" cy="510120"/>
            </a:xfrm>
          </p:grpSpPr>
          <p:sp>
            <p:nvSpPr>
              <p:cNvPr id="501" name=""/>
              <p:cNvSpPr/>
              <p:nvPr/>
            </p:nvSpPr>
            <p:spPr>
              <a:xfrm>
                <a:off x="5486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400800" y="5867280"/>
                <a:ext cx="152280" cy="152640"/>
                <a:chOff x="6400800" y="5867280"/>
                <a:chExt cx="152280" cy="152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400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6477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45720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етод резолю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1523880"/>
            <a:ext cx="7543800" cy="27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Для  множества предложений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 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{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найти пару, допускающую вывод по резолюции, произвести вывод (обозначим результат вывода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Есл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результат вывода равен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il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 завершено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нач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включи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множество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перейти к пункту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28800" y="46483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тратегии перебора множества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стратегии вывода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882720"/>
            <a:ext cx="3886200" cy="1175400"/>
            <a:chOff x="533520" y="882720"/>
            <a:chExt cx="3886200" cy="1175400"/>
          </a:xfrm>
        </p:grpSpPr>
        <p:sp>
          <p:nvSpPr>
            <p:cNvPr id="513" name=""/>
            <p:cNvSpPr/>
            <p:nvPr/>
          </p:nvSpPr>
          <p:spPr>
            <a:xfrm>
              <a:off x="5335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38640" y="10666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16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80" y="133956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1796760"/>
              <a:ext cx="129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876920" y="882720"/>
            <a:ext cx="3886200" cy="1175400"/>
            <a:chOff x="4876920" y="882720"/>
            <a:chExt cx="3886200" cy="1175400"/>
          </a:xfrm>
        </p:grpSpPr>
        <p:sp>
          <p:nvSpPr>
            <p:cNvPr id="519" name=""/>
            <p:cNvSpPr/>
            <p:nvPr/>
          </p:nvSpPr>
          <p:spPr>
            <a:xfrm>
              <a:off x="48769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2920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5280" y="133992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5520" y="179712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9200" y="9144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6477120" y="914040"/>
              <a:ext cx="152280" cy="228960"/>
              <a:chOff x="6477120" y="914040"/>
              <a:chExt cx="152280" cy="228960"/>
            </a:xfrm>
          </p:grpSpPr>
          <p:sp>
            <p:nvSpPr>
              <p:cNvPr id="525" name=""/>
              <p:cNvSpPr/>
              <p:nvPr/>
            </p:nvSpPr>
            <p:spPr>
              <a:xfrm>
                <a:off x="6477120" y="990720"/>
                <a:ext cx="7596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553080" y="914040"/>
                <a:ext cx="763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038480" y="1371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85800" y="2362320"/>
            <a:ext cx="7848720" cy="3736080"/>
            <a:chOff x="685800" y="2362320"/>
            <a:chExt cx="7848720" cy="3736080"/>
          </a:xfrm>
        </p:grpSpPr>
        <p:grpSp>
          <p:nvGrpSpPr>
            <p:cNvPr id="529" name=""/>
            <p:cNvGrpSpPr/>
            <p:nvPr/>
          </p:nvGrpSpPr>
          <p:grpSpPr>
            <a:xfrm>
              <a:off x="1600200" y="2889360"/>
              <a:ext cx="6934320" cy="3209040"/>
              <a:chOff x="1600200" y="2889360"/>
              <a:chExt cx="6934320" cy="3209040"/>
            </a:xfrm>
          </p:grpSpPr>
          <p:sp>
            <p:nvSpPr>
              <p:cNvPr id="530" name=""/>
              <p:cNvSpPr/>
              <p:nvPr/>
            </p:nvSpPr>
            <p:spPr>
              <a:xfrm>
                <a:off x="1600200" y="2889360"/>
                <a:ext cx="335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         в(Пет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38680" y="2889360"/>
                <a:ext cx="289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Петров, x)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15000" y="2889360"/>
                <a:ext cx="1066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3048120" y="2951640"/>
                <a:ext cx="152280" cy="187200"/>
                <a:chOff x="3048120" y="2951640"/>
                <a:chExt cx="152280" cy="1872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048120" y="2951640"/>
                  <a:ext cx="7632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124440" y="2951640"/>
                  <a:ext cx="7596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2438280" y="3264120"/>
                <a:ext cx="609840" cy="93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352680" y="3201480"/>
                <a:ext cx="243864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57400" y="4389120"/>
                <a:ext cx="190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72000" y="4425480"/>
                <a:ext cx="320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Сидоров, институт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43200" y="4638600"/>
                <a:ext cx="91440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733560" y="4763880"/>
                <a:ext cx="144756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52680" y="56386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n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685800" y="2362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Граф опроверж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38680" y="1581120"/>
            <a:ext cx="3505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(Петров, x)          в(Петров, x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33520" y="838080"/>
            <a:ext cx="7238880" cy="5106240"/>
            <a:chOff x="533520" y="838080"/>
            <a:chExt cx="7238880" cy="5106240"/>
          </a:xfrm>
        </p:grpSpPr>
        <p:sp>
          <p:nvSpPr>
            <p:cNvPr id="548" name=""/>
            <p:cNvSpPr/>
            <p:nvPr/>
          </p:nvSpPr>
          <p:spPr>
            <a:xfrm>
              <a:off x="1600200" y="15811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5000" y="1581120"/>
              <a:ext cx="1066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048120" y="1669680"/>
              <a:ext cx="152280" cy="263520"/>
              <a:chOff x="3048120" y="1669680"/>
              <a:chExt cx="152280" cy="263520"/>
            </a:xfrm>
          </p:grpSpPr>
          <p:sp>
            <p:nvSpPr>
              <p:cNvPr id="551" name=""/>
              <p:cNvSpPr/>
              <p:nvPr/>
            </p:nvSpPr>
            <p:spPr>
              <a:xfrm>
                <a:off x="3048120" y="167004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124440" y="166968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2438280" y="2109960"/>
              <a:ext cx="609840" cy="13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352680" y="2022480"/>
              <a:ext cx="243864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3520" y="369720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  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72000" y="374976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3200" y="4051440"/>
              <a:ext cx="91440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733560" y="4227480"/>
              <a:ext cx="144756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3200" y="56070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Петров, институт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838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Вывод от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010280" y="1599840"/>
              <a:ext cx="152280" cy="263520"/>
              <a:chOff x="7010280" y="1599840"/>
              <a:chExt cx="152280" cy="263520"/>
            </a:xfrm>
          </p:grpSpPr>
          <p:sp>
            <p:nvSpPr>
              <p:cNvPr id="562" name=""/>
              <p:cNvSpPr/>
              <p:nvPr/>
            </p:nvSpPr>
            <p:spPr>
              <a:xfrm>
                <a:off x="7010280" y="160020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7086600" y="159984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057400" y="3809520"/>
              <a:ext cx="152280" cy="263520"/>
              <a:chOff x="2057400" y="3809520"/>
              <a:chExt cx="152280" cy="26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2057400" y="380988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2133720" y="380952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762120"/>
            <a:ext cx="868680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2590920"/>
            <a:ext cx="3962160" cy="1066680"/>
            <a:chOff x="533520" y="2590920"/>
            <a:chExt cx="3962160" cy="1066680"/>
          </a:xfrm>
        </p:grpSpPr>
        <p:grpSp>
          <p:nvGrpSpPr>
            <p:cNvPr id="571" name=""/>
            <p:cNvGrpSpPr/>
            <p:nvPr/>
          </p:nvGrpSpPr>
          <p:grpSpPr>
            <a:xfrm>
              <a:off x="533520" y="3505320"/>
              <a:ext cx="3962160" cy="152280"/>
              <a:chOff x="533520" y="3505320"/>
              <a:chExt cx="3962160" cy="152280"/>
            </a:xfrm>
          </p:grpSpPr>
          <p:sp>
            <p:nvSpPr>
              <p:cNvPr id="572" name=""/>
              <p:cNvSpPr/>
              <p:nvPr/>
            </p:nvSpPr>
            <p:spPr>
              <a:xfrm>
                <a:off x="533520" y="350532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3352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61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990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18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447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676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904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133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361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90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2819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276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504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733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962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190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047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447560" y="2590920"/>
              <a:ext cx="533160" cy="457200"/>
              <a:chOff x="1447560" y="2590920"/>
              <a:chExt cx="533160" cy="457200"/>
            </a:xfrm>
          </p:grpSpPr>
          <p:sp>
            <p:nvSpPr>
              <p:cNvPr id="591" name=""/>
              <p:cNvSpPr/>
              <p:nvPr/>
            </p:nvSpPr>
            <p:spPr>
              <a:xfrm>
                <a:off x="1447560" y="25909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47560" y="25909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447560" y="3048120"/>
              <a:ext cx="533160" cy="457200"/>
              <a:chOff x="1447560" y="3048120"/>
              <a:chExt cx="533160" cy="457200"/>
            </a:xfrm>
          </p:grpSpPr>
          <p:sp>
            <p:nvSpPr>
              <p:cNvPr id="594" name=""/>
              <p:cNvSpPr/>
              <p:nvPr/>
            </p:nvSpPr>
            <p:spPr>
              <a:xfrm>
                <a:off x="1447560" y="30481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447560" y="30481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895480" y="3048120"/>
              <a:ext cx="532800" cy="457200"/>
              <a:chOff x="2895480" y="3048120"/>
              <a:chExt cx="532800" cy="457200"/>
            </a:xfrm>
          </p:grpSpPr>
          <p:sp>
            <p:nvSpPr>
              <p:cNvPr id="597" name=""/>
              <p:cNvSpPr/>
              <p:nvPr/>
            </p:nvSpPr>
            <p:spPr>
              <a:xfrm>
                <a:off x="2895480" y="3048120"/>
                <a:ext cx="53280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95480" y="3048120"/>
                <a:ext cx="53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3962520"/>
            <a:ext cx="220968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819520" y="1219320"/>
            <a:ext cx="609480" cy="685800"/>
            <a:chOff x="2819520" y="1219320"/>
            <a:chExt cx="609480" cy="685800"/>
          </a:xfrm>
        </p:grpSpPr>
        <p:sp>
          <p:nvSpPr>
            <p:cNvPr id="602" name=""/>
            <p:cNvSpPr/>
            <p:nvPr/>
          </p:nvSpPr>
          <p:spPr>
            <a:xfrm>
              <a:off x="3124080" y="121932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19520" y="16765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1952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2900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65760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5000" y="3962520"/>
            <a:ext cx="220968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800240" y="1143000"/>
            <a:ext cx="3962880" cy="2514600"/>
            <a:chOff x="4800240" y="1143000"/>
            <a:chExt cx="3962880" cy="2514600"/>
          </a:xfrm>
        </p:grpSpPr>
        <p:grpSp>
          <p:nvGrpSpPr>
            <p:cNvPr id="609" name=""/>
            <p:cNvGrpSpPr/>
            <p:nvPr/>
          </p:nvGrpSpPr>
          <p:grpSpPr>
            <a:xfrm>
              <a:off x="4800240" y="3505320"/>
              <a:ext cx="3962880" cy="152280"/>
              <a:chOff x="4800240" y="3505320"/>
              <a:chExt cx="3962880" cy="152280"/>
            </a:xfrm>
          </p:grpSpPr>
          <p:sp>
            <p:nvSpPr>
              <p:cNvPr id="610" name=""/>
              <p:cNvSpPr/>
              <p:nvPr/>
            </p:nvSpPr>
            <p:spPr>
              <a:xfrm>
                <a:off x="4800600" y="35053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800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028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257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486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714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943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171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400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629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857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086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543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772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8000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8229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8457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314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172200" y="2133720"/>
              <a:ext cx="533160" cy="1371600"/>
              <a:chOff x="6172200" y="2133720"/>
              <a:chExt cx="533160" cy="1371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6172200" y="2590920"/>
                <a:ext cx="533160" cy="457200"/>
                <a:chOff x="6172200" y="2590920"/>
                <a:chExt cx="533160" cy="4572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172200" y="25909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72200" y="25909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172200" y="3048120"/>
                <a:ext cx="533160" cy="457200"/>
                <a:chOff x="6172200" y="3048120"/>
                <a:chExt cx="533160" cy="4572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172200" y="30481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172200" y="30481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6172200" y="2133720"/>
                <a:ext cx="533160" cy="457200"/>
                <a:chOff x="6172200" y="2133720"/>
                <a:chExt cx="533160" cy="457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6172200" y="21337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172200" y="2133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4876920" y="1295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7162920" y="1295280"/>
              <a:ext cx="609480" cy="685800"/>
              <a:chOff x="7162920" y="1295280"/>
              <a:chExt cx="609480" cy="685800"/>
            </a:xfrm>
          </p:grpSpPr>
          <p:sp>
            <p:nvSpPr>
              <p:cNvPr id="640" name=""/>
              <p:cNvSpPr/>
              <p:nvPr/>
            </p:nvSpPr>
            <p:spPr>
              <a:xfrm>
                <a:off x="7467480" y="1295280"/>
                <a:ext cx="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62920" y="1752480"/>
                <a:ext cx="609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6292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7240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80010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33520" y="762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838080"/>
            <a:ext cx="891540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990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04920" y="1447920"/>
            <a:ext cx="4267080" cy="2438280"/>
            <a:chOff x="304920" y="1447920"/>
            <a:chExt cx="4267080" cy="2438280"/>
          </a:xfrm>
        </p:grpSpPr>
        <p:sp>
          <p:nvSpPr>
            <p:cNvPr id="651" name=""/>
            <p:cNvSpPr/>
            <p:nvPr/>
          </p:nvSpPr>
          <p:spPr>
            <a:xfrm>
              <a:off x="304920" y="1447920"/>
              <a:ext cx="4196160" cy="243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4920" y="1523880"/>
              <a:ext cx="426708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ickup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Предусловия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&amp;HANDEMPTY&amp;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Список вычеркива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Формула добавле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724280" y="1752480"/>
            <a:ext cx="4267080" cy="1676520"/>
            <a:chOff x="4724280" y="1752480"/>
            <a:chExt cx="4267080" cy="1676520"/>
          </a:xfrm>
        </p:grpSpPr>
        <p:sp>
          <p:nvSpPr>
            <p:cNvPr id="654" name=""/>
            <p:cNvSpPr/>
            <p:nvPr/>
          </p:nvSpPr>
          <p:spPr>
            <a:xfrm>
              <a:off x="4724280" y="1752480"/>
              <a:ext cx="4267080" cy="1676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01680" y="1905120"/>
              <a:ext cx="41072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utdown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04920" y="4191120"/>
            <a:ext cx="3657600" cy="1752480"/>
            <a:chOff x="304920" y="4191120"/>
            <a:chExt cx="3657600" cy="1752480"/>
          </a:xfrm>
        </p:grpSpPr>
        <p:sp>
          <p:nvSpPr>
            <p:cNvPr id="657" name=""/>
            <p:cNvSpPr/>
            <p:nvPr/>
          </p:nvSpPr>
          <p:spPr>
            <a:xfrm>
              <a:off x="304920" y="4191120"/>
              <a:ext cx="3657600" cy="1752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880" y="4492800"/>
              <a:ext cx="3505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724280" y="4191120"/>
            <a:ext cx="4195800" cy="1676160"/>
            <a:chOff x="4724280" y="4191120"/>
            <a:chExt cx="4195800" cy="1676160"/>
          </a:xfrm>
        </p:grpSpPr>
        <p:sp>
          <p:nvSpPr>
            <p:cNvPr id="660" name=""/>
            <p:cNvSpPr/>
            <p:nvPr/>
          </p:nvSpPr>
          <p:spPr>
            <a:xfrm>
              <a:off x="4724280" y="4191120"/>
              <a:ext cx="4195800" cy="1676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4583160"/>
              <a:ext cx="3962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n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04920" y="609480"/>
            <a:ext cx="8610480" cy="5867640"/>
            <a:chOff x="304920" y="609480"/>
            <a:chExt cx="8610480" cy="5867640"/>
          </a:xfrm>
        </p:grpSpPr>
        <p:grpSp>
          <p:nvGrpSpPr>
            <p:cNvPr id="665" name=""/>
            <p:cNvGrpSpPr/>
            <p:nvPr/>
          </p:nvGrpSpPr>
          <p:grpSpPr>
            <a:xfrm>
              <a:off x="1600200" y="1523880"/>
              <a:ext cx="1295280" cy="838080"/>
              <a:chOff x="1600200" y="1523880"/>
              <a:chExt cx="1295280" cy="838080"/>
            </a:xfrm>
          </p:grpSpPr>
          <p:sp>
            <p:nvSpPr>
              <p:cNvPr id="666" name=""/>
              <p:cNvSpPr/>
              <p:nvPr/>
            </p:nvSpPr>
            <p:spPr>
              <a:xfrm>
                <a:off x="1600200" y="15238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676160" y="16002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600200" y="2286000"/>
              <a:ext cx="1295280" cy="838080"/>
              <a:chOff x="1600200" y="2286000"/>
              <a:chExt cx="1295280" cy="838080"/>
            </a:xfrm>
          </p:grpSpPr>
          <p:sp>
            <p:nvSpPr>
              <p:cNvPr id="669" name=""/>
              <p:cNvSpPr/>
              <p:nvPr/>
            </p:nvSpPr>
            <p:spPr>
              <a:xfrm>
                <a:off x="1600200" y="22860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76160" y="23623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600200" y="3124080"/>
              <a:ext cx="1295280" cy="838080"/>
              <a:chOff x="1600200" y="3124080"/>
              <a:chExt cx="1295280" cy="838080"/>
            </a:xfrm>
          </p:grpSpPr>
          <p:sp>
            <p:nvSpPr>
              <p:cNvPr id="672" name=""/>
              <p:cNvSpPr/>
              <p:nvPr/>
            </p:nvSpPr>
            <p:spPr>
              <a:xfrm>
                <a:off x="160020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76160" y="32004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600200" y="3962520"/>
              <a:ext cx="1295280" cy="838080"/>
              <a:chOff x="1600200" y="3962520"/>
              <a:chExt cx="1295280" cy="838080"/>
            </a:xfrm>
          </p:grpSpPr>
          <p:sp>
            <p:nvSpPr>
              <p:cNvPr id="675" name=""/>
              <p:cNvSpPr/>
              <p:nvPr/>
            </p:nvSpPr>
            <p:spPr>
              <a:xfrm>
                <a:off x="16002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76160" y="403884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1600200" y="4800600"/>
              <a:ext cx="1295280" cy="838080"/>
              <a:chOff x="1600200" y="4800600"/>
              <a:chExt cx="1295280" cy="838080"/>
            </a:xfrm>
          </p:grpSpPr>
          <p:sp>
            <p:nvSpPr>
              <p:cNvPr id="678" name=""/>
              <p:cNvSpPr/>
              <p:nvPr/>
            </p:nvSpPr>
            <p:spPr>
              <a:xfrm>
                <a:off x="16002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7616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1600200" y="5638680"/>
              <a:ext cx="1295280" cy="838080"/>
              <a:chOff x="1600200" y="5638680"/>
              <a:chExt cx="1295280" cy="838080"/>
            </a:xfrm>
          </p:grpSpPr>
          <p:sp>
            <p:nvSpPr>
              <p:cNvPr id="681" name=""/>
              <p:cNvSpPr/>
              <p:nvPr/>
            </p:nvSpPr>
            <p:spPr>
              <a:xfrm>
                <a:off x="16002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7616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895480" y="2286000"/>
              <a:ext cx="1295640" cy="838080"/>
              <a:chOff x="2895480" y="2286000"/>
              <a:chExt cx="1295640" cy="838080"/>
            </a:xfrm>
          </p:grpSpPr>
          <p:sp>
            <p:nvSpPr>
              <p:cNvPr id="684" name=""/>
              <p:cNvSpPr/>
              <p:nvPr/>
            </p:nvSpPr>
            <p:spPr>
              <a:xfrm>
                <a:off x="2895480" y="22860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71800" y="23623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2895480" y="3124080"/>
              <a:ext cx="1295640" cy="838080"/>
              <a:chOff x="2895480" y="3124080"/>
              <a:chExt cx="1295640" cy="838080"/>
            </a:xfrm>
          </p:grpSpPr>
          <p:sp>
            <p:nvSpPr>
              <p:cNvPr id="687" name=""/>
              <p:cNvSpPr/>
              <p:nvPr/>
            </p:nvSpPr>
            <p:spPr>
              <a:xfrm>
                <a:off x="2895480" y="31240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71800" y="320040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895480" y="3962520"/>
              <a:ext cx="1295640" cy="838080"/>
              <a:chOff x="2895480" y="3962520"/>
              <a:chExt cx="1295640" cy="838080"/>
            </a:xfrm>
          </p:grpSpPr>
          <p:sp>
            <p:nvSpPr>
              <p:cNvPr id="690" name=""/>
              <p:cNvSpPr/>
              <p:nvPr/>
            </p:nvSpPr>
            <p:spPr>
              <a:xfrm>
                <a:off x="2895480" y="396252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71800" y="403884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95480" y="4800600"/>
              <a:ext cx="1295640" cy="838080"/>
              <a:chOff x="2895480" y="4800600"/>
              <a:chExt cx="1295640" cy="838080"/>
            </a:xfrm>
          </p:grpSpPr>
          <p:sp>
            <p:nvSpPr>
              <p:cNvPr id="693" name=""/>
              <p:cNvSpPr/>
              <p:nvPr/>
            </p:nvSpPr>
            <p:spPr>
              <a:xfrm>
                <a:off x="28954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71800" y="487692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895480" y="5638680"/>
              <a:ext cx="1295640" cy="838080"/>
              <a:chOff x="2895480" y="5638680"/>
              <a:chExt cx="1295640" cy="838080"/>
            </a:xfrm>
          </p:grpSpPr>
          <p:sp>
            <p:nvSpPr>
              <p:cNvPr id="696" name=""/>
              <p:cNvSpPr/>
              <p:nvPr/>
            </p:nvSpPr>
            <p:spPr>
              <a:xfrm>
                <a:off x="28954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718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191120" y="3124080"/>
              <a:ext cx="1295280" cy="838080"/>
              <a:chOff x="4191120" y="3124080"/>
              <a:chExt cx="1295280" cy="838080"/>
            </a:xfrm>
          </p:grpSpPr>
          <p:sp>
            <p:nvSpPr>
              <p:cNvPr id="699" name=""/>
              <p:cNvSpPr/>
              <p:nvPr/>
            </p:nvSpPr>
            <p:spPr>
              <a:xfrm>
                <a:off x="419112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67080" y="32004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191120" y="3962520"/>
              <a:ext cx="1295280" cy="838080"/>
              <a:chOff x="4191120" y="3962520"/>
              <a:chExt cx="1295280" cy="838080"/>
            </a:xfrm>
          </p:grpSpPr>
          <p:sp>
            <p:nvSpPr>
              <p:cNvPr id="702" name=""/>
              <p:cNvSpPr/>
              <p:nvPr/>
            </p:nvSpPr>
            <p:spPr>
              <a:xfrm>
                <a:off x="419112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67080" y="403884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191120" y="4800600"/>
              <a:ext cx="1295280" cy="838080"/>
              <a:chOff x="4191120" y="4800600"/>
              <a:chExt cx="1295280" cy="838080"/>
            </a:xfrm>
          </p:grpSpPr>
          <p:sp>
            <p:nvSpPr>
              <p:cNvPr id="705" name=""/>
              <p:cNvSpPr/>
              <p:nvPr/>
            </p:nvSpPr>
            <p:spPr>
              <a:xfrm>
                <a:off x="419112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26708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91120" y="5638680"/>
              <a:ext cx="1295280" cy="838080"/>
              <a:chOff x="4191120" y="5638680"/>
              <a:chExt cx="1295280" cy="838080"/>
            </a:xfrm>
          </p:grpSpPr>
          <p:sp>
            <p:nvSpPr>
              <p:cNvPr id="708" name=""/>
              <p:cNvSpPr/>
              <p:nvPr/>
            </p:nvSpPr>
            <p:spPr>
              <a:xfrm>
                <a:off x="419112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6708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486400" y="3962520"/>
              <a:ext cx="1295280" cy="838080"/>
              <a:chOff x="5486400" y="3962520"/>
              <a:chExt cx="1295280" cy="838080"/>
            </a:xfrm>
          </p:grpSpPr>
          <p:sp>
            <p:nvSpPr>
              <p:cNvPr id="711" name=""/>
              <p:cNvSpPr/>
              <p:nvPr/>
            </p:nvSpPr>
            <p:spPr>
              <a:xfrm>
                <a:off x="54864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62360" y="4038840"/>
                <a:ext cx="1218960" cy="4629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486400" y="4800600"/>
              <a:ext cx="1295280" cy="838080"/>
              <a:chOff x="5486400" y="4800600"/>
              <a:chExt cx="1295280" cy="838080"/>
            </a:xfrm>
          </p:grpSpPr>
          <p:sp>
            <p:nvSpPr>
              <p:cNvPr id="714" name=""/>
              <p:cNvSpPr/>
              <p:nvPr/>
            </p:nvSpPr>
            <p:spPr>
              <a:xfrm>
                <a:off x="54864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562360" y="4876920"/>
                <a:ext cx="1218960" cy="5086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486400" y="5638680"/>
              <a:ext cx="1295280" cy="838080"/>
              <a:chOff x="5486400" y="5638680"/>
              <a:chExt cx="1295280" cy="838080"/>
            </a:xfrm>
          </p:grpSpPr>
          <p:sp>
            <p:nvSpPr>
              <p:cNvPr id="717" name=""/>
              <p:cNvSpPr/>
              <p:nvPr/>
            </p:nvSpPr>
            <p:spPr>
              <a:xfrm>
                <a:off x="54864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62360" y="57150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ON(B,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781680" y="4800600"/>
              <a:ext cx="1295640" cy="838080"/>
              <a:chOff x="6781680" y="4800600"/>
              <a:chExt cx="1295640" cy="838080"/>
            </a:xfrm>
          </p:grpSpPr>
          <p:sp>
            <p:nvSpPr>
              <p:cNvPr id="720" name=""/>
              <p:cNvSpPr/>
              <p:nvPr/>
            </p:nvSpPr>
            <p:spPr>
              <a:xfrm>
                <a:off x="67816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858000" y="48769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781680" y="5638680"/>
              <a:ext cx="1295640" cy="838080"/>
              <a:chOff x="6781680" y="5638680"/>
              <a:chExt cx="1295640" cy="838080"/>
            </a:xfrm>
          </p:grpSpPr>
          <p:sp>
            <p:nvSpPr>
              <p:cNvPr id="723" name=""/>
              <p:cNvSpPr/>
              <p:nvPr/>
            </p:nvSpPr>
            <p:spPr>
              <a:xfrm>
                <a:off x="67816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580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304920" y="685800"/>
              <a:ext cx="1295280" cy="5790960"/>
              <a:chOff x="304920" y="685800"/>
              <a:chExt cx="1295280" cy="579096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304920" y="685800"/>
                <a:ext cx="1295280" cy="838080"/>
                <a:chOff x="304920" y="685800"/>
                <a:chExt cx="1295280" cy="83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04920" y="6858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0880" y="762120"/>
                  <a:ext cx="1218960" cy="6951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HANDEMP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(C,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04920" y="1523880"/>
                <a:ext cx="1295280" cy="838080"/>
                <a:chOff x="304920" y="1523880"/>
                <a:chExt cx="1295280" cy="8380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04920" y="15238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80880" y="16002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04920" y="2286000"/>
                <a:ext cx="1295280" cy="838080"/>
                <a:chOff x="304920" y="2286000"/>
                <a:chExt cx="1295280" cy="8380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20" y="22860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0880" y="2362320"/>
                  <a:ext cx="1218960" cy="4629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304920" y="3124080"/>
                <a:ext cx="1295280" cy="838080"/>
                <a:chOff x="304920" y="3124080"/>
                <a:chExt cx="1295280" cy="8380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04920" y="31240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0880" y="32004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04920" y="3962520"/>
                <a:ext cx="1295280" cy="838080"/>
                <a:chOff x="304920" y="3962520"/>
                <a:chExt cx="1295280" cy="8380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04920" y="396252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80880" y="4038840"/>
                  <a:ext cx="1218960" cy="2307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04920" y="4800600"/>
                <a:ext cx="1295280" cy="838080"/>
                <a:chOff x="304920" y="4800600"/>
                <a:chExt cx="1295280" cy="8380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20" y="48006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0880" y="487692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04920" y="5638680"/>
                <a:ext cx="1295280" cy="838080"/>
                <a:chOff x="304920" y="5638680"/>
                <a:chExt cx="1295280" cy="83808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04920" y="56386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80880" y="57150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8077320" y="5638680"/>
              <a:ext cx="838080" cy="838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1000" y="57913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ON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76720" y="60948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УПРАВЛЯЮЩАЯ ТАБЛ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676520" y="1143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Unstack(C,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419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ack(B,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71800" y="1905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utdown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670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077320" y="5334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tack(A,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9160" y="584280"/>
            <a:ext cx="7683480" cy="6019560"/>
          </a:xfrm>
          <a:custGeom>
            <a:avLst/>
            <a:gdLst/>
            <a:ahLst/>
            <a:rect l="l" t="t" r="r" b="b"/>
            <a:pathLst>
              <a:path w="4840" h="3792">
                <a:moveTo>
                  <a:pt x="1640" y="160"/>
                </a:moveTo>
                <a:cubicBezTo>
                  <a:pt x="1088" y="160"/>
                  <a:pt x="488" y="128"/>
                  <a:pt x="248" y="400"/>
                </a:cubicBezTo>
                <a:cubicBezTo>
                  <a:pt x="8" y="672"/>
                  <a:pt x="240" y="1448"/>
                  <a:pt x="200" y="1792"/>
                </a:cubicBezTo>
                <a:cubicBezTo>
                  <a:pt x="160" y="2136"/>
                  <a:pt x="16" y="2240"/>
                  <a:pt x="8" y="2464"/>
                </a:cubicBezTo>
                <a:cubicBezTo>
                  <a:pt x="0" y="2688"/>
                  <a:pt x="88" y="2952"/>
                  <a:pt x="152" y="3136"/>
                </a:cubicBezTo>
                <a:cubicBezTo>
                  <a:pt x="216" y="3320"/>
                  <a:pt x="120" y="3504"/>
                  <a:pt x="392" y="3568"/>
                </a:cubicBezTo>
                <a:cubicBezTo>
                  <a:pt x="664" y="3632"/>
                  <a:pt x="1344" y="3504"/>
                  <a:pt x="1784" y="3520"/>
                </a:cubicBezTo>
                <a:cubicBezTo>
                  <a:pt x="2224" y="3536"/>
                  <a:pt x="2792" y="3664"/>
                  <a:pt x="3032" y="3664"/>
                </a:cubicBezTo>
                <a:cubicBezTo>
                  <a:pt x="3272" y="3664"/>
                  <a:pt x="3072" y="3544"/>
                  <a:pt x="3224" y="3520"/>
                </a:cubicBezTo>
                <a:cubicBezTo>
                  <a:pt x="3376" y="3496"/>
                  <a:pt x="3736" y="3496"/>
                  <a:pt x="3944" y="3520"/>
                </a:cubicBezTo>
                <a:cubicBezTo>
                  <a:pt x="4152" y="3544"/>
                  <a:pt x="4328" y="3792"/>
                  <a:pt x="4472" y="3664"/>
                </a:cubicBezTo>
                <a:cubicBezTo>
                  <a:pt x="4616" y="3536"/>
                  <a:pt x="4840" y="2992"/>
                  <a:pt x="4808" y="2752"/>
                </a:cubicBezTo>
                <a:cubicBezTo>
                  <a:pt x="4776" y="2512"/>
                  <a:pt x="4376" y="2456"/>
                  <a:pt x="4280" y="2224"/>
                </a:cubicBezTo>
                <a:cubicBezTo>
                  <a:pt x="4184" y="1992"/>
                  <a:pt x="4208" y="1704"/>
                  <a:pt x="4232" y="1360"/>
                </a:cubicBezTo>
                <a:cubicBezTo>
                  <a:pt x="4256" y="1016"/>
                  <a:pt x="4536" y="320"/>
                  <a:pt x="4424" y="160"/>
                </a:cubicBezTo>
                <a:cubicBezTo>
                  <a:pt x="4312" y="0"/>
                  <a:pt x="4032" y="408"/>
                  <a:pt x="3560" y="400"/>
                </a:cubicBezTo>
                <a:cubicBezTo>
                  <a:pt x="3088" y="392"/>
                  <a:pt x="2192" y="160"/>
                  <a:pt x="1640" y="16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1523880"/>
            <a:ext cx="5029200" cy="441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743200"/>
            <a:ext cx="4495680" cy="3048120"/>
            <a:chOff x="2133720" y="2743200"/>
            <a:chExt cx="4495680" cy="3048120"/>
          </a:xfrm>
        </p:grpSpPr>
        <p:sp>
          <p:nvSpPr>
            <p:cNvPr id="74" name=""/>
            <p:cNvSpPr/>
            <p:nvPr/>
          </p:nvSpPr>
          <p:spPr>
            <a:xfrm>
              <a:off x="2133720" y="2743200"/>
              <a:ext cx="4495680" cy="30481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4191120"/>
              <a:ext cx="1676520" cy="10666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44956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Аксио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90920" y="329256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емантически правильно построенные формул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362320" y="175248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интаксически правильно 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81280" y="41911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029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6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09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ЫВОД и ДОКАЗАТЕЛЬ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00200" y="914400"/>
            <a:ext cx="6248160" cy="2719800"/>
            <a:chOff x="1600200" y="914400"/>
            <a:chExt cx="6248160" cy="2719800"/>
          </a:xfrm>
        </p:grpSpPr>
        <p:sp>
          <p:nvSpPr>
            <p:cNvPr id="86" name=""/>
            <p:cNvSpPr/>
            <p:nvPr/>
          </p:nvSpPr>
          <p:spPr>
            <a:xfrm>
              <a:off x="1600200" y="1981080"/>
              <a:ext cx="5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176920" y="1523880"/>
              <a:ext cx="96120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76920" y="228564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76920" y="2438280"/>
              <a:ext cx="86508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38120" y="2666880"/>
              <a:ext cx="768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38120" y="1981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812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14840" y="1142640"/>
              <a:ext cx="1153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4840" y="159984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11320" y="1904760"/>
              <a:ext cx="9608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07080" y="228564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811320" y="281916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07080" y="3124080"/>
              <a:ext cx="7689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5600" y="1066680"/>
              <a:ext cx="0" cy="2514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4760" y="22096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760" y="26668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4760" y="3124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64760" y="16761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476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64760" y="91440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75520" y="15238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2320" y="1904760"/>
              <a:ext cx="67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06560" y="1676160"/>
              <a:ext cx="672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14480" y="1828440"/>
              <a:ext cx="86508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272680" y="2133360"/>
              <a:ext cx="672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05120" y="3733920"/>
            <a:ext cx="5486400" cy="967320"/>
            <a:chOff x="1905120" y="3733920"/>
            <a:chExt cx="5486400" cy="967320"/>
          </a:xfrm>
        </p:grpSpPr>
        <p:sp>
          <p:nvSpPr>
            <p:cNvPr id="112" name=""/>
            <p:cNvSpPr/>
            <p:nvPr/>
          </p:nvSpPr>
          <p:spPr>
            <a:xfrm>
              <a:off x="3048120" y="37339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трасса или граф до 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905120" y="4191120"/>
              <a:ext cx="5486400" cy="510120"/>
              <a:chOff x="1905120" y="4191120"/>
              <a:chExt cx="5486400" cy="510120"/>
            </a:xfrm>
          </p:grpSpPr>
          <p:sp>
            <p:nvSpPr>
              <p:cNvPr id="114" name=""/>
              <p:cNvSpPr/>
              <p:nvPr/>
            </p:nvSpPr>
            <p:spPr>
              <a:xfrm>
                <a:off x="1905120" y="4191120"/>
                <a:ext cx="5486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...  &amp;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…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 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39040" y="4419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80880" y="4648320"/>
            <a:ext cx="7925040" cy="891000"/>
            <a:chOff x="380880" y="4648320"/>
            <a:chExt cx="7925040" cy="891000"/>
          </a:xfrm>
        </p:grpSpPr>
        <p:sp>
          <p:nvSpPr>
            <p:cNvPr id="117" name=""/>
            <p:cNvSpPr/>
            <p:nvPr/>
          </p:nvSpPr>
          <p:spPr>
            <a:xfrm>
              <a:off x="1371600" y="50292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ИСТ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648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рям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880" y="5486400"/>
            <a:ext cx="7925040" cy="967320"/>
            <a:chOff x="380880" y="5486400"/>
            <a:chExt cx="7925040" cy="967320"/>
          </a:xfrm>
        </p:grpSpPr>
        <p:sp>
          <p:nvSpPr>
            <p:cNvPr id="120" name=""/>
            <p:cNvSpPr/>
            <p:nvPr/>
          </p:nvSpPr>
          <p:spPr>
            <a:xfrm>
              <a:off x="1371600" y="59436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ЛОЖ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60199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486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от против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ЯЗЫК ЛОГИКИ  ПРЕДИКАТОВ (ЛОГИКИ СКАЗУЕМЫХ, 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1066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остое предложение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600200"/>
            <a:ext cx="8077320" cy="1113480"/>
            <a:chOff x="457200" y="1600200"/>
            <a:chExt cx="8077320" cy="1113480"/>
          </a:xfrm>
        </p:grpSpPr>
        <p:grpSp>
          <p:nvGrpSpPr>
            <p:cNvPr id="128" name=""/>
            <p:cNvGrpSpPr/>
            <p:nvPr/>
          </p:nvGrpSpPr>
          <p:grpSpPr>
            <a:xfrm>
              <a:off x="1066680" y="1665720"/>
              <a:ext cx="3911760" cy="1047960"/>
              <a:chOff x="1066680" y="1665720"/>
              <a:chExt cx="3911760" cy="1047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066680" y="1665720"/>
                <a:ext cx="3911760" cy="337320"/>
                <a:chOff x="1066680" y="1665720"/>
                <a:chExt cx="3911760" cy="3373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066680" y="1665720"/>
                  <a:ext cx="391176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08880" y="1665720"/>
                  <a:ext cx="376920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      СКАЗУЕМО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200400" y="1993680"/>
                <a:ext cx="144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066680" y="2376360"/>
                <a:ext cx="3911760" cy="337320"/>
                <a:chOff x="1066680" y="2376360"/>
                <a:chExt cx="3911760" cy="3373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66680" y="2376360"/>
                  <a:ext cx="391176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208880" y="2376360"/>
                  <a:ext cx="376920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3429000" y="20473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57200" y="1600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а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17967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160020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СВОЙСТВО, ПРИЗНА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33520" y="2971800"/>
            <a:ext cx="8001000" cy="1640880"/>
            <a:chOff x="533520" y="2971800"/>
            <a:chExt cx="8001000" cy="1640880"/>
          </a:xfrm>
        </p:grpSpPr>
        <p:sp>
          <p:nvSpPr>
            <p:cNvPr id="141" name=""/>
            <p:cNvSpPr/>
            <p:nvPr/>
          </p:nvSpPr>
          <p:spPr>
            <a:xfrm>
              <a:off x="533520" y="2971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66680" y="3105000"/>
              <a:ext cx="5257080" cy="1047600"/>
              <a:chOff x="1066680" y="3105000"/>
              <a:chExt cx="5257080" cy="10476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1066680" y="3105000"/>
                <a:ext cx="5257080" cy="337320"/>
                <a:chOff x="1066680" y="3105000"/>
                <a:chExt cx="5257080" cy="337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066680" y="3105000"/>
                  <a:ext cx="525708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255680" y="3105000"/>
                  <a:ext cx="506808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СКАЗУЕМОЕ   ДОПОЛ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934440" y="3432960"/>
                <a:ext cx="180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066680" y="3815280"/>
                <a:ext cx="5257080" cy="337320"/>
                <a:chOff x="1066680" y="3815280"/>
                <a:chExt cx="5257080" cy="337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6680" y="3815280"/>
                  <a:ext cx="525708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55680" y="3815280"/>
                  <a:ext cx="506808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, ДОПОЛНЕНИ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4241520" y="3488400"/>
                <a:ext cx="174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96252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4391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172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43056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ТНОШ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105440"/>
              <a:ext cx="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90720" y="4648320"/>
            <a:ext cx="7543800" cy="1763640"/>
            <a:chOff x="990720" y="4648320"/>
            <a:chExt cx="7543800" cy="1763640"/>
          </a:xfrm>
        </p:grpSpPr>
        <p:sp>
          <p:nvSpPr>
            <p:cNvPr id="158" name=""/>
            <p:cNvSpPr/>
            <p:nvPr/>
          </p:nvSpPr>
          <p:spPr>
            <a:xfrm>
              <a:off x="1523880" y="4648320"/>
              <a:ext cx="601992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КАТЕГОРИЧЕСКИЕ ВЫСКАЗЫВАНИЯ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Все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S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есть P.       Некоторые S естьP.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5396040"/>
              <a:ext cx="754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(x)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и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P(x) , кванторы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- All ,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- Exis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aP 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    P(x)),       SiP: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&amp;P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640080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380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«Нет столь великой вещи, которую не превзошла бы величиной ещё большая. Нет вещи столь малой, в которую не поместилась бы меньшая»   Козьма Прут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" y="3124080"/>
            <a:ext cx="8153280" cy="1679040"/>
            <a:chOff x="685800" y="3124080"/>
            <a:chExt cx="8153280" cy="1679040"/>
          </a:xfrm>
        </p:grpSpPr>
        <p:sp>
          <p:nvSpPr>
            <p:cNvPr id="165" name=""/>
            <p:cNvSpPr/>
            <p:nvPr/>
          </p:nvSpPr>
          <p:spPr>
            <a:xfrm>
              <a:off x="685800" y="31240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Вещи:                 ... 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, … , y, …,v, …, w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3962520"/>
              <a:ext cx="586728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11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69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4267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н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4343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бол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143000" y="5257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- v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ьше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,v)} &amp;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ньше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,y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7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Пример пере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219320"/>
            <a:ext cx="2971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доров и Петров друзь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Они всегда вмес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 в институ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де Пет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273480"/>
            <a:ext cx="3581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едметные единиц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onst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,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етров, институ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классы: друзья, о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3680"/>
            <a:ext cx="3733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едикат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аходиться_в(персона, место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в(персона, мест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1280" y="2209680"/>
            <a:ext cx="4724640" cy="718560"/>
            <a:chOff x="3581280" y="2209680"/>
            <a:chExt cx="4724640" cy="718560"/>
          </a:xfrm>
        </p:grpSpPr>
        <p:sp>
          <p:nvSpPr>
            <p:cNvPr id="181" name=""/>
            <p:cNvSpPr/>
            <p:nvPr/>
          </p:nvSpPr>
          <p:spPr>
            <a:xfrm>
              <a:off x="5334120" y="259092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2209680"/>
              <a:ext cx="1752840" cy="381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19520" y="2590920"/>
            <a:ext cx="5715000" cy="1632600"/>
            <a:chOff x="2819520" y="2590920"/>
            <a:chExt cx="5715000" cy="1632600"/>
          </a:xfrm>
        </p:grpSpPr>
        <p:sp>
          <p:nvSpPr>
            <p:cNvPr id="184" name=""/>
            <p:cNvSpPr/>
            <p:nvPr/>
          </p:nvSpPr>
          <p:spPr>
            <a:xfrm>
              <a:off x="2819520" y="2590920"/>
              <a:ext cx="274320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3886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29000" y="1523880"/>
            <a:ext cx="5257800" cy="337320"/>
            <a:chOff x="3429000" y="1523880"/>
            <a:chExt cx="5257800" cy="337320"/>
          </a:xfrm>
        </p:grpSpPr>
        <p:sp>
          <p:nvSpPr>
            <p:cNvPr id="187" name=""/>
            <p:cNvSpPr/>
            <p:nvPr/>
          </p:nvSpPr>
          <p:spPr>
            <a:xfrm>
              <a:off x="4952880" y="1523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17524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038480" y="1066680"/>
            <a:ext cx="3124440" cy="780120"/>
            <a:chOff x="4038480" y="1066680"/>
            <a:chExt cx="3124440" cy="780120"/>
          </a:xfrm>
        </p:grpSpPr>
        <p:grpSp>
          <p:nvGrpSpPr>
            <p:cNvPr id="190" name=""/>
            <p:cNvGrpSpPr/>
            <p:nvPr/>
          </p:nvGrpSpPr>
          <p:grpSpPr>
            <a:xfrm>
              <a:off x="4038480" y="1295280"/>
              <a:ext cx="3124440" cy="551520"/>
              <a:chOff x="4038480" y="1295280"/>
              <a:chExt cx="3124440" cy="551520"/>
            </a:xfrm>
          </p:grpSpPr>
          <p:sp>
            <p:nvSpPr>
              <p:cNvPr id="191" name=""/>
              <p:cNvSpPr/>
              <p:nvPr/>
            </p:nvSpPr>
            <p:spPr>
              <a:xfrm>
                <a:off x="4038480" y="1295280"/>
                <a:ext cx="2895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34320" y="1295280"/>
                <a:ext cx="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14479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"/>
                  </a:rPr>
                  <a:t>&amp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05720" y="1066680"/>
              <a:ext cx="304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24280" y="5029200"/>
            <a:ext cx="3810240" cy="762120"/>
            <a:chOff x="4724280" y="5029200"/>
            <a:chExt cx="3810240" cy="762120"/>
          </a:xfrm>
        </p:grpSpPr>
        <p:sp>
          <p:nvSpPr>
            <p:cNvPr id="196" name=""/>
            <p:cNvSpPr/>
            <p:nvPr/>
          </p:nvSpPr>
          <p:spPr>
            <a:xfrm>
              <a:off x="4724280" y="5029200"/>
              <a:ext cx="9907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43800" y="5029200"/>
              <a:ext cx="990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51055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81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ерево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0600" y="5181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Е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6080" y="5105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85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ЯЗЫК ЛОГИКИ  ПРЕДИКАТОВ (стандарт и 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43000"/>
            <a:ext cx="8229600" cy="53341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295280"/>
            <a:ext cx="7848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1.Предметные константы (имена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,b,34, 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едметные переменные(имена класс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y,z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3.Функции (преобразования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20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a+y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4.Предикатные константы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, Q, больше, меньше, равно;P1,P2,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5.Логические знаки и кванторы : &amp;, </a:t>
            </a: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, …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6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Атомы (литералы): больше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5), not (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авно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,z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7.Предложения: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71600" y="4572000"/>
            <a:ext cx="7010280" cy="1882440"/>
            <a:chOff x="1371600" y="4572000"/>
            <a:chExt cx="7010280" cy="1882440"/>
          </a:xfrm>
        </p:grpSpPr>
        <p:sp>
          <p:nvSpPr>
            <p:cNvPr id="208" name=""/>
            <p:cNvSpPr/>
            <p:nvPr/>
          </p:nvSpPr>
          <p:spPr>
            <a:xfrm>
              <a:off x="1371600" y="4572000"/>
              <a:ext cx="701028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 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P1 | P2 | P3   , P1      ~ P2 ,   P1         ~ P3,     P2          ~ P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формул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y{P1(x,y)&amp;P3(x,y)         P2(x,y)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76720" y="5257800"/>
              <a:ext cx="3657600" cy="0"/>
              <a:chOff x="3276720" y="5257800"/>
              <a:chExt cx="3657600" cy="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769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24280" y="6248520"/>
              <a:ext cx="3812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990720"/>
            <a:ext cx="76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85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НОРМАТИВНЫЕ ПРЕ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3360" y="1143000"/>
            <a:ext cx="4238640" cy="5523480"/>
            <a:chOff x="333360" y="1143000"/>
            <a:chExt cx="4238640" cy="5523480"/>
          </a:xfrm>
        </p:grpSpPr>
        <p:sp>
          <p:nvSpPr>
            <p:cNvPr id="219" name=""/>
            <p:cNvSpPr/>
            <p:nvPr/>
          </p:nvSpPr>
          <p:spPr>
            <a:xfrm>
              <a:off x="333360" y="1143000"/>
              <a:ext cx="4238640" cy="55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Исключение имплика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X         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граничение отрица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 Разделение перемен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Q(x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r>
                <a:rPr b="0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Q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ение квантор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Q(x,y)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Q(x,f(x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5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предварённу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{Q(x)&amp; P(y)&amp;…&amp; R(z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конъюнкт.норм.форм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7.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кванторы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символы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.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ереименовать переме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666880" y="1599840"/>
              <a:ext cx="205920" cy="152640"/>
              <a:chOff x="2666880" y="1599840"/>
              <a:chExt cx="205920" cy="152640"/>
            </a:xfrm>
          </p:grpSpPr>
          <p:sp>
            <p:nvSpPr>
              <p:cNvPr id="221" name=""/>
              <p:cNvSpPr/>
              <p:nvPr/>
            </p:nvSpPr>
            <p:spPr>
              <a:xfrm>
                <a:off x="2666880" y="16002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2769840" y="15998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308320" y="1523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336680" y="2361960"/>
              <a:ext cx="186480" cy="152640"/>
              <a:chOff x="1336680" y="2361960"/>
              <a:chExt cx="186480" cy="152640"/>
            </a:xfrm>
          </p:grpSpPr>
          <p:sp>
            <p:nvSpPr>
              <p:cNvPr id="225" name=""/>
              <p:cNvSpPr/>
              <p:nvPr/>
            </p:nvSpPr>
            <p:spPr>
              <a:xfrm>
                <a:off x="133668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429920" y="236196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410920" y="2362320"/>
              <a:ext cx="187560" cy="152280"/>
              <a:chOff x="2410920" y="2362320"/>
              <a:chExt cx="187560" cy="15228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241092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04520" y="2362320"/>
                <a:ext cx="93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0988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846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560" y="2209680"/>
              <a:ext cx="10285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84280" y="2666880"/>
              <a:ext cx="205920" cy="152640"/>
              <a:chOff x="2384280" y="2666880"/>
              <a:chExt cx="205920" cy="152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38428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48724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315800" y="2743200"/>
              <a:ext cx="207720" cy="152280"/>
              <a:chOff x="1315800" y="2743200"/>
              <a:chExt cx="2077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315800" y="2743200"/>
                <a:ext cx="10332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19480" y="2743200"/>
                <a:ext cx="1040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33720" y="2666880"/>
              <a:ext cx="2077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65520" y="2666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2590920"/>
              <a:ext cx="9144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4267080"/>
              <a:ext cx="304920" cy="7632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91320" y="3657600"/>
            <a:ext cx="2514600" cy="2824920"/>
            <a:chOff x="5791320" y="3657600"/>
            <a:chExt cx="2514600" cy="2824920"/>
          </a:xfrm>
        </p:grpSpPr>
        <p:sp>
          <p:nvSpPr>
            <p:cNvPr id="244" name=""/>
            <p:cNvSpPr/>
            <p:nvPr/>
          </p:nvSpPr>
          <p:spPr>
            <a:xfrm>
              <a:off x="5791320" y="3657600"/>
              <a:ext cx="2514600" cy="28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одготов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T:     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     P1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65880" y="449568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7480" y="449568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08880" y="48769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7480" y="53341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67480" y="571500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48769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53341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0800" y="5715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858000" y="4571640"/>
              <a:ext cx="205920" cy="152640"/>
              <a:chOff x="6858000" y="4571640"/>
              <a:chExt cx="205920" cy="15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6858000" y="45720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960960" y="45716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858000" y="4952880"/>
              <a:ext cx="205920" cy="152640"/>
              <a:chOff x="6858000" y="4952880"/>
              <a:chExt cx="205920" cy="152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85800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96096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858000" y="5333760"/>
              <a:ext cx="205920" cy="152640"/>
              <a:chOff x="6858000" y="5333760"/>
              <a:chExt cx="205920" cy="15264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8000" y="53341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6960960" y="53337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934320" y="5790960"/>
              <a:ext cx="205920" cy="152640"/>
              <a:chOff x="6934320" y="5790960"/>
              <a:chExt cx="205920" cy="152640"/>
            </a:xfrm>
          </p:grpSpPr>
          <p:sp>
            <p:nvSpPr>
              <p:cNvPr id="263" name=""/>
              <p:cNvSpPr/>
              <p:nvPr/>
            </p:nvSpPr>
            <p:spPr>
              <a:xfrm>
                <a:off x="6934320" y="5791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037280" y="5790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238880" y="4114440"/>
              <a:ext cx="205920" cy="152640"/>
              <a:chOff x="7238880" y="4114440"/>
              <a:chExt cx="205920" cy="1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723888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34184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705720" y="4114440"/>
              <a:ext cx="205920" cy="152640"/>
              <a:chOff x="6705720" y="4114440"/>
              <a:chExt cx="205920" cy="152640"/>
            </a:xfrm>
          </p:grpSpPr>
          <p:sp>
            <p:nvSpPr>
              <p:cNvPr id="269" name=""/>
              <p:cNvSpPr/>
              <p:nvPr/>
            </p:nvSpPr>
            <p:spPr>
              <a:xfrm>
                <a:off x="670572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80868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400800" y="5638680"/>
              <a:ext cx="1295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30640" y="1066680"/>
            <a:ext cx="2970360" cy="2843280"/>
            <a:chOff x="5030640" y="1066680"/>
            <a:chExt cx="2970360" cy="2843280"/>
          </a:xfrm>
        </p:grpSpPr>
        <p:grpSp>
          <p:nvGrpSpPr>
            <p:cNvPr id="273" name=""/>
            <p:cNvGrpSpPr/>
            <p:nvPr/>
          </p:nvGrpSpPr>
          <p:grpSpPr>
            <a:xfrm>
              <a:off x="5562720" y="1066680"/>
              <a:ext cx="2438280" cy="2843280"/>
              <a:chOff x="5562720" y="1066680"/>
              <a:chExt cx="2438280" cy="28432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62720" y="1066680"/>
                <a:ext cx="2438280" cy="2843280"/>
                <a:chOff x="5562720" y="1066680"/>
                <a:chExt cx="2438280" cy="284328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639040" y="1455480"/>
                  <a:ext cx="2361960" cy="2454480"/>
                  <a:chOff x="5639040" y="1455480"/>
                  <a:chExt cx="2361960" cy="24544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5639040" y="1455480"/>
                    <a:ext cx="2361960" cy="24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1:  P1       P2        P3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2:  P1              P2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3   P1               P3,   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4:  P2               P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T:     P3</a:t>
                    </a: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             P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629400" y="20728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629400" y="2453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629400" y="28346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629400" y="3291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>
                  <a:off x="5562720" y="10666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приме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261200" y="1523880"/>
                <a:ext cx="205920" cy="152640"/>
                <a:chOff x="7261200" y="1523880"/>
                <a:chExt cx="205920" cy="152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26120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36416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553080" y="1523880"/>
                <a:ext cx="205920" cy="152640"/>
                <a:chOff x="6553080" y="1523880"/>
                <a:chExt cx="205920" cy="152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5308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65604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7315200" y="312408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15200" y="27432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15200" y="22860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15200" y="190512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030640" y="15238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676520" y="990720"/>
            <a:ext cx="6172200" cy="3352320"/>
            <a:chOff x="1676520" y="990720"/>
            <a:chExt cx="6172200" cy="3352320"/>
          </a:xfrm>
        </p:grpSpPr>
        <p:grpSp>
          <p:nvGrpSpPr>
            <p:cNvPr id="296" name=""/>
            <p:cNvGrpSpPr/>
            <p:nvPr/>
          </p:nvGrpSpPr>
          <p:grpSpPr>
            <a:xfrm>
              <a:off x="2133720" y="990720"/>
              <a:ext cx="5105160" cy="2133000"/>
              <a:chOff x="2133720" y="990720"/>
              <a:chExt cx="5105160" cy="2133000"/>
            </a:xfrm>
          </p:grpSpPr>
          <p:sp>
            <p:nvSpPr>
              <p:cNvPr id="297" name=""/>
              <p:cNvSpPr/>
              <p:nvPr/>
            </p:nvSpPr>
            <p:spPr>
              <a:xfrm>
                <a:off x="4724280" y="99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00400" y="1676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6761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81480" y="2666880"/>
                <a:ext cx="15264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6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0600" y="1143000"/>
                <a:ext cx="0" cy="30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6720" y="1447560"/>
                <a:ext cx="28954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20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09680" y="2209680"/>
                <a:ext cx="1752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57800" y="2209680"/>
                <a:ext cx="190512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25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5780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629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477120" y="3886200"/>
              <a:ext cx="761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6520" y="3124080"/>
              <a:ext cx="990360" cy="380520"/>
              <a:chOff x="1676520" y="3124080"/>
              <a:chExt cx="990360" cy="380520"/>
            </a:xfrm>
          </p:grpSpPr>
          <p:sp>
            <p:nvSpPr>
              <p:cNvPr id="317" name=""/>
              <p:cNvSpPr/>
              <p:nvPr/>
            </p:nvSpPr>
            <p:spPr>
              <a:xfrm>
                <a:off x="16765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765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505320" y="3124080"/>
              <a:ext cx="990360" cy="380520"/>
              <a:chOff x="3505320" y="3124080"/>
              <a:chExt cx="990360" cy="380520"/>
            </a:xfrm>
          </p:grpSpPr>
          <p:sp>
            <p:nvSpPr>
              <p:cNvPr id="321" name=""/>
              <p:cNvSpPr/>
              <p:nvPr/>
            </p:nvSpPr>
            <p:spPr>
              <a:xfrm>
                <a:off x="35053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956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800600" y="3124080"/>
              <a:ext cx="990360" cy="380520"/>
              <a:chOff x="4800600" y="3124080"/>
              <a:chExt cx="990360" cy="380520"/>
            </a:xfrm>
          </p:grpSpPr>
          <p:sp>
            <p:nvSpPr>
              <p:cNvPr id="325" name=""/>
              <p:cNvSpPr/>
              <p:nvPr/>
            </p:nvSpPr>
            <p:spPr>
              <a:xfrm>
                <a:off x="480060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060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96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705720" y="3124080"/>
              <a:ext cx="990360" cy="380520"/>
              <a:chOff x="6705720" y="3124080"/>
              <a:chExt cx="990360" cy="38052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7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057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960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51460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341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2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2787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578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62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911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05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242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864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915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752480" y="358128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  А  Р  И  А  Н  Т  Ы               М  О  Д  Е  Л  Е  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85800" y="4267080"/>
            <a:ext cx="2209680" cy="1928880"/>
            <a:chOff x="685800" y="4267080"/>
            <a:chExt cx="2209680" cy="1928880"/>
          </a:xfrm>
        </p:grpSpPr>
        <p:sp>
          <p:nvSpPr>
            <p:cNvPr id="347" name=""/>
            <p:cNvSpPr/>
            <p:nvPr/>
          </p:nvSpPr>
          <p:spPr>
            <a:xfrm>
              <a:off x="685800" y="4267080"/>
              <a:ext cx="2209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:     P3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6:     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523880" y="5257440"/>
              <a:ext cx="205920" cy="152640"/>
              <a:chOff x="1523880" y="5257440"/>
              <a:chExt cx="205920" cy="15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1523880" y="5257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26840" y="5257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523880" y="4952880"/>
              <a:ext cx="205920" cy="152640"/>
              <a:chOff x="1523880" y="4952880"/>
              <a:chExt cx="205920" cy="152640"/>
            </a:xfrm>
          </p:grpSpPr>
          <p:sp>
            <p:nvSpPr>
              <p:cNvPr id="352" name=""/>
              <p:cNvSpPr/>
              <p:nvPr/>
            </p:nvSpPr>
            <p:spPr>
              <a:xfrm>
                <a:off x="152388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62684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523880" y="4647960"/>
              <a:ext cx="205920" cy="152640"/>
              <a:chOff x="1523880" y="4647960"/>
              <a:chExt cx="205920" cy="152640"/>
            </a:xfrm>
          </p:grpSpPr>
          <p:sp>
            <p:nvSpPr>
              <p:cNvPr id="355" name=""/>
              <p:cNvSpPr/>
              <p:nvPr/>
            </p:nvSpPr>
            <p:spPr>
              <a:xfrm>
                <a:off x="1523880" y="4648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26840" y="4647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828800" y="4343040"/>
              <a:ext cx="205920" cy="152640"/>
              <a:chOff x="1828800" y="4343040"/>
              <a:chExt cx="205920" cy="152640"/>
            </a:xfrm>
          </p:grpSpPr>
          <p:sp>
            <p:nvSpPr>
              <p:cNvPr id="358" name=""/>
              <p:cNvSpPr/>
              <p:nvPr/>
            </p:nvSpPr>
            <p:spPr>
              <a:xfrm>
                <a:off x="18288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9317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371600" y="4343040"/>
              <a:ext cx="205920" cy="152640"/>
              <a:chOff x="1371600" y="4343040"/>
              <a:chExt cx="205920" cy="15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13716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4745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143000" y="45720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4300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487692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5257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3000" y="5257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733920" y="3962520"/>
            <a:ext cx="4267080" cy="2615760"/>
            <a:chOff x="3733920" y="3962520"/>
            <a:chExt cx="4267080" cy="2615760"/>
          </a:xfrm>
        </p:grpSpPr>
        <p:grpSp>
          <p:nvGrpSpPr>
            <p:cNvPr id="370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371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114800" y="4343400"/>
              <a:ext cx="1295280" cy="2234880"/>
              <a:chOff x="4114800" y="4343400"/>
              <a:chExt cx="1295280" cy="2234880"/>
            </a:xfrm>
          </p:grpSpPr>
          <p:sp>
            <p:nvSpPr>
              <p:cNvPr id="375" name=""/>
              <p:cNvSpPr/>
              <p:nvPr/>
            </p:nvSpPr>
            <p:spPr>
              <a:xfrm>
                <a:off x="4114800" y="4343400"/>
                <a:ext cx="1295280" cy="22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692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95680" y="518148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6920" y="51814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91120" y="54100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0600" y="5715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267080" y="5715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956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7200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9112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7200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911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867280" y="4343400"/>
              <a:ext cx="2133720" cy="22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 ,С3, С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, 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4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 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1 , С5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685800"/>
            <a:ext cx="7391520" cy="2057400"/>
            <a:chOff x="228600" y="685800"/>
            <a:chExt cx="7391520" cy="2057400"/>
          </a:xfrm>
        </p:grpSpPr>
        <p:sp>
          <p:nvSpPr>
            <p:cNvPr id="390" name=""/>
            <p:cNvSpPr/>
            <p:nvPr/>
          </p:nvSpPr>
          <p:spPr>
            <a:xfrm>
              <a:off x="228600" y="6858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670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1460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1280" y="1828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4120" y="9907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9400" y="1828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0:27:43Z</dcterms:created>
  <dc:creator>.Соснин Д.П.</dc:creator>
  <dc:description/>
  <dc:language>en-US</dc:language>
  <cp:lastModifiedBy>Валерий Г. Костин</cp:lastModifiedBy>
  <dcterms:modified xsi:type="dcterms:W3CDTF">2002-12-12T13:25:31Z</dcterms:modified>
  <cp:revision>12</cp:revision>
  <dc:subject/>
  <dc:title>РЕШЕНИЕ ЗАДАЧ В ФОРМАЛЬНЫХ ТЕОРИЯХ</dc:title>
</cp:coreProperties>
</file>