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53EA-49DD-4BE6-B3F6-B040D454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DC7-A60B-487B-AF98-16A9D318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686-9FAE-416F-9A2D-F9A7AE30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A42-8B52-49C6-AB55-1CA9B6B2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E50-D41B-4526-A857-69C84253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04C-1396-4BF4-82D8-8A0B0592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225-3073-42C8-B58C-4B14ECCF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BF5-C3F5-4573-8325-7E57FE59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68F-C171-4F54-A1D9-D7BB7629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7BE-5609-4E8A-BB7C-E1186383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089-51D5-4A6B-B774-AF8A99DF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3C7-D5FB-4134-9460-A229753C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016D-3BBB-4149-BEF1-EA98450A4D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БАЗОВ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28195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ффективность и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320040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ррекция клас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990720"/>
            <a:ext cx="167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ая классифик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175248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ый словар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ределить полный перечен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8006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ачество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6483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ыбор алгорит ма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7150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Рабочие словари признаков и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819160" y="2286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1599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1676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933960" y="4038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040" y="5181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895480" y="55623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1676520" y="36572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7621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рамматическое распозна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447920"/>
            <a:ext cx="2057400" cy="1828800"/>
            <a:chOff x="1219320" y="1447920"/>
            <a:chExt cx="2057400" cy="1828800"/>
          </a:xfrm>
        </p:grpSpPr>
        <p:sp>
          <p:nvSpPr>
            <p:cNvPr id="398" name=""/>
            <p:cNvSpPr/>
            <p:nvPr/>
          </p:nvSpPr>
          <p:spPr>
            <a:xfrm>
              <a:off x="1219320" y="1447920"/>
              <a:ext cx="2057400" cy="1828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2133720"/>
              <a:ext cx="763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800" y="2895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76520" y="3809880"/>
            <a:ext cx="640080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Лицо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)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нутри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): окружность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,z):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нос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 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z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 =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 (и( над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x,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ад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,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z)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x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слев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ос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ямоугольник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отрезок_прямой(), горизонтальный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733920" y="1447920"/>
            <a:ext cx="4952880" cy="1523880"/>
            <a:chOff x="3733920" y="1447920"/>
            <a:chExt cx="4952880" cy="1523880"/>
          </a:xfrm>
        </p:grpSpPr>
        <p:sp>
          <p:nvSpPr>
            <p:cNvPr id="405" name=""/>
            <p:cNvSpPr/>
            <p:nvPr/>
          </p:nvSpPr>
          <p:spPr>
            <a:xfrm>
              <a:off x="3809880" y="1447920"/>
              <a:ext cx="45720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1523880"/>
              <a:ext cx="441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ипы объектов : точка, прямоугольник, отрезок прямой , окруж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33920" y="2362320"/>
              <a:ext cx="49528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2514600"/>
              <a:ext cx="45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едикаты : Внутри, над, слева, горизонтальный,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38080" y="1600200"/>
            <a:ext cx="1523880" cy="2211840"/>
            <a:chOff x="838080" y="1600200"/>
            <a:chExt cx="1523880" cy="2211840"/>
          </a:xfrm>
        </p:grpSpPr>
        <p:sp>
          <p:nvSpPr>
            <p:cNvPr id="414" name=""/>
            <p:cNvSpPr/>
            <p:nvPr/>
          </p:nvSpPr>
          <p:spPr>
            <a:xfrm>
              <a:off x="914400" y="167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19047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14400" y="2285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38080" y="24379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514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1600" y="16002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1828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7560" y="2133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838080" y="2971440"/>
              <a:ext cx="304920" cy="304560"/>
              <a:chOff x="838080" y="2971440"/>
              <a:chExt cx="304920" cy="30456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838080" y="297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2971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616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676160" y="2971440"/>
              <a:ext cx="381240" cy="459360"/>
              <a:chOff x="1676160" y="2971440"/>
              <a:chExt cx="381240" cy="459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752480" y="2971440"/>
                <a:ext cx="304920" cy="228240"/>
                <a:chOff x="1752480" y="2971440"/>
                <a:chExt cx="304920" cy="228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752480" y="29714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57400" y="29714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1676160" y="3123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752120" y="3504960"/>
              <a:ext cx="304920" cy="304560"/>
              <a:chOff x="1752120" y="3504960"/>
              <a:chExt cx="30492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05704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75212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3504960"/>
              <a:ext cx="304920" cy="304560"/>
              <a:chOff x="838080" y="3504960"/>
              <a:chExt cx="30492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808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990360" y="3124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09880" y="1371600"/>
            <a:ext cx="12193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::=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F::=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::=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G::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::=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::=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::=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T::=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19920" y="2057040"/>
            <a:ext cx="1218960" cy="991080"/>
            <a:chOff x="6019920" y="2057040"/>
            <a:chExt cx="1218960" cy="991080"/>
          </a:xfrm>
        </p:grpSpPr>
        <p:sp>
          <p:nvSpPr>
            <p:cNvPr id="441" name=""/>
            <p:cNvSpPr/>
            <p:nvPr/>
          </p:nvSpPr>
          <p:spPr>
            <a:xfrm>
              <a:off x="601992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448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396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38880" y="20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8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8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3396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629040" y="304812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1992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0199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019920" y="205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21932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ьные грам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остояния (класс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 = {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ктор призна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условные распре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априорные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= [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миним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1523880"/>
            <a:ext cx="4190760" cy="419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5248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ыбрать 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если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&lt; 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&gt;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638680" y="47242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9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2362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26668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2286000"/>
            <a:ext cx="289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sqrt((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(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Peter Sosnin</cp:lastModifiedBy>
  <dcterms:modified xsi:type="dcterms:W3CDTF">2006-05-04T15:11:01Z</dcterms:modified>
  <cp:revision>12</cp:revision>
  <dc:subject/>
  <dc:title>РАСПОЗНАВАНИЕ ОБРАЗОВ</dc:title>
</cp:coreProperties>
</file>