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FBDA-F5F1-4F94-AE4A-58FB3FCEF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537E-90E0-4097-BEB1-82CC09478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185A-8688-4045-BF78-5EE729CA2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1192-FCD4-461F-BEE6-19E8FAC6F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F006-7702-4FFB-A0A6-2C55FA89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DA26-9E61-4215-BBAA-7E1EAE2D0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438B-1928-4C7B-A19C-B0214AA45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FF5B-9963-4925-A618-6F3C86D3A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50D8-2A14-45D9-A15E-D96E7872D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DDB7-B9D0-43A3-885E-303B703F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9E63-2583-4C6C-B6F7-44D9BD74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0303-C365-4E92-AD96-E3CD4BCF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C47B1-8C05-4930-B873-1199A1E4A4F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990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ЗН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905120" y="1600200"/>
            <a:ext cx="5638680" cy="2286000"/>
            <a:chOff x="1905120" y="1600200"/>
            <a:chExt cx="5638680" cy="2286000"/>
          </a:xfrm>
        </p:grpSpPr>
        <p:sp>
          <p:nvSpPr>
            <p:cNvPr id="45" name=""/>
            <p:cNvSpPr/>
            <p:nvPr/>
          </p:nvSpPr>
          <p:spPr>
            <a:xfrm>
              <a:off x="1905120" y="1600200"/>
              <a:ext cx="5638680" cy="2286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05120" y="2743200"/>
              <a:ext cx="563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419720" y="274320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981080" y="1919520"/>
              <a:ext cx="541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ЗНАНИЯ КАК СИСТЕМА ДОСТУП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14600" y="30625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УМЕН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0481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НАВЫК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1523880" y="1828800"/>
            <a:ext cx="914040" cy="4419000"/>
            <a:chOff x="1523880" y="1828800"/>
            <a:chExt cx="914040" cy="4419000"/>
          </a:xfrm>
        </p:grpSpPr>
        <p:sp>
          <p:nvSpPr>
            <p:cNvPr id="52" name=""/>
            <p:cNvSpPr/>
            <p:nvPr/>
          </p:nvSpPr>
          <p:spPr>
            <a:xfrm flipH="1">
              <a:off x="1523880" y="1828800"/>
              <a:ext cx="591120" cy="44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rot="10800000">
              <a:off x="1524240" y="3581640"/>
              <a:ext cx="913680" cy="91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2133720" y="434340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СИСТЕМА СТРУКТУР ДАННЫХ И ОПЕРА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19720" y="4724280"/>
            <a:ext cx="0" cy="45720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76520" y="518148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СИСТЕМА ОБЪЕКТОВ (КЛАССОВ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5880" y="5562720"/>
            <a:ext cx="0" cy="38088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62720" y="6019920"/>
            <a:ext cx="304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imes New Roman"/>
              </a:rPr>
              <a:t>ИНТЕРПРЕТ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34320" y="4724280"/>
            <a:ext cx="0" cy="12193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685800"/>
            <a:ext cx="861048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838080"/>
            <a:ext cx="4419720" cy="26672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34320" y="3505320"/>
            <a:ext cx="1981080" cy="18288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724280" y="3276720"/>
            <a:ext cx="2133720" cy="33526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3352680"/>
            <a:ext cx="2514600" cy="2514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838080"/>
            <a:ext cx="3276360" cy="3048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05520" y="3809880"/>
            <a:ext cx="1143000" cy="2362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57800" y="3962520"/>
            <a:ext cx="1143000" cy="2361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3886200"/>
            <a:ext cx="1447920" cy="1143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09680" y="4038480"/>
            <a:ext cx="144792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71600" y="1447920"/>
            <a:ext cx="2209680" cy="1523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1600200"/>
            <a:ext cx="2210040" cy="1523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76920" y="1219320"/>
            <a:ext cx="3200400" cy="1981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29200" y="1371600"/>
            <a:ext cx="3200400" cy="1981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29000" y="22860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28195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8120" y="2819520"/>
            <a:ext cx="266688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123720" y="2971800"/>
            <a:ext cx="266724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086600" y="4114800"/>
            <a:ext cx="16002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238880" y="4267080"/>
            <a:ext cx="160020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0" y="2590920"/>
            <a:ext cx="106668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15000" y="4572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66880" y="4952880"/>
            <a:ext cx="99072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066680" y="4572000"/>
            <a:ext cx="106704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6172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ЭКЗЕМПЛЯ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62485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29400" y="56386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81680" y="617220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ОБЛАСТЬ ИНТЕРПРЕТ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52480" y="19810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543800" y="44197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45720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МОДЕЛ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5880" y="17524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257800" y="53341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1066680"/>
            <a:ext cx="358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ИФИКАЦИЯ МОДЕЛЕЙ ЗН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505320"/>
            <a:ext cx="213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УНКЦИОНАЛЬНЫЕ КЛАСС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238880" y="23623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РЕЙМОВ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31240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ЕТЕВ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259092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ЛОГИКО-ЛИГВИСТИЧЕСК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0040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ПРОДУКЦИО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449568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НТАГМАТИЧЕСКИЕ ЦЕП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5334120"/>
            <a:ext cx="21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RX-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ОД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2971800"/>
            <a:ext cx="0" cy="320040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3733920"/>
            <a:ext cx="4572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4648320"/>
            <a:ext cx="4572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5486400"/>
            <a:ext cx="9144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904760" y="1447920"/>
            <a:ext cx="1904760" cy="10666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29200" y="1447920"/>
            <a:ext cx="1600200" cy="16002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91320" y="1447920"/>
            <a:ext cx="1447560" cy="9144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838080"/>
            <a:ext cx="472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УНКЦИОНАЛЬНЫЕ КЛАСС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85800" y="1295280"/>
            <a:ext cx="2743200" cy="3200400"/>
            <a:chOff x="685800" y="1295280"/>
            <a:chExt cx="2743200" cy="3200400"/>
          </a:xfrm>
        </p:grpSpPr>
        <p:sp>
          <p:nvSpPr>
            <p:cNvPr id="116" name=""/>
            <p:cNvSpPr/>
            <p:nvPr/>
          </p:nvSpPr>
          <p:spPr>
            <a:xfrm>
              <a:off x="685800" y="129528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ОНЯТ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182880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МЕН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14400" y="198108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БЪЕКТ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14400" y="304812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ЦЕСС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38080" y="403848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ОСТОЯ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2120" y="1676520"/>
              <a:ext cx="0" cy="28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62120" y="2209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2120" y="3200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2120" y="41911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380880" y="4343400"/>
            <a:ext cx="8229600" cy="2135880"/>
            <a:chOff x="380880" y="4343400"/>
            <a:chExt cx="8229600" cy="2135880"/>
          </a:xfrm>
        </p:grpSpPr>
        <p:sp>
          <p:nvSpPr>
            <p:cNvPr id="126" name=""/>
            <p:cNvSpPr/>
            <p:nvPr/>
          </p:nvSpPr>
          <p:spPr>
            <a:xfrm>
              <a:off x="2819520" y="4343400"/>
              <a:ext cx="144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ТНОШЕ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724280" y="5791320"/>
              <a:ext cx="2438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ДЕНТИФИКАЦИО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48120" y="6172200"/>
              <a:ext cx="25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ЛАССИФИКАЦИО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33720" y="579132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ИНАМ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38080" y="533412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СТРАНСТВ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0880" y="4876920"/>
              <a:ext cx="152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ВРЕМ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24480" y="4952880"/>
              <a:ext cx="2286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ИЧИННО-СЛЕДСТВ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638680" y="541008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АГМАТ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1828800" y="4648320"/>
              <a:ext cx="990720" cy="3808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2514240" y="4724280"/>
              <a:ext cx="68580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3352680" y="4724280"/>
              <a:ext cx="152640" cy="99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09880" y="4876920"/>
              <a:ext cx="152640" cy="12189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62520" y="4724280"/>
              <a:ext cx="990360" cy="99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67080" y="4648320"/>
              <a:ext cx="160020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67080" y="4572000"/>
              <a:ext cx="243864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 flipH="1">
            <a:off x="1828800" y="1066680"/>
            <a:ext cx="990720" cy="3812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895120" y="1143000"/>
            <a:ext cx="304920" cy="6858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1295280"/>
            <a:ext cx="0" cy="28958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00600" y="1219320"/>
            <a:ext cx="1676520" cy="19047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29200" y="1219320"/>
            <a:ext cx="1523880" cy="10666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224760" y="327672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ИФИКАТОР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24480" y="14479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ИМПЕРАТИВ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48520" y="2362320"/>
            <a:ext cx="2646360" cy="7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ВАНТИФИКАТОР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КАЧЕСТВЕ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КОЛИЧЕСТВЕ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57800" y="1143000"/>
            <a:ext cx="1122480" cy="3808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365760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АЛЬНО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48320" y="388620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ОЦЕН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1219320"/>
            <a:ext cx="1371600" cy="24382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1371600"/>
            <a:ext cx="685800" cy="24382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83808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838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НТАГМАТИЧЕСКИЕ ЦЕП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0" y="236232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248520" y="24382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43200" y="259092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57400" y="1447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А)СИНТАГМ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213372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Понятие или имя с квантификаторами, модификаторами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2682720"/>
            <a:ext cx="2514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Отношениме или императив с квантификаторами, модификаторами, модальностями 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934320" y="205740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Понятие или имя с квантификаторами, модификаторами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05120" y="32004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62520" y="18288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48520" y="304812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600200" y="3809880"/>
            <a:ext cx="5790960" cy="2438640"/>
            <a:chOff x="1600200" y="3809880"/>
            <a:chExt cx="5790960" cy="2438640"/>
          </a:xfrm>
        </p:grpSpPr>
        <p:grpSp>
          <p:nvGrpSpPr>
            <p:cNvPr id="168" name=""/>
            <p:cNvGrpSpPr/>
            <p:nvPr/>
          </p:nvGrpSpPr>
          <p:grpSpPr>
            <a:xfrm>
              <a:off x="1600200" y="4387680"/>
              <a:ext cx="1523880" cy="1860840"/>
              <a:chOff x="1600200" y="4387680"/>
              <a:chExt cx="1523880" cy="18608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1600200" y="4387680"/>
                <a:ext cx="1523880" cy="489240"/>
                <a:chOff x="1600200" y="4387680"/>
                <a:chExt cx="1523880" cy="489240"/>
              </a:xfrm>
            </p:grpSpPr>
            <p:grpSp>
              <p:nvGrpSpPr>
                <p:cNvPr id="170" name=""/>
                <p:cNvGrpSpPr/>
                <p:nvPr/>
              </p:nvGrpSpPr>
              <p:grpSpPr>
                <a:xfrm>
                  <a:off x="1828800" y="4724280"/>
                  <a:ext cx="990720" cy="152640"/>
                  <a:chOff x="1828800" y="4724280"/>
                  <a:chExt cx="990720" cy="15264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>
                    <a:off x="1828800" y="47242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2666880" y="47242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1905120" y="48006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4" name=""/>
                <p:cNvSpPr/>
                <p:nvPr/>
              </p:nvSpPr>
              <p:spPr>
                <a:xfrm>
                  <a:off x="1600200" y="43876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209680" y="44197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743200" y="44197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1600200" y="4844880"/>
                <a:ext cx="1523880" cy="489240"/>
                <a:chOff x="1600200" y="4844880"/>
                <a:chExt cx="1523880" cy="48924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1828800" y="5181480"/>
                  <a:ext cx="990720" cy="152640"/>
                  <a:chOff x="1828800" y="5181480"/>
                  <a:chExt cx="990720" cy="15264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1828800" y="51814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2666880" y="51814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1905120" y="52578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2" name=""/>
                <p:cNvSpPr/>
                <p:nvPr/>
              </p:nvSpPr>
              <p:spPr>
                <a:xfrm>
                  <a:off x="1600200" y="48448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2209680" y="48769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743200" y="48769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1600200" y="5302080"/>
                <a:ext cx="1523880" cy="489240"/>
                <a:chOff x="1600200" y="5302080"/>
                <a:chExt cx="1523880" cy="489240"/>
              </a:xfrm>
            </p:grpSpPr>
            <p:grpSp>
              <p:nvGrpSpPr>
                <p:cNvPr id="186" name=""/>
                <p:cNvGrpSpPr/>
                <p:nvPr/>
              </p:nvGrpSpPr>
              <p:grpSpPr>
                <a:xfrm>
                  <a:off x="1828800" y="5638680"/>
                  <a:ext cx="990720" cy="152640"/>
                  <a:chOff x="1828800" y="5638680"/>
                  <a:chExt cx="990720" cy="15264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>
                    <a:off x="1828800" y="56386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2666880" y="56386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1905120" y="57150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0" name=""/>
                <p:cNvSpPr/>
                <p:nvPr/>
              </p:nvSpPr>
              <p:spPr>
                <a:xfrm>
                  <a:off x="1600200" y="53020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209680" y="53341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2743200" y="53341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1600200" y="5759280"/>
                <a:ext cx="1523880" cy="489240"/>
                <a:chOff x="1600200" y="5759280"/>
                <a:chExt cx="1523880" cy="489240"/>
              </a:xfrm>
            </p:grpSpPr>
            <p:grpSp>
              <p:nvGrpSpPr>
                <p:cNvPr id="194" name=""/>
                <p:cNvGrpSpPr/>
                <p:nvPr/>
              </p:nvGrpSpPr>
              <p:grpSpPr>
                <a:xfrm>
                  <a:off x="1828800" y="6095880"/>
                  <a:ext cx="990720" cy="152640"/>
                  <a:chOff x="1828800" y="6095880"/>
                  <a:chExt cx="990720" cy="15264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>
                    <a:off x="1828800" y="60958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2666880" y="60958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1905120" y="61722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8" name=""/>
                <p:cNvSpPr/>
                <p:nvPr/>
              </p:nvSpPr>
              <p:spPr>
                <a:xfrm>
                  <a:off x="1600200" y="57592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2209680" y="57913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743200" y="57913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1" name=""/>
            <p:cNvGrpSpPr/>
            <p:nvPr/>
          </p:nvGrpSpPr>
          <p:grpSpPr>
            <a:xfrm>
              <a:off x="4952880" y="4495680"/>
              <a:ext cx="2438280" cy="1371240"/>
              <a:chOff x="4952880" y="4495680"/>
              <a:chExt cx="2438280" cy="137124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4952880" y="4495680"/>
                <a:ext cx="1572120" cy="585720"/>
                <a:chOff x="4952880" y="4495680"/>
                <a:chExt cx="1572120" cy="585720"/>
              </a:xfrm>
            </p:grpSpPr>
            <p:grpSp>
              <p:nvGrpSpPr>
                <p:cNvPr id="203" name=""/>
                <p:cNvGrpSpPr/>
                <p:nvPr/>
              </p:nvGrpSpPr>
              <p:grpSpPr>
                <a:xfrm>
                  <a:off x="5188680" y="4898880"/>
                  <a:ext cx="1022040" cy="182520"/>
                  <a:chOff x="5188680" y="4898880"/>
                  <a:chExt cx="1022040" cy="18252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>
                    <a:off x="5188680" y="4898880"/>
                    <a:ext cx="156960" cy="1825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6053400" y="4898880"/>
                    <a:ext cx="157320" cy="1825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5267160" y="4989960"/>
                    <a:ext cx="785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7" name=""/>
                <p:cNvSpPr/>
                <p:nvPr/>
              </p:nvSpPr>
              <p:spPr>
                <a:xfrm>
                  <a:off x="4952880" y="4495680"/>
                  <a:ext cx="39276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0" lang="en-US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5581800" y="4533840"/>
                  <a:ext cx="3934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r>
                    <a:rPr b="0" lang="en-US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132240" y="4533840"/>
                  <a:ext cx="39276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6053760" y="4899240"/>
                <a:ext cx="1022040" cy="182160"/>
                <a:chOff x="6053760" y="4899240"/>
                <a:chExt cx="1022040" cy="18216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6053760" y="4899240"/>
                  <a:ext cx="156960" cy="18216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918480" y="4899240"/>
                  <a:ext cx="157320" cy="18216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6132240" y="4990320"/>
                  <a:ext cx="785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4" name=""/>
              <p:cNvSpPr/>
              <p:nvPr/>
            </p:nvSpPr>
            <p:spPr>
              <a:xfrm>
                <a:off x="5975280" y="4495680"/>
                <a:ext cx="393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447240" y="4533480"/>
                <a:ext cx="393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997680" y="4533480"/>
                <a:ext cx="393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365800" y="5130360"/>
                <a:ext cx="966960" cy="60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1921200">
                <a:off x="5834880" y="5123520"/>
                <a:ext cx="5698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289920" y="5684400"/>
                <a:ext cx="157320" cy="1825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6447240" y="5043960"/>
                <a:ext cx="550080" cy="73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761880" y="5318280"/>
                <a:ext cx="5504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3200400" y="3809880"/>
              <a:ext cx="266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ПИСАНИЕ СИТУАЦИ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514600" y="411480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БАЗИС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52880" y="4114800"/>
              <a:ext cx="16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УКТУР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83808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83808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АЗОВАЯ СТРУКТУРА ЗН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" y="563868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914400" y="4648320"/>
            <a:ext cx="14172480" cy="19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914400" y="4114800"/>
            <a:ext cx="141724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914400" y="3505320"/>
            <a:ext cx="14172480" cy="426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914400" y="2590920"/>
            <a:ext cx="14172480" cy="609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914400" y="1447920"/>
            <a:ext cx="14172480" cy="838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00400" y="510552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21141000">
            <a:off x="4191120" y="220932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21270600">
            <a:off x="3885840" y="320040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rot="21404400">
            <a:off x="4038480" y="380952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21382200">
            <a:off x="3276360" y="441936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4T04:38:54Z</dcterms:created>
  <dc:creator>Петр Соснин</dc:creator>
  <dc:description/>
  <dc:language>en-US</dc:language>
  <cp:lastModifiedBy>Валерий Г. Костин</cp:lastModifiedBy>
  <dcterms:modified xsi:type="dcterms:W3CDTF">2002-12-12T13:40:06Z</dcterms:modified>
  <cp:revision>8</cp:revision>
  <dc:subject/>
  <dc:title>ПРЕДСТАВЛЕНИЕ ЗНАНИЙ</dc:title>
</cp:coreProperties>
</file>