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623-02E5-4579-9D78-153CD1F4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D2AF-916B-4BBA-BA2D-7DF37336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D19-80DD-44AB-9AC8-D063F3BA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B7C6-9E01-4B8D-B2F4-F2994714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9401-CCE4-45F6-93B9-6F996C11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65A9-22E2-470A-B4C4-51732120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3623-3DE3-4D0D-BA55-51C77746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D7A-B9B0-406E-BF49-8FA262E4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23BF-C222-4025-957D-1AFD861E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C91-4637-4387-8A03-24138992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8930-12E9-4E2D-9A6E-CE29AD19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3D2B-80A2-4153-9123-535714AA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74AA-F0D3-4703-A295-215E9C61BE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43434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{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= [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3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Валерий Г. Костин</cp:lastModifiedBy>
  <dcterms:modified xsi:type="dcterms:W3CDTF">2002-12-12T13:43:15Z</dcterms:modified>
  <cp:revision>9</cp:revision>
  <dc:subject/>
  <dc:title>РАСПОЗНАВАНИЕ ОБРАЗОВ</dc:title>
</cp:coreProperties>
</file>