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536C1-0EC8-4E03-91AA-EBBB43A32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38E2B-407F-427F-88B5-322C9B838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38CDC-DC38-414A-9FE4-ACDB37A57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A58EF-85AB-4196-8119-9CE3F3386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97FD2-216B-4CB5-ABCB-3F605324E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BC3F6-2DE7-4819-A496-4058DB69A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850E7-3DAD-4B5E-B2AD-441A3F2AC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6E928-63C3-4AF3-94E3-4C8C9E520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8143F-DD90-4BD9-8001-803A5D8DC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F4FDB-C4A6-4B48-9F53-9B6FE3462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4232B-FA23-4777-A176-E3C898389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174FC-5D4E-4FCA-9A59-BFEA55AB5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E227A-C081-4A7A-B8DB-BF79A8D832E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ПРЕДСТАВЛЕНИЕ ЗНА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04920" y="762120"/>
            <a:ext cx="8610480" cy="57909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33520" y="990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ЗНА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905120" y="1600200"/>
            <a:ext cx="5638680" cy="2286000"/>
            <a:chOff x="1905120" y="1600200"/>
            <a:chExt cx="5638680" cy="2286000"/>
          </a:xfrm>
        </p:grpSpPr>
        <p:sp>
          <p:nvSpPr>
            <p:cNvPr id="45" name=""/>
            <p:cNvSpPr/>
            <p:nvPr/>
          </p:nvSpPr>
          <p:spPr>
            <a:xfrm>
              <a:off x="1905120" y="1600200"/>
              <a:ext cx="5638680" cy="22860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905120" y="2743200"/>
              <a:ext cx="5638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419720" y="2743200"/>
              <a:ext cx="0" cy="11430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981080" y="1919520"/>
              <a:ext cx="5410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ЗНАНИЯ КАК СИСТЕМА ДОСТУПА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514600" y="306252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УМЕНИЯ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04812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НАВЫКИ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1523880" y="1828800"/>
            <a:ext cx="914040" cy="4419000"/>
            <a:chOff x="1523880" y="1828800"/>
            <a:chExt cx="914040" cy="4419000"/>
          </a:xfrm>
        </p:grpSpPr>
        <p:sp>
          <p:nvSpPr>
            <p:cNvPr id="52" name=""/>
            <p:cNvSpPr/>
            <p:nvPr/>
          </p:nvSpPr>
          <p:spPr>
            <a:xfrm flipH="1">
              <a:off x="1523880" y="1828800"/>
              <a:ext cx="591120" cy="441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rot="10800000">
              <a:off x="1524240" y="3581640"/>
              <a:ext cx="913680" cy="913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ff00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" name=""/>
          <p:cNvSpPr/>
          <p:nvPr/>
        </p:nvSpPr>
        <p:spPr>
          <a:xfrm>
            <a:off x="2133720" y="4343400"/>
            <a:ext cx="563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Times New Roman"/>
              </a:rPr>
              <a:t>СИСТЕМА СТРУКТУР ДАННЫХ И ОПЕРАЦИ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19720" y="4724280"/>
            <a:ext cx="0" cy="457200"/>
          </a:xfrm>
          <a:prstGeom prst="line">
            <a:avLst/>
          </a:prstGeom>
          <a:ln w="38160">
            <a:solidFill>
              <a:srgbClr val="ff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676520" y="5181480"/>
            <a:ext cx="563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Times New Roman"/>
              </a:rPr>
              <a:t>СИСТЕМА ОБЪЕКТОВ (КЛАССОВ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095880" y="5562720"/>
            <a:ext cx="0" cy="380880"/>
          </a:xfrm>
          <a:prstGeom prst="line">
            <a:avLst/>
          </a:prstGeom>
          <a:ln w="284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562720" y="6019920"/>
            <a:ext cx="304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Times New Roman"/>
              </a:rPr>
              <a:t>ИНТЕРПРЕТАЦИ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934320" y="4724280"/>
            <a:ext cx="0" cy="1219320"/>
          </a:xfrm>
          <a:prstGeom prst="line">
            <a:avLst/>
          </a:prstGeom>
          <a:ln w="284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ПРЕДСТАВЛЕНИЕ ЗНА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28600" y="609480"/>
            <a:ext cx="8610480" cy="57913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80880" y="914400"/>
            <a:ext cx="457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ФРЕЙМОВЫЕ ПРЕДСТАВЛЕН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1143000" y="1600200"/>
            <a:ext cx="6781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ДВИЖЕНИЕ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[&l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кто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g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l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что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g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l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как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g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l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где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g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l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откуда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g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l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куда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g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l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с помощью чего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g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l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зачем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g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l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когда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g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990720" y="2971800"/>
            <a:ext cx="6781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перевозка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[&l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откуда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g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l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куда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g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l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груз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g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l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средство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g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l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время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g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38080" y="4114800"/>
            <a:ext cx="678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груз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[&l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тип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g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l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срочность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g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l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условия хранения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g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l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условия перевозки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g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990720" y="5165640"/>
            <a:ext cx="769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средство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[&l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тип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g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l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ограничения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g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l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наличное количество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g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ПРИОБРЕТЕНИЕ ЗНА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228600" y="762120"/>
            <a:ext cx="861048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3505320" y="914400"/>
            <a:ext cx="2361960" cy="685800"/>
            <a:chOff x="3505320" y="914400"/>
            <a:chExt cx="2361960" cy="685800"/>
          </a:xfrm>
        </p:grpSpPr>
        <p:sp>
          <p:nvSpPr>
            <p:cNvPr id="428" name=""/>
            <p:cNvSpPr/>
            <p:nvPr/>
          </p:nvSpPr>
          <p:spPr>
            <a:xfrm>
              <a:off x="3505320" y="914400"/>
              <a:ext cx="2361960" cy="6858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3657600" y="990720"/>
              <a:ext cx="2057400" cy="52020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Извлечение знаний (методы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0" name=""/>
          <p:cNvGrpSpPr/>
          <p:nvPr/>
        </p:nvGrpSpPr>
        <p:grpSpPr>
          <a:xfrm>
            <a:off x="1828800" y="1828800"/>
            <a:ext cx="1980720" cy="457200"/>
            <a:chOff x="1828800" y="1828800"/>
            <a:chExt cx="1980720" cy="457200"/>
          </a:xfrm>
        </p:grpSpPr>
        <p:sp>
          <p:nvSpPr>
            <p:cNvPr id="431" name=""/>
            <p:cNvSpPr/>
            <p:nvPr/>
          </p:nvSpPr>
          <p:spPr>
            <a:xfrm>
              <a:off x="1828800" y="1828800"/>
              <a:ext cx="1980720" cy="4572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1994040" y="1905120"/>
              <a:ext cx="1733400" cy="3070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коммуникативны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380880" y="2590920"/>
            <a:ext cx="1447920" cy="457200"/>
            <a:chOff x="380880" y="2590920"/>
            <a:chExt cx="1447920" cy="457200"/>
          </a:xfrm>
        </p:grpSpPr>
        <p:sp>
          <p:nvSpPr>
            <p:cNvPr id="434" name=""/>
            <p:cNvSpPr/>
            <p:nvPr/>
          </p:nvSpPr>
          <p:spPr>
            <a:xfrm>
              <a:off x="380880" y="2590920"/>
              <a:ext cx="1447920" cy="4572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01480" y="2667240"/>
              <a:ext cx="1266840" cy="3070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пассивны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6" name=""/>
          <p:cNvGrpSpPr/>
          <p:nvPr/>
        </p:nvGrpSpPr>
        <p:grpSpPr>
          <a:xfrm>
            <a:off x="4191120" y="2666880"/>
            <a:ext cx="1218960" cy="457200"/>
            <a:chOff x="4191120" y="2666880"/>
            <a:chExt cx="1218960" cy="457200"/>
          </a:xfrm>
        </p:grpSpPr>
        <p:sp>
          <p:nvSpPr>
            <p:cNvPr id="437" name=""/>
            <p:cNvSpPr/>
            <p:nvPr/>
          </p:nvSpPr>
          <p:spPr>
            <a:xfrm>
              <a:off x="4191120" y="2666880"/>
              <a:ext cx="1218960" cy="4572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4292640" y="2743200"/>
              <a:ext cx="1066680" cy="3070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активны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9" name=""/>
          <p:cNvGrpSpPr/>
          <p:nvPr/>
        </p:nvGrpSpPr>
        <p:grpSpPr>
          <a:xfrm>
            <a:off x="762120" y="3657600"/>
            <a:ext cx="1523880" cy="457200"/>
            <a:chOff x="762120" y="3657600"/>
            <a:chExt cx="1523880" cy="457200"/>
          </a:xfrm>
        </p:grpSpPr>
        <p:sp>
          <p:nvSpPr>
            <p:cNvPr id="440" name=""/>
            <p:cNvSpPr/>
            <p:nvPr/>
          </p:nvSpPr>
          <p:spPr>
            <a:xfrm>
              <a:off x="762120" y="3657600"/>
              <a:ext cx="1523880" cy="4572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889200" y="3733920"/>
              <a:ext cx="1333440" cy="3070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наблюдени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2" name=""/>
          <p:cNvSpPr/>
          <p:nvPr/>
        </p:nvSpPr>
        <p:spPr>
          <a:xfrm>
            <a:off x="762120" y="4419720"/>
            <a:ext cx="1828800" cy="609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914400" y="4495680"/>
            <a:ext cx="1600200" cy="5202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Протокол мыслей вслух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4" name=""/>
          <p:cNvGrpSpPr/>
          <p:nvPr/>
        </p:nvGrpSpPr>
        <p:grpSpPr>
          <a:xfrm>
            <a:off x="762120" y="5257800"/>
            <a:ext cx="1143000" cy="457200"/>
            <a:chOff x="762120" y="5257800"/>
            <a:chExt cx="1143000" cy="457200"/>
          </a:xfrm>
        </p:grpSpPr>
        <p:sp>
          <p:nvSpPr>
            <p:cNvPr id="445" name=""/>
            <p:cNvSpPr/>
            <p:nvPr/>
          </p:nvSpPr>
          <p:spPr>
            <a:xfrm>
              <a:off x="762120" y="5257800"/>
              <a:ext cx="1143000" cy="4572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857520" y="5334120"/>
              <a:ext cx="1000080" cy="3070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лекции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7" name=""/>
          <p:cNvSpPr/>
          <p:nvPr/>
        </p:nvSpPr>
        <p:spPr>
          <a:xfrm>
            <a:off x="457200" y="304812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457200" y="3962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57200" y="47242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457200" y="55627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1" name=""/>
          <p:cNvGrpSpPr/>
          <p:nvPr/>
        </p:nvGrpSpPr>
        <p:grpSpPr>
          <a:xfrm>
            <a:off x="6629400" y="2133720"/>
            <a:ext cx="2056680" cy="3733560"/>
            <a:chOff x="6629400" y="2133720"/>
            <a:chExt cx="2056680" cy="3733560"/>
          </a:xfrm>
        </p:grpSpPr>
        <p:grpSp>
          <p:nvGrpSpPr>
            <p:cNvPr id="452" name=""/>
            <p:cNvGrpSpPr/>
            <p:nvPr/>
          </p:nvGrpSpPr>
          <p:grpSpPr>
            <a:xfrm>
              <a:off x="6629400" y="2133720"/>
              <a:ext cx="1974240" cy="457200"/>
              <a:chOff x="6629400" y="2133720"/>
              <a:chExt cx="1974240" cy="457200"/>
            </a:xfrm>
          </p:grpSpPr>
          <p:sp>
            <p:nvSpPr>
              <p:cNvPr id="453" name=""/>
              <p:cNvSpPr/>
              <p:nvPr/>
            </p:nvSpPr>
            <p:spPr>
              <a:xfrm>
                <a:off x="6629400" y="2133720"/>
                <a:ext cx="1974240" cy="45720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6793920" y="2210040"/>
                <a:ext cx="1725480" cy="30708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текстологические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5" name=""/>
            <p:cNvGrpSpPr/>
            <p:nvPr/>
          </p:nvGrpSpPr>
          <p:grpSpPr>
            <a:xfrm>
              <a:off x="7205400" y="3048120"/>
              <a:ext cx="1398240" cy="609480"/>
              <a:chOff x="7205400" y="3048120"/>
              <a:chExt cx="1398240" cy="609480"/>
            </a:xfrm>
          </p:grpSpPr>
          <p:sp>
            <p:nvSpPr>
              <p:cNvPr id="456" name=""/>
              <p:cNvSpPr/>
              <p:nvPr/>
            </p:nvSpPr>
            <p:spPr>
              <a:xfrm>
                <a:off x="7205400" y="3048120"/>
                <a:ext cx="1398240" cy="6094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7205400" y="3124440"/>
                <a:ext cx="139824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Анализ учебников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8" name=""/>
            <p:cNvGrpSpPr/>
            <p:nvPr/>
          </p:nvGrpSpPr>
          <p:grpSpPr>
            <a:xfrm>
              <a:off x="7205400" y="4191120"/>
              <a:ext cx="1316160" cy="609480"/>
              <a:chOff x="7205400" y="4191120"/>
              <a:chExt cx="1316160" cy="609480"/>
            </a:xfrm>
          </p:grpSpPr>
          <p:sp>
            <p:nvSpPr>
              <p:cNvPr id="459" name=""/>
              <p:cNvSpPr/>
              <p:nvPr/>
            </p:nvSpPr>
            <p:spPr>
              <a:xfrm>
                <a:off x="7205400" y="4191120"/>
                <a:ext cx="1316160" cy="6094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7287120" y="4191120"/>
                <a:ext cx="123444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Анализ литературы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7205400" y="5257800"/>
              <a:ext cx="1480680" cy="609480"/>
              <a:chOff x="7205400" y="5257800"/>
              <a:chExt cx="1480680" cy="609480"/>
            </a:xfrm>
          </p:grpSpPr>
          <p:sp>
            <p:nvSpPr>
              <p:cNvPr id="462" name=""/>
              <p:cNvSpPr/>
              <p:nvPr/>
            </p:nvSpPr>
            <p:spPr>
              <a:xfrm>
                <a:off x="7205400" y="5257800"/>
                <a:ext cx="1480680" cy="6094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7282800" y="5333760"/>
                <a:ext cx="14032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Анализ документов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4" name=""/>
            <p:cNvSpPr/>
            <p:nvPr/>
          </p:nvSpPr>
          <p:spPr>
            <a:xfrm>
              <a:off x="6876000" y="2590920"/>
              <a:ext cx="0" cy="297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876000" y="5562720"/>
              <a:ext cx="32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6876000" y="4572000"/>
              <a:ext cx="32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6876000" y="3429000"/>
              <a:ext cx="32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8" name=""/>
          <p:cNvGrpSpPr/>
          <p:nvPr/>
        </p:nvGrpSpPr>
        <p:grpSpPr>
          <a:xfrm>
            <a:off x="2971800" y="3429000"/>
            <a:ext cx="1523880" cy="457200"/>
            <a:chOff x="2971800" y="3429000"/>
            <a:chExt cx="1523880" cy="457200"/>
          </a:xfrm>
        </p:grpSpPr>
        <p:sp>
          <p:nvSpPr>
            <p:cNvPr id="469" name=""/>
            <p:cNvSpPr/>
            <p:nvPr/>
          </p:nvSpPr>
          <p:spPr>
            <a:xfrm>
              <a:off x="2971800" y="3429000"/>
              <a:ext cx="1523880" cy="4572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098880" y="3505320"/>
              <a:ext cx="1333440" cy="3070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наблюдени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1" name=""/>
          <p:cNvGrpSpPr/>
          <p:nvPr/>
        </p:nvGrpSpPr>
        <p:grpSpPr>
          <a:xfrm>
            <a:off x="5029200" y="3429000"/>
            <a:ext cx="1523880" cy="457200"/>
            <a:chOff x="5029200" y="3429000"/>
            <a:chExt cx="1523880" cy="457200"/>
          </a:xfrm>
        </p:grpSpPr>
        <p:sp>
          <p:nvSpPr>
            <p:cNvPr id="472" name=""/>
            <p:cNvSpPr/>
            <p:nvPr/>
          </p:nvSpPr>
          <p:spPr>
            <a:xfrm>
              <a:off x="5029200" y="3429000"/>
              <a:ext cx="1523880" cy="4572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5156280" y="3505320"/>
              <a:ext cx="1333440" cy="3070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наблюдени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4" name=""/>
          <p:cNvGrpSpPr/>
          <p:nvPr/>
        </p:nvGrpSpPr>
        <p:grpSpPr>
          <a:xfrm>
            <a:off x="3352680" y="3886200"/>
            <a:ext cx="1447560" cy="2514600"/>
            <a:chOff x="3352680" y="3886200"/>
            <a:chExt cx="1447560" cy="2514600"/>
          </a:xfrm>
        </p:grpSpPr>
        <p:grpSp>
          <p:nvGrpSpPr>
            <p:cNvPr id="475" name=""/>
            <p:cNvGrpSpPr/>
            <p:nvPr/>
          </p:nvGrpSpPr>
          <p:grpSpPr>
            <a:xfrm>
              <a:off x="3581280" y="5791320"/>
              <a:ext cx="1218960" cy="609480"/>
              <a:chOff x="3581280" y="5791320"/>
              <a:chExt cx="1218960" cy="609480"/>
            </a:xfrm>
          </p:grpSpPr>
          <p:sp>
            <p:nvSpPr>
              <p:cNvPr id="476" name=""/>
              <p:cNvSpPr/>
              <p:nvPr/>
            </p:nvSpPr>
            <p:spPr>
              <a:xfrm>
                <a:off x="3581280" y="5791320"/>
                <a:ext cx="1218960" cy="6094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3657240" y="5791320"/>
                <a:ext cx="11430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Ролевые игры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8" name=""/>
            <p:cNvGrpSpPr/>
            <p:nvPr/>
          </p:nvGrpSpPr>
          <p:grpSpPr>
            <a:xfrm>
              <a:off x="3581280" y="4952880"/>
              <a:ext cx="1218960" cy="609480"/>
              <a:chOff x="3581280" y="4952880"/>
              <a:chExt cx="1218960" cy="609480"/>
            </a:xfrm>
          </p:grpSpPr>
          <p:sp>
            <p:nvSpPr>
              <p:cNvPr id="479" name=""/>
              <p:cNvSpPr/>
              <p:nvPr/>
            </p:nvSpPr>
            <p:spPr>
              <a:xfrm>
                <a:off x="3581280" y="4952880"/>
                <a:ext cx="1218960" cy="6094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3657240" y="4952880"/>
                <a:ext cx="11430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Круглый стол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1" name=""/>
            <p:cNvGrpSpPr/>
            <p:nvPr/>
          </p:nvGrpSpPr>
          <p:grpSpPr>
            <a:xfrm>
              <a:off x="3581280" y="4114800"/>
              <a:ext cx="1218960" cy="609480"/>
              <a:chOff x="3581280" y="4114800"/>
              <a:chExt cx="1218960" cy="609480"/>
            </a:xfrm>
          </p:grpSpPr>
          <p:sp>
            <p:nvSpPr>
              <p:cNvPr id="482" name=""/>
              <p:cNvSpPr/>
              <p:nvPr/>
            </p:nvSpPr>
            <p:spPr>
              <a:xfrm>
                <a:off x="3581280" y="4114800"/>
                <a:ext cx="1218960" cy="6094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3657240" y="4114800"/>
                <a:ext cx="11430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Мозговой штурм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3352680" y="3886200"/>
              <a:ext cx="0" cy="228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3352680" y="617220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3352680" y="441972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3352680" y="518148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8" name=""/>
          <p:cNvGrpSpPr/>
          <p:nvPr/>
        </p:nvGrpSpPr>
        <p:grpSpPr>
          <a:xfrm>
            <a:off x="5257800" y="3886200"/>
            <a:ext cx="1447560" cy="2514600"/>
            <a:chOff x="5257800" y="3886200"/>
            <a:chExt cx="1447560" cy="2514600"/>
          </a:xfrm>
        </p:grpSpPr>
        <p:grpSp>
          <p:nvGrpSpPr>
            <p:cNvPr id="489" name=""/>
            <p:cNvGrpSpPr/>
            <p:nvPr/>
          </p:nvGrpSpPr>
          <p:grpSpPr>
            <a:xfrm>
              <a:off x="5486400" y="5486400"/>
              <a:ext cx="1218960" cy="380880"/>
              <a:chOff x="5486400" y="5486400"/>
              <a:chExt cx="1218960" cy="380880"/>
            </a:xfrm>
          </p:grpSpPr>
          <p:sp>
            <p:nvSpPr>
              <p:cNvPr id="490" name=""/>
              <p:cNvSpPr/>
              <p:nvPr/>
            </p:nvSpPr>
            <p:spPr>
              <a:xfrm>
                <a:off x="5486400" y="5486400"/>
                <a:ext cx="1218960" cy="3808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5562360" y="5486400"/>
                <a:ext cx="1143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Диалог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2" name=""/>
            <p:cNvSpPr/>
            <p:nvPr/>
          </p:nvSpPr>
          <p:spPr>
            <a:xfrm>
              <a:off x="5486400" y="4876920"/>
              <a:ext cx="1218960" cy="380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562360" y="4876920"/>
              <a:ext cx="1143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Интервью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4" name=""/>
            <p:cNvGrpSpPr/>
            <p:nvPr/>
          </p:nvGrpSpPr>
          <p:grpSpPr>
            <a:xfrm>
              <a:off x="5486400" y="4191120"/>
              <a:ext cx="1218960" cy="380880"/>
              <a:chOff x="5486400" y="4191120"/>
              <a:chExt cx="1218960" cy="380880"/>
            </a:xfrm>
          </p:grpSpPr>
          <p:sp>
            <p:nvSpPr>
              <p:cNvPr id="495" name=""/>
              <p:cNvSpPr/>
              <p:nvPr/>
            </p:nvSpPr>
            <p:spPr>
              <a:xfrm>
                <a:off x="5486400" y="4191120"/>
                <a:ext cx="1218960" cy="3808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5562360" y="4191120"/>
                <a:ext cx="1143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ff0066"/>
                    </a:solidFill>
                    <a:latin typeface="Times New Roman"/>
                  </a:rPr>
                  <a:t>Анкетиров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7" name=""/>
            <p:cNvSpPr/>
            <p:nvPr/>
          </p:nvSpPr>
          <p:spPr>
            <a:xfrm>
              <a:off x="5257800" y="3886200"/>
              <a:ext cx="0" cy="228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5257800" y="617220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5257800" y="441972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5257800" y="510552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1" name=""/>
            <p:cNvGrpSpPr/>
            <p:nvPr/>
          </p:nvGrpSpPr>
          <p:grpSpPr>
            <a:xfrm>
              <a:off x="5486400" y="6019920"/>
              <a:ext cx="1218960" cy="380880"/>
              <a:chOff x="5486400" y="6019920"/>
              <a:chExt cx="1218960" cy="380880"/>
            </a:xfrm>
          </p:grpSpPr>
          <p:sp>
            <p:nvSpPr>
              <p:cNvPr id="502" name=""/>
              <p:cNvSpPr/>
              <p:nvPr/>
            </p:nvSpPr>
            <p:spPr>
              <a:xfrm>
                <a:off x="5486400" y="6019920"/>
                <a:ext cx="1218960" cy="3808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5562360" y="6019920"/>
                <a:ext cx="1143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Диалог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4" name=""/>
            <p:cNvSpPr/>
            <p:nvPr/>
          </p:nvSpPr>
          <p:spPr>
            <a:xfrm>
              <a:off x="5257800" y="563868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5" name=""/>
          <p:cNvSpPr/>
          <p:nvPr/>
        </p:nvSpPr>
        <p:spPr>
          <a:xfrm flipH="1">
            <a:off x="1371240" y="2286000"/>
            <a:ext cx="6858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3429000" y="2209680"/>
            <a:ext cx="8380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 flipH="1">
            <a:off x="3504960" y="1600200"/>
            <a:ext cx="5331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562720" y="1600200"/>
            <a:ext cx="167616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4114440" y="312408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105520" y="3124080"/>
            <a:ext cx="3808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ПРИОБРЕТЕНИЕ ЗНА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228600" y="685800"/>
            <a:ext cx="8610480" cy="57913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457200" y="838080"/>
            <a:ext cx="20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ОБЩАЯ СХЕМ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5486400" y="1219320"/>
            <a:ext cx="2895480" cy="41148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5867280" y="1819440"/>
            <a:ext cx="2286000" cy="7714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5867280" y="3019320"/>
            <a:ext cx="2210040" cy="8575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5867280" y="4219560"/>
            <a:ext cx="2286000" cy="8571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8" name=""/>
          <p:cNvGrpSpPr/>
          <p:nvPr/>
        </p:nvGrpSpPr>
        <p:grpSpPr>
          <a:xfrm>
            <a:off x="914400" y="3105000"/>
            <a:ext cx="1371240" cy="1285560"/>
            <a:chOff x="914400" y="3105000"/>
            <a:chExt cx="1371240" cy="1285560"/>
          </a:xfrm>
        </p:grpSpPr>
        <p:sp>
          <p:nvSpPr>
            <p:cNvPr id="519" name=""/>
            <p:cNvSpPr/>
            <p:nvPr/>
          </p:nvSpPr>
          <p:spPr>
            <a:xfrm>
              <a:off x="2043720" y="3105000"/>
              <a:ext cx="241920" cy="1285560"/>
            </a:xfrm>
            <a:custGeom>
              <a:avLst/>
              <a:gdLst>
                <a:gd name="textAreaLeft" fmla="*/ 0 w 241920"/>
                <a:gd name="textAreaRight" fmla="*/ 87480 w 241920"/>
                <a:gd name="textAreaTop" fmla="*/ 33480 h 1285560"/>
                <a:gd name="textAreaBottom" fmla="*/ 1252080 h 1285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914400" y="3105000"/>
              <a:ext cx="80640" cy="1285560"/>
            </a:xfrm>
            <a:custGeom>
              <a:avLst/>
              <a:gdLst>
                <a:gd name="textAreaLeft" fmla="*/ 51480 w 80640"/>
                <a:gd name="textAreaRight" fmla="*/ 81000 w 80640"/>
                <a:gd name="textAreaTop" fmla="*/ 33480 h 1285560"/>
                <a:gd name="textAreaBottom" fmla="*/ 1252080 h 1285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995040" y="3190680"/>
              <a:ext cx="1210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ЭКСПЕРТ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914400" y="3619080"/>
              <a:ext cx="1371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ИСТОЧНИК ЗНАНИЙ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3" name=""/>
          <p:cNvSpPr/>
          <p:nvPr/>
        </p:nvSpPr>
        <p:spPr>
          <a:xfrm flipV="1">
            <a:off x="2438280" y="3018960"/>
            <a:ext cx="685800" cy="685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2438280" y="3705120"/>
            <a:ext cx="685800" cy="7714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3048120" y="3105000"/>
            <a:ext cx="24382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3048120" y="4476600"/>
            <a:ext cx="28191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 flipV="1">
            <a:off x="5562720" y="2418840"/>
            <a:ext cx="3045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5562720" y="3105000"/>
            <a:ext cx="304560" cy="428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5943600" y="2076480"/>
            <a:ext cx="20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ИТНТЕРПРЕТАТОР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6019920" y="3191040"/>
            <a:ext cx="2057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ЗНАНИЯ О ПРЕДСТАВЛЕНИ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6095880" y="447660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БАЗА ЗНАНИ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2743200" y="3533760"/>
            <a:ext cx="228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3048120" y="2162160"/>
            <a:ext cx="19810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ИНЖЕНЕР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КОГНИТОЛОГ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3124080" y="301932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4038480" y="361944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4038480" y="3619440"/>
            <a:ext cx="0" cy="85716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4648320" y="370512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II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3962520" y="319104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I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ПРИОБРЕТЕНИЕ ЗНА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304920" y="762120"/>
            <a:ext cx="8610480" cy="57909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ПРИОБРЕТЕНИЕ ЗНА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304920" y="762120"/>
            <a:ext cx="8610480" cy="57909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ПРЕДСТАВЛЕНИЕ ЗНА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304920" y="762120"/>
            <a:ext cx="8610480" cy="57909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457200" y="838080"/>
            <a:ext cx="289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СЕМАНТИЧЕСКИЕ СЕТ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2514600" y="3581280"/>
            <a:ext cx="22860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1371600" y="3886200"/>
            <a:ext cx="22860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3581280" y="3429000"/>
            <a:ext cx="22860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4648320" y="4343400"/>
            <a:ext cx="22860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2590920" y="4648320"/>
            <a:ext cx="22860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2362320" y="5638680"/>
            <a:ext cx="22860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3276720" y="5638680"/>
            <a:ext cx="22860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4876920" y="5638680"/>
            <a:ext cx="22860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4114800" y="5638680"/>
            <a:ext cx="22860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04920" y="685800"/>
            <a:ext cx="8610480" cy="6095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343400" y="838080"/>
            <a:ext cx="4419720" cy="266724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934320" y="3505320"/>
            <a:ext cx="1981080" cy="18288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724280" y="3276720"/>
            <a:ext cx="2133720" cy="335268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523880" y="3352680"/>
            <a:ext cx="2514600" cy="2514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62120" y="838080"/>
            <a:ext cx="3276360" cy="30481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ПРЕДСТАВЛЕНИЕ ЗНА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105520" y="3809880"/>
            <a:ext cx="1143000" cy="23623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257800" y="3962520"/>
            <a:ext cx="1143000" cy="2361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057400" y="3886200"/>
            <a:ext cx="1447920" cy="1143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209680" y="4038480"/>
            <a:ext cx="1447920" cy="11430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371600" y="1447920"/>
            <a:ext cx="2209680" cy="1523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3880" y="1600200"/>
            <a:ext cx="2210040" cy="15238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876920" y="1219320"/>
            <a:ext cx="3200400" cy="1981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029200" y="1371600"/>
            <a:ext cx="3200400" cy="19810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429000" y="2286000"/>
            <a:ext cx="2133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666880" y="2819520"/>
            <a:ext cx="0" cy="1676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048120" y="2819520"/>
            <a:ext cx="2666880" cy="236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123720" y="2971800"/>
            <a:ext cx="266724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086600" y="4114800"/>
            <a:ext cx="1600200" cy="609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238880" y="4267080"/>
            <a:ext cx="1600200" cy="6098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58000" y="2590920"/>
            <a:ext cx="1066680" cy="175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715000" y="45720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666880" y="4952880"/>
            <a:ext cx="99072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1066680" y="4572000"/>
            <a:ext cx="106704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9480" y="617220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ЭКЗЕМПЛЯР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657600" y="6248520"/>
            <a:ext cx="99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КЛАСС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629400" y="56386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781680" y="6172200"/>
            <a:ext cx="1905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ОБЛАСТЬ ИНТЕРПРЕТАЦИ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752480" y="198108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МОДЕЛЬ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543800" y="44197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МОДЕЛЬ 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362320" y="457200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МОДЕЛЬ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95880" y="175248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МОДЕЛЬ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257800" y="53341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МОДЕЛЬ 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ПРЕДСТАВЛЕНИЕ ЗНА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04920" y="762120"/>
            <a:ext cx="8610480" cy="57909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95480" y="1066680"/>
            <a:ext cx="3581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КЛАССИФИКАЦИЯ МОДЕЛЕЙ ЗНАНИ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295280" y="3505320"/>
            <a:ext cx="2133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ФУНКЦИОНАЛЬНЫЕ КЛАСС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238880" y="2362320"/>
            <a:ext cx="15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ФРЕЙМОВЫ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114800" y="31240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СЕТЕВЫ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33520" y="2590920"/>
            <a:ext cx="358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ЛОГИКО-ЛИГВИСТИЧЕСКИ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00400"/>
            <a:ext cx="21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ПРОДУКЦИОННЫ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4495680"/>
            <a:ext cx="2514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СИНТАГМАТИЧЕСКИЕ ЦЕП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219320" y="5334120"/>
            <a:ext cx="21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RX-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КОД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914400" y="2971800"/>
            <a:ext cx="0" cy="3200400"/>
          </a:xfrm>
          <a:prstGeom prst="line">
            <a:avLst/>
          </a:prstGeom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914400" y="3733920"/>
            <a:ext cx="457200" cy="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4648320"/>
            <a:ext cx="457200" cy="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5486400"/>
            <a:ext cx="914400" cy="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1904760" y="1447920"/>
            <a:ext cx="1904760" cy="106668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0" y="1447920"/>
            <a:ext cx="0" cy="152388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029200" y="1447920"/>
            <a:ext cx="1600200" cy="160020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791320" y="1447920"/>
            <a:ext cx="1447560" cy="91440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ПРЕДСТАВЛЕНИЕ ЗНА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04920" y="762120"/>
            <a:ext cx="8610480" cy="57909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828800" y="838080"/>
            <a:ext cx="472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ФУНКЦИОНАЛЬНЫЕ КЛАСС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685800" y="1295280"/>
            <a:ext cx="2743200" cy="3200400"/>
            <a:chOff x="685800" y="1295280"/>
            <a:chExt cx="2743200" cy="3200400"/>
          </a:xfrm>
        </p:grpSpPr>
        <p:sp>
          <p:nvSpPr>
            <p:cNvPr id="116" name=""/>
            <p:cNvSpPr/>
            <p:nvPr/>
          </p:nvSpPr>
          <p:spPr>
            <a:xfrm>
              <a:off x="685800" y="1295280"/>
              <a:ext cx="1143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ПОНЯТИЯ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1828800"/>
              <a:ext cx="1143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ИМЕНА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14400" y="1981080"/>
              <a:ext cx="1143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ОБЪЕКТЫ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914400" y="3048120"/>
              <a:ext cx="1371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ПРОЦЕССЫ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838080" y="4038480"/>
              <a:ext cx="1371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ОСТОЯНИЯ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62120" y="1676520"/>
              <a:ext cx="0" cy="2819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62120" y="22096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62120" y="32004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62120" y="419112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380880" y="4343400"/>
            <a:ext cx="8229600" cy="2135880"/>
            <a:chOff x="380880" y="4343400"/>
            <a:chExt cx="8229600" cy="2135880"/>
          </a:xfrm>
        </p:grpSpPr>
        <p:sp>
          <p:nvSpPr>
            <p:cNvPr id="126" name=""/>
            <p:cNvSpPr/>
            <p:nvPr/>
          </p:nvSpPr>
          <p:spPr>
            <a:xfrm>
              <a:off x="2819520" y="4343400"/>
              <a:ext cx="1447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ОТНОШЕНИЯ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724280" y="5791320"/>
              <a:ext cx="24386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ИДЕНТИФИКАЦИОННЫ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48120" y="6172200"/>
              <a:ext cx="2514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КЛАССИФИКАЦИОННЫ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133720" y="579132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ДИНАМИЧЕСКИ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838080" y="5334120"/>
              <a:ext cx="228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ПРОСТРАНСТВЕННЫ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80880" y="4876920"/>
              <a:ext cx="152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ВРЕМЕННЫ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24480" y="4952880"/>
              <a:ext cx="22860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ПРИЧИННО-СЛЕДСТВЕННЫ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638680" y="5410080"/>
              <a:ext cx="228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ПРАГМАТИЧЕСКИ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1828800" y="4648320"/>
              <a:ext cx="990720" cy="38088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2514240" y="4724280"/>
              <a:ext cx="685800" cy="53352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flipH="1">
              <a:off x="3352680" y="4724280"/>
              <a:ext cx="152640" cy="99072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809880" y="4876920"/>
              <a:ext cx="152640" cy="121896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962520" y="4724280"/>
              <a:ext cx="990360" cy="99072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267080" y="4648320"/>
              <a:ext cx="1600200" cy="6858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267080" y="4572000"/>
              <a:ext cx="2438640" cy="53352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1" name=""/>
          <p:cNvSpPr/>
          <p:nvPr/>
        </p:nvSpPr>
        <p:spPr>
          <a:xfrm flipH="1">
            <a:off x="1828800" y="1066680"/>
            <a:ext cx="990720" cy="38124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2895120" y="1143000"/>
            <a:ext cx="304920" cy="68580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581280" y="1295280"/>
            <a:ext cx="0" cy="289584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800600" y="1219320"/>
            <a:ext cx="1676520" cy="190476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029200" y="1219320"/>
            <a:ext cx="1523880" cy="106668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224760" y="3276720"/>
            <a:ext cx="200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МОДИФИКАТОР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324480" y="144792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ИМПЕРАТИВ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248520" y="2362320"/>
            <a:ext cx="2646360" cy="7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КВАНТИФИКАТОРЫ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КАЧЕСТВЕННЫ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КОЛИЧЕСТВЕННЫ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257800" y="1143000"/>
            <a:ext cx="1122480" cy="38088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3657600"/>
            <a:ext cx="200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МОДАЛЬНОСТ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648320" y="3886200"/>
            <a:ext cx="200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ОЦЕНК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495680" y="1219320"/>
            <a:ext cx="1371600" cy="243828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343400" y="1371600"/>
            <a:ext cx="685800" cy="243828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ПРЕДСТАВЛЕНИЕ ЗНА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28600" y="838080"/>
            <a:ext cx="8610480" cy="57913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" y="838080"/>
            <a:ext cx="289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СИНТАГМАТИЧЕСКИЕ ЦЕП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286000" y="2362320"/>
            <a:ext cx="45720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248520" y="2438280"/>
            <a:ext cx="45720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743200" y="2590920"/>
            <a:ext cx="3505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057400" y="144792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А)СИНТАГМ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33520" y="2133720"/>
            <a:ext cx="1676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Понятие или имя с квантификаторами, модификаторами или оценк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2682720"/>
            <a:ext cx="2514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Times New Roman"/>
              </a:rPr>
              <a:t>Отношениме или императив с квантификаторами, модификаторами, модальностями  или оценк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934320" y="2057400"/>
            <a:ext cx="1676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Понятие или имя с квантификаторами, модификаторами или оценк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05120" y="3200400"/>
            <a:ext cx="1218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962520" y="1828800"/>
            <a:ext cx="1218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248520" y="3048120"/>
            <a:ext cx="1218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1600200" y="3809880"/>
            <a:ext cx="5790960" cy="2438640"/>
            <a:chOff x="1600200" y="3809880"/>
            <a:chExt cx="5790960" cy="2438640"/>
          </a:xfrm>
        </p:grpSpPr>
        <p:grpSp>
          <p:nvGrpSpPr>
            <p:cNvPr id="168" name=""/>
            <p:cNvGrpSpPr/>
            <p:nvPr/>
          </p:nvGrpSpPr>
          <p:grpSpPr>
            <a:xfrm>
              <a:off x="1600200" y="4387680"/>
              <a:ext cx="1523880" cy="1860840"/>
              <a:chOff x="1600200" y="4387680"/>
              <a:chExt cx="1523880" cy="18608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1600200" y="4387680"/>
                <a:ext cx="1523880" cy="489240"/>
                <a:chOff x="1600200" y="4387680"/>
                <a:chExt cx="1523880" cy="489240"/>
              </a:xfrm>
            </p:grpSpPr>
            <p:grpSp>
              <p:nvGrpSpPr>
                <p:cNvPr id="170" name=""/>
                <p:cNvGrpSpPr/>
                <p:nvPr/>
              </p:nvGrpSpPr>
              <p:grpSpPr>
                <a:xfrm>
                  <a:off x="1828800" y="4724280"/>
                  <a:ext cx="990720" cy="152640"/>
                  <a:chOff x="1828800" y="4724280"/>
                  <a:chExt cx="990720" cy="152640"/>
                </a:xfrm>
              </p:grpSpPr>
              <p:sp>
                <p:nvSpPr>
                  <p:cNvPr id="171" name=""/>
                  <p:cNvSpPr/>
                  <p:nvPr/>
                </p:nvSpPr>
                <p:spPr>
                  <a:xfrm>
                    <a:off x="1828800" y="4724280"/>
                    <a:ext cx="152280" cy="15264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2666880" y="4724280"/>
                    <a:ext cx="152640" cy="15264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3" name=""/>
                  <p:cNvSpPr/>
                  <p:nvPr/>
                </p:nvSpPr>
                <p:spPr>
                  <a:xfrm>
                    <a:off x="1905120" y="4800600"/>
                    <a:ext cx="7617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74" name=""/>
                <p:cNvSpPr/>
                <p:nvPr/>
              </p:nvSpPr>
              <p:spPr>
                <a:xfrm>
                  <a:off x="1600200" y="4387680"/>
                  <a:ext cx="38088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</a:rPr>
                    <a:t>b</a:t>
                  </a:r>
                  <a:r>
                    <a:rPr b="1" lang="en-US" sz="16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2209680" y="4419720"/>
                  <a:ext cx="38124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</a:rPr>
                    <a:t>r</a:t>
                  </a:r>
                  <a:r>
                    <a:rPr b="1" lang="en-US" sz="16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2743200" y="4419720"/>
                  <a:ext cx="38088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</a:rPr>
                    <a:t>b</a:t>
                  </a:r>
                  <a:r>
                    <a:rPr b="1" lang="en-US" sz="16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7" name=""/>
              <p:cNvGrpSpPr/>
              <p:nvPr/>
            </p:nvGrpSpPr>
            <p:grpSpPr>
              <a:xfrm>
                <a:off x="1600200" y="4844880"/>
                <a:ext cx="1523880" cy="489240"/>
                <a:chOff x="1600200" y="4844880"/>
                <a:chExt cx="1523880" cy="489240"/>
              </a:xfrm>
            </p:grpSpPr>
            <p:grpSp>
              <p:nvGrpSpPr>
                <p:cNvPr id="178" name=""/>
                <p:cNvGrpSpPr/>
                <p:nvPr/>
              </p:nvGrpSpPr>
              <p:grpSpPr>
                <a:xfrm>
                  <a:off x="1828800" y="5181480"/>
                  <a:ext cx="990720" cy="152640"/>
                  <a:chOff x="1828800" y="5181480"/>
                  <a:chExt cx="990720" cy="152640"/>
                </a:xfrm>
              </p:grpSpPr>
              <p:sp>
                <p:nvSpPr>
                  <p:cNvPr id="179" name=""/>
                  <p:cNvSpPr/>
                  <p:nvPr/>
                </p:nvSpPr>
                <p:spPr>
                  <a:xfrm>
                    <a:off x="1828800" y="5181480"/>
                    <a:ext cx="152280" cy="15264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0" name=""/>
                  <p:cNvSpPr/>
                  <p:nvPr/>
                </p:nvSpPr>
                <p:spPr>
                  <a:xfrm>
                    <a:off x="2666880" y="5181480"/>
                    <a:ext cx="152640" cy="15264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1" name=""/>
                  <p:cNvSpPr/>
                  <p:nvPr/>
                </p:nvSpPr>
                <p:spPr>
                  <a:xfrm>
                    <a:off x="1905120" y="5257800"/>
                    <a:ext cx="7617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82" name=""/>
                <p:cNvSpPr/>
                <p:nvPr/>
              </p:nvSpPr>
              <p:spPr>
                <a:xfrm>
                  <a:off x="1600200" y="4844880"/>
                  <a:ext cx="38088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</a:rPr>
                    <a:t>b</a:t>
                  </a:r>
                  <a:r>
                    <a:rPr b="1" lang="en-US" sz="16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2209680" y="4876920"/>
                  <a:ext cx="38124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</a:rPr>
                    <a:t>r</a:t>
                  </a:r>
                  <a:r>
                    <a:rPr b="1" lang="en-US" sz="16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2743200" y="4876920"/>
                  <a:ext cx="38088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</a:rPr>
                    <a:t>b</a:t>
                  </a:r>
                  <a:r>
                    <a:rPr b="1" lang="en-US" sz="16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1600200" y="5302080"/>
                <a:ext cx="1523880" cy="489240"/>
                <a:chOff x="1600200" y="5302080"/>
                <a:chExt cx="1523880" cy="489240"/>
              </a:xfrm>
            </p:grpSpPr>
            <p:grpSp>
              <p:nvGrpSpPr>
                <p:cNvPr id="186" name=""/>
                <p:cNvGrpSpPr/>
                <p:nvPr/>
              </p:nvGrpSpPr>
              <p:grpSpPr>
                <a:xfrm>
                  <a:off x="1828800" y="5638680"/>
                  <a:ext cx="990720" cy="152640"/>
                  <a:chOff x="1828800" y="5638680"/>
                  <a:chExt cx="990720" cy="152640"/>
                </a:xfrm>
              </p:grpSpPr>
              <p:sp>
                <p:nvSpPr>
                  <p:cNvPr id="187" name=""/>
                  <p:cNvSpPr/>
                  <p:nvPr/>
                </p:nvSpPr>
                <p:spPr>
                  <a:xfrm>
                    <a:off x="1828800" y="5638680"/>
                    <a:ext cx="152280" cy="15264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8" name=""/>
                  <p:cNvSpPr/>
                  <p:nvPr/>
                </p:nvSpPr>
                <p:spPr>
                  <a:xfrm>
                    <a:off x="2666880" y="5638680"/>
                    <a:ext cx="152640" cy="15264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9" name=""/>
                  <p:cNvSpPr/>
                  <p:nvPr/>
                </p:nvSpPr>
                <p:spPr>
                  <a:xfrm>
                    <a:off x="1905120" y="5715000"/>
                    <a:ext cx="7617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90" name=""/>
                <p:cNvSpPr/>
                <p:nvPr/>
              </p:nvSpPr>
              <p:spPr>
                <a:xfrm>
                  <a:off x="1600200" y="5302080"/>
                  <a:ext cx="38088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</a:rPr>
                    <a:t>b</a:t>
                  </a:r>
                  <a:r>
                    <a:rPr b="1" lang="en-US" sz="16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2209680" y="5334120"/>
                  <a:ext cx="38124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</a:rPr>
                    <a:t>r</a:t>
                  </a:r>
                  <a:r>
                    <a:rPr b="1" lang="en-US" sz="16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2743200" y="5334120"/>
                  <a:ext cx="38088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</a:rPr>
                    <a:t>b</a:t>
                  </a:r>
                  <a:r>
                    <a:rPr b="1" lang="en-US" sz="16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4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3" name=""/>
              <p:cNvGrpSpPr/>
              <p:nvPr/>
            </p:nvGrpSpPr>
            <p:grpSpPr>
              <a:xfrm>
                <a:off x="1600200" y="5759280"/>
                <a:ext cx="1523880" cy="489240"/>
                <a:chOff x="1600200" y="5759280"/>
                <a:chExt cx="1523880" cy="489240"/>
              </a:xfrm>
            </p:grpSpPr>
            <p:grpSp>
              <p:nvGrpSpPr>
                <p:cNvPr id="194" name=""/>
                <p:cNvGrpSpPr/>
                <p:nvPr/>
              </p:nvGrpSpPr>
              <p:grpSpPr>
                <a:xfrm>
                  <a:off x="1828800" y="6095880"/>
                  <a:ext cx="990720" cy="152640"/>
                  <a:chOff x="1828800" y="6095880"/>
                  <a:chExt cx="990720" cy="152640"/>
                </a:xfrm>
              </p:grpSpPr>
              <p:sp>
                <p:nvSpPr>
                  <p:cNvPr id="195" name=""/>
                  <p:cNvSpPr/>
                  <p:nvPr/>
                </p:nvSpPr>
                <p:spPr>
                  <a:xfrm>
                    <a:off x="1828800" y="6095880"/>
                    <a:ext cx="152280" cy="15264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6" name=""/>
                  <p:cNvSpPr/>
                  <p:nvPr/>
                </p:nvSpPr>
                <p:spPr>
                  <a:xfrm>
                    <a:off x="2666880" y="6095880"/>
                    <a:ext cx="152640" cy="15264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7" name=""/>
                  <p:cNvSpPr/>
                  <p:nvPr/>
                </p:nvSpPr>
                <p:spPr>
                  <a:xfrm>
                    <a:off x="1905120" y="6172200"/>
                    <a:ext cx="7617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98" name=""/>
                <p:cNvSpPr/>
                <p:nvPr/>
              </p:nvSpPr>
              <p:spPr>
                <a:xfrm>
                  <a:off x="1600200" y="5759280"/>
                  <a:ext cx="38088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</a:rPr>
                    <a:t>b</a:t>
                  </a:r>
                  <a:r>
                    <a:rPr b="1" lang="en-US" sz="16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2209680" y="5791320"/>
                  <a:ext cx="38124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</a:rPr>
                    <a:t>r</a:t>
                  </a:r>
                  <a:r>
                    <a:rPr b="1" lang="en-US" sz="16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4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2743200" y="5791320"/>
                  <a:ext cx="38088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</a:rPr>
                    <a:t>b</a:t>
                  </a:r>
                  <a:r>
                    <a:rPr b="1" lang="en-US" sz="16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4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1" name=""/>
            <p:cNvGrpSpPr/>
            <p:nvPr/>
          </p:nvGrpSpPr>
          <p:grpSpPr>
            <a:xfrm>
              <a:off x="4952880" y="4495680"/>
              <a:ext cx="2438280" cy="1371240"/>
              <a:chOff x="4952880" y="4495680"/>
              <a:chExt cx="2438280" cy="1371240"/>
            </a:xfrm>
          </p:grpSpPr>
          <p:grpSp>
            <p:nvGrpSpPr>
              <p:cNvPr id="202" name=""/>
              <p:cNvGrpSpPr/>
              <p:nvPr/>
            </p:nvGrpSpPr>
            <p:grpSpPr>
              <a:xfrm>
                <a:off x="4952880" y="4495680"/>
                <a:ext cx="1572120" cy="585720"/>
                <a:chOff x="4952880" y="4495680"/>
                <a:chExt cx="1572120" cy="585720"/>
              </a:xfrm>
            </p:grpSpPr>
            <p:grpSp>
              <p:nvGrpSpPr>
                <p:cNvPr id="203" name=""/>
                <p:cNvGrpSpPr/>
                <p:nvPr/>
              </p:nvGrpSpPr>
              <p:grpSpPr>
                <a:xfrm>
                  <a:off x="5188680" y="4898880"/>
                  <a:ext cx="1022040" cy="182520"/>
                  <a:chOff x="5188680" y="4898880"/>
                  <a:chExt cx="1022040" cy="182520"/>
                </a:xfrm>
              </p:grpSpPr>
              <p:sp>
                <p:nvSpPr>
                  <p:cNvPr id="204" name=""/>
                  <p:cNvSpPr/>
                  <p:nvPr/>
                </p:nvSpPr>
                <p:spPr>
                  <a:xfrm>
                    <a:off x="5188680" y="4898880"/>
                    <a:ext cx="156960" cy="18252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5" name=""/>
                  <p:cNvSpPr/>
                  <p:nvPr/>
                </p:nvSpPr>
                <p:spPr>
                  <a:xfrm>
                    <a:off x="6053400" y="4898880"/>
                    <a:ext cx="157320" cy="18252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6" name=""/>
                  <p:cNvSpPr/>
                  <p:nvPr/>
                </p:nvSpPr>
                <p:spPr>
                  <a:xfrm>
                    <a:off x="5267160" y="4989960"/>
                    <a:ext cx="7858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7" name=""/>
                <p:cNvSpPr/>
                <p:nvPr/>
              </p:nvSpPr>
              <p:spPr>
                <a:xfrm>
                  <a:off x="4952880" y="4495680"/>
                  <a:ext cx="39276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b</a:t>
                  </a:r>
                  <a:r>
                    <a:rPr b="0" lang="en-US" sz="16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5581800" y="4533840"/>
                  <a:ext cx="39348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r</a:t>
                  </a:r>
                  <a:r>
                    <a:rPr b="0" lang="en-US" sz="16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6132240" y="4533840"/>
                  <a:ext cx="392760" cy="33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6053760" y="4899240"/>
                <a:ext cx="1022040" cy="182160"/>
                <a:chOff x="6053760" y="4899240"/>
                <a:chExt cx="1022040" cy="18216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6053760" y="4899240"/>
                  <a:ext cx="156960" cy="182160"/>
                </a:xfrm>
                <a:prstGeom prst="ellipse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6918480" y="4899240"/>
                  <a:ext cx="157320" cy="182160"/>
                </a:xfrm>
                <a:prstGeom prst="ellipse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6132240" y="4990320"/>
                  <a:ext cx="785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4" name=""/>
              <p:cNvSpPr/>
              <p:nvPr/>
            </p:nvSpPr>
            <p:spPr>
              <a:xfrm>
                <a:off x="5975280" y="4495680"/>
                <a:ext cx="39312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r>
                  <a:rPr b="0" lang="en-US" sz="16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6447240" y="4533480"/>
                <a:ext cx="39312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0" lang="en-US" sz="16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6997680" y="4533480"/>
                <a:ext cx="39348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r>
                  <a:rPr b="0" lang="en-US" sz="1600" spc="-1" strike="noStrike" baseline="-25000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5365800" y="5130360"/>
                <a:ext cx="966960" cy="604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1921200">
                <a:off x="5834880" y="5123520"/>
                <a:ext cx="56988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0" lang="en-US" sz="1600" spc="-1" strike="noStrike" baseline="-25000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6289920" y="5684400"/>
                <a:ext cx="157320" cy="18252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H="1">
                <a:off x="6447240" y="5043960"/>
                <a:ext cx="550080" cy="73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6761880" y="5318280"/>
                <a:ext cx="55044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2" name=""/>
            <p:cNvSpPr/>
            <p:nvPr/>
          </p:nvSpPr>
          <p:spPr>
            <a:xfrm>
              <a:off x="3200400" y="3809880"/>
              <a:ext cx="2666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ОПИСАНИЕ СИТУАЦИИ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514600" y="4114800"/>
              <a:ext cx="1371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БАЗИС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952880" y="4114800"/>
              <a:ext cx="167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ТРУКТУРА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ПРЕДСТАВЛЕНИЕ ЗНА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04920" y="762120"/>
            <a:ext cx="8610480" cy="57909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57200" y="838080"/>
            <a:ext cx="449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ФАЗОВАЯ СТРУКТУРА ЗНАНИ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914400" y="5638680"/>
            <a:ext cx="7543800" cy="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914400" y="4648320"/>
            <a:ext cx="14172480" cy="198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H="1">
            <a:off x="914400" y="4114800"/>
            <a:ext cx="14172480" cy="3047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914400" y="3505320"/>
            <a:ext cx="14172480" cy="4266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H="1">
            <a:off x="914400" y="2590920"/>
            <a:ext cx="14172480" cy="6095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914400" y="1447920"/>
            <a:ext cx="14172480" cy="8381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200400" y="5105520"/>
            <a:ext cx="32004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ДОТЕОРЕТИЧЕСКАЯ ФАЗА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{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П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j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rot="20688600">
            <a:off x="3128400" y="2421720"/>
            <a:ext cx="2971800" cy="43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формальные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S({Th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q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})</a:t>
            </a:r>
            <a:r>
              <a:rPr b="1" lang="ru-RU" sz="1800" spc="-1" strike="noStrike">
                <a:solidFill>
                  <a:srgbClr val="ff0066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rot="20889600">
            <a:off x="2955240" y="3163680"/>
            <a:ext cx="5126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Times New Roman"/>
              </a:rPr>
              <a:t>идентификационно–измерительная 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S({Th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k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}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rot="21114600">
            <a:off x="3126960" y="3747600"/>
            <a:ext cx="3560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Times New Roman"/>
              </a:rPr>
              <a:t>классификационная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S({K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</a:t>
            </a:r>
            <a:r>
              <a:rPr b="1" lang="ru-RU" sz="1800" spc="-1" strike="noStrike">
                <a:solidFill>
                  <a:srgbClr val="ff0066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rot="21204600">
            <a:off x="3202560" y="4266720"/>
            <a:ext cx="2971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Times New Roman"/>
              </a:rPr>
              <a:t>описательная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 S({T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k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})</a:t>
            </a:r>
            <a:r>
              <a:rPr b="1" lang="ru-RU" sz="1800" spc="-1" strike="noStrike">
                <a:solidFill>
                  <a:srgbClr val="ff0066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620120" y="990720"/>
            <a:ext cx="0" cy="4876560"/>
          </a:xfrm>
          <a:prstGeom prst="line">
            <a:avLst/>
          </a:prstGeom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8381880" y="57150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315200" y="5715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Times New Roman"/>
              </a:rPr>
              <a:t>t</a:t>
            </a:r>
            <a:r>
              <a:rPr b="0" lang="en-US" sz="18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32880" y="1600200"/>
            <a:ext cx="473040" cy="330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М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О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Д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Ь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Н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ПРЕДСТАВЛЕНИЕ ЗНА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28600" y="838080"/>
            <a:ext cx="8610480" cy="57913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57200" y="838080"/>
            <a:ext cx="289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КЛАСИФИКАЦИ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3048120" y="1295280"/>
            <a:ext cx="3429000" cy="1447920"/>
            <a:chOff x="3048120" y="1295280"/>
            <a:chExt cx="3429000" cy="1447920"/>
          </a:xfrm>
        </p:grpSpPr>
        <p:sp>
          <p:nvSpPr>
            <p:cNvPr id="247" name=""/>
            <p:cNvSpPr/>
            <p:nvPr/>
          </p:nvSpPr>
          <p:spPr>
            <a:xfrm>
              <a:off x="3809880" y="1905120"/>
              <a:ext cx="22860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495680" y="1295280"/>
              <a:ext cx="228600" cy="1526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876920" y="2590920"/>
              <a:ext cx="22860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248520" y="2590920"/>
              <a:ext cx="22860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334120" y="1905120"/>
              <a:ext cx="22860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048120" y="2590920"/>
              <a:ext cx="22860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962520" y="2590920"/>
              <a:ext cx="22860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486400" y="2590920"/>
              <a:ext cx="22860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 flipH="1">
              <a:off x="3962160" y="1447920"/>
              <a:ext cx="609480" cy="4572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648320" y="1447920"/>
              <a:ext cx="761760" cy="4572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 flipH="1">
              <a:off x="3200040" y="1981080"/>
              <a:ext cx="609480" cy="6098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886200" y="2057400"/>
              <a:ext cx="228600" cy="53352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 flipH="1">
              <a:off x="5029200" y="2057400"/>
              <a:ext cx="380880" cy="53352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486400" y="2057400"/>
              <a:ext cx="76320" cy="53352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562720" y="1981080"/>
              <a:ext cx="838080" cy="6858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2" name=""/>
          <p:cNvSpPr/>
          <p:nvPr/>
        </p:nvSpPr>
        <p:spPr>
          <a:xfrm>
            <a:off x="762120" y="1447920"/>
            <a:ext cx="15238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Естественные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Искусственны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095880" y="1828800"/>
            <a:ext cx="2667240" cy="3049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V="1">
            <a:off x="7391520" y="1828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867280" y="914400"/>
            <a:ext cx="16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Признак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486400" y="129528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ифференциальнеы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553080" y="1600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086600" y="259092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интегральны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7086600" y="2133720"/>
            <a:ext cx="3049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H="1">
            <a:off x="7695720" y="2133720"/>
            <a:ext cx="2286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066680" y="3276720"/>
            <a:ext cx="266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Системы классификаци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1219320" y="4267080"/>
            <a:ext cx="1218600" cy="1142640"/>
            <a:chOff x="1219320" y="4267080"/>
            <a:chExt cx="1218600" cy="1142640"/>
          </a:xfrm>
        </p:grpSpPr>
        <p:sp>
          <p:nvSpPr>
            <p:cNvPr id="273" name=""/>
            <p:cNvSpPr/>
            <p:nvPr/>
          </p:nvSpPr>
          <p:spPr>
            <a:xfrm>
              <a:off x="1490040" y="4748400"/>
              <a:ext cx="81000" cy="119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733760" y="4267080"/>
              <a:ext cx="81000" cy="1202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869480" y="5289840"/>
              <a:ext cx="81000" cy="119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356920" y="5289840"/>
              <a:ext cx="81000" cy="119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031840" y="4748400"/>
              <a:ext cx="81000" cy="119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219320" y="5289840"/>
              <a:ext cx="81000" cy="119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544400" y="5289840"/>
              <a:ext cx="81000" cy="119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086200" y="5289840"/>
              <a:ext cx="81000" cy="119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>
              <a:off x="1544040" y="4387320"/>
              <a:ext cx="216360" cy="36072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788120" y="4387320"/>
              <a:ext cx="270720" cy="36072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flipH="1">
              <a:off x="1272960" y="4808160"/>
              <a:ext cx="216360" cy="48132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1517040" y="4868640"/>
              <a:ext cx="81000" cy="4208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H="1">
              <a:off x="1923480" y="4868640"/>
              <a:ext cx="135360" cy="4208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086200" y="4868640"/>
              <a:ext cx="27000" cy="4208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113200" y="4808160"/>
              <a:ext cx="297720" cy="54108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8" name=""/>
          <p:cNvGrpSpPr/>
          <p:nvPr/>
        </p:nvGrpSpPr>
        <p:grpSpPr>
          <a:xfrm>
            <a:off x="2819520" y="4267080"/>
            <a:ext cx="1218960" cy="1143000"/>
            <a:chOff x="2819520" y="4267080"/>
            <a:chExt cx="1218960" cy="1143000"/>
          </a:xfrm>
        </p:grpSpPr>
        <p:sp>
          <p:nvSpPr>
            <p:cNvPr id="289" name=""/>
            <p:cNvSpPr/>
            <p:nvPr/>
          </p:nvSpPr>
          <p:spPr>
            <a:xfrm>
              <a:off x="3090960" y="4748040"/>
              <a:ext cx="81000" cy="1209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333600" y="4267080"/>
              <a:ext cx="81000" cy="1206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470400" y="5289480"/>
              <a:ext cx="81000" cy="1206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957480" y="5289480"/>
              <a:ext cx="81000" cy="1206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632040" y="4748040"/>
              <a:ext cx="81000" cy="1209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819520" y="5289480"/>
              <a:ext cx="81000" cy="1206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144960" y="5289480"/>
              <a:ext cx="81000" cy="1206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 flipH="1">
              <a:off x="3144600" y="4387680"/>
              <a:ext cx="215640" cy="36036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387600" y="4387680"/>
              <a:ext cx="271440" cy="36036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 flipH="1">
              <a:off x="2873520" y="4808520"/>
              <a:ext cx="217440" cy="48096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117960" y="4869000"/>
              <a:ext cx="81000" cy="42048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H="1">
              <a:off x="3524400" y="4869000"/>
              <a:ext cx="134640" cy="42048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713040" y="4808520"/>
              <a:ext cx="298440" cy="5414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2" name=""/>
          <p:cNvGrpSpPr/>
          <p:nvPr/>
        </p:nvGrpSpPr>
        <p:grpSpPr>
          <a:xfrm>
            <a:off x="7086600" y="4114800"/>
            <a:ext cx="1528920" cy="1187280"/>
            <a:chOff x="7086600" y="4114800"/>
            <a:chExt cx="1528920" cy="1187280"/>
          </a:xfrm>
        </p:grpSpPr>
        <p:sp>
          <p:nvSpPr>
            <p:cNvPr id="303" name=""/>
            <p:cNvSpPr/>
            <p:nvPr/>
          </p:nvSpPr>
          <p:spPr>
            <a:xfrm>
              <a:off x="7358040" y="4595760"/>
              <a:ext cx="81000" cy="1206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601040" y="4114800"/>
              <a:ext cx="81000" cy="1206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7737480" y="5137200"/>
              <a:ext cx="81000" cy="1206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8229600" y="5181480"/>
              <a:ext cx="81000" cy="1206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899480" y="4595760"/>
              <a:ext cx="81000" cy="1206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86600" y="5137200"/>
              <a:ext cx="81000" cy="1206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412040" y="5137200"/>
              <a:ext cx="81000" cy="1206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7953480" y="5137200"/>
              <a:ext cx="81000" cy="1206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7412040" y="4235400"/>
              <a:ext cx="216000" cy="36036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7655040" y="4235400"/>
              <a:ext cx="271440" cy="36036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flipH="1">
              <a:off x="7140600" y="4656240"/>
              <a:ext cx="217440" cy="48096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7385040" y="4716360"/>
              <a:ext cx="81000" cy="4208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H="1">
              <a:off x="7791120" y="4716360"/>
              <a:ext cx="135000" cy="4208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953480" y="4716360"/>
              <a:ext cx="27000" cy="4208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980480" y="4656240"/>
              <a:ext cx="298440" cy="54108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8534520" y="5105520"/>
              <a:ext cx="81000" cy="1206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8001000" y="4648320"/>
              <a:ext cx="533520" cy="53316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"/>
          <p:cNvGrpSpPr/>
          <p:nvPr/>
        </p:nvGrpSpPr>
        <p:grpSpPr>
          <a:xfrm>
            <a:off x="4876920" y="4191120"/>
            <a:ext cx="1299960" cy="1492200"/>
            <a:chOff x="4876920" y="4191120"/>
            <a:chExt cx="1299960" cy="1492200"/>
          </a:xfrm>
        </p:grpSpPr>
        <p:grpSp>
          <p:nvGrpSpPr>
            <p:cNvPr id="321" name=""/>
            <p:cNvGrpSpPr/>
            <p:nvPr/>
          </p:nvGrpSpPr>
          <p:grpSpPr>
            <a:xfrm>
              <a:off x="4876920" y="4191120"/>
              <a:ext cx="1218960" cy="1143000"/>
              <a:chOff x="4876920" y="4191120"/>
              <a:chExt cx="1218960" cy="1143000"/>
            </a:xfrm>
          </p:grpSpPr>
          <p:sp>
            <p:nvSpPr>
              <p:cNvPr id="322" name=""/>
              <p:cNvSpPr/>
              <p:nvPr/>
            </p:nvSpPr>
            <p:spPr>
              <a:xfrm>
                <a:off x="5148360" y="4672080"/>
                <a:ext cx="81000" cy="1206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5391000" y="4191120"/>
                <a:ext cx="81000" cy="1206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5527800" y="5213520"/>
                <a:ext cx="81000" cy="1206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6014880" y="5213520"/>
                <a:ext cx="81000" cy="1206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5689440" y="4672080"/>
                <a:ext cx="81000" cy="1206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4876920" y="5213520"/>
                <a:ext cx="81000" cy="1206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5334120" y="5181480"/>
                <a:ext cx="81000" cy="1206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5743440" y="5213520"/>
                <a:ext cx="81000" cy="1206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 flipH="1">
                <a:off x="5202000" y="4311720"/>
                <a:ext cx="215640" cy="36036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5445000" y="4311720"/>
                <a:ext cx="271440" cy="36036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 flipH="1">
                <a:off x="4930920" y="4732200"/>
                <a:ext cx="217440" cy="48132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5175360" y="4792680"/>
                <a:ext cx="158760" cy="38880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 flipH="1">
                <a:off x="5581800" y="4792680"/>
                <a:ext cx="134640" cy="42084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5743440" y="4792680"/>
                <a:ext cx="27000" cy="42084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5770440" y="4732200"/>
                <a:ext cx="298440" cy="54144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5100480" y="5213520"/>
                <a:ext cx="81000" cy="1206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5181480" y="4800600"/>
                <a:ext cx="0" cy="3808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9" name=""/>
            <p:cNvSpPr/>
            <p:nvPr/>
          </p:nvSpPr>
          <p:spPr>
            <a:xfrm>
              <a:off x="5715000" y="5562720"/>
              <a:ext cx="81000" cy="1206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6095880" y="5562720"/>
              <a:ext cx="81000" cy="1206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H="1">
              <a:off x="5714640" y="5334120"/>
              <a:ext cx="304920" cy="30456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019920" y="5257800"/>
              <a:ext cx="152280" cy="38088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3" name=""/>
          <p:cNvSpPr/>
          <p:nvPr/>
        </p:nvSpPr>
        <p:spPr>
          <a:xfrm>
            <a:off x="1600200" y="3809880"/>
            <a:ext cx="457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124080" y="3809880"/>
            <a:ext cx="457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5105520" y="3809880"/>
            <a:ext cx="457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7467480" y="3733920"/>
            <a:ext cx="5335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962520" y="3886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172200" y="3886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990720" y="5867280"/>
            <a:ext cx="7086600" cy="6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66"/>
                </a:solidFill>
                <a:latin typeface="Times New Roman"/>
              </a:rPr>
              <a:t>РАЗЛОЖЕНИЕ  В  БАЗИСЕ  КЛАССИФИКАЦИЙ   </a:t>
            </a:r>
            <a:r>
              <a:rPr b="0" lang="en-US" sz="1200" spc="-1" strike="noStrike">
                <a:solidFill>
                  <a:srgbClr val="ff0066"/>
                </a:solidFill>
                <a:latin typeface="Times New Roman"/>
              </a:rPr>
              <a:t>N= a</a:t>
            </a:r>
            <a:r>
              <a:rPr b="0" lang="en-US" sz="1200" spc="-1" strike="noStrike" baseline="-25000">
                <a:solidFill>
                  <a:srgbClr val="ff0066"/>
                </a:solidFill>
                <a:latin typeface="Times New Roman"/>
              </a:rPr>
              <a:t>1</a:t>
            </a:r>
            <a:r>
              <a:rPr b="0" lang="en-US" sz="1200" spc="-1" strike="noStrike">
                <a:solidFill>
                  <a:srgbClr val="ff0066"/>
                </a:solidFill>
                <a:latin typeface="Times New Roman"/>
              </a:rPr>
              <a:t>K</a:t>
            </a:r>
            <a:r>
              <a:rPr b="0" lang="en-US" sz="1200" spc="-1" strike="noStrike" baseline="-25000">
                <a:solidFill>
                  <a:srgbClr val="ff0066"/>
                </a:solidFill>
                <a:latin typeface="Times New Roman"/>
              </a:rPr>
              <a:t>1</a:t>
            </a:r>
            <a:r>
              <a:rPr b="0" lang="en-US" sz="1200" spc="-1" strike="noStrike">
                <a:solidFill>
                  <a:srgbClr val="ff0066"/>
                </a:solidFill>
                <a:latin typeface="Times New Roman"/>
              </a:rPr>
              <a:t>+a</a:t>
            </a:r>
            <a:r>
              <a:rPr b="0" lang="en-US" sz="1200" spc="-1" strike="noStrike" baseline="-25000">
                <a:solidFill>
                  <a:srgbClr val="ff0066"/>
                </a:solidFill>
                <a:latin typeface="Times New Roman"/>
              </a:rPr>
              <a:t>2</a:t>
            </a:r>
            <a:r>
              <a:rPr b="0" lang="en-US" sz="1200" spc="-1" strike="noStrike">
                <a:solidFill>
                  <a:srgbClr val="ff0066"/>
                </a:solidFill>
                <a:latin typeface="Times New Roman"/>
              </a:rPr>
              <a:t>K</a:t>
            </a:r>
            <a:r>
              <a:rPr b="0" lang="en-US" sz="1200" spc="-1" strike="noStrike" baseline="-25000">
                <a:solidFill>
                  <a:srgbClr val="ff0066"/>
                </a:solidFill>
                <a:latin typeface="Times New Roman"/>
              </a:rPr>
              <a:t>2</a:t>
            </a:r>
            <a:r>
              <a:rPr b="0" lang="en-US" sz="1200" spc="-1" strike="noStrike">
                <a:solidFill>
                  <a:srgbClr val="ff0066"/>
                </a:solidFill>
                <a:latin typeface="Times New Roman"/>
              </a:rPr>
              <a:t>+…a</a:t>
            </a:r>
            <a:r>
              <a:rPr b="0" lang="en-US" sz="12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0" lang="en-US" sz="1200" spc="-1" strike="noStrike">
                <a:solidFill>
                  <a:srgbClr val="ff0066"/>
                </a:solidFill>
                <a:latin typeface="Times New Roman"/>
              </a:rPr>
              <a:t>K</a:t>
            </a:r>
            <a:r>
              <a:rPr b="0" lang="en-US" sz="12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0" lang="en-US" sz="1200" spc="-1" strike="noStrike">
                <a:solidFill>
                  <a:srgbClr val="ff0066"/>
                </a:solidFill>
                <a:latin typeface="Times New Roman"/>
              </a:rPr>
              <a:t>+…a</a:t>
            </a:r>
            <a:r>
              <a:rPr b="0" lang="en-US" sz="1200" spc="-1" strike="noStrike" baseline="-25000">
                <a:solidFill>
                  <a:srgbClr val="ff0066"/>
                </a:solidFill>
                <a:latin typeface="Times New Roman"/>
              </a:rPr>
              <a:t>n</a:t>
            </a:r>
            <a:r>
              <a:rPr b="0" lang="en-US" sz="1200" spc="-1" strike="noStrike">
                <a:solidFill>
                  <a:srgbClr val="ff0066"/>
                </a:solidFill>
                <a:latin typeface="Times New Roman"/>
              </a:rPr>
              <a:t>K</a:t>
            </a:r>
            <a:r>
              <a:rPr b="0" lang="en-US" sz="1200" spc="-1" strike="noStrike" baseline="-25000">
                <a:solidFill>
                  <a:srgbClr val="ff0066"/>
                </a:solidFill>
                <a:latin typeface="Times New Roman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ПРЕДСТАВЛЕНИЕ ЗНА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04920" y="762120"/>
            <a:ext cx="8610480" cy="57909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57200" y="838080"/>
            <a:ext cx="289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СЕМАНТИЧЕСКИЕ СЕТ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3" name=""/>
          <p:cNvGrpSpPr/>
          <p:nvPr/>
        </p:nvGrpSpPr>
        <p:grpSpPr>
          <a:xfrm>
            <a:off x="533520" y="5105520"/>
            <a:ext cx="761760" cy="685800"/>
            <a:chOff x="533520" y="5105520"/>
            <a:chExt cx="761760" cy="685800"/>
          </a:xfrm>
        </p:grpSpPr>
        <p:sp>
          <p:nvSpPr>
            <p:cNvPr id="354" name=""/>
            <p:cNvSpPr/>
            <p:nvPr/>
          </p:nvSpPr>
          <p:spPr>
            <a:xfrm>
              <a:off x="533520" y="5105520"/>
              <a:ext cx="761760" cy="68580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09480" y="5257800"/>
              <a:ext cx="609120" cy="3988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6" name=""/>
          <p:cNvGrpSpPr/>
          <p:nvPr/>
        </p:nvGrpSpPr>
        <p:grpSpPr>
          <a:xfrm>
            <a:off x="1981080" y="5105520"/>
            <a:ext cx="762120" cy="685800"/>
            <a:chOff x="1981080" y="5105520"/>
            <a:chExt cx="762120" cy="685800"/>
          </a:xfrm>
        </p:grpSpPr>
        <p:sp>
          <p:nvSpPr>
            <p:cNvPr id="357" name=""/>
            <p:cNvSpPr/>
            <p:nvPr/>
          </p:nvSpPr>
          <p:spPr>
            <a:xfrm>
              <a:off x="1981080" y="5105520"/>
              <a:ext cx="762120" cy="68580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057400" y="5257800"/>
              <a:ext cx="609480" cy="3988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9" name=""/>
          <p:cNvGrpSpPr/>
          <p:nvPr/>
        </p:nvGrpSpPr>
        <p:grpSpPr>
          <a:xfrm>
            <a:off x="3657600" y="5181480"/>
            <a:ext cx="762120" cy="685800"/>
            <a:chOff x="3657600" y="5181480"/>
            <a:chExt cx="762120" cy="685800"/>
          </a:xfrm>
        </p:grpSpPr>
        <p:sp>
          <p:nvSpPr>
            <p:cNvPr id="360" name=""/>
            <p:cNvSpPr/>
            <p:nvPr/>
          </p:nvSpPr>
          <p:spPr>
            <a:xfrm>
              <a:off x="3657600" y="5181480"/>
              <a:ext cx="762120" cy="68580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733920" y="5333760"/>
              <a:ext cx="609480" cy="3988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2" name=""/>
          <p:cNvGrpSpPr/>
          <p:nvPr/>
        </p:nvGrpSpPr>
        <p:grpSpPr>
          <a:xfrm>
            <a:off x="4952880" y="4572000"/>
            <a:ext cx="762120" cy="685800"/>
            <a:chOff x="4952880" y="4572000"/>
            <a:chExt cx="762120" cy="685800"/>
          </a:xfrm>
        </p:grpSpPr>
        <p:sp>
          <p:nvSpPr>
            <p:cNvPr id="363" name=""/>
            <p:cNvSpPr/>
            <p:nvPr/>
          </p:nvSpPr>
          <p:spPr>
            <a:xfrm>
              <a:off x="4952880" y="4572000"/>
              <a:ext cx="762120" cy="68580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29200" y="4724280"/>
              <a:ext cx="609480" cy="3988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5" name=""/>
          <p:cNvGrpSpPr/>
          <p:nvPr/>
        </p:nvGrpSpPr>
        <p:grpSpPr>
          <a:xfrm>
            <a:off x="7543800" y="4572000"/>
            <a:ext cx="762120" cy="685800"/>
            <a:chOff x="7543800" y="4572000"/>
            <a:chExt cx="762120" cy="685800"/>
          </a:xfrm>
        </p:grpSpPr>
        <p:sp>
          <p:nvSpPr>
            <p:cNvPr id="366" name=""/>
            <p:cNvSpPr/>
            <p:nvPr/>
          </p:nvSpPr>
          <p:spPr>
            <a:xfrm>
              <a:off x="7543800" y="4572000"/>
              <a:ext cx="762120" cy="68580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620120" y="4724280"/>
              <a:ext cx="609480" cy="3988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8" name=""/>
          <p:cNvGrpSpPr/>
          <p:nvPr/>
        </p:nvGrpSpPr>
        <p:grpSpPr>
          <a:xfrm>
            <a:off x="6248520" y="4572000"/>
            <a:ext cx="761760" cy="685800"/>
            <a:chOff x="6248520" y="4572000"/>
            <a:chExt cx="761760" cy="685800"/>
          </a:xfrm>
        </p:grpSpPr>
        <p:sp>
          <p:nvSpPr>
            <p:cNvPr id="369" name=""/>
            <p:cNvSpPr/>
            <p:nvPr/>
          </p:nvSpPr>
          <p:spPr>
            <a:xfrm>
              <a:off x="6248520" y="4572000"/>
              <a:ext cx="761760" cy="68580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6324480" y="4724280"/>
              <a:ext cx="609120" cy="3988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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1" name=""/>
          <p:cNvGrpSpPr/>
          <p:nvPr/>
        </p:nvGrpSpPr>
        <p:grpSpPr>
          <a:xfrm>
            <a:off x="3962520" y="2133720"/>
            <a:ext cx="761760" cy="685800"/>
            <a:chOff x="3962520" y="2133720"/>
            <a:chExt cx="761760" cy="685800"/>
          </a:xfrm>
        </p:grpSpPr>
        <p:sp>
          <p:nvSpPr>
            <p:cNvPr id="372" name=""/>
            <p:cNvSpPr/>
            <p:nvPr/>
          </p:nvSpPr>
          <p:spPr>
            <a:xfrm>
              <a:off x="3962520" y="2133720"/>
              <a:ext cx="761760" cy="68580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038480" y="2286000"/>
              <a:ext cx="609120" cy="3988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4" name=""/>
          <p:cNvGrpSpPr/>
          <p:nvPr/>
        </p:nvGrpSpPr>
        <p:grpSpPr>
          <a:xfrm>
            <a:off x="1981080" y="3276720"/>
            <a:ext cx="762120" cy="685800"/>
            <a:chOff x="1981080" y="3276720"/>
            <a:chExt cx="762120" cy="685800"/>
          </a:xfrm>
        </p:grpSpPr>
        <p:sp>
          <p:nvSpPr>
            <p:cNvPr id="375" name=""/>
            <p:cNvSpPr/>
            <p:nvPr/>
          </p:nvSpPr>
          <p:spPr>
            <a:xfrm>
              <a:off x="1981080" y="3276720"/>
              <a:ext cx="762120" cy="68580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2057400" y="3429000"/>
              <a:ext cx="609480" cy="3988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7" name=""/>
          <p:cNvSpPr/>
          <p:nvPr/>
        </p:nvSpPr>
        <p:spPr>
          <a:xfrm flipV="1">
            <a:off x="990720" y="3962160"/>
            <a:ext cx="1371600" cy="114300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286000" y="3962160"/>
            <a:ext cx="152280" cy="114300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 flipH="1" flipV="1">
            <a:off x="2438280" y="3962520"/>
            <a:ext cx="1447920" cy="121896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 flipV="1">
            <a:off x="2514600" y="2743200"/>
            <a:ext cx="1676520" cy="236232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V="1">
            <a:off x="4038480" y="2819160"/>
            <a:ext cx="152640" cy="236196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 flipH="1" flipV="1">
            <a:off x="4190760" y="2819520"/>
            <a:ext cx="990360" cy="175248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V="1">
            <a:off x="2590920" y="2590920"/>
            <a:ext cx="1371600" cy="76176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rot="6370800">
            <a:off x="5309640" y="3981240"/>
            <a:ext cx="456480" cy="1981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486400" y="5257800"/>
            <a:ext cx="2692440" cy="685800"/>
          </a:xfrm>
          <a:custGeom>
            <a:avLst/>
            <a:gdLst/>
            <a:ahLst/>
            <a:rect l="l" t="t" r="r" b="b"/>
            <a:pathLst>
              <a:path w="1696" h="432">
                <a:moveTo>
                  <a:pt x="1584" y="0"/>
                </a:moveTo>
                <a:cubicBezTo>
                  <a:pt x="1640" y="112"/>
                  <a:pt x="1696" y="224"/>
                  <a:pt x="1536" y="288"/>
                </a:cubicBezTo>
                <a:cubicBezTo>
                  <a:pt x="1376" y="352"/>
                  <a:pt x="880" y="432"/>
                  <a:pt x="624" y="384"/>
                </a:cubicBezTo>
                <a:cubicBezTo>
                  <a:pt x="368" y="336"/>
                  <a:pt x="104" y="64"/>
                  <a:pt x="0" y="0"/>
                </a:cubicBezTo>
              </a:path>
            </a:pathLst>
          </a:custGeom>
          <a:noFill/>
          <a:ln w="9360">
            <a:solidFill>
              <a:srgbClr val="ff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 flipH="1">
            <a:off x="5257440" y="1600200"/>
            <a:ext cx="2514600" cy="990720"/>
          </a:xfrm>
          <a:prstGeom prst="line">
            <a:avLst/>
          </a:prstGeom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7772400" y="1600200"/>
            <a:ext cx="990720" cy="1371600"/>
          </a:xfrm>
          <a:prstGeom prst="line">
            <a:avLst/>
          </a:prstGeom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257800" y="2590920"/>
            <a:ext cx="3505320" cy="380880"/>
          </a:xfrm>
          <a:prstGeom prst="line">
            <a:avLst/>
          </a:prstGeom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7391520" y="17524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8153280" y="24382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43600" y="228600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6400800" y="281952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8153280" y="182880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6172200" y="167652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ПРЕДСТАВЛЕНИЕ ЗНА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33520" y="762120"/>
            <a:ext cx="8610480" cy="57909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33520" y="914400"/>
            <a:ext cx="358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ПРОДУКЦИОННЫЕ СИСТЕМЫ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8" name=""/>
          <p:cNvGrpSpPr/>
          <p:nvPr/>
        </p:nvGrpSpPr>
        <p:grpSpPr>
          <a:xfrm>
            <a:off x="745200" y="2305080"/>
            <a:ext cx="3445920" cy="2876040"/>
            <a:chOff x="745200" y="2305080"/>
            <a:chExt cx="3445920" cy="2876040"/>
          </a:xfrm>
        </p:grpSpPr>
        <p:sp>
          <p:nvSpPr>
            <p:cNvPr id="399" name=""/>
            <p:cNvSpPr/>
            <p:nvPr/>
          </p:nvSpPr>
          <p:spPr>
            <a:xfrm rot="10927200">
              <a:off x="762120" y="2362320"/>
              <a:ext cx="3124080" cy="977760"/>
            </a:xfrm>
            <a:custGeom>
              <a:avLst/>
              <a:gdLst/>
              <a:ahLst/>
              <a:rect l="l" t="t" r="r" b="b"/>
              <a:pathLst>
                <a:path w="2392" h="760">
                  <a:moveTo>
                    <a:pt x="776" y="40"/>
                  </a:moveTo>
                  <a:cubicBezTo>
                    <a:pt x="560" y="80"/>
                    <a:pt x="208" y="176"/>
                    <a:pt x="104" y="280"/>
                  </a:cubicBezTo>
                  <a:cubicBezTo>
                    <a:pt x="0" y="384"/>
                    <a:pt x="16" y="592"/>
                    <a:pt x="152" y="664"/>
                  </a:cubicBezTo>
                  <a:cubicBezTo>
                    <a:pt x="288" y="736"/>
                    <a:pt x="728" y="736"/>
                    <a:pt x="920" y="712"/>
                  </a:cubicBezTo>
                  <a:cubicBezTo>
                    <a:pt x="1112" y="688"/>
                    <a:pt x="1168" y="512"/>
                    <a:pt x="1304" y="520"/>
                  </a:cubicBezTo>
                  <a:cubicBezTo>
                    <a:pt x="1440" y="528"/>
                    <a:pt x="1568" y="760"/>
                    <a:pt x="1736" y="760"/>
                  </a:cubicBezTo>
                  <a:cubicBezTo>
                    <a:pt x="1904" y="760"/>
                    <a:pt x="2232" y="616"/>
                    <a:pt x="2312" y="520"/>
                  </a:cubicBezTo>
                  <a:cubicBezTo>
                    <a:pt x="2392" y="424"/>
                    <a:pt x="2368" y="264"/>
                    <a:pt x="2216" y="184"/>
                  </a:cubicBezTo>
                  <a:cubicBezTo>
                    <a:pt x="2064" y="104"/>
                    <a:pt x="1632" y="64"/>
                    <a:pt x="1400" y="40"/>
                  </a:cubicBezTo>
                  <a:cubicBezTo>
                    <a:pt x="1168" y="16"/>
                    <a:pt x="992" y="0"/>
                    <a:pt x="776" y="40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990720" y="3581280"/>
              <a:ext cx="3048120" cy="6091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143000" y="4572000"/>
              <a:ext cx="2819520" cy="6091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438640" y="3200400"/>
              <a:ext cx="0" cy="532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438640" y="4114800"/>
              <a:ext cx="0" cy="532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990720" y="3733560"/>
              <a:ext cx="320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66"/>
                  </a:solidFill>
                  <a:latin typeface="Times New Roman"/>
                </a:rPr>
                <a:t>РАССУЖДАЮЩАЯ СИСТЕМА 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1447920" y="4724280"/>
              <a:ext cx="213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БАЗА ЗНАНИЙ  К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1295640" y="2743200"/>
              <a:ext cx="2286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0066"/>
                  </a:solidFill>
                  <a:latin typeface="Times New Roman"/>
                </a:rPr>
                <a:t>ОКУРУЖАЮЩИЙ МИР </a:t>
              </a: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>
            <a:off x="1447920" y="144792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Times New Roman"/>
              </a:rPr>
              <a:t>S({i: C,P,A</a:t>
            </a:r>
            <a:r>
              <a:rPr b="1" lang="en-US" sz="2000" spc="-1" strike="noStrike">
                <a:solidFill>
                  <a:srgbClr val="8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800000"/>
                </a:solidFill>
                <a:latin typeface="Times New Roman"/>
              </a:rPr>
              <a:t>B,Q}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181480" y="1295280"/>
            <a:ext cx="259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ТИПЫ ПРОДУКЦИ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572000" y="1828800"/>
            <a:ext cx="4191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A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W </a:t>
            </a:r>
            <a:r>
              <a:rPr b="1" lang="en-US" sz="1800" spc="-1" strike="noStrike">
                <a:solidFill>
                  <a:srgbClr val="ff0066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B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 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–</a:t>
            </a:r>
            <a:r>
              <a:rPr b="1" lang="ru-RU" sz="18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ff0066"/>
                </a:solidFill>
                <a:latin typeface="Times New Roman"/>
              </a:rPr>
              <a:t>ИЗМЕНЯЕТСЯ ХОД РАССУЖДЕНИЙ</a:t>
            </a: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4572000" y="2286000"/>
            <a:ext cx="4191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A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W </a:t>
            </a:r>
            <a:r>
              <a:rPr b="1" lang="en-US" sz="1800" spc="-1" strike="noStrike">
                <a:solidFill>
                  <a:srgbClr val="ff0066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B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K 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–</a:t>
            </a:r>
            <a:r>
              <a:rPr b="1" lang="ru-RU" sz="18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ff0066"/>
                </a:solidFill>
                <a:latin typeface="Times New Roman"/>
              </a:rPr>
              <a:t>ОТОБРАЖЕНИЕ</a:t>
            </a: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572000" y="4495680"/>
            <a:ext cx="4191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A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 </a:t>
            </a:r>
            <a:r>
              <a:rPr b="1" lang="en-US" sz="1800" spc="-1" strike="noStrike">
                <a:solidFill>
                  <a:srgbClr val="ff0066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B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W 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–</a:t>
            </a:r>
            <a:r>
              <a:rPr b="1" lang="ru-RU" sz="1800" spc="-1" strike="noStrike">
                <a:solidFill>
                  <a:srgbClr val="ff0066"/>
                </a:solidFill>
                <a:latin typeface="Times New Roman"/>
              </a:rPr>
              <a:t> управление событиям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4572000" y="2743200"/>
            <a:ext cx="4191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A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K </a:t>
            </a:r>
            <a:r>
              <a:rPr b="1" lang="en-US" sz="1800" spc="-1" strike="noStrike">
                <a:solidFill>
                  <a:srgbClr val="ff0066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B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W 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–</a:t>
            </a:r>
            <a:r>
              <a:rPr b="1" lang="ru-RU" sz="18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ff0066"/>
                </a:solidFill>
                <a:latin typeface="Times New Roman"/>
              </a:rPr>
              <a:t>СОПОСТАВЛЕНИЯ</a:t>
            </a: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4572000" y="3200400"/>
            <a:ext cx="4191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A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 </a:t>
            </a:r>
            <a:r>
              <a:rPr b="1" lang="en-US" sz="1800" spc="-1" strike="noStrike">
                <a:solidFill>
                  <a:srgbClr val="ff0066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B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K 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–</a:t>
            </a:r>
            <a:r>
              <a:rPr b="1" lang="ru-RU" sz="18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ff0066"/>
                </a:solidFill>
                <a:latin typeface="Times New Roman"/>
              </a:rPr>
              <a:t>РЕГИСТ РАЦИЯ</a:t>
            </a: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572000" y="3595680"/>
            <a:ext cx="4191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A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K </a:t>
            </a:r>
            <a:r>
              <a:rPr b="1" lang="en-US" sz="1800" spc="-1" strike="noStrike">
                <a:solidFill>
                  <a:srgbClr val="ff0066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B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 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–</a:t>
            </a:r>
            <a:r>
              <a:rPr b="1" lang="ru-RU" sz="18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ff0066"/>
                </a:solidFill>
                <a:latin typeface="Times New Roman"/>
              </a:rPr>
              <a:t>ИНФОРМАЦИОННАЯ ПОДДЕРЖКА</a:t>
            </a: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572000" y="4038480"/>
            <a:ext cx="419112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A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W </a:t>
            </a:r>
            <a:r>
              <a:rPr b="1" lang="en-US" sz="1800" spc="-1" strike="noStrike">
                <a:solidFill>
                  <a:srgbClr val="ff0066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B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W 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–</a:t>
            </a:r>
            <a:r>
              <a:rPr b="1" lang="ru-RU" sz="18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ff0066"/>
                </a:solidFill>
                <a:latin typeface="Times New Roman"/>
              </a:rPr>
              <a:t>ХОД СОБЫТИЙ</a:t>
            </a: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572000" y="5562720"/>
            <a:ext cx="4191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A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K</a:t>
            </a:r>
            <a:r>
              <a:rPr b="1" lang="en-US" sz="1800" spc="-1" strike="noStrike">
                <a:solidFill>
                  <a:srgbClr val="ff0066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B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K 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–</a:t>
            </a:r>
            <a:r>
              <a:rPr b="1" lang="ru-RU" sz="18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ff0066"/>
                </a:solidFill>
                <a:latin typeface="Times New Roman"/>
              </a:rPr>
              <a:t>ПРЕОБРОАЗОВАНИЯ ФОРМЫ</a:t>
            </a: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572000" y="5029200"/>
            <a:ext cx="4572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A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 </a:t>
            </a:r>
            <a:r>
              <a:rPr b="1" lang="en-US" sz="1800" spc="-1" strike="noStrike">
                <a:solidFill>
                  <a:srgbClr val="ff0066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B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 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–</a:t>
            </a:r>
            <a:r>
              <a:rPr b="1" lang="ru-RU" sz="18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ff0066"/>
                </a:solidFill>
                <a:latin typeface="Times New Roman"/>
              </a:rPr>
              <a:t>ПРОДОЛЖАЕТСЯ  ХОД РАССУЖДЕНИЙ</a:t>
            </a: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4T04:38:54Z</dcterms:created>
  <dc:creator>Петр Соснин</dc:creator>
  <dc:description/>
  <dc:language>en-US</dc:language>
  <cp:lastModifiedBy>Peter Sosnin</cp:lastModifiedBy>
  <dcterms:modified xsi:type="dcterms:W3CDTF">2006-04-26T14:32:38Z</dcterms:modified>
  <cp:revision>17</cp:revision>
  <dc:subject/>
  <dc:title>ПРЕДСТАВЛЕНИЕ ЗНАНИЙ</dc:title>
</cp:coreProperties>
</file>