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A9D1-E93B-4580-828D-24E2FF74E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5532-13FF-427E-AF7D-1AAFD4231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8550-2768-4D66-806D-75EE2E926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6C6B-55EA-4257-B2DB-193C6987E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9C40-459D-4B43-922C-EB7F5BEC8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6754-105C-4C5F-BBBF-EFB585496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CDB0-7694-486F-9D39-AF77FC821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5931-1300-40B1-8219-28F7B910A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C570-26FD-4552-80DA-5E63616E0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F59F-0BBE-456C-AA72-9522932E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107B-C630-4AA1-BB47-1BA2D27D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B1BA-3C83-433F-8047-105E5D1F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0368D-093F-4EF5-A29F-C4A79BD4F7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990720"/>
            <a:ext cx="82296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Феномен приро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Шкалирование: прошлое настоящее будущее (А-системы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раньше, позже (В-системы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0" y="2895480"/>
            <a:ext cx="3886200" cy="19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Основные свойства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Направлен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Линейност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Непрерывност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Неоканчиваемост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Гомоген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ПРОСТРАНСТВ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76520" y="1371600"/>
            <a:ext cx="6248160" cy="36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антериорные, задающие местоположение объекта перед другим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объектом или ориентиро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стериорные, определяющие положение объекта относительно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евидимой (тыльной) стороны другого объек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оппозитивные, определяющие местоположение объекта в про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ивоположении к другому объекту или локализатору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нтервальные,   задающие   местоположение   объекта    межд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</a:rPr>
              <a:t>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вумя другим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аппроксимативные,   задающие   приблизительное   положенш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объекта в пространстве относительно расстояния или направления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«где-то в парке»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ирективные, определяющие направление движения или дей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твия над объектом относительно пространственного ориентира или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чала координат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нициальные, указывающие направление при фиксированной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чальной точк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ПРОСТРАН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828800" y="1905120"/>
            <a:ext cx="6324480" cy="42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ерминальные, указывающие направление при фиксированн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онечной точк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лимитативные, указывающие направление при фиксирован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чальной и конечной точка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эксклюзивные, задающие перемещение или действие, происхо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ящее внутри некоторого объекта или ЛОК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нклюзивные,  задающие перемещение  или  действие,  проис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ходящее по  направлению внутрь некоторого объекта  или  ЛО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рансверсальные,  указывающие  на   пересекаемый  простран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твенный ориентир  («перейти через улицу»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тинеративные, указывающие на маршрут движения или пере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ещения или фиксирующие ЛОК, в котором совершается действие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«идти по улице»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952880" y="1600200"/>
            <a:ext cx="3962520" cy="31240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600200"/>
            <a:ext cx="4190760" cy="3124080"/>
          </a:xfrm>
          <a:prstGeom prst="rect">
            <a:avLst/>
          </a:prstGeom>
          <a:solidFill>
            <a:srgbClr val="ccccff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10666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Время в естественном язык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19810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Русский язы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19810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Английский язы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29718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Лекс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010280" y="29718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Граммат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57800" y="29718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Лекс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29718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Граммат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6019560" y="251460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934320" y="2514600"/>
            <a:ext cx="5331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81480" y="3505320"/>
            <a:ext cx="152424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62920" y="3505320"/>
            <a:ext cx="144756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3505320"/>
            <a:ext cx="152388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3505320"/>
            <a:ext cx="144756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39625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24480" y="39625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1447560" y="243828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362320"/>
            <a:ext cx="5331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133720" y="495288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Заполненность отрезка времени действи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33720" y="541008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Единичность или повторяем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3720" y="5791320"/>
            <a:ext cx="624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Завершённость действия или незавершен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33720" y="624852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Одновремённость или разновремён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-2666880" y="990720"/>
            <a:ext cx="15086520" cy="3276000"/>
            <a:chOff x="-2666880" y="990720"/>
            <a:chExt cx="15086520" cy="3276000"/>
          </a:xfrm>
        </p:grpSpPr>
        <p:sp>
          <p:nvSpPr>
            <p:cNvPr id="70" name=""/>
            <p:cNvSpPr/>
            <p:nvPr/>
          </p:nvSpPr>
          <p:spPr>
            <a:xfrm>
              <a:off x="1676520" y="990720"/>
              <a:ext cx="548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993366"/>
                  </a:solidFill>
                  <a:latin typeface="Times New Roman"/>
                </a:rPr>
                <a:t>Время в лигвиститк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609480" y="3123720"/>
              <a:ext cx="7924680" cy="0"/>
              <a:chOff x="609480" y="3123720"/>
              <a:chExt cx="7924680" cy="0"/>
            </a:xfrm>
          </p:grpSpPr>
          <p:grpSp>
            <p:nvGrpSpPr>
              <p:cNvPr id="72" name=""/>
              <p:cNvGrpSpPr/>
              <p:nvPr/>
            </p:nvGrpSpPr>
            <p:grpSpPr>
              <a:xfrm>
                <a:off x="609480" y="3123720"/>
                <a:ext cx="2113200" cy="0"/>
                <a:chOff x="609480" y="3123720"/>
                <a:chExt cx="2113200" cy="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609480" y="3123720"/>
                  <a:ext cx="528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137960" y="3123720"/>
                  <a:ext cx="527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666080" y="3123720"/>
                  <a:ext cx="527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2194200" y="3123720"/>
                  <a:ext cx="528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" name=""/>
              <p:cNvSpPr/>
              <p:nvPr/>
            </p:nvSpPr>
            <p:spPr>
              <a:xfrm>
                <a:off x="272304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25116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779280" y="3123720"/>
                <a:ext cx="528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30776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83624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364360" y="3123720"/>
                <a:ext cx="528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89284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42096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949080" y="3123720"/>
                <a:ext cx="528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47792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00604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38088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ДП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14400" y="32004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47920" y="320040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П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981080" y="3200400"/>
              <a:ext cx="60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П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59092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Д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657600" y="32004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Н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14800" y="320040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М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4832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05520" y="320040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638680" y="3200400"/>
              <a:ext cx="60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17220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781680" y="3200400"/>
              <a:ext cx="60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315200" y="320040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84872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38188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Д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-2666880" y="1752480"/>
              <a:ext cx="7009920" cy="243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4343400" y="1676520"/>
              <a:ext cx="8076240" cy="259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71800" y="1371600"/>
              <a:ext cx="3276720" cy="1600200"/>
            </a:xfrm>
            <a:custGeom>
              <a:avLst/>
              <a:gdLst/>
              <a:ahLst/>
              <a:rect l="l" t="t" r="r" b="b"/>
              <a:pathLst>
                <a:path w="2016" h="616">
                  <a:moveTo>
                    <a:pt x="0" y="616"/>
                  </a:moveTo>
                  <a:cubicBezTo>
                    <a:pt x="0" y="496"/>
                    <a:pt x="0" y="376"/>
                    <a:pt x="96" y="280"/>
                  </a:cubicBezTo>
                  <a:cubicBezTo>
                    <a:pt x="192" y="184"/>
                    <a:pt x="448" y="80"/>
                    <a:pt x="576" y="40"/>
                  </a:cubicBezTo>
                  <a:cubicBezTo>
                    <a:pt x="704" y="0"/>
                    <a:pt x="728" y="24"/>
                    <a:pt x="864" y="40"/>
                  </a:cubicBezTo>
                  <a:cubicBezTo>
                    <a:pt x="1000" y="56"/>
                    <a:pt x="1240" y="88"/>
                    <a:pt x="1392" y="136"/>
                  </a:cubicBezTo>
                  <a:cubicBezTo>
                    <a:pt x="1544" y="184"/>
                    <a:pt x="1672" y="248"/>
                    <a:pt x="1776" y="328"/>
                  </a:cubicBezTo>
                  <a:cubicBezTo>
                    <a:pt x="1880" y="408"/>
                    <a:pt x="1976" y="568"/>
                    <a:pt x="2016" y="6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33520" y="1981080"/>
              <a:ext cx="152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3366"/>
                  </a:solidFill>
                  <a:latin typeface="Times New Roman"/>
                </a:rPr>
                <a:t>ПРОШЛО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657600" y="1828800"/>
              <a:ext cx="152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3366"/>
                  </a:solidFill>
                  <a:latin typeface="Times New Roman"/>
                </a:rPr>
                <a:t>НАСТОЯЩЕ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29400" y="2133720"/>
              <a:ext cx="152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3366"/>
                  </a:solidFill>
                  <a:latin typeface="Times New Roman"/>
                </a:rPr>
                <a:t>БУДУЩЕ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533520" y="4114800"/>
            <a:ext cx="8458200" cy="2516760"/>
            <a:chOff x="533520" y="4114800"/>
            <a:chExt cx="8458200" cy="2516760"/>
          </a:xfrm>
        </p:grpSpPr>
        <p:sp>
          <p:nvSpPr>
            <p:cNvPr id="111" name=""/>
            <p:cNvSpPr/>
            <p:nvPr/>
          </p:nvSpPr>
          <p:spPr>
            <a:xfrm>
              <a:off x="533520" y="4114800"/>
              <a:ext cx="289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ДП – давно прошедше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52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О - одновремен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33520" y="4952880"/>
              <a:ext cx="213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П - предпрошедше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33520" y="5410080"/>
              <a:ext cx="266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П – после прошедше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33520" y="579132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П близко прошедше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09880" y="4114800"/>
              <a:ext cx="2362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993366"/>
                  </a:solidFill>
                  <a:latin typeface="Times New Roman"/>
                </a:rPr>
                <a:t>ДН - давнонастояще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809880" y="4572000"/>
              <a:ext cx="21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НО одновремен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09880" y="502920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МО момент отсчёт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410080"/>
              <a:ext cx="190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Н - близк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09880" y="586728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Н -  пред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09880" y="6324480"/>
              <a:ext cx="190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Н - посл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24480" y="411480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Б  - близк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24480" y="4572000"/>
              <a:ext cx="2667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Б - пред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324480" y="4952880"/>
              <a:ext cx="25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Б - посл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400800" y="5334120"/>
              <a:ext cx="243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О - одновремен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400800" y="5791320"/>
              <a:ext cx="25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ДБ – далёкое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76520" y="10666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Время и челове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1523880"/>
            <a:ext cx="2361960" cy="8384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838080" y="3733920"/>
            <a:ext cx="7772400" cy="1066680"/>
            <a:chOff x="838080" y="3733920"/>
            <a:chExt cx="7772400" cy="1066680"/>
          </a:xfrm>
        </p:grpSpPr>
        <p:sp>
          <p:nvSpPr>
            <p:cNvPr id="131" name=""/>
            <p:cNvSpPr/>
            <p:nvPr/>
          </p:nvSpPr>
          <p:spPr>
            <a:xfrm>
              <a:off x="838080" y="42670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19720" y="4191120"/>
              <a:ext cx="75960" cy="7596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429000" y="380988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410080" y="373392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219320" y="426708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66"/>
                  </a:solidFill>
                  <a:latin typeface="Times New Roman"/>
                </a:rPr>
                <a:t>прошло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57600" y="42670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66"/>
                  </a:solidFill>
                  <a:latin typeface="Times New Roman"/>
                </a:rPr>
                <a:t>настояще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324480" y="4267080"/>
              <a:ext cx="12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66"/>
                  </a:solidFill>
                  <a:latin typeface="Times New Roman"/>
                </a:rPr>
                <a:t>будуще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3505320" y="17524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событ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371600" y="5638680"/>
            <a:ext cx="6248520" cy="304560"/>
            <a:chOff x="1371600" y="5638680"/>
            <a:chExt cx="6248520" cy="304560"/>
          </a:xfrm>
        </p:grpSpPr>
        <p:sp>
          <p:nvSpPr>
            <p:cNvPr id="140" name=""/>
            <p:cNvSpPr/>
            <p:nvPr/>
          </p:nvSpPr>
          <p:spPr>
            <a:xfrm>
              <a:off x="1371600" y="571464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05120" y="594324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2971440" y="571464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00400" y="59432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43400" y="563868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43400" y="594324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782040" y="56386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39240" y="59432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28600" y="62485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интерваль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19810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точеч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057400" y="25909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297180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9880" y="297180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362320" y="32767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162920" y="25909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95280" y="327672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24280" y="342900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342900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09680" y="266688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00200" y="30481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3352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76920" y="35053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91440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Логика времени точечных событ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167652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en-US" sz="2400" spc="-1" strike="noStrike" baseline="-25000">
                <a:solidFill>
                  <a:srgbClr val="cc0066"/>
                </a:solidFill>
                <a:latin typeface="Times New Roman"/>
              </a:rPr>
              <a:t>0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одновременно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 событием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19320" y="205740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2400" spc="-1" strike="noStrike" baseline="-25000">
                <a:solidFill>
                  <a:srgbClr val="cc0066"/>
                </a:solidFill>
                <a:latin typeface="Times New Roman"/>
              </a:rPr>
              <a:t>1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</a:rPr>
              <a:t>раньше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</a:rPr>
              <a:t>я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19320" y="243828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2400" spc="-1" strike="noStrike" baseline="-25000">
                <a:solidFill>
                  <a:srgbClr val="cc0066"/>
                </a:solidFill>
                <a:latin typeface="Times New Roman"/>
              </a:rPr>
              <a:t>2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</a:rPr>
              <a:t>позже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</a:rPr>
              <a:t>я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19320" y="396252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2400" spc="-1" strike="noStrike" baseline="-25000">
                <a:solidFill>
                  <a:srgbClr val="cc0066"/>
                </a:solidFill>
                <a:latin typeface="Times New Roman"/>
              </a:rPr>
              <a:t>4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t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</a:rPr>
              <a:t>в момент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</a:rPr>
              <a:t>t*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342900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2400" spc="-1" strike="noStrike" baseline="-25000">
                <a:solidFill>
                  <a:srgbClr val="cc0066"/>
                </a:solidFill>
                <a:latin typeface="Times New Roman"/>
              </a:rPr>
              <a:t>3</a:t>
            </a:r>
            <a:r>
              <a:rPr b="1" i="1" lang="ru-RU" sz="24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n,</a:t>
            </a:r>
            <a:r>
              <a:rPr b="1" i="1" lang="en-US" sz="2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) 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</a:rPr>
              <a:t>ит раньше на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n</a:t>
            </a:r>
            <a:r>
              <a:rPr b="1" i="1" lang="ru-RU" sz="2400" spc="-1" strike="noStrike">
                <a:solidFill>
                  <a:srgbClr val="cc0066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</a:rPr>
              <a:t>я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19320" y="510552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en-US" sz="2400" spc="-1" strike="noStrike" baseline="-25000">
                <a:solidFill>
                  <a:srgbClr val="cc0066"/>
                </a:solidFill>
                <a:latin typeface="Times New Roman"/>
              </a:rPr>
              <a:t>5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</a:rPr>
              <a:t>периодом </a:t>
            </a:r>
            <a:r>
              <a:rPr b="1" lang="en-US" sz="2400" spc="-1" strike="noStrike">
                <a:solidFill>
                  <a:srgbClr val="cc0066"/>
                </a:solidFill>
                <a:latin typeface="Symbol"/>
                <a:ea typeface="Symbol"/>
              </a:rPr>
              <a:t>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12952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66"/>
                </a:solidFill>
                <a:latin typeface="Times New Roman"/>
              </a:rPr>
              <a:t>Неметрич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14400" y="46483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Times New Roman"/>
              </a:rPr>
              <a:t>Периодич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3048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Times New Roman"/>
              </a:rPr>
              <a:t>Метрич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91440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Логика времени интервальных событ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81080" y="1676520"/>
            <a:ext cx="5715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1 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строго предшествует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ю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81080" y="2057400"/>
            <a:ext cx="4419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2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строго следует за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ем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2438280"/>
            <a:ext cx="3962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3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ересекается с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ем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52480" y="4952880"/>
            <a:ext cx="7315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m4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(t*, </a:t>
            </a:r>
            <a:r>
              <a:rPr b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t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в момент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t*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 и продолжается </a:t>
            </a:r>
            <a:r>
              <a:rPr b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05120" y="5943600"/>
            <a:ext cx="5105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m5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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периодом </a:t>
            </a:r>
            <a:r>
              <a:rPr b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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12952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Неметрическ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2120" y="5410080"/>
            <a:ext cx="159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Периодическ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34290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Метрическ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9480" y="2743200"/>
            <a:ext cx="5639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Частные случа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3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:        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0      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4       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5       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81080" y="3124080"/>
            <a:ext cx="4876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7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непосредственно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п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редшествует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ю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752480" y="3733920"/>
            <a:ext cx="57150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m1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,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)   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строго предшествует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ю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на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*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52480" y="4038480"/>
            <a:ext cx="63248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 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m2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,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) 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пересекается с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ем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начала на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*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52480" y="4495680"/>
            <a:ext cx="6248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 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m3 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,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) 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ересекается с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ем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 концы на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*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Times New Roman"/>
              </a:rPr>
              <a:t>Формальная систем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8080" y="1676520"/>
            <a:ext cx="8077320" cy="26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ПФ языка будем строить по следующим правилам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1.    Любой элемент из 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Р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есть ППФ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2.    Выражения вида (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R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*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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) , где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</a:rPr>
              <a:t>и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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 — ППФ,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*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WP MathA"/>
                <a:ea typeface="WP MathA"/>
              </a:rPr>
              <a:t>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R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, есть ПП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3.    Если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</a:rPr>
              <a:t>и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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 — ППФ, то (а&amp; р) — ППФ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4.      Выражения      (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R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*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t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),   где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— ППФ,  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</a:rPr>
              <a:t>* </a:t>
            </a:r>
            <a:r>
              <a:rPr b="1" lang="en-US" sz="1400" spc="-1" strike="noStrike">
                <a:solidFill>
                  <a:srgbClr val="cc0066"/>
                </a:solidFill>
                <a:latin typeface="WP MathA"/>
                <a:ea typeface="WP MathA"/>
              </a:rPr>
              <a:t>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{r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  <a:ea typeface="Times New Roman"/>
              </a:rPr>
              <a:t>4 ,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r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  <a:ea typeface="Times New Roman"/>
              </a:rPr>
              <a:t>5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,R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  <a:ea typeface="Times New Roman"/>
              </a:rPr>
              <a:t>m5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} t </a:t>
            </a:r>
            <a:r>
              <a:rPr b="1" lang="en-US" sz="1400" spc="-1" strike="noStrike">
                <a:solidFill>
                  <a:srgbClr val="cc0066"/>
                </a:solidFill>
                <a:latin typeface="WP MathA"/>
                <a:ea typeface="WP MathA"/>
              </a:rPr>
              <a:t>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T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есть ППФ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5.      Выражения (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* R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  <a:ea typeface="Times New Roman"/>
              </a:rPr>
              <a:t>m4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t,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t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),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где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* — ППФ  есть ППФ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6.      Других ППФ нет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8080" y="1219320"/>
            <a:ext cx="5334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 ={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,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n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……….. 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,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120" y="41148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Times New Roman"/>
              </a:rPr>
              <a:t>Правила выво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457200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k  </a:t>
            </a:r>
            <a:r>
              <a:rPr b="1" lang="en-US" sz="1600" spc="-1" strike="noStrike">
                <a:solidFill>
                  <a:srgbClr val="cc0066"/>
                </a:solidFill>
                <a:latin typeface="Symbol"/>
                <a:ea typeface="Symbol"/>
              </a:rPr>
              <a:t>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 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90720" y="5029200"/>
            <a:ext cx="3352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j  &amp;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j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k  </a:t>
            </a:r>
            <a:r>
              <a:rPr b="1" lang="en-US" sz="1600" spc="-1" strike="noStrike">
                <a:solidFill>
                  <a:srgbClr val="cc0066"/>
                </a:solidFill>
                <a:latin typeface="Symbol"/>
                <a:ea typeface="Symbol"/>
              </a:rPr>
              <a:t>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 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ПРОСТРАН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1055520"/>
            <a:ext cx="7391520" cy="17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ве группы средств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лексические (наречия и их конструкции, предлоги, имена существительные и именные группы, глаголы</a:t>
            </a:r>
            <a:r>
              <a:rPr b="1" lang="en-US" sz="1400" spc="-1" strike="noStrike" baseline="30000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правленного действия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грамматико-морфологические (падежн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ые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значения предлогов, которые управляют падежной формой существительных, а также местоимений и числительных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" y="762120"/>
            <a:ext cx="441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66"/>
                </a:solidFill>
                <a:latin typeface="Times New Roman"/>
              </a:rPr>
              <a:t>Естественный язы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19320" y="2948040"/>
            <a:ext cx="388620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войти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м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з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выйти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з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ма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округ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ходи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округ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ма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доеха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етро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перек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стоя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перек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роги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доль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бежа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доль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леса),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 baseline="30000">
                <a:solidFill>
                  <a:srgbClr val="cc0066"/>
                </a:solidFill>
                <a:latin typeface="Times New Roman"/>
                <a:ea typeface="Times New Roman"/>
              </a:rPr>
              <a:t>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за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спрятаться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за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ерево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сес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камейку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86400" y="2857680"/>
            <a:ext cx="3276720" cy="29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ежду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расти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ежду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устами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д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лежа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д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толом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д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пролета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д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городом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слете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ерева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не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находиться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не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сягаемости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нутри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жи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нутри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репости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имо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пройти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имо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агазина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у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стоя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у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амина).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" y="263520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66"/>
                </a:solidFill>
                <a:latin typeface="Times New Roman"/>
              </a:rPr>
              <a:t>Предлог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ПРОСТРАН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1066680"/>
            <a:ext cx="5943600" cy="37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экстериорные, определяющие положение объекта во внешнем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ространстве относительно некоторого начала координат, простран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твенного  ориентира,   или  локализатора   (например,   относительно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ЛОКа с именем Париж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нтериорные, определяющие положение объекта во внутрен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ем  пространстве относительно начала координат или некоторой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ространственного ориентир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испозитивные,   задающие   местоположение   объекта   в   про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транстве в самом общем виде («где-то на севере»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упериорные, указывающие местоположение объекта относи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ельно верхней поверхности некоторого локализатора, или ориенти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нфериорные,  характеризующие положение объекта  относи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ельно нижней поверхности локализатора или ориентир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минантные, указывающие местоположение объекта над не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оторым   локализатором   или   ориентиром,   когда   нет   в   наличии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аса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6:28:45Z</dcterms:created>
  <dc:creator>.</dc:creator>
  <dc:description/>
  <dc:language>en-US</dc:language>
  <cp:lastModifiedBy>Peter Sosnin</cp:lastModifiedBy>
  <dcterms:modified xsi:type="dcterms:W3CDTF">2005-11-28T06:52:25Z</dcterms:modified>
  <cp:revision>9</cp:revision>
  <dc:subject/>
  <dc:title>ЛОГИКА ВРЕМЕНИ</dc:title>
</cp:coreProperties>
</file>