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48F-4AAD-4217-B00A-AA8FB891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E7C7-7D7B-4431-8C96-9FDC5820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880A-31E7-421D-A24E-6831E230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A80-6B77-45E5-97CC-9F5C8589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2A8-5545-4019-8897-8C54973F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E02-CE08-4571-88E5-DBA40D33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0F7-2298-400D-A346-E8F0EB4B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E4F9-5485-4BD9-A620-475DB020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056F-FBBD-48C8-B5AB-4C129791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00E-950C-4E3C-B850-2E77BCBB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A0CF-D844-4BA1-8D2F-9A9B59BD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4065-2C0B-4C9A-8DAC-3274B54F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F9DE-9F88-4004-83AC-192F9B6318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БАЗОВ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520" y="28195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ффективность и 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320040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ррекция клас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990720"/>
            <a:ext cx="1676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ая классифик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175248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ый словар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29528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ределить полный перечен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48006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ачество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46483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ыбор алгорит ма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57150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Рабочие словари признаков и клас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819160" y="22860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00400" y="15998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38680" y="1676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933960" y="4038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486040" y="5181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2895480" y="55623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1676520" y="365724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7621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Грамматическое распозна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19320" y="1447920"/>
            <a:ext cx="2057400" cy="1828800"/>
            <a:chOff x="1219320" y="1447920"/>
            <a:chExt cx="2057400" cy="1828800"/>
          </a:xfrm>
        </p:grpSpPr>
        <p:sp>
          <p:nvSpPr>
            <p:cNvPr id="398" name=""/>
            <p:cNvSpPr/>
            <p:nvPr/>
          </p:nvSpPr>
          <p:spPr>
            <a:xfrm>
              <a:off x="1219320" y="1447920"/>
              <a:ext cx="2057400" cy="1828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460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2133720"/>
              <a:ext cx="763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8800" y="28958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76520" y="3809880"/>
            <a:ext cx="6400800" cy="221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Лицо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)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нутри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): окружность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,z):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нос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 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z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 =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 (и( над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x,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ад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,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z)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x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слев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ос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ямоугольник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отрезок_прямой(), горизонтальный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733920" y="1447920"/>
            <a:ext cx="4952880" cy="1523880"/>
            <a:chOff x="3733920" y="1447920"/>
            <a:chExt cx="4952880" cy="1523880"/>
          </a:xfrm>
        </p:grpSpPr>
        <p:sp>
          <p:nvSpPr>
            <p:cNvPr id="405" name=""/>
            <p:cNvSpPr/>
            <p:nvPr/>
          </p:nvSpPr>
          <p:spPr>
            <a:xfrm>
              <a:off x="3809880" y="1447920"/>
              <a:ext cx="45720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1523880"/>
              <a:ext cx="441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ипы объектов : точка, прямоугольник, отрезок прямой , окружн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33920" y="2362320"/>
              <a:ext cx="49528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62520" y="2514600"/>
              <a:ext cx="45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едикаты : Внутри, над, слева, горизонтальный, 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38080" y="1600200"/>
            <a:ext cx="1523880" cy="2211840"/>
            <a:chOff x="838080" y="1600200"/>
            <a:chExt cx="1523880" cy="2211840"/>
          </a:xfrm>
        </p:grpSpPr>
        <p:sp>
          <p:nvSpPr>
            <p:cNvPr id="414" name=""/>
            <p:cNvSpPr/>
            <p:nvPr/>
          </p:nvSpPr>
          <p:spPr>
            <a:xfrm>
              <a:off x="914400" y="167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8080" y="19047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914400" y="2285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38080" y="24379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6680" y="25142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1600" y="16002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43000" y="1828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7560" y="21333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838080" y="2971440"/>
              <a:ext cx="304920" cy="304560"/>
              <a:chOff x="838080" y="2971440"/>
              <a:chExt cx="304920" cy="30456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838080" y="2971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38080" y="29714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67616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1676160" y="2971440"/>
              <a:ext cx="381240" cy="459360"/>
              <a:chOff x="1676160" y="2971440"/>
              <a:chExt cx="381240" cy="4593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1752480" y="2971440"/>
                <a:ext cx="304920" cy="228240"/>
                <a:chOff x="1752480" y="2971440"/>
                <a:chExt cx="304920" cy="2282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752480" y="29714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57400" y="297144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1676160" y="312372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1752120" y="3504960"/>
              <a:ext cx="304920" cy="304560"/>
              <a:chOff x="1752120" y="3504960"/>
              <a:chExt cx="304920" cy="304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05704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175212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838080" y="3504960"/>
              <a:ext cx="304920" cy="304560"/>
              <a:chOff x="838080" y="3504960"/>
              <a:chExt cx="304920" cy="304560"/>
            </a:xfrm>
          </p:grpSpPr>
          <p:sp>
            <p:nvSpPr>
              <p:cNvPr id="435" name=""/>
              <p:cNvSpPr/>
              <p:nvPr/>
            </p:nvSpPr>
            <p:spPr>
              <a:xfrm>
                <a:off x="83808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3808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990360" y="31240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440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09880" y="1371600"/>
            <a:ext cx="12193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::=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F::=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::=b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G::=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::=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::=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::=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T::=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019920" y="2057040"/>
            <a:ext cx="1218960" cy="991080"/>
            <a:chOff x="6019920" y="2057040"/>
            <a:chExt cx="1218960" cy="991080"/>
          </a:xfrm>
        </p:grpSpPr>
        <p:sp>
          <p:nvSpPr>
            <p:cNvPr id="441" name=""/>
            <p:cNvSpPr/>
            <p:nvPr/>
          </p:nvSpPr>
          <p:spPr>
            <a:xfrm>
              <a:off x="601992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2448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396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38880" y="20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38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8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93396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01992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629040" y="304812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019920" y="2742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01992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019920" y="2057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219320" y="762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ьные грам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остояния (класс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 = {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ктор призна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условные распре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априорные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= [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минимиз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1523880"/>
            <a:ext cx="4190760" cy="419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175248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ыбрать 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если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&lt; 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&gt;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638680" y="47242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9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2514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236232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26668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91320" y="2286000"/>
            <a:ext cx="289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sqrt((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(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Peter Sosnin</cp:lastModifiedBy>
  <dcterms:modified xsi:type="dcterms:W3CDTF">2006-05-04T15:11:01Z</dcterms:modified>
  <cp:revision>12</cp:revision>
  <dc:subject/>
  <dc:title>РАСПОЗНАВАНИЕ ОБРАЗОВ</dc:title>
</cp:coreProperties>
</file>