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3109-4A0C-4143-A044-26511EF5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41E8-0D5A-423F-B570-878CA124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FC7-0B81-4B40-837A-598FB3DF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554-616B-43A3-9FF0-B84A546D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C04E-0419-4532-9E8F-34A98918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F6BB-DBB7-491F-848D-A9BB0ADB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C46-B89D-40D5-997B-A9FACD6B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978-68C9-4650-A20F-0F70C11F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CF7-CD0C-4343-8A32-515D03B6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6DE-B33C-49DC-ABB2-58896440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C21-84D7-41FF-9D5A-FC1E4ED6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CF3-003C-4BD8-BA97-3798F787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1078-FECA-4A55-8D5D-8AE277B4E2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838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ДЕ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38080" y="1523880"/>
            <a:ext cx="7391520" cy="4419720"/>
            <a:chOff x="838080" y="1523880"/>
            <a:chExt cx="7391520" cy="4419720"/>
          </a:xfrm>
        </p:grpSpPr>
        <p:sp>
          <p:nvSpPr>
            <p:cNvPr id="45" name=""/>
            <p:cNvSpPr/>
            <p:nvPr/>
          </p:nvSpPr>
          <p:spPr>
            <a:xfrm>
              <a:off x="838080" y="160020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76920" y="1523880"/>
              <a:ext cx="3276360" cy="83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52880" y="32767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52880" y="51055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533412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167652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3000" y="541008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9200" y="160020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05520" y="335268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А ВЫВО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05520" y="51814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ИНТЕРФЕЙ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62520" y="18288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22096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40384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56386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76520" y="914400"/>
            <a:ext cx="601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РАВДОПОДОБНЫЕ РАССУ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57200" y="1568520"/>
            <a:ext cx="8153280" cy="1327680"/>
            <a:chOff x="457200" y="1568520"/>
            <a:chExt cx="8153280" cy="1327680"/>
          </a:xfrm>
        </p:grpSpPr>
        <p:sp>
          <p:nvSpPr>
            <p:cNvPr id="655" name=""/>
            <p:cNvSpPr/>
            <p:nvPr/>
          </p:nvSpPr>
          <p:spPr>
            <a:xfrm>
              <a:off x="457200" y="20700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ИНДУКТИВ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740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АНАЛОГ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81280" y="21016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ВЕРОЯТНОСТ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6272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НЕЧЁТК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81680" y="21016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ДРУГИЕ ТИП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980720" y="1568520"/>
              <a:ext cx="129564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048120" y="1568520"/>
              <a:ext cx="83808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00600" y="1568520"/>
              <a:ext cx="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10080" y="1568520"/>
              <a:ext cx="91440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67280" y="1568520"/>
              <a:ext cx="16002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80880" y="3427560"/>
            <a:ext cx="8457840" cy="2669760"/>
            <a:chOff x="380880" y="3427560"/>
            <a:chExt cx="8457840" cy="2669760"/>
          </a:xfrm>
        </p:grpSpPr>
        <p:sp>
          <p:nvSpPr>
            <p:cNvPr id="666" name=""/>
            <p:cNvSpPr/>
            <p:nvPr/>
          </p:nvSpPr>
          <p:spPr>
            <a:xfrm>
              <a:off x="1676520" y="342756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ЕОПРЕДЕЛЁННОСТИ РАЗНЫХ ТИП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80880" y="4174920"/>
              <a:ext cx="8457840" cy="1922400"/>
              <a:chOff x="380880" y="4174920"/>
              <a:chExt cx="8457840" cy="1922400"/>
            </a:xfrm>
          </p:grpSpPr>
          <p:sp>
            <p:nvSpPr>
              <p:cNvPr id="668" name=""/>
              <p:cNvSpPr/>
              <p:nvPr/>
            </p:nvSpPr>
            <p:spPr>
              <a:xfrm>
                <a:off x="380880" y="417492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точ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25280" y="4936680"/>
                <a:ext cx="153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знание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69680" y="5698440"/>
                <a:ext cx="27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определён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972320" y="5698440"/>
                <a:ext cx="217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субъектив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938920" y="501264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полнот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83680" y="4326840"/>
                <a:ext cx="225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расплывчат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 flipH="1">
              <a:off x="1828440" y="3946320"/>
              <a:ext cx="60948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057040" y="3946320"/>
              <a:ext cx="1219320" cy="99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3200400" y="3946320"/>
              <a:ext cx="838080" cy="1752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3946320"/>
              <a:ext cx="838440" cy="16761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34120" y="3870000"/>
              <a:ext cx="990360" cy="10666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77120" y="3870000"/>
              <a:ext cx="6858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4920" y="762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ЦЕН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666880" y="1600200"/>
            <a:ext cx="3505320" cy="1219320"/>
            <a:chOff x="2666880" y="1600200"/>
            <a:chExt cx="3505320" cy="1219320"/>
          </a:xfrm>
        </p:grpSpPr>
        <p:sp>
          <p:nvSpPr>
            <p:cNvPr id="684" name=""/>
            <p:cNvSpPr/>
            <p:nvPr/>
          </p:nvSpPr>
          <p:spPr>
            <a:xfrm>
              <a:off x="2666880" y="1981440"/>
              <a:ext cx="13464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05520" y="1981440"/>
              <a:ext cx="106668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13280" y="1981440"/>
              <a:ext cx="10922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080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0348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73392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68720" y="2048040"/>
              <a:ext cx="11224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29200" y="2057400"/>
              <a:ext cx="1119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64040" y="1600200"/>
              <a:ext cx="3240" cy="121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8120" y="2057400"/>
              <a:ext cx="6048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24080" y="2057400"/>
              <a:ext cx="551160" cy="27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21932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ф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1279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почек 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2900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09480" y="2057400"/>
            <a:ext cx="380880" cy="412560"/>
            <a:chOff x="609480" y="2057400"/>
            <a:chExt cx="380880" cy="412560"/>
          </a:xfrm>
        </p:grpSpPr>
        <p:sp>
          <p:nvSpPr>
            <p:cNvPr id="699" name=""/>
            <p:cNvSpPr/>
            <p:nvPr/>
          </p:nvSpPr>
          <p:spPr>
            <a:xfrm>
              <a:off x="60948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948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143000" y="2057400"/>
            <a:ext cx="380880" cy="412560"/>
            <a:chOff x="1143000" y="2057400"/>
            <a:chExt cx="380880" cy="412560"/>
          </a:xfrm>
        </p:grpSpPr>
        <p:sp>
          <p:nvSpPr>
            <p:cNvPr id="702" name=""/>
            <p:cNvSpPr/>
            <p:nvPr/>
          </p:nvSpPr>
          <p:spPr>
            <a:xfrm>
              <a:off x="114300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4300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905120" y="2057400"/>
            <a:ext cx="380880" cy="412560"/>
            <a:chOff x="1905120" y="2057400"/>
            <a:chExt cx="380880" cy="412560"/>
          </a:xfrm>
        </p:grpSpPr>
        <p:sp>
          <p:nvSpPr>
            <p:cNvPr id="705" name=""/>
            <p:cNvSpPr/>
            <p:nvPr/>
          </p:nvSpPr>
          <p:spPr>
            <a:xfrm>
              <a:off x="190512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0512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rot="5479800">
            <a:off x="1294560" y="99036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324480" y="1981080"/>
            <a:ext cx="2210040" cy="381240"/>
            <a:chOff x="6324480" y="1981080"/>
            <a:chExt cx="2210040" cy="381240"/>
          </a:xfrm>
        </p:grpSpPr>
        <p:sp>
          <p:nvSpPr>
            <p:cNvPr id="709" name=""/>
            <p:cNvSpPr/>
            <p:nvPr/>
          </p:nvSpPr>
          <p:spPr>
            <a:xfrm>
              <a:off x="6324480" y="1981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62040" y="1981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73360" y="1981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6560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3652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696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64600" y="2035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2480" y="2035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324480" y="2438280"/>
            <a:ext cx="2210040" cy="381240"/>
            <a:chOff x="6324480" y="2438280"/>
            <a:chExt cx="2210040" cy="381240"/>
          </a:xfrm>
        </p:grpSpPr>
        <p:sp>
          <p:nvSpPr>
            <p:cNvPr id="718" name=""/>
            <p:cNvSpPr/>
            <p:nvPr/>
          </p:nvSpPr>
          <p:spPr>
            <a:xfrm>
              <a:off x="6324480" y="24382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62040" y="24382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73360" y="24382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6560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3652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9696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64600" y="24922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2480" y="24922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324480" y="3124080"/>
            <a:ext cx="2210040" cy="381240"/>
            <a:chOff x="6324480" y="3124080"/>
            <a:chExt cx="2210040" cy="381240"/>
          </a:xfrm>
        </p:grpSpPr>
        <p:sp>
          <p:nvSpPr>
            <p:cNvPr id="727" name=""/>
            <p:cNvSpPr/>
            <p:nvPr/>
          </p:nvSpPr>
          <p:spPr>
            <a:xfrm>
              <a:off x="6324480" y="3124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62040" y="3124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3360" y="3124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6560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3652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696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64600" y="3178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12480" y="3178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324480" y="29718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57200" y="2743200"/>
            <a:ext cx="5105160" cy="915120"/>
            <a:chOff x="457200" y="2743200"/>
            <a:chExt cx="5105160" cy="915120"/>
          </a:xfrm>
        </p:grpSpPr>
        <p:sp>
          <p:nvSpPr>
            <p:cNvPr id="737" name=""/>
            <p:cNvSpPr/>
            <p:nvPr/>
          </p:nvSpPr>
          <p:spPr>
            <a:xfrm>
              <a:off x="1242720" y="3321000"/>
              <a:ext cx="43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Times New Roman"/>
                </a:rPr>
                <a:t>Фактор достоверности  =  </a:t>
              </a: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</a:rPr>
                <a:t>X + Y - 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7200" y="274320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фактов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970720" y="2743200"/>
              <a:ext cx="24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правила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80880" y="4251240"/>
            <a:ext cx="8382240" cy="1999440"/>
            <a:chOff x="380880" y="4251240"/>
            <a:chExt cx="8382240" cy="1999440"/>
          </a:xfrm>
        </p:grpSpPr>
        <p:sp>
          <p:nvSpPr>
            <p:cNvPr id="741" name=""/>
            <p:cNvSpPr/>
            <p:nvPr/>
          </p:nvSpPr>
          <p:spPr>
            <a:xfrm>
              <a:off x="380880" y="426708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3520" y="425124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Как считать</a:t>
              </a: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7200" y="4800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X=P(Ф)/P(Ф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76520" y="5105520"/>
              <a:ext cx="2286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24080" y="480060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Y= </a:t>
              </a: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мера доверия-мера недовер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62520" y="4343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   </a:t>
              </a: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676520" y="5486400"/>
              <a:ext cx="2286000" cy="687960"/>
              <a:chOff x="1676520" y="5486400"/>
              <a:chExt cx="2286000" cy="687960"/>
            </a:xfrm>
          </p:grpSpPr>
          <p:sp>
            <p:nvSpPr>
              <p:cNvPr id="748" name=""/>
              <p:cNvSpPr/>
              <p:nvPr/>
            </p:nvSpPr>
            <p:spPr>
              <a:xfrm>
                <a:off x="1676520" y="548640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Max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-P(H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1676520" y="5791320"/>
                <a:ext cx="1981080" cy="383040"/>
                <a:chOff x="1676520" y="5791320"/>
                <a:chExt cx="1981080" cy="3830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1676520" y="579132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286000" y="586728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1 - 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2" name=""/>
            <p:cNvSpPr/>
            <p:nvPr/>
          </p:nvSpPr>
          <p:spPr>
            <a:xfrm flipH="1">
              <a:off x="3733560" y="5257800"/>
              <a:ext cx="53316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38680" y="5181480"/>
              <a:ext cx="30492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791320" y="5562720"/>
              <a:ext cx="2286000" cy="687960"/>
              <a:chOff x="5791320" y="5562720"/>
              <a:chExt cx="2286000" cy="687960"/>
            </a:xfrm>
          </p:grpSpPr>
          <p:sp>
            <p:nvSpPr>
              <p:cNvPr id="755" name=""/>
              <p:cNvSpPr/>
              <p:nvPr/>
            </p:nvSpPr>
            <p:spPr>
              <a:xfrm>
                <a:off x="5791320" y="556272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 - Min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5791320" y="5867640"/>
                <a:ext cx="1981080" cy="383040"/>
                <a:chOff x="5791320" y="5867640"/>
                <a:chExt cx="1981080" cy="3830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791320" y="586764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400800" y="594360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25588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КАЗАТЕЛЬ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24080" y="25272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РГУМЕНТ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558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БОСН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14479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ВЫВОД» ОБЪЯСНЯЕМОГО ИЗ ОСНОВ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209680" y="17524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292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3352680"/>
            <a:ext cx="167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1.Де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2.Ин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3.Дете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34416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Убедить в разумности действ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4800600"/>
            <a:ext cx="23623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1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a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2 {a, {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(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3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b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276720" y="3124080"/>
            <a:ext cx="3047760" cy="3050280"/>
            <a:chOff x="3276720" y="3124080"/>
            <a:chExt cx="3047760" cy="3050280"/>
          </a:xfrm>
        </p:grpSpPr>
        <p:sp>
          <p:nvSpPr>
            <p:cNvPr id="773" name=""/>
            <p:cNvSpPr/>
            <p:nvPr/>
          </p:nvSpPr>
          <p:spPr>
            <a:xfrm>
              <a:off x="3276720" y="31240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Убеди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276720" y="3429000"/>
              <a:ext cx="2895480" cy="2288160"/>
              <a:chOff x="3276720" y="3429000"/>
              <a:chExt cx="2895480" cy="2288160"/>
            </a:xfrm>
          </p:grpSpPr>
          <p:sp>
            <p:nvSpPr>
              <p:cNvPr id="775" name=""/>
              <p:cNvSpPr/>
              <p:nvPr/>
            </p:nvSpPr>
            <p:spPr>
              <a:xfrm>
                <a:off x="3581280" y="3733920"/>
                <a:ext cx="0" cy="152388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505320" y="5181480"/>
                <a:ext cx="2133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09880" y="3886200"/>
                <a:ext cx="1371600" cy="1143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911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769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3809880" y="4190760"/>
                <a:ext cx="1371600" cy="6858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29200" y="541008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бежде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76720" y="3429000"/>
                <a:ext cx="83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ер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3505320" y="5867280"/>
              <a:ext cx="281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епень(Убеждение + вера) 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71600" y="1295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1905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АДРЕС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95480" y="18288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7692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514600" y="12193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580920" y="1219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43400" y="1219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52880" y="121932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533520" y="1676520"/>
            <a:ext cx="1980360" cy="1752480"/>
            <a:chOff x="533520" y="1676520"/>
            <a:chExt cx="1980360" cy="1752480"/>
          </a:xfrm>
        </p:grpSpPr>
        <p:sp>
          <p:nvSpPr>
            <p:cNvPr id="796" name=""/>
            <p:cNvSpPr/>
            <p:nvPr/>
          </p:nvSpPr>
          <p:spPr>
            <a:xfrm>
              <a:off x="533520" y="1676520"/>
              <a:ext cx="1901880" cy="1752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12360" y="1717920"/>
              <a:ext cx="1901520" cy="1600200"/>
              <a:chOff x="612360" y="1717920"/>
              <a:chExt cx="1901520" cy="1600200"/>
            </a:xfrm>
          </p:grpSpPr>
          <p:sp>
            <p:nvSpPr>
              <p:cNvPr id="798" name=""/>
              <p:cNvSpPr/>
              <p:nvPr/>
            </p:nvSpPr>
            <p:spPr>
              <a:xfrm>
                <a:off x="612360" y="1717920"/>
                <a:ext cx="1347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1.ПОЛУЧИТЬ РЕШ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2360" y="2125440"/>
                <a:ext cx="1822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2.СОКРАТИТЬ ТРУДОЕМКОС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2360" y="2492280"/>
                <a:ext cx="1901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3.ПОВЫСИТЬ КВАЛИФИКАЦИЮ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12360" y="2859120"/>
                <a:ext cx="1267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4.ПОВЫСИТЬ ДОВЕР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1301760" y="3657600"/>
            <a:ext cx="3498840" cy="2590920"/>
            <a:chOff x="1301760" y="3657600"/>
            <a:chExt cx="3498840" cy="2590920"/>
          </a:xfrm>
        </p:grpSpPr>
        <p:sp>
          <p:nvSpPr>
            <p:cNvPr id="803" name=""/>
            <p:cNvSpPr/>
            <p:nvPr/>
          </p:nvSpPr>
          <p:spPr>
            <a:xfrm>
              <a:off x="1301760" y="3657600"/>
              <a:ext cx="342900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84200" y="3719520"/>
              <a:ext cx="3416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БЛАСТЬ ИНТЕРПРЕТАЦИИ: приложения,система, язык, пользоват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84200" y="4319640"/>
              <a:ext cx="334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УРОВЕНЬ ОБЩНОСТИ: конкретные факты, абстрактные факты, метафакт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84200" y="4862520"/>
              <a:ext cx="327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ИП СУЩНОСТИ: процессы, объекты, и.т.д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78080" y="5405400"/>
              <a:ext cx="327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СВОЙСТВА И ЗНАЧЕНИЯ СУЩНОСТИ: статические, динамические, точные, приближенные, полные, непол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H="1">
            <a:off x="2666880" y="2286000"/>
            <a:ext cx="6098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105520" y="2590920"/>
            <a:ext cx="1828800" cy="2590560"/>
            <a:chOff x="5105520" y="2590920"/>
            <a:chExt cx="1828800" cy="2590560"/>
          </a:xfrm>
        </p:grpSpPr>
        <p:sp>
          <p:nvSpPr>
            <p:cNvPr id="810" name=""/>
            <p:cNvSpPr/>
            <p:nvPr/>
          </p:nvSpPr>
          <p:spPr>
            <a:xfrm>
              <a:off x="5105520" y="2590920"/>
              <a:ext cx="1828800" cy="259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81480" y="2678040"/>
              <a:ext cx="17528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1.ТИП ОБЪЯСНЕНИЯ: причинные, закон, функциональные (цель, мотив), структурные, генетическ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81480" y="403848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2.УРОВЕНЬ ДЕТАЛЬНОСТИ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81480" y="44956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3. ЯЗЫК ОБЪЯС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838080" y="1905120"/>
            <a:ext cx="1752840" cy="609480"/>
            <a:chOff x="838080" y="1905120"/>
            <a:chExt cx="1752840" cy="609480"/>
          </a:xfrm>
        </p:grpSpPr>
        <p:sp>
          <p:nvSpPr>
            <p:cNvPr id="818" name=""/>
            <p:cNvSpPr/>
            <p:nvPr/>
          </p:nvSpPr>
          <p:spPr>
            <a:xfrm>
              <a:off x="838080" y="1905120"/>
              <a:ext cx="175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14400" y="1981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аписан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066680" y="3048120"/>
            <a:ext cx="2057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.Встроенные в коды как сообщ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2.Типа 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ELP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505320" y="1905120"/>
            <a:ext cx="2209320" cy="609480"/>
            <a:chOff x="3505320" y="1905120"/>
            <a:chExt cx="2209320" cy="609480"/>
          </a:xfrm>
        </p:grpSpPr>
        <p:sp>
          <p:nvSpPr>
            <p:cNvPr id="822" name=""/>
            <p:cNvSpPr/>
            <p:nvPr/>
          </p:nvSpPr>
          <p:spPr>
            <a:xfrm>
              <a:off x="3505320" y="1905120"/>
              <a:ext cx="22093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01440" y="1981080"/>
              <a:ext cx="201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Генерируем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172200" y="1905120"/>
            <a:ext cx="2590920" cy="838080"/>
            <a:chOff x="6172200" y="1905120"/>
            <a:chExt cx="2590920" cy="838080"/>
          </a:xfrm>
        </p:grpSpPr>
        <p:sp>
          <p:nvSpPr>
            <p:cNvPr id="825" name=""/>
            <p:cNvSpPr/>
            <p:nvPr/>
          </p:nvSpPr>
          <p:spPr>
            <a:xfrm>
              <a:off x="6172200" y="1905120"/>
              <a:ext cx="259092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8520" y="1905120"/>
              <a:ext cx="239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Ориентированные на обуч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3048120"/>
            <a:ext cx="1676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Протоко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Трассировка испол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48520" y="3124080"/>
            <a:ext cx="228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Моделир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Имит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4572000"/>
            <a:ext cx="2209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Базовое действ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Запоминать тре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.Каркас визуали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4.Средства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209680" y="12193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112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29200" y="1295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37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840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843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846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849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852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855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04920" y="838080"/>
            <a:ext cx="8686800" cy="586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276720" y="2743200"/>
            <a:ext cx="2971440" cy="990720"/>
            <a:chOff x="3276720" y="2743200"/>
            <a:chExt cx="2971440" cy="990720"/>
          </a:xfrm>
        </p:grpSpPr>
        <p:sp>
          <p:nvSpPr>
            <p:cNvPr id="866" name=""/>
            <p:cNvSpPr/>
            <p:nvPr/>
          </p:nvSpPr>
          <p:spPr>
            <a:xfrm>
              <a:off x="3276720" y="2743200"/>
              <a:ext cx="2971440" cy="990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71720" y="3048120"/>
              <a:ext cx="19810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РГУМЕН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62120" y="1523880"/>
            <a:ext cx="2514600" cy="533520"/>
            <a:chOff x="762120" y="1523880"/>
            <a:chExt cx="2514600" cy="533520"/>
          </a:xfrm>
        </p:grpSpPr>
        <p:sp>
          <p:nvSpPr>
            <p:cNvPr id="869" name=""/>
            <p:cNvSpPr/>
            <p:nvPr/>
          </p:nvSpPr>
          <p:spPr>
            <a:xfrm>
              <a:off x="76212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44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ОКАЗАТЕЛЬ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715000" y="4343400"/>
            <a:ext cx="2514600" cy="533520"/>
            <a:chOff x="5715000" y="4343400"/>
            <a:chExt cx="2514600" cy="533520"/>
          </a:xfrm>
        </p:grpSpPr>
        <p:sp>
          <p:nvSpPr>
            <p:cNvPr id="872" name=""/>
            <p:cNvSpPr/>
            <p:nvPr/>
          </p:nvSpPr>
          <p:spPr>
            <a:xfrm>
              <a:off x="571500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9132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38080" y="4343400"/>
            <a:ext cx="2514600" cy="533520"/>
            <a:chOff x="838080" y="4343400"/>
            <a:chExt cx="2514600" cy="533520"/>
          </a:xfrm>
        </p:grpSpPr>
        <p:sp>
          <p:nvSpPr>
            <p:cNvPr id="875" name=""/>
            <p:cNvSpPr/>
            <p:nvPr/>
          </p:nvSpPr>
          <p:spPr>
            <a:xfrm>
              <a:off x="83808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1440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БЪЯСН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57200" y="2971800"/>
            <a:ext cx="2286000" cy="533520"/>
            <a:chOff x="457200" y="2971800"/>
            <a:chExt cx="2286000" cy="533520"/>
          </a:xfrm>
        </p:grpSpPr>
        <p:sp>
          <p:nvSpPr>
            <p:cNvPr id="878" name=""/>
            <p:cNvSpPr/>
            <p:nvPr/>
          </p:nvSpPr>
          <p:spPr>
            <a:xfrm>
              <a:off x="457200" y="2971800"/>
              <a:ext cx="22860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320" y="3048120"/>
              <a:ext cx="21474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ПОДТВЕРЖ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6781680" y="2895480"/>
            <a:ext cx="1981440" cy="533520"/>
            <a:chOff x="6781680" y="2895480"/>
            <a:chExt cx="1981440" cy="533520"/>
          </a:xfrm>
        </p:grpSpPr>
        <p:sp>
          <p:nvSpPr>
            <p:cNvPr id="881" name=""/>
            <p:cNvSpPr/>
            <p:nvPr/>
          </p:nvSpPr>
          <p:spPr>
            <a:xfrm>
              <a:off x="6781680" y="2895480"/>
              <a:ext cx="198144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1800" y="2971800"/>
              <a:ext cx="18612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ОЗРА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486400" y="1523880"/>
            <a:ext cx="2514600" cy="533520"/>
            <a:chOff x="5486400" y="1523880"/>
            <a:chExt cx="2514600" cy="533520"/>
          </a:xfrm>
        </p:grpSpPr>
        <p:sp>
          <p:nvSpPr>
            <p:cNvPr id="884" name=""/>
            <p:cNvSpPr/>
            <p:nvPr/>
          </p:nvSpPr>
          <p:spPr>
            <a:xfrm>
              <a:off x="548640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6272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ОВЕР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505320" y="5791320"/>
            <a:ext cx="2514600" cy="533160"/>
            <a:chOff x="3505320" y="5791320"/>
            <a:chExt cx="2514600" cy="533160"/>
          </a:xfrm>
        </p:grpSpPr>
        <p:sp>
          <p:nvSpPr>
            <p:cNvPr id="887" name=""/>
            <p:cNvSpPr/>
            <p:nvPr/>
          </p:nvSpPr>
          <p:spPr>
            <a:xfrm>
              <a:off x="3505320" y="5791320"/>
              <a:ext cx="25146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81640" y="586728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АВ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352680" y="2286000"/>
            <a:ext cx="381240" cy="30492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257800" y="220932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819520" y="320040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24480" y="320040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276720" y="3809880"/>
            <a:ext cx="30456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495680" y="3962520"/>
            <a:ext cx="0" cy="1600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05520" y="3962520"/>
            <a:ext cx="457200" cy="3045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99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902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905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908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911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914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917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ЕЦЕДЕНТЫ  ЭКСПЕР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1295280"/>
            <a:ext cx="4495320" cy="2438280"/>
            <a:chOff x="380880" y="1295280"/>
            <a:chExt cx="4495320" cy="2438280"/>
          </a:xfrm>
        </p:grpSpPr>
        <p:grpSp>
          <p:nvGrpSpPr>
            <p:cNvPr id="63" name=""/>
            <p:cNvGrpSpPr/>
            <p:nvPr/>
          </p:nvGrpSpPr>
          <p:grpSpPr>
            <a:xfrm>
              <a:off x="380880" y="1295280"/>
              <a:ext cx="4013640" cy="1981080"/>
              <a:chOff x="380880" y="1295280"/>
              <a:chExt cx="4013640" cy="1981080"/>
            </a:xfrm>
          </p:grpSpPr>
          <p:sp>
            <p:nvSpPr>
              <p:cNvPr id="64" name=""/>
              <p:cNvSpPr/>
              <p:nvPr/>
            </p:nvSpPr>
            <p:spPr>
              <a:xfrm>
                <a:off x="380880" y="12952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79880" y="1357200"/>
                <a:ext cx="1975320" cy="270720"/>
                <a:chOff x="479880" y="1357200"/>
                <a:chExt cx="1975320" cy="270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79880" y="1376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76360" y="1357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28560" y="14450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59880" y="13766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35920" y="13766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94600" y="13806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189520" y="13766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365920" y="1380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1005120" y="16286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70960" y="162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96240" y="16286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05840" y="1879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840" y="18763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51880" y="18795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1510200" y="1876320"/>
                <a:ext cx="1874160" cy="185400"/>
                <a:chOff x="1510200" y="1876320"/>
                <a:chExt cx="1874160" cy="1854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510200" y="18788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638000" y="18788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81600" y="18763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56920" y="18788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1006200" y="212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85560" y="21240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17120" y="21286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50760" y="21286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2714400" y="2124000"/>
                <a:ext cx="1477440" cy="249480"/>
                <a:chOff x="2714400" y="2124000"/>
                <a:chExt cx="1477440" cy="2494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714400" y="21265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84320" y="21240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49840" y="2190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24000" y="21240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102560" y="2126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1459800" y="23763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10760" y="2373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92120" y="23763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37120" y="23763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56360" y="2376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45280" y="23763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658520" y="2373120"/>
                <a:ext cx="2148840" cy="185400"/>
                <a:chOff x="1658520" y="2373120"/>
                <a:chExt cx="2148840" cy="1854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658520" y="23756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486240" y="23731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18080" y="2375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554760" y="26254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82160" y="2625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01400" y="2622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88520" y="262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76000" y="262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38280" y="26254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46400" y="26254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1720" y="28749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33800" y="2871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31000" y="2874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15600" y="28749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01240" y="28749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17560" y="28717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64520" y="2939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29320" y="28717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98160" y="28749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68160" y="19526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41440" y="1447560"/>
              <a:ext cx="4013280" cy="1981080"/>
              <a:chOff x="541440" y="1447560"/>
              <a:chExt cx="4013280" cy="1981080"/>
            </a:xfrm>
          </p:grpSpPr>
          <p:sp>
            <p:nvSpPr>
              <p:cNvPr id="123" name=""/>
              <p:cNvSpPr/>
              <p:nvPr/>
            </p:nvSpPr>
            <p:spPr>
              <a:xfrm>
                <a:off x="541440" y="144756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40440" y="1509480"/>
                <a:ext cx="1974240" cy="270720"/>
                <a:chOff x="640440" y="1509480"/>
                <a:chExt cx="1974240" cy="270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0440" y="1528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36200" y="15094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89120" y="159732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20080" y="15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96120" y="152892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053360" y="153288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0080" y="152892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525400" y="1532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1165680" y="178092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31520" y="1777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56440" y="17809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66400" y="20318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5400" y="202860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12080" y="20318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670760" y="2028600"/>
                <a:ext cx="1873800" cy="185400"/>
                <a:chOff x="1670760" y="2028600"/>
                <a:chExt cx="1873800" cy="185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670760" y="203112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98560" y="203112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41440" y="202860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17120" y="203112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166040" y="228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46120" y="227628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76600" y="22809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10240" y="228096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874600" y="2276280"/>
                <a:ext cx="1477080" cy="249480"/>
                <a:chOff x="2874600" y="2276280"/>
                <a:chExt cx="1477080" cy="249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874600" y="227880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44520" y="22762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10040" y="2342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82040" y="22762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2400" y="2278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620000" y="252864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0960" y="2525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51960" y="2528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97680" y="25286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16920" y="2528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05480" y="252864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819080" y="2525400"/>
                <a:ext cx="2148840" cy="185400"/>
                <a:chOff x="1819080" y="2525400"/>
                <a:chExt cx="2148840" cy="1854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819080" y="252792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46800" y="252540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78640" y="2527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15320" y="277776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41640" y="27777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61240" y="2774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48720" y="2777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36560" y="2777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698840" y="277776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06960" y="277776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51200" y="30272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94360" y="3024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91200" y="3027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75800" y="302724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61800" y="302724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75960" y="302400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24000" y="309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8800" y="302400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58360" y="302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28720" y="210492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02000" y="1600200"/>
              <a:ext cx="4013280" cy="1981080"/>
              <a:chOff x="702000" y="1600200"/>
              <a:chExt cx="4013280" cy="1981080"/>
            </a:xfrm>
          </p:grpSpPr>
          <p:sp>
            <p:nvSpPr>
              <p:cNvPr id="182" name=""/>
              <p:cNvSpPr/>
              <p:nvPr/>
            </p:nvSpPr>
            <p:spPr>
              <a:xfrm>
                <a:off x="702000" y="160020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1000" y="1662120"/>
                <a:ext cx="1974240" cy="270720"/>
                <a:chOff x="801000" y="1662120"/>
                <a:chExt cx="1974240" cy="270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01000" y="1681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96040" y="16621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8240" y="17499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80640" y="16815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156680" y="16815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213920" y="16855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10640" y="16815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685960" y="1685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1326240" y="19335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91360" y="1930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17000" y="19335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26960" y="21844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5960" y="21812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71920" y="21844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831320" y="2181240"/>
                <a:ext cx="1873800" cy="185400"/>
                <a:chOff x="1831320" y="2181240"/>
                <a:chExt cx="1873800" cy="1854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831320" y="21837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58040" y="21837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402000" y="21812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77680" y="21837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1326600" y="2433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06680" y="24289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37160" y="24336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70800" y="24336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035160" y="2428920"/>
                <a:ext cx="1476000" cy="249480"/>
                <a:chOff x="3035160" y="2428920"/>
                <a:chExt cx="1476000" cy="249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35160" y="24314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5080" y="24289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0600" y="24955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242600" y="24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21880" y="24314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779840" y="26812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30800" y="2678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12520" y="268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58240" y="26812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77480" y="268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66040" y="26812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1979640" y="2678040"/>
                <a:ext cx="2148840" cy="185400"/>
                <a:chOff x="1979640" y="2678040"/>
                <a:chExt cx="2148840" cy="1854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979640" y="26805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07360" y="26780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039200" y="2680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875160" y="29304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02200" y="293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21800" y="2927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8560" y="293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7120" y="2930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9400" y="29304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67520" y="29304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1760" y="3179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53840" y="3176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51760" y="3179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35640" y="31798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22360" y="31798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836520" y="31766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84560" y="32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49360" y="31766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18920" y="3179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89280" y="225756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862560" y="1752480"/>
              <a:ext cx="4013640" cy="1981080"/>
              <a:chOff x="862560" y="1752480"/>
              <a:chExt cx="4013640" cy="1981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62560" y="17524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960480" y="1814400"/>
                <a:ext cx="1975320" cy="270720"/>
                <a:chOff x="960480" y="1814400"/>
                <a:chExt cx="1975320" cy="270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960480" y="1833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056600" y="18144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08440" y="19022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141200" y="18338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16520" y="18338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74480" y="18378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671200" y="18338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46520" y="1837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1486800" y="20858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51920" y="20826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77920" y="20858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87520" y="23367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66520" y="23335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32480" y="23367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991160" y="2333520"/>
                <a:ext cx="1873440" cy="185400"/>
                <a:chOff x="1991160" y="2333520"/>
                <a:chExt cx="1873440" cy="1854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991160" y="23360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18960" y="23360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62920" y="23335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37160" y="23360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1487160" y="2585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67240" y="25812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098080" y="25858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31720" y="25858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196080" y="2581200"/>
                <a:ext cx="1476360" cy="249480"/>
                <a:chOff x="3196080" y="2581200"/>
                <a:chExt cx="1476360" cy="24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96080" y="25837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265280" y="2581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330800" y="26478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403880" y="25812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83160" y="25837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1940760" y="28335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91720" y="2830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72360" y="2833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18800" y="28335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37320" y="283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26960" y="28335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140200" y="2830320"/>
                <a:ext cx="2148840" cy="185400"/>
                <a:chOff x="2140200" y="2830320"/>
                <a:chExt cx="2148840" cy="185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140200" y="28328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67920" y="28303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99760" y="2832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035720" y="30826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62760" y="308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82360" y="307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69120" y="308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7680" y="308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19960" y="30826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28080" y="30826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2320" y="33321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14400" y="3328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11960" y="3332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96200" y="33321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82920" y="33321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97080" y="33289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44760" y="339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560" y="33289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79120" y="33321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49840" y="24098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380880" y="39625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ОВТОРНОЕ ИСПОЛНЕНИЕ ПОЛЬЗОВАТЕЛ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029200" y="990720"/>
            <a:ext cx="3733920" cy="5333760"/>
            <a:chOff x="5029200" y="990720"/>
            <a:chExt cx="3733920" cy="5333760"/>
          </a:xfrm>
        </p:grpSpPr>
        <p:sp>
          <p:nvSpPr>
            <p:cNvPr id="301" name=""/>
            <p:cNvSpPr/>
            <p:nvPr/>
          </p:nvSpPr>
          <p:spPr>
            <a:xfrm>
              <a:off x="5410080" y="990720"/>
              <a:ext cx="3353040" cy="5333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029200" y="1600200"/>
              <a:ext cx="3580920" cy="4495320"/>
              <a:chOff x="5029200" y="1600200"/>
              <a:chExt cx="3580920" cy="4495320"/>
            </a:xfrm>
          </p:grpSpPr>
          <p:sp>
            <p:nvSpPr>
              <p:cNvPr id="303" name=""/>
              <p:cNvSpPr/>
              <p:nvPr/>
            </p:nvSpPr>
            <p:spPr>
              <a:xfrm>
                <a:off x="5029200" y="4038120"/>
                <a:ext cx="819360" cy="485640"/>
              </a:xfrm>
              <a:prstGeom prst="leftArrow">
                <a:avLst>
                  <a:gd name="adj1" fmla="val 50000"/>
                  <a:gd name="adj2" fmla="val 42179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60440" y="1600200"/>
                <a:ext cx="2749680" cy="449532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07920" y="1904760"/>
                <a:ext cx="2174400" cy="35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ПЫ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-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ЦЕД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ЛЯ ИХ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ВТОРНОГО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ИСПОЛЬЗОВА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РАЦИОНАЛЬНОСТ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 ОТНОШЕНИЯ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 ОКРУЖАЮЩИ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ИРОМ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ЭВРИСТИ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32960" y="2590560"/>
                <a:ext cx="691200" cy="485280"/>
              </a:xfrm>
              <a:prstGeom prst="rightArrow">
                <a:avLst>
                  <a:gd name="adj1" fmla="val 50000"/>
                  <a:gd name="adj2" fmla="val 35608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5715000" y="1218960"/>
              <a:ext cx="28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НАЯ СИСТЕ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09480" y="4419720"/>
            <a:ext cx="4114440" cy="1981080"/>
            <a:chOff x="609480" y="4419720"/>
            <a:chExt cx="4114440" cy="1981080"/>
          </a:xfrm>
        </p:grpSpPr>
        <p:sp>
          <p:nvSpPr>
            <p:cNvPr id="309" name=""/>
            <p:cNvSpPr/>
            <p:nvPr/>
          </p:nvSpPr>
          <p:spPr>
            <a:xfrm>
              <a:off x="609480" y="4419720"/>
              <a:ext cx="411444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11000" y="4481640"/>
              <a:ext cx="2020320" cy="270720"/>
              <a:chOff x="711000" y="4481640"/>
              <a:chExt cx="2020320" cy="270720"/>
            </a:xfrm>
          </p:grpSpPr>
          <p:sp>
            <p:nvSpPr>
              <p:cNvPr id="311" name=""/>
              <p:cNvSpPr/>
              <p:nvPr/>
            </p:nvSpPr>
            <p:spPr>
              <a:xfrm>
                <a:off x="711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1108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6256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9568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7748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350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6384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4204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2495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4924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78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028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3648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0784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767960" y="5000760"/>
              <a:ext cx="1916280" cy="185400"/>
              <a:chOff x="1767960" y="5000760"/>
              <a:chExt cx="1916280" cy="185400"/>
            </a:xfrm>
          </p:grpSpPr>
          <p:sp>
            <p:nvSpPr>
              <p:cNvPr id="326" name=""/>
              <p:cNvSpPr/>
              <p:nvPr/>
            </p:nvSpPr>
            <p:spPr>
              <a:xfrm>
                <a:off x="1767960" y="500328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8280" y="500328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7788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56800" y="500328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25064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3612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763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536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3002040" y="5248440"/>
              <a:ext cx="1508760" cy="249480"/>
              <a:chOff x="3002040" y="5248440"/>
              <a:chExt cx="1508760" cy="249480"/>
            </a:xfrm>
          </p:grpSpPr>
          <p:sp>
            <p:nvSpPr>
              <p:cNvPr id="335" name=""/>
              <p:cNvSpPr/>
              <p:nvPr/>
            </p:nvSpPr>
            <p:spPr>
              <a:xfrm>
                <a:off x="30020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9680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448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4008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21520" y="525096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1504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6168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6824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1504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896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300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19520" y="5497560"/>
              <a:ext cx="2198160" cy="185400"/>
              <a:chOff x="1919520" y="5497560"/>
              <a:chExt cx="2198160" cy="185400"/>
            </a:xfrm>
          </p:grpSpPr>
          <p:sp>
            <p:nvSpPr>
              <p:cNvPr id="347" name=""/>
              <p:cNvSpPr/>
              <p:nvPr/>
            </p:nvSpPr>
            <p:spPr>
              <a:xfrm>
                <a:off x="191952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9260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2840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78660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2804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5160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423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3160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9604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210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364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8544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85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7300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705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2284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7664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28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712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26640" y="5077080"/>
              <a:ext cx="18684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0" y="5029200"/>
            <a:ext cx="3886200" cy="1295280"/>
            <a:chOff x="4572000" y="5029200"/>
            <a:chExt cx="3886200" cy="1295280"/>
          </a:xfrm>
        </p:grpSpPr>
        <p:sp>
          <p:nvSpPr>
            <p:cNvPr id="370" name=""/>
            <p:cNvSpPr/>
            <p:nvPr/>
          </p:nvSpPr>
          <p:spPr>
            <a:xfrm>
              <a:off x="4572000" y="5029200"/>
              <a:ext cx="3886200" cy="12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5105160"/>
              <a:ext cx="2286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ЕСЛИ двигатель не заводится  И         стартёр не работает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О      неполадки в системе    электропитания стартё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4280" y="510516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дук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04920" y="914400"/>
            <a:ext cx="8458200" cy="5077080"/>
            <a:chOff x="304920" y="914400"/>
            <a:chExt cx="8458200" cy="5077080"/>
          </a:xfrm>
        </p:grpSpPr>
        <p:sp>
          <p:nvSpPr>
            <p:cNvPr id="374" name=""/>
            <p:cNvSpPr/>
            <p:nvPr/>
          </p:nvSpPr>
          <p:spPr>
            <a:xfrm>
              <a:off x="6553080" y="3673440"/>
              <a:ext cx="22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ЗАЖИГ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304920" y="914400"/>
              <a:ext cx="7619760" cy="5077080"/>
              <a:chOff x="304920" y="914400"/>
              <a:chExt cx="7619760" cy="5077080"/>
            </a:xfrm>
          </p:grpSpPr>
          <p:sp>
            <p:nvSpPr>
              <p:cNvPr id="376" name=""/>
              <p:cNvSpPr/>
              <p:nvPr/>
            </p:nvSpPr>
            <p:spPr>
              <a:xfrm>
                <a:off x="3200400" y="91440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ВТОМОБИ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66680" y="17524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ОХЛАЖД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362320" y="2205000"/>
                <a:ext cx="22096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ЭЛЕКТРОПИТАНИЯ СТАРТЁР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72000" y="2205000"/>
                <a:ext cx="1371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ПОДАЧИ ТОПЛИВ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400800" y="1828800"/>
                <a:ext cx="1523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РМОЗНАЯ СИСТЕМ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3520" y="414972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ККУМУЛЯТ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90920" y="3611520"/>
                <a:ext cx="220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ГУЛЯТОР НАПРЯЖ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24280" y="4149720"/>
                <a:ext cx="221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ПРЕДЕЛИТЕ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514600" y="1228680"/>
                <a:ext cx="1371600" cy="62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3885840" y="1228680"/>
                <a:ext cx="30492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19720" y="1228680"/>
                <a:ext cx="68580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00600" y="1228680"/>
                <a:ext cx="2057400" cy="56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600200" y="2859120"/>
                <a:ext cx="14479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52680" y="2859120"/>
                <a:ext cx="0" cy="75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81280" y="2859120"/>
                <a:ext cx="19051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86200" y="2859120"/>
                <a:ext cx="304812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20" y="4803840"/>
                <a:ext cx="1447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УРОВЕНЬ ЭЛЕКТРОЛИТ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76520" y="571500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ТАКТ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66880" y="4802040"/>
                <a:ext cx="152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ЗАРЯЖЕН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47920" y="442584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33720" y="4425840"/>
                <a:ext cx="83808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28800" y="4419720"/>
                <a:ext cx="3808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3352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80880" y="2057400"/>
            <a:ext cx="8305920" cy="3352320"/>
            <a:chOff x="380880" y="2057400"/>
            <a:chExt cx="8305920" cy="3352320"/>
          </a:xfrm>
        </p:grpSpPr>
        <p:sp>
          <p:nvSpPr>
            <p:cNvPr id="403" name=""/>
            <p:cNvSpPr/>
            <p:nvPr/>
          </p:nvSpPr>
          <p:spPr>
            <a:xfrm>
              <a:off x="5257800" y="205740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7800" y="33526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7800" y="47242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3276360"/>
              <a:ext cx="106668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46480" y="3352680"/>
              <a:ext cx="144792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51200" y="2209680"/>
              <a:ext cx="685800" cy="2971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14600" y="3733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8320" y="3733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37335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91120" y="3962160"/>
              <a:ext cx="12189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34320" y="2438280"/>
              <a:ext cx="9903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114440" y="2438280"/>
              <a:ext cx="1143000" cy="99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10280" y="4114440"/>
              <a:ext cx="9144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0200" y="274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00200" y="3581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00200" y="46479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2361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200" y="327636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880" y="43430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57400" y="2285640"/>
              <a:ext cx="533520" cy="29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6720" y="34286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ОБЛА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4120" y="2057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ЯС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4120" y="350496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48002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ОБРЕТЕНИЕ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20120" y="342864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600200" y="1143000"/>
            <a:ext cx="5638320" cy="2286000"/>
            <a:chOff x="1600200" y="1143000"/>
            <a:chExt cx="5638320" cy="2286000"/>
          </a:xfrm>
        </p:grpSpPr>
        <p:sp>
          <p:nvSpPr>
            <p:cNvPr id="431" name=""/>
            <p:cNvSpPr/>
            <p:nvPr/>
          </p:nvSpPr>
          <p:spPr>
            <a:xfrm>
              <a:off x="1828440" y="1828800"/>
              <a:ext cx="3276360" cy="45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0200" y="1676520"/>
              <a:ext cx="3885840" cy="1143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24280" y="1143000"/>
              <a:ext cx="2514240" cy="1066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7960" y="2438280"/>
              <a:ext cx="2590560" cy="99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00240" y="1160640"/>
              <a:ext cx="24382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, ИХ ОРГАНИЗ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4280" y="2743200"/>
              <a:ext cx="243792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ЗНАНИЯ, ОБРАБОТ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52480" y="1828800"/>
              <a:ext cx="281880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, 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457200" y="8380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ЧЕСКИ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838080" y="3733920"/>
            <a:ext cx="7391520" cy="2749320"/>
            <a:chOff x="838080" y="3733920"/>
            <a:chExt cx="7391520" cy="2749320"/>
          </a:xfrm>
        </p:grpSpPr>
        <p:sp>
          <p:nvSpPr>
            <p:cNvPr id="440" name=""/>
            <p:cNvSpPr/>
            <p:nvPr/>
          </p:nvSpPr>
          <p:spPr>
            <a:xfrm>
              <a:off x="838080" y="3733920"/>
              <a:ext cx="29718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НАЯ ЧА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5105520"/>
              <a:ext cx="327636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4191120"/>
              <a:ext cx="259092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1320" y="4267080"/>
              <a:ext cx="2438280" cy="1295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19320" y="4343400"/>
              <a:ext cx="22096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АКТЫ, ПРАВИЛА, КОЭФФИЦИЕНТЫ ОПРЕДЕЛЁНН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24080" y="5638680"/>
              <a:ext cx="32004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ФЕЙС ПОЛЬЗОВАТЕЛЯ: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ЗАИМОДЕЙСТВИЕ, СО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43600" y="4495680"/>
              <a:ext cx="22860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АШИНА ВЫВОДА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ОГИКА, ЗАКЛЮЧ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04920" y="1371600"/>
            <a:ext cx="8762760" cy="3812400"/>
            <a:chOff x="304920" y="1371600"/>
            <a:chExt cx="8762760" cy="3812400"/>
          </a:xfrm>
        </p:grpSpPr>
        <p:grpSp>
          <p:nvGrpSpPr>
            <p:cNvPr id="450" name=""/>
            <p:cNvGrpSpPr/>
            <p:nvPr/>
          </p:nvGrpSpPr>
          <p:grpSpPr>
            <a:xfrm>
              <a:off x="457200" y="1371600"/>
              <a:ext cx="1828800" cy="533520"/>
              <a:chOff x="457200" y="1371600"/>
              <a:chExt cx="1828800" cy="533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5720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5720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ЗАДАЧ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590920" y="1371600"/>
              <a:ext cx="1828800" cy="533520"/>
              <a:chOff x="2590920" y="1371600"/>
              <a:chExt cx="1828800" cy="533520"/>
            </a:xfrm>
          </p:grpSpPr>
          <p:sp>
            <p:nvSpPr>
              <p:cNvPr id="454" name=""/>
              <p:cNvSpPr/>
              <p:nvPr/>
            </p:nvSpPr>
            <p:spPr>
              <a:xfrm>
                <a:off x="2590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90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РЕМ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876920" y="1371600"/>
              <a:ext cx="1828800" cy="533520"/>
              <a:chOff x="4876920" y="1371600"/>
              <a:chExt cx="1828800" cy="533520"/>
            </a:xfrm>
          </p:grpSpPr>
          <p:sp>
            <p:nvSpPr>
              <p:cNvPr id="457" name=""/>
              <p:cNvSpPr/>
              <p:nvPr/>
            </p:nvSpPr>
            <p:spPr>
              <a:xfrm>
                <a:off x="4876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76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ОМПЬЮТЕР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934320" y="1371600"/>
              <a:ext cx="1828800" cy="533520"/>
              <a:chOff x="6934320" y="1371600"/>
              <a:chExt cx="1828800" cy="533520"/>
            </a:xfrm>
          </p:grpSpPr>
          <p:sp>
            <p:nvSpPr>
              <p:cNvPr id="460" name=""/>
              <p:cNvSpPr/>
              <p:nvPr/>
            </p:nvSpPr>
            <p:spPr>
              <a:xfrm>
                <a:off x="69343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343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ИНТЕГРАЦИ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0492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АГНО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ЕКТ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920" y="3581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ГНОЗ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920" y="4191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492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УЧ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38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28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УПЕР  ЭВМ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38280" y="304812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ВАЗИ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38280" y="3581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288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НЯ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52880" y="35812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ИМВОЛЬНЫЙ ПРОЦЕССО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52880" y="419112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СТАНЦИЯ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5288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ЭВМ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10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ВТОНОМ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2971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ИБРИД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38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00600" y="21337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10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762120"/>
            <a:ext cx="876312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1905120"/>
            <a:ext cx="8458200" cy="3733200"/>
            <a:chOff x="380880" y="1905120"/>
            <a:chExt cx="8458200" cy="3733200"/>
          </a:xfrm>
        </p:grpSpPr>
        <p:grpSp>
          <p:nvGrpSpPr>
            <p:cNvPr id="483" name=""/>
            <p:cNvGrpSpPr/>
            <p:nvPr/>
          </p:nvGrpSpPr>
          <p:grpSpPr>
            <a:xfrm>
              <a:off x="914400" y="3429000"/>
              <a:ext cx="1523880" cy="914040"/>
              <a:chOff x="914400" y="3429000"/>
              <a:chExt cx="1523880" cy="914040"/>
            </a:xfrm>
          </p:grpSpPr>
          <p:sp>
            <p:nvSpPr>
              <p:cNvPr id="484" name=""/>
              <p:cNvSpPr/>
              <p:nvPr/>
            </p:nvSpPr>
            <p:spPr>
              <a:xfrm>
                <a:off x="91440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1440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БОРК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2971800" y="3429000"/>
              <a:ext cx="1599840" cy="914040"/>
              <a:chOff x="2971800" y="3429000"/>
              <a:chExt cx="1599840" cy="914040"/>
            </a:xfrm>
          </p:grpSpPr>
          <p:sp>
            <p:nvSpPr>
              <p:cNvPr id="487" name=""/>
              <p:cNvSpPr/>
              <p:nvPr/>
            </p:nvSpPr>
            <p:spPr>
              <a:xfrm>
                <a:off x="2971800" y="3429000"/>
                <a:ext cx="15998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71800" y="3581280"/>
                <a:ext cx="159984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ОПОСТАВЛ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105520" y="3429000"/>
              <a:ext cx="1523880" cy="914040"/>
              <a:chOff x="5105520" y="3429000"/>
              <a:chExt cx="1523880" cy="914040"/>
            </a:xfrm>
          </p:grpSpPr>
          <p:sp>
            <p:nvSpPr>
              <p:cNvPr id="490" name=""/>
              <p:cNvSpPr/>
              <p:nvPr/>
            </p:nvSpPr>
            <p:spPr>
              <a:xfrm>
                <a:off x="51055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05520" y="358128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ЗРЕШЕНИЕ КОНФЛИКТ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7162920" y="3429000"/>
              <a:ext cx="1523880" cy="914040"/>
              <a:chOff x="7162920" y="3429000"/>
              <a:chExt cx="1523880" cy="914040"/>
            </a:xfrm>
          </p:grpSpPr>
          <p:sp>
            <p:nvSpPr>
              <p:cNvPr id="493" name=""/>
              <p:cNvSpPr/>
              <p:nvPr/>
            </p:nvSpPr>
            <p:spPr>
              <a:xfrm>
                <a:off x="71629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6292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ПОЛН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457200" y="4724280"/>
              <a:ext cx="1523880" cy="914040"/>
              <a:chOff x="457200" y="4724280"/>
              <a:chExt cx="1523880" cy="914040"/>
            </a:xfrm>
          </p:grpSpPr>
          <p:sp>
            <p:nvSpPr>
              <p:cNvPr id="496" name=""/>
              <p:cNvSpPr/>
              <p:nvPr/>
            </p:nvSpPr>
            <p:spPr>
              <a:xfrm>
                <a:off x="4572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7200" y="487656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АЗА ЗНАНИ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362320" y="4724280"/>
              <a:ext cx="1523880" cy="914040"/>
              <a:chOff x="2362320" y="4724280"/>
              <a:chExt cx="1523880" cy="914040"/>
            </a:xfrm>
          </p:grpSpPr>
          <p:sp>
            <p:nvSpPr>
              <p:cNvPr id="499" name=""/>
              <p:cNvSpPr/>
              <p:nvPr/>
            </p:nvSpPr>
            <p:spPr>
              <a:xfrm>
                <a:off x="236232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6232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ЛЕВАН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343400" y="4724280"/>
              <a:ext cx="1523880" cy="914040"/>
              <a:chOff x="4343400" y="4724280"/>
              <a:chExt cx="1523880" cy="914040"/>
            </a:xfrm>
          </p:grpSpPr>
          <p:sp>
            <p:nvSpPr>
              <p:cNvPr id="502" name=""/>
              <p:cNvSpPr/>
              <p:nvPr/>
            </p:nvSpPr>
            <p:spPr>
              <a:xfrm>
                <a:off x="43434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34340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ФЛИК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324480" y="4724280"/>
              <a:ext cx="1524240" cy="914040"/>
              <a:chOff x="6324480" y="4724280"/>
              <a:chExt cx="1524240" cy="914040"/>
            </a:xfrm>
          </p:grpSpPr>
          <p:sp>
            <p:nvSpPr>
              <p:cNvPr id="505" name=""/>
              <p:cNvSpPr/>
              <p:nvPr/>
            </p:nvSpPr>
            <p:spPr>
              <a:xfrm>
                <a:off x="6324480" y="4724280"/>
                <a:ext cx="15242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24480" y="4876560"/>
                <a:ext cx="152424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Т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048120" y="1905120"/>
              <a:ext cx="3123360" cy="609480"/>
              <a:chOff x="3048120" y="1905120"/>
              <a:chExt cx="3123360" cy="609480"/>
            </a:xfrm>
          </p:grpSpPr>
          <p:sp>
            <p:nvSpPr>
              <p:cNvPr id="508" name=""/>
              <p:cNvSpPr/>
              <p:nvPr/>
            </p:nvSpPr>
            <p:spPr>
              <a:xfrm>
                <a:off x="3048120" y="1905120"/>
                <a:ext cx="31233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48120" y="2006640"/>
                <a:ext cx="312336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БОЧАЯ ПАМЯ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flipV="1">
              <a:off x="685800" y="4038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8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21333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580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85800" y="2133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438280" y="3962160"/>
              <a:ext cx="152640" cy="761760"/>
              <a:chOff x="2438280" y="3962160"/>
              <a:chExt cx="152640" cy="76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2438280" y="39621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59092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572000" y="3962160"/>
              <a:ext cx="152280" cy="761760"/>
              <a:chOff x="4572000" y="3962160"/>
              <a:chExt cx="152280" cy="761760"/>
            </a:xfrm>
          </p:grpSpPr>
          <p:sp>
            <p:nvSpPr>
              <p:cNvPr id="520" name=""/>
              <p:cNvSpPr/>
              <p:nvPr/>
            </p:nvSpPr>
            <p:spPr>
              <a:xfrm>
                <a:off x="45720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242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629400" y="3962160"/>
              <a:ext cx="152280" cy="761760"/>
              <a:chOff x="6629400" y="3962160"/>
              <a:chExt cx="152280" cy="761760"/>
            </a:xfrm>
          </p:grpSpPr>
          <p:sp>
            <p:nvSpPr>
              <p:cNvPr id="523" name=""/>
              <p:cNvSpPr/>
              <p:nvPr/>
            </p:nvSpPr>
            <p:spPr>
              <a:xfrm>
                <a:off x="66294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816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19520" y="3733200"/>
              <a:ext cx="228240" cy="990360"/>
              <a:chOff x="2819520" y="3733200"/>
              <a:chExt cx="228240" cy="9903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281952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1952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952880" y="3733200"/>
              <a:ext cx="228240" cy="990360"/>
              <a:chOff x="4952880" y="3733200"/>
              <a:chExt cx="228240" cy="99036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49528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528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010280" y="3733200"/>
              <a:ext cx="228240" cy="990360"/>
              <a:chOff x="7010280" y="3733200"/>
              <a:chExt cx="228240" cy="99036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70102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102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095880" y="2209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839080" y="220968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8610120" y="380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09480" y="914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ИКЛ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066680"/>
            <a:ext cx="3048120" cy="167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14400" y="3809880"/>
            <a:ext cx="2971800" cy="22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143000" y="4343040"/>
            <a:ext cx="2514600" cy="688680"/>
            <a:chOff x="1143000" y="4343040"/>
            <a:chExt cx="2514600" cy="688680"/>
          </a:xfrm>
        </p:grpSpPr>
        <p:grpSp>
          <p:nvGrpSpPr>
            <p:cNvPr id="543" name=""/>
            <p:cNvGrpSpPr/>
            <p:nvPr/>
          </p:nvGrpSpPr>
          <p:grpSpPr>
            <a:xfrm>
              <a:off x="1143000" y="4572000"/>
              <a:ext cx="2514600" cy="459720"/>
              <a:chOff x="1143000" y="4572000"/>
              <a:chExt cx="2514600" cy="459720"/>
            </a:xfrm>
          </p:grpSpPr>
          <p:sp>
            <p:nvSpPr>
              <p:cNvPr id="544" name=""/>
              <p:cNvSpPr/>
              <p:nvPr/>
            </p:nvSpPr>
            <p:spPr>
              <a:xfrm>
                <a:off x="11430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6765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146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767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3372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9548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16200000">
              <a:off x="2247840" y="3390480"/>
              <a:ext cx="228600" cy="2133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066680" y="3962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А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66680" y="5257800"/>
            <a:ext cx="251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РАБОЧАЯ ПАМЯ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(БАЗА ДАННЫ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52880" y="2971800"/>
            <a:ext cx="365760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105520" y="3505320"/>
            <a:ext cx="3352680" cy="2286000"/>
            <a:chOff x="5105520" y="3505320"/>
            <a:chExt cx="3352680" cy="2286000"/>
          </a:xfrm>
        </p:grpSpPr>
        <p:grpSp>
          <p:nvGrpSpPr>
            <p:cNvPr id="555" name=""/>
            <p:cNvGrpSpPr/>
            <p:nvPr/>
          </p:nvGrpSpPr>
          <p:grpSpPr>
            <a:xfrm>
              <a:off x="5105520" y="3505320"/>
              <a:ext cx="3352680" cy="533520"/>
              <a:chOff x="5105520" y="3505320"/>
              <a:chExt cx="3352680" cy="533520"/>
            </a:xfrm>
          </p:grpSpPr>
          <p:sp>
            <p:nvSpPr>
              <p:cNvPr id="556" name=""/>
              <p:cNvSpPr/>
              <p:nvPr/>
            </p:nvSpPr>
            <p:spPr>
              <a:xfrm>
                <a:off x="5105520" y="35053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5791320" y="3581640"/>
                <a:ext cx="1218960" cy="380880"/>
                <a:chOff x="5791320" y="3581640"/>
                <a:chExt cx="1218960" cy="3808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7913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8554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162920" y="3581640"/>
                <a:ext cx="1218960" cy="380880"/>
                <a:chOff x="7162920" y="3581640"/>
                <a:chExt cx="1218960" cy="3808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629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2270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5181480" y="35816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5105520" y="4191120"/>
              <a:ext cx="3352680" cy="533520"/>
              <a:chOff x="5105520" y="4191120"/>
              <a:chExt cx="3352680" cy="53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5105520" y="41911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5791320" y="4267440"/>
                <a:ext cx="1218960" cy="380880"/>
                <a:chOff x="5791320" y="4267440"/>
                <a:chExt cx="1218960" cy="3808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7913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8554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162920" y="4267440"/>
                <a:ext cx="1218960" cy="380880"/>
                <a:chOff x="7162920" y="4267440"/>
                <a:chExt cx="1218960" cy="3808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1629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2270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181480" y="42674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105520" y="5258160"/>
              <a:ext cx="3352680" cy="533160"/>
              <a:chOff x="5105520" y="5258160"/>
              <a:chExt cx="3352680" cy="533160"/>
            </a:xfrm>
          </p:grpSpPr>
          <p:sp>
            <p:nvSpPr>
              <p:cNvPr id="574" name=""/>
              <p:cNvSpPr/>
              <p:nvPr/>
            </p:nvSpPr>
            <p:spPr>
              <a:xfrm>
                <a:off x="5105520" y="5258160"/>
                <a:ext cx="3352680" cy="533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5791320" y="5334120"/>
                <a:ext cx="1218960" cy="380520"/>
                <a:chOff x="5791320" y="5334120"/>
                <a:chExt cx="1218960" cy="3805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7913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8554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162920" y="5334120"/>
                <a:ext cx="1218960" cy="380520"/>
                <a:chOff x="7162920" y="5334120"/>
                <a:chExt cx="1218960" cy="380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1629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2270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5181480" y="533412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5105520" y="30481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5943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(ПРЕЦЕДЕН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52680" y="1905120"/>
            <a:ext cx="2590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2025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АМЯТЬ СОСТОЯ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1219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ИНТЕРПРЕТ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666880" y="266688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181120" y="266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914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533520"/>
            <a:ext cx="8686800" cy="6172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ТРУКТУРА ПРОДУ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523880" y="1219320"/>
            <a:ext cx="7010640" cy="533160"/>
            <a:chOff x="1523880" y="1219320"/>
            <a:chExt cx="7010640" cy="533160"/>
          </a:xfrm>
        </p:grpSpPr>
        <p:sp>
          <p:nvSpPr>
            <p:cNvPr id="594" name=""/>
            <p:cNvSpPr/>
            <p:nvPr/>
          </p:nvSpPr>
          <p:spPr>
            <a:xfrm>
              <a:off x="1523880" y="1219320"/>
              <a:ext cx="70106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76520" y="1325880"/>
              <a:ext cx="22860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ЛУЖЕБ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48320" y="1325880"/>
              <a:ext cx="36576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ФОРМАЦИОН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7080" y="1219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33520" y="3886200"/>
            <a:ext cx="5486400" cy="533520"/>
            <a:chOff x="533520" y="3886200"/>
            <a:chExt cx="5486400" cy="533520"/>
          </a:xfrm>
        </p:grpSpPr>
        <p:sp>
          <p:nvSpPr>
            <p:cNvPr id="599" name=""/>
            <p:cNvSpPr/>
            <p:nvPr/>
          </p:nvSpPr>
          <p:spPr>
            <a:xfrm>
              <a:off x="5335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911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3623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44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907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916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38640" y="395244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43760" y="401940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743200" y="3367080"/>
            <a:ext cx="28195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НАСТРО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3367080"/>
            <a:ext cx="1523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ДОСТУ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114800" y="2286000"/>
            <a:ext cx="4495680" cy="762120"/>
            <a:chOff x="4114800" y="2286000"/>
            <a:chExt cx="4495680" cy="762120"/>
          </a:xfrm>
        </p:grpSpPr>
        <p:sp>
          <p:nvSpPr>
            <p:cNvPr id="611" name=""/>
            <p:cNvSpPr/>
            <p:nvPr/>
          </p:nvSpPr>
          <p:spPr>
            <a:xfrm>
              <a:off x="4114800" y="2286000"/>
              <a:ext cx="449568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95680" y="2557080"/>
              <a:ext cx="36576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БИБЛИОТЕ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590920" y="19810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838080" y="4876920"/>
            <a:ext cx="2895840" cy="457200"/>
            <a:chOff x="838080" y="4876920"/>
            <a:chExt cx="2895840" cy="457200"/>
          </a:xfrm>
        </p:grpSpPr>
        <p:sp>
          <p:nvSpPr>
            <p:cNvPr id="615" name=""/>
            <p:cNvSpPr/>
            <p:nvPr/>
          </p:nvSpPr>
          <p:spPr>
            <a:xfrm>
              <a:off x="838080" y="487692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838080" y="4876920"/>
              <a:ext cx="609840" cy="457200"/>
              <a:chOff x="838080" y="4876920"/>
              <a:chExt cx="609840" cy="457200"/>
            </a:xfrm>
          </p:grpSpPr>
          <p:sp>
            <p:nvSpPr>
              <p:cNvPr id="617" name=""/>
              <p:cNvSpPr/>
              <p:nvPr/>
            </p:nvSpPr>
            <p:spPr>
              <a:xfrm>
                <a:off x="838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14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447920" y="4876920"/>
              <a:ext cx="609480" cy="457200"/>
              <a:chOff x="1447920" y="4876920"/>
              <a:chExt cx="609480" cy="457200"/>
            </a:xfrm>
          </p:grpSpPr>
          <p:sp>
            <p:nvSpPr>
              <p:cNvPr id="620" name=""/>
              <p:cNvSpPr/>
              <p:nvPr/>
            </p:nvSpPr>
            <p:spPr>
              <a:xfrm>
                <a:off x="144792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52388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286000" y="4876920"/>
              <a:ext cx="609480" cy="457200"/>
              <a:chOff x="2286000" y="4876920"/>
              <a:chExt cx="609480" cy="457200"/>
            </a:xfrm>
          </p:grpSpPr>
          <p:sp>
            <p:nvSpPr>
              <p:cNvPr id="623" name=""/>
              <p:cNvSpPr/>
              <p:nvPr/>
            </p:nvSpPr>
            <p:spPr>
              <a:xfrm>
                <a:off x="228600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36196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124080" y="4876920"/>
              <a:ext cx="609840" cy="457200"/>
              <a:chOff x="3124080" y="4876920"/>
              <a:chExt cx="609840" cy="457200"/>
            </a:xfrm>
          </p:grpSpPr>
          <p:sp>
            <p:nvSpPr>
              <p:cNvPr id="626" name=""/>
              <p:cNvSpPr/>
              <p:nvPr/>
            </p:nvSpPr>
            <p:spPr>
              <a:xfrm>
                <a:off x="3124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00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1066680" y="4572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838080" y="5638680"/>
            <a:ext cx="2895840" cy="457200"/>
            <a:chOff x="838080" y="5638680"/>
            <a:chExt cx="2895840" cy="457200"/>
          </a:xfrm>
        </p:grpSpPr>
        <p:sp>
          <p:nvSpPr>
            <p:cNvPr id="630" name=""/>
            <p:cNvSpPr/>
            <p:nvPr/>
          </p:nvSpPr>
          <p:spPr>
            <a:xfrm>
              <a:off x="838080" y="563868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838080" y="5638680"/>
              <a:ext cx="609840" cy="457200"/>
              <a:chOff x="838080" y="5638680"/>
              <a:chExt cx="609840" cy="457200"/>
            </a:xfrm>
          </p:grpSpPr>
          <p:sp>
            <p:nvSpPr>
              <p:cNvPr id="632" name=""/>
              <p:cNvSpPr/>
              <p:nvPr/>
            </p:nvSpPr>
            <p:spPr>
              <a:xfrm>
                <a:off x="838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447920" y="5638680"/>
              <a:ext cx="609480" cy="457200"/>
              <a:chOff x="1447920" y="5638680"/>
              <a:chExt cx="609480" cy="45720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792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52388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286000" y="5638680"/>
              <a:ext cx="609480" cy="457200"/>
              <a:chOff x="2286000" y="5638680"/>
              <a:chExt cx="60948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228600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196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124080" y="5638680"/>
              <a:ext cx="609840" cy="457200"/>
              <a:chOff x="3124080" y="5638680"/>
              <a:chExt cx="609840" cy="457200"/>
            </a:xfrm>
          </p:grpSpPr>
          <p:sp>
            <p:nvSpPr>
              <p:cNvPr id="641" name=""/>
              <p:cNvSpPr/>
              <p:nvPr/>
            </p:nvSpPr>
            <p:spPr>
              <a:xfrm>
                <a:off x="3124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00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609480" y="61722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ОННЫЙ РАСПР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2193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9051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7432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12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743200" y="42670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15000" y="4191120"/>
            <a:ext cx="5335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52880" y="5105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ОПОСТАВЛЕНИЕ ФОРМУ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8:38:28Z</dcterms:created>
  <dc:creator>Петр Соснин</dc:creator>
  <dc:description/>
  <dc:language>en-US</dc:language>
  <cp:lastModifiedBy>Валерий Г. Костин</cp:lastModifiedBy>
  <dcterms:modified xsi:type="dcterms:W3CDTF">2002-12-12T13:34:49Z</dcterms:modified>
  <cp:revision>16</cp:revision>
  <dc:subject/>
  <dc:title>ЭКСПЕРТНЫЕ СИСТЕМЫ</dc:title>
</cp:coreProperties>
</file>