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D45-9D6E-4BE1-8809-4E16AD99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66E-24AA-403A-AB9C-93FFE4DD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90E-CE52-44DC-ACF1-7A9AF322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C20F-EF56-47D3-AE47-EA08E641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67E-E912-44F4-BD49-7E2251B4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833B-9EA3-4467-8C14-F6DEA3CB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121-ED1B-46E3-BC97-1F0EDEC6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961-8E94-402F-B9FE-75ABAC7E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16AC-9C86-482E-9BDA-C0EF4F94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465-E25C-41FE-9C92-E65C0AC4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2A8B-9724-4EA4-B175-B0D4FCF0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F38-4422-4E6A-94F8-9AE34AA2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1964-79F3-420A-9223-967EEAE48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ИСКУССТВЕННЫЙ  ИНТЕЛЛ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абораторны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актически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Экза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АКТИВНОСТЬ И 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952880" y="990720"/>
            <a:ext cx="3580920" cy="2133360"/>
            <a:chOff x="4952880" y="990720"/>
            <a:chExt cx="3580920" cy="2133360"/>
          </a:xfrm>
        </p:grpSpPr>
        <p:grpSp>
          <p:nvGrpSpPr>
            <p:cNvPr id="569" name=""/>
            <p:cNvGrpSpPr/>
            <p:nvPr/>
          </p:nvGrpSpPr>
          <p:grpSpPr>
            <a:xfrm>
              <a:off x="4952880" y="1447920"/>
              <a:ext cx="3580920" cy="1676160"/>
              <a:chOff x="4952880" y="1447920"/>
              <a:chExt cx="3580920" cy="1676160"/>
            </a:xfrm>
          </p:grpSpPr>
          <p:sp>
            <p:nvSpPr>
              <p:cNvPr id="570" name=""/>
              <p:cNvSpPr/>
              <p:nvPr/>
            </p:nvSpPr>
            <p:spPr>
              <a:xfrm>
                <a:off x="4952880" y="1447920"/>
                <a:ext cx="3364560" cy="167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02960" y="1541520"/>
                <a:ext cx="2706840" cy="143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101280" y="1447920"/>
                <a:ext cx="2432520" cy="1454040"/>
              </a:xfrm>
              <a:prstGeom prst="leftRightArrow">
                <a:avLst>
                  <a:gd name="adj1" fmla="val 50000"/>
                  <a:gd name="adj2" fmla="val 33304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управление</a:t>
                </a: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02960" y="2082960"/>
                <a:ext cx="270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28280" y="2082960"/>
                <a:ext cx="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210160" y="16858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257800" y="9907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а мыш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38080" y="990720"/>
            <a:ext cx="3581640" cy="2346120"/>
            <a:chOff x="838080" y="990720"/>
            <a:chExt cx="3581640" cy="2346120"/>
          </a:xfrm>
        </p:grpSpPr>
        <p:grpSp>
          <p:nvGrpSpPr>
            <p:cNvPr id="578" name=""/>
            <p:cNvGrpSpPr/>
            <p:nvPr/>
          </p:nvGrpSpPr>
          <p:grpSpPr>
            <a:xfrm>
              <a:off x="838080" y="1295280"/>
              <a:ext cx="3581640" cy="2041560"/>
              <a:chOff x="838080" y="1295280"/>
              <a:chExt cx="3581640" cy="2041560"/>
            </a:xfrm>
          </p:grpSpPr>
          <p:sp>
            <p:nvSpPr>
              <p:cNvPr id="579" name=""/>
              <p:cNvSpPr/>
              <p:nvPr/>
            </p:nvSpPr>
            <p:spPr>
              <a:xfrm>
                <a:off x="838080" y="1412640"/>
                <a:ext cx="3397320" cy="149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14560" y="1295280"/>
                <a:ext cx="3305160" cy="2041560"/>
              </a:xfrm>
              <a:prstGeom prst="leftRightArrow">
                <a:avLst>
                  <a:gd name="adj1" fmla="val 50000"/>
                  <a:gd name="adj2" fmla="val 32229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еханиз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14600" y="1976400"/>
                <a:ext cx="1450800" cy="765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од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600200" y="9907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752480" y="3352680"/>
            <a:ext cx="5029200" cy="3216240"/>
            <a:chOff x="1752480" y="3352680"/>
            <a:chExt cx="5029200" cy="3216240"/>
          </a:xfrm>
        </p:grpSpPr>
        <p:grpSp>
          <p:nvGrpSpPr>
            <p:cNvPr id="584" name=""/>
            <p:cNvGrpSpPr/>
            <p:nvPr/>
          </p:nvGrpSpPr>
          <p:grpSpPr>
            <a:xfrm>
              <a:off x="1752480" y="3733920"/>
              <a:ext cx="5029200" cy="2835000"/>
              <a:chOff x="1752480" y="3733920"/>
              <a:chExt cx="5029200" cy="2835000"/>
            </a:xfrm>
          </p:grpSpPr>
          <p:sp>
            <p:nvSpPr>
              <p:cNvPr id="585" name=""/>
              <p:cNvSpPr/>
              <p:nvPr/>
            </p:nvSpPr>
            <p:spPr>
              <a:xfrm>
                <a:off x="1752480" y="3733920"/>
                <a:ext cx="5029200" cy="28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                                                                             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301120" y="3891240"/>
                <a:ext cx="356616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У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49760" y="4049280"/>
                <a:ext cx="1097280" cy="133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И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935360" y="436428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43920" y="483120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581280" y="420696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А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98400" y="4916520"/>
                <a:ext cx="237744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С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92960" y="475884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600" spc="-1" strike="noStrike" baseline="30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95680" y="4128120"/>
                <a:ext cx="1280160" cy="134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52480" y="519696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2438280" y="3352680"/>
              <a:ext cx="419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изация активности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533520"/>
            <a:ext cx="8458200" cy="6019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90720" y="762120"/>
            <a:ext cx="6781680" cy="2549520"/>
            <a:chOff x="990720" y="762120"/>
            <a:chExt cx="6781680" cy="2549520"/>
          </a:xfrm>
        </p:grpSpPr>
        <p:sp>
          <p:nvSpPr>
            <p:cNvPr id="599" name=""/>
            <p:cNvSpPr/>
            <p:nvPr/>
          </p:nvSpPr>
          <p:spPr>
            <a:xfrm rot="16200000">
              <a:off x="3878280" y="233640"/>
              <a:ext cx="1743120" cy="28000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990720" y="2924280"/>
              <a:ext cx="6781680" cy="387360"/>
              <a:chOff x="990720" y="2924280"/>
              <a:chExt cx="6781680" cy="387360"/>
            </a:xfrm>
          </p:grpSpPr>
          <p:sp>
            <p:nvSpPr>
              <p:cNvPr id="601" name=""/>
              <p:cNvSpPr/>
              <p:nvPr/>
            </p:nvSpPr>
            <p:spPr>
              <a:xfrm>
                <a:off x="990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5836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003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2184480" y="2468520"/>
              <a:ext cx="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3080" y="2583000"/>
              <a:ext cx="0" cy="33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19760" y="2523960"/>
              <a:ext cx="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89360" y="1254240"/>
              <a:ext cx="1922400" cy="6886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Опыт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6160" y="156384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65280" y="1942920"/>
              <a:ext cx="5132520" cy="3985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спознавание образ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87600" y="2241720"/>
              <a:ext cx="5729040" cy="3967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стественный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92600" y="1563840"/>
              <a:ext cx="191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74400" y="797040"/>
              <a:ext cx="151092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УБЪЕК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189080" y="3581280"/>
            <a:ext cx="6583320" cy="2720880"/>
            <a:chOff x="1189080" y="3581280"/>
            <a:chExt cx="6583320" cy="2720880"/>
          </a:xfrm>
        </p:grpSpPr>
        <p:sp>
          <p:nvSpPr>
            <p:cNvPr id="614" name=""/>
            <p:cNvSpPr/>
            <p:nvPr/>
          </p:nvSpPr>
          <p:spPr>
            <a:xfrm>
              <a:off x="1189080" y="3581280"/>
              <a:ext cx="6583320" cy="173196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авной субъект Sb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 = </a:t>
              </a:r>
              <a:r>
                <a:rPr b="1" lang="en-US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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. . .  .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669320" y="5517000"/>
              <a:ext cx="5778720" cy="785160"/>
              <a:chOff x="1669320" y="5517000"/>
              <a:chExt cx="5778720" cy="785160"/>
            </a:xfrm>
          </p:grpSpPr>
          <p:sp>
            <p:nvSpPr>
              <p:cNvPr id="616" name=""/>
              <p:cNvSpPr/>
              <p:nvPr/>
            </p:nvSpPr>
            <p:spPr>
              <a:xfrm>
                <a:off x="1669320" y="5517000"/>
                <a:ext cx="127080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957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1779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0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02680" y="5883480"/>
                <a:ext cx="4911840" cy="4186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бщего опыта M (E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1404720" y="3988080"/>
              <a:ext cx="1716840" cy="1019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7120" y="3984480"/>
              <a:ext cx="171612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95720" y="3984480"/>
              <a:ext cx="171684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380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20720" y="4309200"/>
              <a:ext cx="5935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20360" y="4309200"/>
              <a:ext cx="12600" cy="884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20720" y="5193720"/>
              <a:ext cx="5929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56400" y="4309200"/>
              <a:ext cx="0" cy="851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77120" y="4791960"/>
              <a:ext cx="0" cy="80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2836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7128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94920" y="4791960"/>
              <a:ext cx="144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52360" y="4791960"/>
              <a:ext cx="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80880" y="685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685800"/>
            <a:ext cx="853416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447920" y="1905120"/>
            <a:ext cx="6095520" cy="2971440"/>
            <a:chOff x="1447920" y="1905120"/>
            <a:chExt cx="6095520" cy="2971440"/>
          </a:xfrm>
        </p:grpSpPr>
        <p:sp>
          <p:nvSpPr>
            <p:cNvPr id="638" name=""/>
            <p:cNvSpPr/>
            <p:nvPr/>
          </p:nvSpPr>
          <p:spPr>
            <a:xfrm>
              <a:off x="1447920" y="1905120"/>
              <a:ext cx="6095520" cy="2971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47920" y="3335760"/>
              <a:ext cx="60955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495320" y="3335400"/>
              <a:ext cx="0" cy="154044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rot="1429200">
            <a:off x="1980720" y="1294920"/>
            <a:ext cx="289584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429200">
            <a:off x="5105160" y="3428640"/>
            <a:ext cx="289548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9867200">
            <a:off x="4191120" y="1218960"/>
            <a:ext cx="39621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одели интеллект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альных актив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9867200">
            <a:off x="1405080" y="3566880"/>
            <a:ext cx="32763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и его применения в человеко-компьютерных сре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ОСН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85800"/>
            <a:ext cx="84582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143000"/>
            <a:ext cx="7848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едметная область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(задачи в человеко-компьютерных средах, для решения которых необходимо включить в работу интеллект и</a:t>
            </a: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или его модели ):        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ешение задач и  принятие решений, экспертиза и диагностика, распознавание образов и анализ сцен, общение и перевод, обучение, игры 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другие задачи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286000"/>
            <a:ext cx="784872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бъект исследований и модел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ИНТЕЛЛЕКТ- как комплекс методов и средств, локализованных в мозговых структурах и обеспечивающих формирование, систематизацию и использование опыта человека  в процессах его взаимодействия с окружающей сре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505320"/>
            <a:ext cx="701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сновная Цель -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высить «коэффициент полезного действия»  применений человеком его интеллектуальных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191120"/>
            <a:ext cx="762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стория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1954-первые попытки машинного перевода и распознавания образов, 1957 - «Логик-теоретик», 1964- универсальный решатель проблем, 1971- интеллектуальный робот «Шейки», 1974- фреймы (М.Минский), 1980 - «японский вызов» -проект компьютеров 5-го поколения, 1982 - экспертные системы, 1990 - «мягкие вычисления», 1995 - нейросети и генетические алгоритмы, 1997 - интеллектуальные агенты, 2000- онтологии и управление зна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1.ПРЕДМЕТН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57200"/>
            <a:ext cx="8534520" cy="617220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990720"/>
            <a:ext cx="213372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b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bduction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reativi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rchitectur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rt and Mus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mat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nomous Agent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ayesian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elief Revis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se-Bas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us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mon-Sens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puter-Aid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ceptual Graph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figur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 Satisf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ata Mining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ve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cision Theo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cription Log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99072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agnosi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urs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tributed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ame Play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Evolutionary Algorith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eometr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ductive Log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Extr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Retrieval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lligent User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rfac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 Acquisi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present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ogic 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Transl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eta-Heuristics for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odel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ulti-Agent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atural Langua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eural Network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onmonoton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990720"/>
            <a:ext cx="32004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Ontologi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ercep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hilosophica Foundation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lan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babilist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Qualitative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l-Time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about Actions and Chan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under Uncertain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inforcement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source–Bound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use of 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atisfiability Test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chedu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earch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ati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eech 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mpor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xt Mi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heorem Prov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User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erification and Valid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57200"/>
            <a:ext cx="7848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Topics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Submissions are invited on substantial, original and previously unpublished research in all fields of Artificial Intelligence, including, but not limited t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685800"/>
            <a:ext cx="853416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2.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2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адача это тип вопроса на который в опыте нет ответа, но  он может быть построен и будет постро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90720" y="1600200"/>
            <a:ext cx="7467480" cy="1297800"/>
            <a:chOff x="990720" y="1600200"/>
            <a:chExt cx="7467480" cy="1297800"/>
          </a:xfrm>
        </p:grpSpPr>
        <p:sp>
          <p:nvSpPr>
            <p:cNvPr id="59" name=""/>
            <p:cNvSpPr/>
            <p:nvPr/>
          </p:nvSpPr>
          <p:spPr>
            <a:xfrm>
              <a:off x="3657600" y="16002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Во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90720" y="24382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обле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816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дач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34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362320" y="20574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1905120"/>
              <a:ext cx="2133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66680" y="3124080"/>
            <a:ext cx="6851880" cy="3200400"/>
            <a:chOff x="1066680" y="3124080"/>
            <a:chExt cx="6851880" cy="3200400"/>
          </a:xfrm>
        </p:grpSpPr>
        <p:grpSp>
          <p:nvGrpSpPr>
            <p:cNvPr id="67" name=""/>
            <p:cNvGrpSpPr/>
            <p:nvPr/>
          </p:nvGrpSpPr>
          <p:grpSpPr>
            <a:xfrm>
              <a:off x="1295280" y="3124080"/>
              <a:ext cx="6623280" cy="3200400"/>
              <a:chOff x="1295280" y="3124080"/>
              <a:chExt cx="6623280" cy="3200400"/>
            </a:xfrm>
          </p:grpSpPr>
          <p:sp>
            <p:nvSpPr>
              <p:cNvPr id="68" name=""/>
              <p:cNvSpPr/>
              <p:nvPr/>
            </p:nvSpPr>
            <p:spPr>
              <a:xfrm>
                <a:off x="6934320" y="3809880"/>
                <a:ext cx="853920" cy="4572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Цели, продук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95280" y="5146560"/>
                <a:ext cx="60336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St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95600" y="5500440"/>
                <a:ext cx="43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298240" y="6324480"/>
                <a:ext cx="441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81080" y="5181480"/>
                <a:ext cx="63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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475080" y="3733560"/>
                <a:ext cx="3443400" cy="22366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463920" y="3782880"/>
                <a:ext cx="1946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еятельность D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11960" y="3976560"/>
                <a:ext cx="1164960" cy="4651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70440" y="4087440"/>
                <a:ext cx="1165320" cy="3970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06880" y="4189320"/>
                <a:ext cx="1341360" cy="3682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07680" y="4189320"/>
                <a:ext cx="109656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действие d</a:t>
                </a:r>
                <a:r>
                  <a:rPr b="1" lang="ru-RU" sz="12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11880" y="4306680"/>
                <a:ext cx="180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49680" y="4833720"/>
                <a:ext cx="1860480" cy="9018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587760" y="4890960"/>
                <a:ext cx="1539720" cy="426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87480" y="4935240"/>
                <a:ext cx="95328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пыт  E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27520" y="5340240"/>
                <a:ext cx="146520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суждение  D</a:t>
                </a:r>
                <a:r>
                  <a:rPr b="1" lang="en-US" sz="1200" spc="-1" strike="noStrike" baseline="30000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15040" y="564336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10360" y="4441680"/>
                <a:ext cx="0" cy="70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05160" y="4441680"/>
                <a:ext cx="0" cy="46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400480" y="5500440"/>
                <a:ext cx="220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1688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9860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00280" y="5146560"/>
                <a:ext cx="803160" cy="2635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=Q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86600" y="5714640"/>
                <a:ext cx="831960" cy="354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д R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00400" y="312408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Природа вопрос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066680" y="47242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иьту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533520" y="761760"/>
            <a:ext cx="838188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едставление (работа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971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оиск (работа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63360" y="1371600"/>
            <a:ext cx="7647120" cy="1736640"/>
            <a:chOff x="963360" y="1371600"/>
            <a:chExt cx="7647120" cy="1736640"/>
          </a:xfrm>
        </p:grpSpPr>
        <p:sp>
          <p:nvSpPr>
            <p:cNvPr id="99" name=""/>
            <p:cNvSpPr/>
            <p:nvPr/>
          </p:nvSpPr>
          <p:spPr>
            <a:xfrm>
              <a:off x="4038480" y="137160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МОДЕЛ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963360" y="1577880"/>
              <a:ext cx="7647120" cy="1530360"/>
              <a:chOff x="963360" y="1577880"/>
              <a:chExt cx="7647120" cy="1530360"/>
            </a:xfrm>
          </p:grpSpPr>
          <p:sp>
            <p:nvSpPr>
              <p:cNvPr id="101" name=""/>
              <p:cNvSpPr/>
              <p:nvPr/>
            </p:nvSpPr>
            <p:spPr>
              <a:xfrm rot="20778000">
                <a:off x="1066680" y="1790640"/>
                <a:ext cx="1930680" cy="1104480"/>
              </a:xfrm>
              <a:custGeom>
                <a:avLst/>
                <a:gdLst/>
                <a:ahLst/>
                <a:rect l="l" t="t" r="r" b="b"/>
                <a:pathLst>
                  <a:path w="1304" h="784">
                    <a:moveTo>
                      <a:pt x="712" y="24"/>
                    </a:moveTo>
                    <a:cubicBezTo>
                      <a:pt x="520" y="0"/>
                      <a:pt x="240" y="80"/>
                      <a:pt x="136" y="168"/>
                    </a:cubicBezTo>
                    <a:cubicBezTo>
                      <a:pt x="32" y="256"/>
                      <a:pt x="0" y="456"/>
                      <a:pt x="88" y="552"/>
                    </a:cubicBezTo>
                    <a:cubicBezTo>
                      <a:pt x="176" y="648"/>
                      <a:pt x="464" y="784"/>
                      <a:pt x="664" y="744"/>
                    </a:cubicBezTo>
                    <a:cubicBezTo>
                      <a:pt x="864" y="704"/>
                      <a:pt x="1272" y="432"/>
                      <a:pt x="1288" y="312"/>
                    </a:cubicBezTo>
                    <a:cubicBezTo>
                      <a:pt x="1304" y="192"/>
                      <a:pt x="904" y="48"/>
                      <a:pt x="712" y="24"/>
                    </a:cubicBez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71600" y="2133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ВОПРО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76720" y="1676520"/>
                <a:ext cx="2361960" cy="129528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477120" y="1828800"/>
                <a:ext cx="2133360" cy="1142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520" y="24382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9000" y="1981080"/>
                <a:ext cx="220968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ОДЕРЖАТЕЛЬ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53080" y="2057400"/>
                <a:ext cx="1981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ФОРМАЛЬНОЕ 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15000" y="1904760"/>
                <a:ext cx="533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15000" y="22096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3733920" y="3143160"/>
            <a:ext cx="4952880" cy="3409920"/>
            <a:chOff x="3733920" y="3143160"/>
            <a:chExt cx="4952880" cy="3409920"/>
          </a:xfrm>
        </p:grpSpPr>
        <p:sp>
          <p:nvSpPr>
            <p:cNvPr id="111" name=""/>
            <p:cNvSpPr/>
            <p:nvPr/>
          </p:nvSpPr>
          <p:spPr>
            <a:xfrm flipH="1" rot="5317200">
              <a:off x="6047280" y="951480"/>
              <a:ext cx="228600" cy="4722840"/>
            </a:xfrm>
            <a:custGeom>
              <a:avLst/>
              <a:gdLst>
                <a:gd name="textAreaLeft" fmla="*/ 145800 w 228600"/>
                <a:gd name="textAreaRight" fmla="*/ 228600 w 228600"/>
                <a:gd name="textAreaTop" fmla="*/ 123120 h 4722840"/>
                <a:gd name="textAreaBottom" fmla="*/ 4599720 h 47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335268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Поисковый образ - система запрос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3733920"/>
              <a:ext cx="4495680" cy="2819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400" y="608004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ПРЕЦЕД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9720" y="3886200"/>
              <a:ext cx="4114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38862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ИСТЕМА ДОСТУ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24280" y="4343400"/>
              <a:ext cx="36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РАЗДЕЛЫ И ПОДРАЗДЕ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543800" y="4724280"/>
              <a:ext cx="990720" cy="1219320"/>
              <a:chOff x="7543800" y="4724280"/>
              <a:chExt cx="990720" cy="12193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43800" y="4724280"/>
                <a:ext cx="99072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43800" y="57150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543800" y="51814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43800" y="4952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246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72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0592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791320" y="4724280"/>
              <a:ext cx="990360" cy="1219320"/>
              <a:chOff x="5791320" y="4724280"/>
              <a:chExt cx="990360" cy="1219320"/>
            </a:xfrm>
          </p:grpSpPr>
          <p:sp>
            <p:nvSpPr>
              <p:cNvPr id="127" name=""/>
              <p:cNvSpPr/>
              <p:nvPr/>
            </p:nvSpPr>
            <p:spPr>
              <a:xfrm>
                <a:off x="57913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91320" y="56386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13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1320" y="49528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43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244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29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419720" y="4724280"/>
              <a:ext cx="990360" cy="1219320"/>
              <a:chOff x="4419720" y="4724280"/>
              <a:chExt cx="990360" cy="1219320"/>
            </a:xfrm>
          </p:grpSpPr>
          <p:sp>
            <p:nvSpPr>
              <p:cNvPr id="135" name=""/>
              <p:cNvSpPr/>
              <p:nvPr/>
            </p:nvSpPr>
            <p:spPr>
              <a:xfrm>
                <a:off x="44197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19720" y="48765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97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19720" y="57909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242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578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00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H="1">
              <a:off x="3733920" y="487692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62120" y="3733920"/>
            <a:ext cx="2895480" cy="2666880"/>
            <a:chOff x="762120" y="3733920"/>
            <a:chExt cx="2895480" cy="2666880"/>
          </a:xfrm>
        </p:grpSpPr>
        <p:sp>
          <p:nvSpPr>
            <p:cNvPr id="144" name=""/>
            <p:cNvSpPr/>
            <p:nvPr/>
          </p:nvSpPr>
          <p:spPr>
            <a:xfrm>
              <a:off x="762120" y="3733920"/>
              <a:ext cx="2819160" cy="2666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88620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КОМБИНАТОР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990720" y="4495680"/>
              <a:ext cx="2209680" cy="1447920"/>
              <a:chOff x="990720" y="4495680"/>
              <a:chExt cx="2209680" cy="1447920"/>
            </a:xfrm>
          </p:grpSpPr>
          <p:sp>
            <p:nvSpPr>
              <p:cNvPr id="147" name=""/>
              <p:cNvSpPr/>
              <p:nvPr/>
            </p:nvSpPr>
            <p:spPr>
              <a:xfrm>
                <a:off x="99072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52480" y="44956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952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002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00200" y="5410080"/>
                <a:ext cx="15228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81080" y="51055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81080" y="57913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62320" y="55627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146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954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57913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219320" y="4571640"/>
                <a:ext cx="5331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9320" y="487692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05120" y="4572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05120" y="4648320"/>
                <a:ext cx="1522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19320" y="4876920"/>
                <a:ext cx="759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7652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71600" y="5334120"/>
                <a:ext cx="2286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81080" y="5257800"/>
                <a:ext cx="7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52480" y="556272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209680" y="5714640"/>
                <a:ext cx="152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518148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286000" y="49528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4320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514600" y="525744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6000" y="5867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8120" y="541008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914400"/>
            <a:ext cx="8686800" cy="5638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3716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Лабиринтная гипотеза: поиск метода решения задачи подобен поиску пути в лабири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9528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ьная гипотеза: поиск метода решения задачи подобен построению «лабиринта» в котором с высокой гарантией найдется  путь, раскрывающий  метод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209680"/>
            <a:ext cx="7086600" cy="2743200"/>
          </a:xfrm>
          <a:prstGeom prst="rect">
            <a:avLst/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590920"/>
            <a:ext cx="5639040" cy="2133360"/>
            <a:chOff x="2209680" y="2590920"/>
            <a:chExt cx="5639040" cy="2133360"/>
          </a:xfrm>
        </p:grpSpPr>
        <p:sp>
          <p:nvSpPr>
            <p:cNvPr id="181" name=""/>
            <p:cNvSpPr/>
            <p:nvPr/>
          </p:nvSpPr>
          <p:spPr>
            <a:xfrm flipV="1">
              <a:off x="2209680" y="2818800"/>
              <a:ext cx="685800" cy="990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3809880"/>
              <a:ext cx="1371600" cy="9140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895480" y="2590920"/>
              <a:ext cx="1905120" cy="228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209680" y="3352320"/>
              <a:ext cx="2286000" cy="4568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05320" y="4038480"/>
              <a:ext cx="2666880" cy="685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3352680"/>
              <a:ext cx="1828800" cy="6854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343400" y="3047760"/>
              <a:ext cx="12193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4724280"/>
              <a:ext cx="30481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24280" y="2590920"/>
              <a:ext cx="83844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172200" y="3200040"/>
              <a:ext cx="1676520" cy="837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3047760"/>
              <a:ext cx="8380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248520" y="3047400"/>
              <a:ext cx="152280" cy="99036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3047760"/>
              <a:ext cx="1371600" cy="15228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4280" y="2590920"/>
              <a:ext cx="167652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553080" y="3200400"/>
              <a:ext cx="1295640" cy="1523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5480" y="2819160"/>
              <a:ext cx="1447920" cy="533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143000" y="2362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МОДЕЛЬ ЛАБИРИ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419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ГРА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«ПУ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352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26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3.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533520"/>
            <a:ext cx="8686800" cy="6019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762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ЕЦЕД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1219320"/>
            <a:ext cx="4267440" cy="2438280"/>
            <a:chOff x="380880" y="1219320"/>
            <a:chExt cx="4267440" cy="2438280"/>
          </a:xfrm>
        </p:grpSpPr>
        <p:grpSp>
          <p:nvGrpSpPr>
            <p:cNvPr id="206" name=""/>
            <p:cNvGrpSpPr/>
            <p:nvPr/>
          </p:nvGrpSpPr>
          <p:grpSpPr>
            <a:xfrm>
              <a:off x="380880" y="1219320"/>
              <a:ext cx="3810240" cy="1981080"/>
              <a:chOff x="380880" y="1219320"/>
              <a:chExt cx="3810240" cy="1981080"/>
            </a:xfrm>
          </p:grpSpPr>
          <p:sp>
            <p:nvSpPr>
              <p:cNvPr id="207" name=""/>
              <p:cNvSpPr/>
              <p:nvPr/>
            </p:nvSpPr>
            <p:spPr>
              <a:xfrm>
                <a:off x="380880" y="12193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474840" y="1281240"/>
                <a:ext cx="1879560" cy="270720"/>
                <a:chOff x="474840" y="1281240"/>
                <a:chExt cx="1879560" cy="270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74840" y="13006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7000" y="1281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5960" y="13690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45840" y="13006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13960" y="13006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68680" y="13046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098080" y="13006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265120" y="1304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973800" y="15526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69800" y="154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9320" y="15526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74520" y="18036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39480" y="18003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98240" y="1803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453680" y="1800360"/>
                <a:ext cx="1783440" cy="186480"/>
                <a:chOff x="1453680" y="1800360"/>
                <a:chExt cx="1783440" cy="186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453680" y="18039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574640" y="18039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944440" y="18003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09680" y="18039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74520" y="2052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39840" y="20480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53760" y="20527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6240" y="20527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596680" y="2048040"/>
                <a:ext cx="1405080" cy="249480"/>
                <a:chOff x="2596680" y="2048040"/>
                <a:chExt cx="1405080" cy="24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596680" y="20505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610440" y="20480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673440" y="2114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743640" y="20480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12480" y="2051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1404720" y="23004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63240" y="2297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95280" y="23004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38120" y="230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45840" y="230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30080" y="23004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595160" y="2297160"/>
                <a:ext cx="2043360" cy="185400"/>
                <a:chOff x="1595160" y="2297160"/>
                <a:chExt cx="2043360" cy="185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595160" y="22996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330720" y="22971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549240" y="22996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545760" y="25495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45800" y="2549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53880" y="2546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37760" y="2549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20920" y="2549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80680" y="25495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52080" y="25495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6520" y="27990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85200" y="279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77720" y="2799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58720" y="27990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19160" y="27990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56640" y="27957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91720" y="2863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52920" y="27957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14560" y="2799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08040" y="18766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33520" y="1371600"/>
              <a:ext cx="3809880" cy="1981080"/>
              <a:chOff x="533520" y="1371600"/>
              <a:chExt cx="3809880" cy="1981080"/>
            </a:xfrm>
          </p:grpSpPr>
          <p:sp>
            <p:nvSpPr>
              <p:cNvPr id="266" name=""/>
              <p:cNvSpPr/>
              <p:nvPr/>
            </p:nvSpPr>
            <p:spPr>
              <a:xfrm>
                <a:off x="533520" y="137160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27120" y="1433520"/>
                <a:ext cx="1879200" cy="270720"/>
                <a:chOff x="627120" y="1433520"/>
                <a:chExt cx="1879200" cy="270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27120" y="14529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9280" y="14335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8240" y="15213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760" y="14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66240" y="14529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020600" y="14569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250000" y="14529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417040" y="1456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1126080" y="17049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21720" y="17017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41240" y="17049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26440" y="19558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91760" y="19526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50520" y="1955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1605960" y="1952640"/>
                <a:ext cx="1783080" cy="186480"/>
                <a:chOff x="1605960" y="1952640"/>
                <a:chExt cx="1783080" cy="186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605960" y="19562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726560" y="19562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96360" y="19526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261600" y="19562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1126440" y="22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91760" y="22003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06040" y="22050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28160" y="22050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2748960" y="2200320"/>
                <a:ext cx="1404720" cy="249480"/>
                <a:chOff x="2748960" y="2200320"/>
                <a:chExt cx="1404720" cy="249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748960" y="22028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762360" y="22003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25360" y="2266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895560" y="22003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064400" y="2203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1557000" y="24526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15520" y="2449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47200" y="24526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90400" y="245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120" y="24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82360" y="24526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1747080" y="2449440"/>
                <a:ext cx="2043360" cy="185400"/>
                <a:chOff x="1747080" y="2449440"/>
                <a:chExt cx="2043360" cy="1854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747080" y="24519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482640" y="24494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701160" y="24519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698040" y="27018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98080" y="2701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05800" y="2698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90040" y="270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72840" y="2701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32600" y="27018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04000" y="27018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18800" y="29512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37120" y="294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29640" y="295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11000" y="29512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71440" y="29512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8920" y="29480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43640" y="301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05200" y="29480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966480" y="295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60320" y="202896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5800" y="1524240"/>
              <a:ext cx="3809880" cy="1981080"/>
              <a:chOff x="685800" y="1524240"/>
              <a:chExt cx="3809880" cy="1981080"/>
            </a:xfrm>
          </p:grpSpPr>
          <p:sp>
            <p:nvSpPr>
              <p:cNvPr id="325" name=""/>
              <p:cNvSpPr/>
              <p:nvPr/>
            </p:nvSpPr>
            <p:spPr>
              <a:xfrm>
                <a:off x="685800" y="152424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79400" y="1586160"/>
                <a:ext cx="1879200" cy="270720"/>
                <a:chOff x="779400" y="1586160"/>
                <a:chExt cx="1879200" cy="2707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79400" y="1605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71560" y="15861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920520" y="167400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950040" y="16056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118520" y="160560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172880" y="160956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402280" y="160560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569320" y="1609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1278360" y="185760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74000" y="1854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93520" y="185760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78720" y="21085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44040" y="210528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02800" y="21085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758240" y="2105280"/>
                <a:ext cx="1783080" cy="186480"/>
                <a:chOff x="1758240" y="2105280"/>
                <a:chExt cx="1783080" cy="186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758240" y="210888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78840" y="210888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248640" y="210528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413880" y="210888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278720" y="2357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44040" y="235296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58320" y="23576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80440" y="235764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2901240" y="2352960"/>
                <a:ext cx="1404720" cy="249480"/>
                <a:chOff x="2901240" y="2352960"/>
                <a:chExt cx="1404720" cy="24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2901240" y="235548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914640" y="23529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977640" y="2419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047840" y="23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216680" y="2356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1709280" y="260532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67800" y="2602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499480" y="2605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42680" y="2605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50400" y="2605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34640" y="260532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899360" y="2602080"/>
                <a:ext cx="2043360" cy="185400"/>
                <a:chOff x="1899360" y="2602080"/>
                <a:chExt cx="2043360" cy="1854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99360" y="260460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634920" y="260208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853440" y="2604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850320" y="285444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50360" y="28544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8080" y="28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42320" y="2854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25120" y="2854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84880" y="285444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56280" y="285444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71080" y="3103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89400" y="310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681920" y="310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63280" y="310392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223720" y="310392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661200" y="310068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95920" y="3168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57480" y="310068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18760" y="31039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12600" y="218160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838080" y="1676520"/>
              <a:ext cx="3810240" cy="1981080"/>
              <a:chOff x="838080" y="1676520"/>
              <a:chExt cx="3810240" cy="1981080"/>
            </a:xfrm>
          </p:grpSpPr>
          <p:sp>
            <p:nvSpPr>
              <p:cNvPr id="384" name=""/>
              <p:cNvSpPr/>
              <p:nvPr/>
            </p:nvSpPr>
            <p:spPr>
              <a:xfrm>
                <a:off x="838080" y="16765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932040" y="1738440"/>
                <a:ext cx="1879560" cy="270720"/>
                <a:chOff x="932040" y="1738440"/>
                <a:chExt cx="1879560" cy="270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932040" y="1757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024200" y="17384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073160" y="18262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03040" y="17578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271160" y="17578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325880" y="17618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555280" y="17578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22320" y="1761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1431000" y="20098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27000" y="2006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846520" y="20098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31720" y="2260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96680" y="22575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55440" y="22608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1910880" y="2257560"/>
                <a:ext cx="1783440" cy="186480"/>
                <a:chOff x="1910880" y="2257560"/>
                <a:chExt cx="1783440" cy="186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910880" y="22611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31840" y="22611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401640" y="22575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566880" y="22611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1431720" y="250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97040" y="25052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10960" y="25099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33440" y="25099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3053880" y="2505240"/>
                <a:ext cx="1405080" cy="249480"/>
                <a:chOff x="3053880" y="2505240"/>
                <a:chExt cx="1405080" cy="249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053880" y="25077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67640" y="2505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130640" y="2571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00840" y="25052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369680" y="2508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861920" y="27576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20440" y="275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52480" y="2757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695320" y="27576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03040" y="2757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87280" y="27576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2052360" y="2754360"/>
                <a:ext cx="2043360" cy="185400"/>
                <a:chOff x="2052360" y="2754360"/>
                <a:chExt cx="2043360" cy="1854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052360" y="27568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787920" y="27543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006440" y="2756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1002960" y="30067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03000" y="30067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11080" y="3003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94960" y="3006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78120" y="3006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37880" y="30067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09280" y="30067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23720" y="32562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742400" y="325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34920" y="3256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15920" y="32562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76360" y="32562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813840" y="32529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48920" y="332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110120" y="32529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271760" y="3256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23338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914400" y="4419720"/>
            <a:ext cx="3809880" cy="1981080"/>
            <a:chOff x="914400" y="4419720"/>
            <a:chExt cx="3809880" cy="1981080"/>
          </a:xfrm>
        </p:grpSpPr>
        <p:sp>
          <p:nvSpPr>
            <p:cNvPr id="443" name=""/>
            <p:cNvSpPr/>
            <p:nvPr/>
          </p:nvSpPr>
          <p:spPr>
            <a:xfrm>
              <a:off x="914400" y="4419720"/>
              <a:ext cx="380988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008000" y="4481640"/>
              <a:ext cx="1879200" cy="270720"/>
              <a:chOff x="1008000" y="4481640"/>
              <a:chExt cx="1879200" cy="270720"/>
            </a:xfrm>
          </p:grpSpPr>
          <p:sp>
            <p:nvSpPr>
              <p:cNvPr id="445" name=""/>
              <p:cNvSpPr/>
              <p:nvPr/>
            </p:nvSpPr>
            <p:spPr>
              <a:xfrm>
                <a:off x="1008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0016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912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7864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4712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014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3088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79792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5069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0260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22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0732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7264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3140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986840" y="5000760"/>
              <a:ext cx="1783080" cy="186480"/>
              <a:chOff x="1986840" y="5000760"/>
              <a:chExt cx="1783080" cy="186480"/>
            </a:xfrm>
          </p:grpSpPr>
          <p:sp>
            <p:nvSpPr>
              <p:cNvPr id="460" name=""/>
              <p:cNvSpPr/>
              <p:nvPr/>
            </p:nvSpPr>
            <p:spPr>
              <a:xfrm>
                <a:off x="1986840" y="500436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07440" y="500436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7724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42480" y="500436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50732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7264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869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0904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129840" y="5248440"/>
              <a:ext cx="1404720" cy="249480"/>
              <a:chOff x="3129840" y="5248440"/>
              <a:chExt cx="1404720" cy="249480"/>
            </a:xfrm>
          </p:grpSpPr>
          <p:sp>
            <p:nvSpPr>
              <p:cNvPr id="469" name=""/>
              <p:cNvSpPr/>
              <p:nvPr/>
            </p:nvSpPr>
            <p:spPr>
              <a:xfrm>
                <a:off x="31298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4324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0624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7644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5280" y="5252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193788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9640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2808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7128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7900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632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127960" y="5497560"/>
              <a:ext cx="2043360" cy="185400"/>
              <a:chOff x="2127960" y="5497560"/>
              <a:chExt cx="2043360" cy="185400"/>
            </a:xfrm>
          </p:grpSpPr>
          <p:sp>
            <p:nvSpPr>
              <p:cNvPr id="481" name=""/>
              <p:cNvSpPr/>
              <p:nvPr/>
            </p:nvSpPr>
            <p:spPr>
              <a:xfrm>
                <a:off x="212796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6352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8204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107892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7896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8668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709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5372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48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848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9968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1800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10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9188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523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8980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2452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860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4736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41200" y="5077080"/>
              <a:ext cx="17280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09480" y="38862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ВТОРНОЕ ИС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838080"/>
            <a:ext cx="3657600" cy="5334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343400" y="1371600"/>
            <a:ext cx="4267080" cy="4511160"/>
            <a:chOff x="4343400" y="1371600"/>
            <a:chExt cx="4267080" cy="4511160"/>
          </a:xfrm>
        </p:grpSpPr>
        <p:sp>
          <p:nvSpPr>
            <p:cNvPr id="504" name=""/>
            <p:cNvSpPr/>
            <p:nvPr/>
          </p:nvSpPr>
          <p:spPr>
            <a:xfrm>
              <a:off x="4343400" y="380988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34120" y="1371600"/>
              <a:ext cx="3276360" cy="44956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67280" y="1676520"/>
              <a:ext cx="2590920" cy="42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ПЫТ -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ДСТ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ЦЕДЕН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ДЛЯ 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ОВТОР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ИСПОЛЬ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РАЦИОНА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В ОТНОШЕН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С ОКРУЖАЮЩ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МИРО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ВРИС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86400" y="2362320"/>
              <a:ext cx="823680" cy="485640"/>
            </a:xfrm>
            <a:prstGeom prst="rightArrow">
              <a:avLst>
                <a:gd name="adj1" fmla="val 50000"/>
                <a:gd name="adj2" fmla="val 4240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562720" y="990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457200" y="609480"/>
            <a:ext cx="838188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838080"/>
            <a:ext cx="8001000" cy="55627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066680" y="2057400"/>
            <a:ext cx="7239240" cy="4038480"/>
            <a:chOff x="1066680" y="2057400"/>
            <a:chExt cx="7239240" cy="4038480"/>
          </a:xfrm>
        </p:grpSpPr>
        <p:sp>
          <p:nvSpPr>
            <p:cNvPr id="513" name=""/>
            <p:cNvSpPr/>
            <p:nvPr/>
          </p:nvSpPr>
          <p:spPr>
            <a:xfrm>
              <a:off x="1066680" y="2057400"/>
              <a:ext cx="7162920" cy="3962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43000" y="4038480"/>
              <a:ext cx="7162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48320" y="403848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1800" y="26668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Н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00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71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914400" y="1371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сихофизиологические структуры и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990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914400"/>
            <a:ext cx="8382240" cy="5715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0560" y="1371600"/>
            <a:ext cx="898560" cy="30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а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46280" y="1447920"/>
            <a:ext cx="7788240" cy="5005800"/>
            <a:chOff x="746280" y="1447920"/>
            <a:chExt cx="7788240" cy="5005800"/>
          </a:xfrm>
        </p:grpSpPr>
        <p:sp>
          <p:nvSpPr>
            <p:cNvPr id="525" name=""/>
            <p:cNvSpPr/>
            <p:nvPr/>
          </p:nvSpPr>
          <p:spPr>
            <a:xfrm>
              <a:off x="1419120" y="36291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78560" y="1677960"/>
              <a:ext cx="0" cy="19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78560" y="2602080"/>
              <a:ext cx="21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17840" y="3629160"/>
              <a:ext cx="0" cy="184788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5735520"/>
              <a:ext cx="898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5715000"/>
              <a:ext cx="8985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19120" y="167796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19120" y="16779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19120" y="547704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713720" y="167760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43040" y="1677960"/>
              <a:ext cx="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419120" y="2192400"/>
              <a:ext cx="11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36760" y="1749600"/>
              <a:ext cx="104760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 - опы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89720" y="1689120"/>
              <a:ext cx="146196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89720" y="2612880"/>
              <a:ext cx="144936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42880" y="365112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29400" y="365436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280" y="1852560"/>
              <a:ext cx="672840" cy="204840"/>
            </a:xfrm>
            <a:custGeom>
              <a:avLst/>
              <a:gdLst>
                <a:gd name="textAreaLeft" fmla="*/ 105120 w 672840"/>
                <a:gd name="textAreaRight" fmla="*/ 625320 w 672840"/>
                <a:gd name="textAreaTop" fmla="*/ 61920 h 204840"/>
                <a:gd name="textAreaBottom" fmla="*/ 1429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541"/>
                  </a:moveTo>
                  <a:lnTo>
                    <a:pt x="17721" y="6541"/>
                  </a:lnTo>
                  <a:lnTo>
                    <a:pt x="17721" y="0"/>
                  </a:lnTo>
                  <a:lnTo>
                    <a:pt x="21600" y="10800"/>
                  </a:lnTo>
                  <a:lnTo>
                    <a:pt x="17721" y="21600"/>
                  </a:lnTo>
                  <a:lnTo>
                    <a:pt x="17721" y="15059"/>
                  </a:lnTo>
                  <a:lnTo>
                    <a:pt x="3375" y="15059"/>
                  </a:lnTo>
                  <a:close/>
                </a:path>
                <a:path w="21600" h="21600">
                  <a:moveTo>
                    <a:pt x="0" y="6541"/>
                  </a:moveTo>
                  <a:lnTo>
                    <a:pt x="675" y="6541"/>
                  </a:lnTo>
                  <a:lnTo>
                    <a:pt x="675" y="15059"/>
                  </a:lnTo>
                  <a:lnTo>
                    <a:pt x="0" y="15059"/>
                  </a:lnTo>
                  <a:close/>
                </a:path>
                <a:path w="21600" h="21600">
                  <a:moveTo>
                    <a:pt x="1350" y="6541"/>
                  </a:moveTo>
                  <a:lnTo>
                    <a:pt x="2700" y="6541"/>
                  </a:lnTo>
                  <a:lnTo>
                    <a:pt x="2700" y="15059"/>
                  </a:lnTo>
                  <a:lnTo>
                    <a:pt x="1350" y="150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19120" y="1986120"/>
              <a:ext cx="3821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880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926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240160" y="2176560"/>
              <a:ext cx="2724480" cy="15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240160" y="3112560"/>
              <a:ext cx="2724480" cy="3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05000" y="4348080"/>
              <a:ext cx="90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53200" y="434808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15160" y="219240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15160" y="311616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6040" y="1968480"/>
              <a:ext cx="650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36040" y="2905200"/>
              <a:ext cx="6760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19360" y="1447920"/>
              <a:ext cx="501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34520" y="1447920"/>
              <a:ext cx="0" cy="19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6064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29360" y="196848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8808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93240" y="217656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93240" y="311292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8120" y="6400800"/>
              <a:ext cx="297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8620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91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33720" y="59436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13:18:30Z</dcterms:created>
  <dc:creator>Валерий Г. Костин</dc:creator>
  <dc:description/>
  <dc:language>en-US</dc:language>
  <cp:lastModifiedBy>Валерий Г. Костин</cp:lastModifiedBy>
  <dcterms:modified xsi:type="dcterms:W3CDTF">2002-12-12T13:19:52Z</dcterms:modified>
  <cp:revision>1</cp:revision>
  <dc:subject/>
  <dc:title>ИСКУССТВЕННЫЙ  ИНТЕЛЛЕКТ</dc:title>
</cp:coreProperties>
</file>