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F842-4DF1-437D-A8AC-5EB34F78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340-1410-453D-8842-94DF554D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FD7-2E94-423D-89A4-1EC6DED0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DF9-8407-48C8-9467-EC542D52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0DBF-75B3-41F3-9D4E-1B528A66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A4A6-AFC1-4A47-B24A-A3C3DAF3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244C-7C57-4E5B-B26A-6826887F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C749-EFCB-4BE3-9DFF-E0FA309B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79B-E631-4D6C-9718-95A752F0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8D65-2F53-4AFC-9668-9A0654C1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1CC-1367-4258-A3DD-895127C2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4569-29B9-4085-9EA3-46373062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23F0-4051-41A4-906B-FCC837159A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43434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{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= [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3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Валерий Г. Костин</cp:lastModifiedBy>
  <dcterms:modified xsi:type="dcterms:W3CDTF">2002-12-12T13:43:15Z</dcterms:modified>
  <cp:revision>9</cp:revision>
  <dc:subject/>
  <dc:title>РАСПОЗНАВАНИЕ ОБРАЗОВ</dc:title>
</cp:coreProperties>
</file>