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E90D5-92C0-4015-BDE7-84591E882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7605F-D12C-4400-9F20-C88EAD50C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15E3F-9254-4018-96E1-3AF7429DF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3D011-6CA5-42DD-B29C-9F6A2CDAA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D1683-B716-4D43-B660-B501A7707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821B3-ED1F-45D5-8A82-DF82CF584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E63A1-DDE5-43E5-A581-93F1E5985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9BB1B-42B5-4A3F-BF1B-0599CDE3C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62439-AF9B-4681-B932-CAE4A4945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17366-48CD-45C6-B504-614F15354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49944-4A44-4962-893F-A90FAFDFD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7A516-2C6E-4E43-AC9F-601B38B22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554CE-A284-4D46-846B-5B72775FFFB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4920" y="685800"/>
            <a:ext cx="861048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РАСПОЗНАВАНИЕ ОБРАЗ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240" y="428940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240" y="41673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533520" y="1295280"/>
            <a:ext cx="8305200" cy="838440"/>
            <a:chOff x="533520" y="1295280"/>
            <a:chExt cx="8305200" cy="838440"/>
          </a:xfrm>
        </p:grpSpPr>
        <p:grpSp>
          <p:nvGrpSpPr>
            <p:cNvPr id="46" name=""/>
            <p:cNvGrpSpPr/>
            <p:nvPr/>
          </p:nvGrpSpPr>
          <p:grpSpPr>
            <a:xfrm>
              <a:off x="1172160" y="1295280"/>
              <a:ext cx="1916280" cy="838440"/>
              <a:chOff x="1172160" y="1295280"/>
              <a:chExt cx="1916280" cy="838440"/>
            </a:xfrm>
          </p:grpSpPr>
          <p:sp>
            <p:nvSpPr>
              <p:cNvPr id="47" name=""/>
              <p:cNvSpPr/>
              <p:nvPr/>
            </p:nvSpPr>
            <p:spPr>
              <a:xfrm>
                <a:off x="1172160" y="1295280"/>
                <a:ext cx="1916280" cy="83844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1249920" y="1371600"/>
                <a:ext cx="1758240" cy="58068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66"/>
                    </a:solidFill>
                    <a:latin typeface="Times New Roman"/>
                  </a:rPr>
                  <a:t>Датчики и преобразователи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" name=""/>
            <p:cNvGrpSpPr/>
            <p:nvPr/>
          </p:nvGrpSpPr>
          <p:grpSpPr>
            <a:xfrm>
              <a:off x="3727440" y="1295280"/>
              <a:ext cx="1916280" cy="838440"/>
              <a:chOff x="3727440" y="1295280"/>
              <a:chExt cx="1916280" cy="838440"/>
            </a:xfrm>
          </p:grpSpPr>
          <p:sp>
            <p:nvSpPr>
              <p:cNvPr id="50" name=""/>
              <p:cNvSpPr/>
              <p:nvPr/>
            </p:nvSpPr>
            <p:spPr>
              <a:xfrm>
                <a:off x="3727440" y="1295280"/>
                <a:ext cx="1916280" cy="83844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3807360" y="1371600"/>
                <a:ext cx="1756440" cy="33732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66"/>
                    </a:solidFill>
                    <a:latin typeface="Times New Roman"/>
                  </a:rPr>
                  <a:t>обработка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6283440" y="1295280"/>
              <a:ext cx="1916280" cy="838440"/>
              <a:chOff x="6283440" y="1295280"/>
              <a:chExt cx="1916280" cy="838440"/>
            </a:xfrm>
          </p:grpSpPr>
          <p:sp>
            <p:nvSpPr>
              <p:cNvPr id="53" name=""/>
              <p:cNvSpPr/>
              <p:nvPr/>
            </p:nvSpPr>
            <p:spPr>
              <a:xfrm>
                <a:off x="6283440" y="1295280"/>
                <a:ext cx="1916280" cy="83844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6363360" y="1371600"/>
                <a:ext cx="1756440" cy="58068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66"/>
                    </a:solidFill>
                    <a:latin typeface="Times New Roman"/>
                  </a:rPr>
                  <a:t>классифицирование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" name=""/>
            <p:cNvGrpSpPr/>
            <p:nvPr/>
          </p:nvGrpSpPr>
          <p:grpSpPr>
            <a:xfrm>
              <a:off x="533520" y="1447920"/>
              <a:ext cx="638280" cy="533160"/>
              <a:chOff x="533520" y="1447920"/>
              <a:chExt cx="638280" cy="533160"/>
            </a:xfrm>
          </p:grpSpPr>
          <p:sp>
            <p:nvSpPr>
              <p:cNvPr id="56" name=""/>
              <p:cNvSpPr/>
              <p:nvPr/>
            </p:nvSpPr>
            <p:spPr>
              <a:xfrm>
                <a:off x="533520" y="1447920"/>
                <a:ext cx="638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533520" y="1600200"/>
                <a:ext cx="638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533520" y="1981080"/>
                <a:ext cx="638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" name=""/>
            <p:cNvGrpSpPr/>
            <p:nvPr/>
          </p:nvGrpSpPr>
          <p:grpSpPr>
            <a:xfrm>
              <a:off x="5644440" y="1447920"/>
              <a:ext cx="638640" cy="533160"/>
              <a:chOff x="5644440" y="1447920"/>
              <a:chExt cx="638640" cy="533160"/>
            </a:xfrm>
          </p:grpSpPr>
          <p:sp>
            <p:nvSpPr>
              <p:cNvPr id="60" name=""/>
              <p:cNvSpPr/>
              <p:nvPr/>
            </p:nvSpPr>
            <p:spPr>
              <a:xfrm>
                <a:off x="5644440" y="1447920"/>
                <a:ext cx="638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5644440" y="1600200"/>
                <a:ext cx="638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644440" y="1981080"/>
                <a:ext cx="638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" name=""/>
            <p:cNvGrpSpPr/>
            <p:nvPr/>
          </p:nvGrpSpPr>
          <p:grpSpPr>
            <a:xfrm>
              <a:off x="3088800" y="1523880"/>
              <a:ext cx="638280" cy="533160"/>
              <a:chOff x="3088800" y="1523880"/>
              <a:chExt cx="638280" cy="533160"/>
            </a:xfrm>
          </p:grpSpPr>
          <p:sp>
            <p:nvSpPr>
              <p:cNvPr id="64" name=""/>
              <p:cNvSpPr/>
              <p:nvPr/>
            </p:nvSpPr>
            <p:spPr>
              <a:xfrm>
                <a:off x="3088800" y="1523880"/>
                <a:ext cx="638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3088800" y="1676160"/>
                <a:ext cx="638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3088800" y="2057040"/>
                <a:ext cx="638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" name=""/>
            <p:cNvSpPr/>
            <p:nvPr/>
          </p:nvSpPr>
          <p:spPr>
            <a:xfrm>
              <a:off x="8200080" y="1676520"/>
              <a:ext cx="638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" name=""/>
          <p:cNvSpPr/>
          <p:nvPr/>
        </p:nvSpPr>
        <p:spPr>
          <a:xfrm>
            <a:off x="838080" y="2514600"/>
            <a:ext cx="762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КЛАССИФИЦИРОРВАТЬ (ОБУЧАЮЩЕЕ МНОЖЕСТВО,  ОПИСАНИЕ,  ПРАВИЛО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1600200" y="3581280"/>
            <a:ext cx="5105520" cy="2667240"/>
            <a:chOff x="1600200" y="3581280"/>
            <a:chExt cx="5105520" cy="2667240"/>
          </a:xfrm>
        </p:grpSpPr>
        <p:grpSp>
          <p:nvGrpSpPr>
            <p:cNvPr id="70" name=""/>
            <p:cNvGrpSpPr/>
            <p:nvPr/>
          </p:nvGrpSpPr>
          <p:grpSpPr>
            <a:xfrm>
              <a:off x="2133720" y="3962520"/>
              <a:ext cx="4572000" cy="380880"/>
              <a:chOff x="2133720" y="3962520"/>
              <a:chExt cx="4572000" cy="380880"/>
            </a:xfrm>
          </p:grpSpPr>
          <p:sp>
            <p:nvSpPr>
              <p:cNvPr id="71" name=""/>
              <p:cNvSpPr/>
              <p:nvPr/>
            </p:nvSpPr>
            <p:spPr>
              <a:xfrm>
                <a:off x="2133720" y="3962520"/>
                <a:ext cx="4572000" cy="3808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2" name=""/>
              <p:cNvGrpSpPr/>
              <p:nvPr/>
            </p:nvGrpSpPr>
            <p:grpSpPr>
              <a:xfrm>
                <a:off x="2133720" y="3962520"/>
                <a:ext cx="838080" cy="380880"/>
                <a:chOff x="2133720" y="3962520"/>
                <a:chExt cx="838080" cy="380880"/>
              </a:xfrm>
            </p:grpSpPr>
            <p:sp>
              <p:nvSpPr>
                <p:cNvPr id="73" name=""/>
                <p:cNvSpPr/>
                <p:nvPr/>
              </p:nvSpPr>
              <p:spPr>
                <a:xfrm>
                  <a:off x="2133720" y="396252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>
                  <a:off x="2210040" y="396252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A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" name=""/>
              <p:cNvGrpSpPr/>
              <p:nvPr/>
            </p:nvGrpSpPr>
            <p:grpSpPr>
              <a:xfrm>
                <a:off x="2971800" y="3962520"/>
                <a:ext cx="838080" cy="380880"/>
                <a:chOff x="2971800" y="3962520"/>
                <a:chExt cx="838080" cy="380880"/>
              </a:xfrm>
            </p:grpSpPr>
            <p:sp>
              <p:nvSpPr>
                <p:cNvPr id="76" name=""/>
                <p:cNvSpPr/>
                <p:nvPr/>
              </p:nvSpPr>
              <p:spPr>
                <a:xfrm>
                  <a:off x="2971800" y="396252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3048120" y="396252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A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" name=""/>
              <p:cNvGrpSpPr/>
              <p:nvPr/>
            </p:nvGrpSpPr>
            <p:grpSpPr>
              <a:xfrm>
                <a:off x="4495680" y="3962520"/>
                <a:ext cx="838080" cy="380880"/>
                <a:chOff x="4495680" y="3962520"/>
                <a:chExt cx="838080" cy="380880"/>
              </a:xfrm>
            </p:grpSpPr>
            <p:sp>
              <p:nvSpPr>
                <p:cNvPr id="79" name=""/>
                <p:cNvSpPr/>
                <p:nvPr/>
              </p:nvSpPr>
              <p:spPr>
                <a:xfrm>
                  <a:off x="4495680" y="396252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" name=""/>
                <p:cNvSpPr/>
                <p:nvPr/>
              </p:nvSpPr>
              <p:spPr>
                <a:xfrm>
                  <a:off x="4572000" y="396252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A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I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" name=""/>
              <p:cNvGrpSpPr/>
              <p:nvPr/>
            </p:nvGrpSpPr>
            <p:grpSpPr>
              <a:xfrm>
                <a:off x="5867280" y="3962520"/>
                <a:ext cx="838080" cy="380880"/>
                <a:chOff x="5867280" y="3962520"/>
                <a:chExt cx="838080" cy="380880"/>
              </a:xfrm>
            </p:grpSpPr>
            <p:sp>
              <p:nvSpPr>
                <p:cNvPr id="82" name=""/>
                <p:cNvSpPr/>
                <p:nvPr/>
              </p:nvSpPr>
              <p:spPr>
                <a:xfrm>
                  <a:off x="5867280" y="396252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>
                  <a:off x="5943600" y="396252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A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N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4" name=""/>
            <p:cNvGrpSpPr/>
            <p:nvPr/>
          </p:nvGrpSpPr>
          <p:grpSpPr>
            <a:xfrm>
              <a:off x="2133720" y="4343400"/>
              <a:ext cx="4572000" cy="380880"/>
              <a:chOff x="2133720" y="4343400"/>
              <a:chExt cx="4572000" cy="380880"/>
            </a:xfrm>
          </p:grpSpPr>
          <p:sp>
            <p:nvSpPr>
              <p:cNvPr id="85" name=""/>
              <p:cNvSpPr/>
              <p:nvPr/>
            </p:nvSpPr>
            <p:spPr>
              <a:xfrm>
                <a:off x="2133720" y="4343400"/>
                <a:ext cx="4572000" cy="3808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6" name=""/>
              <p:cNvGrpSpPr/>
              <p:nvPr/>
            </p:nvGrpSpPr>
            <p:grpSpPr>
              <a:xfrm>
                <a:off x="2133720" y="4343400"/>
                <a:ext cx="838080" cy="380880"/>
                <a:chOff x="2133720" y="4343400"/>
                <a:chExt cx="838080" cy="380880"/>
              </a:xfrm>
            </p:grpSpPr>
            <p:sp>
              <p:nvSpPr>
                <p:cNvPr id="87" name=""/>
                <p:cNvSpPr/>
                <p:nvPr/>
              </p:nvSpPr>
              <p:spPr>
                <a:xfrm>
                  <a:off x="2133720" y="434340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>
                  <a:off x="2210040" y="434340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B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" name=""/>
              <p:cNvGrpSpPr/>
              <p:nvPr/>
            </p:nvGrpSpPr>
            <p:grpSpPr>
              <a:xfrm>
                <a:off x="2971800" y="4343400"/>
                <a:ext cx="838080" cy="380880"/>
                <a:chOff x="2971800" y="4343400"/>
                <a:chExt cx="838080" cy="380880"/>
              </a:xfrm>
            </p:grpSpPr>
            <p:sp>
              <p:nvSpPr>
                <p:cNvPr id="90" name=""/>
                <p:cNvSpPr/>
                <p:nvPr/>
              </p:nvSpPr>
              <p:spPr>
                <a:xfrm>
                  <a:off x="2971800" y="434340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3048120" y="434340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B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2" name=""/>
              <p:cNvGrpSpPr/>
              <p:nvPr/>
            </p:nvGrpSpPr>
            <p:grpSpPr>
              <a:xfrm>
                <a:off x="4495680" y="4343400"/>
                <a:ext cx="838080" cy="380880"/>
                <a:chOff x="4495680" y="4343400"/>
                <a:chExt cx="838080" cy="380880"/>
              </a:xfrm>
            </p:grpSpPr>
            <p:sp>
              <p:nvSpPr>
                <p:cNvPr id="93" name=""/>
                <p:cNvSpPr/>
                <p:nvPr/>
              </p:nvSpPr>
              <p:spPr>
                <a:xfrm>
                  <a:off x="4495680" y="434340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4572000" y="434340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B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I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" name=""/>
              <p:cNvGrpSpPr/>
              <p:nvPr/>
            </p:nvGrpSpPr>
            <p:grpSpPr>
              <a:xfrm>
                <a:off x="5867280" y="4343400"/>
                <a:ext cx="838080" cy="380880"/>
                <a:chOff x="5867280" y="4343400"/>
                <a:chExt cx="838080" cy="380880"/>
              </a:xfrm>
            </p:grpSpPr>
            <p:sp>
              <p:nvSpPr>
                <p:cNvPr id="96" name=""/>
                <p:cNvSpPr/>
                <p:nvPr/>
              </p:nvSpPr>
              <p:spPr>
                <a:xfrm>
                  <a:off x="5867280" y="434340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>
                  <a:off x="5943600" y="434340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B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N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8" name=""/>
            <p:cNvGrpSpPr/>
            <p:nvPr/>
          </p:nvGrpSpPr>
          <p:grpSpPr>
            <a:xfrm>
              <a:off x="2133720" y="4724280"/>
              <a:ext cx="4572000" cy="380880"/>
              <a:chOff x="2133720" y="4724280"/>
              <a:chExt cx="4572000" cy="380880"/>
            </a:xfrm>
          </p:grpSpPr>
          <p:sp>
            <p:nvSpPr>
              <p:cNvPr id="99" name=""/>
              <p:cNvSpPr/>
              <p:nvPr/>
            </p:nvSpPr>
            <p:spPr>
              <a:xfrm>
                <a:off x="2133720" y="4724280"/>
                <a:ext cx="4572000" cy="3808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0" name=""/>
              <p:cNvGrpSpPr/>
              <p:nvPr/>
            </p:nvGrpSpPr>
            <p:grpSpPr>
              <a:xfrm>
                <a:off x="2133720" y="4724280"/>
                <a:ext cx="838080" cy="380880"/>
                <a:chOff x="2133720" y="4724280"/>
                <a:chExt cx="838080" cy="380880"/>
              </a:xfrm>
            </p:grpSpPr>
            <p:sp>
              <p:nvSpPr>
                <p:cNvPr id="101" name=""/>
                <p:cNvSpPr/>
                <p:nvPr/>
              </p:nvSpPr>
              <p:spPr>
                <a:xfrm>
                  <a:off x="2133720" y="472428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2210040" y="4724280"/>
                  <a:ext cx="761760" cy="30708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..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3" name=""/>
              <p:cNvGrpSpPr/>
              <p:nvPr/>
            </p:nvGrpSpPr>
            <p:grpSpPr>
              <a:xfrm>
                <a:off x="2971800" y="4724280"/>
                <a:ext cx="838080" cy="380880"/>
                <a:chOff x="2971800" y="4724280"/>
                <a:chExt cx="838080" cy="380880"/>
              </a:xfrm>
            </p:grpSpPr>
            <p:sp>
              <p:nvSpPr>
                <p:cNvPr id="104" name=""/>
                <p:cNvSpPr/>
                <p:nvPr/>
              </p:nvSpPr>
              <p:spPr>
                <a:xfrm>
                  <a:off x="2971800" y="472428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3048120" y="4724280"/>
                  <a:ext cx="761760" cy="30708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..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6" name=""/>
              <p:cNvGrpSpPr/>
              <p:nvPr/>
            </p:nvGrpSpPr>
            <p:grpSpPr>
              <a:xfrm>
                <a:off x="4495680" y="4724280"/>
                <a:ext cx="838080" cy="380880"/>
                <a:chOff x="4495680" y="4724280"/>
                <a:chExt cx="838080" cy="380880"/>
              </a:xfrm>
            </p:grpSpPr>
            <p:sp>
              <p:nvSpPr>
                <p:cNvPr id="107" name=""/>
                <p:cNvSpPr/>
                <p:nvPr/>
              </p:nvSpPr>
              <p:spPr>
                <a:xfrm>
                  <a:off x="4495680" y="472428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4572000" y="4724280"/>
                  <a:ext cx="761760" cy="30708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..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" name=""/>
              <p:cNvGrpSpPr/>
              <p:nvPr/>
            </p:nvGrpSpPr>
            <p:grpSpPr>
              <a:xfrm>
                <a:off x="5867280" y="4724280"/>
                <a:ext cx="838080" cy="380880"/>
                <a:chOff x="5867280" y="4724280"/>
                <a:chExt cx="838080" cy="380880"/>
              </a:xfrm>
            </p:grpSpPr>
            <p:sp>
              <p:nvSpPr>
                <p:cNvPr id="110" name=""/>
                <p:cNvSpPr/>
                <p:nvPr/>
              </p:nvSpPr>
              <p:spPr>
                <a:xfrm>
                  <a:off x="5867280" y="472428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5943600" y="4724280"/>
                  <a:ext cx="761760" cy="30708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..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2" name=""/>
            <p:cNvGrpSpPr/>
            <p:nvPr/>
          </p:nvGrpSpPr>
          <p:grpSpPr>
            <a:xfrm>
              <a:off x="2133720" y="5105520"/>
              <a:ext cx="4572000" cy="380880"/>
              <a:chOff x="2133720" y="5105520"/>
              <a:chExt cx="4572000" cy="380880"/>
            </a:xfrm>
          </p:grpSpPr>
          <p:sp>
            <p:nvSpPr>
              <p:cNvPr id="113" name=""/>
              <p:cNvSpPr/>
              <p:nvPr/>
            </p:nvSpPr>
            <p:spPr>
              <a:xfrm>
                <a:off x="2133720" y="5105520"/>
                <a:ext cx="4572000" cy="3808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4" name=""/>
              <p:cNvGrpSpPr/>
              <p:nvPr/>
            </p:nvGrpSpPr>
            <p:grpSpPr>
              <a:xfrm>
                <a:off x="2133720" y="5105520"/>
                <a:ext cx="838080" cy="380880"/>
                <a:chOff x="2133720" y="5105520"/>
                <a:chExt cx="838080" cy="380880"/>
              </a:xfrm>
            </p:grpSpPr>
            <p:sp>
              <p:nvSpPr>
                <p:cNvPr id="115" name=""/>
                <p:cNvSpPr/>
                <p:nvPr/>
              </p:nvSpPr>
              <p:spPr>
                <a:xfrm>
                  <a:off x="2133720" y="510552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2210040" y="510552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F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7" name=""/>
              <p:cNvGrpSpPr/>
              <p:nvPr/>
            </p:nvGrpSpPr>
            <p:grpSpPr>
              <a:xfrm>
                <a:off x="2971800" y="5105520"/>
                <a:ext cx="838080" cy="380880"/>
                <a:chOff x="2971800" y="5105520"/>
                <a:chExt cx="838080" cy="380880"/>
              </a:xfrm>
            </p:grpSpPr>
            <p:sp>
              <p:nvSpPr>
                <p:cNvPr id="118" name=""/>
                <p:cNvSpPr/>
                <p:nvPr/>
              </p:nvSpPr>
              <p:spPr>
                <a:xfrm>
                  <a:off x="2971800" y="510552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3048120" y="510552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F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0" name=""/>
              <p:cNvGrpSpPr/>
              <p:nvPr/>
            </p:nvGrpSpPr>
            <p:grpSpPr>
              <a:xfrm>
                <a:off x="4495680" y="5105520"/>
                <a:ext cx="838080" cy="380880"/>
                <a:chOff x="4495680" y="5105520"/>
                <a:chExt cx="838080" cy="380880"/>
              </a:xfrm>
            </p:grpSpPr>
            <p:sp>
              <p:nvSpPr>
                <p:cNvPr id="121" name=""/>
                <p:cNvSpPr/>
                <p:nvPr/>
              </p:nvSpPr>
              <p:spPr>
                <a:xfrm>
                  <a:off x="4495680" y="510552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4572000" y="510552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F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I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3" name=""/>
              <p:cNvGrpSpPr/>
              <p:nvPr/>
            </p:nvGrpSpPr>
            <p:grpSpPr>
              <a:xfrm>
                <a:off x="5867280" y="5105520"/>
                <a:ext cx="838080" cy="380880"/>
                <a:chOff x="5867280" y="5105520"/>
                <a:chExt cx="838080" cy="380880"/>
              </a:xfrm>
            </p:grpSpPr>
            <p:sp>
              <p:nvSpPr>
                <p:cNvPr id="124" name=""/>
                <p:cNvSpPr/>
                <p:nvPr/>
              </p:nvSpPr>
              <p:spPr>
                <a:xfrm>
                  <a:off x="5867280" y="510552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5943600" y="510552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F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N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6" name=""/>
            <p:cNvGrpSpPr/>
            <p:nvPr/>
          </p:nvGrpSpPr>
          <p:grpSpPr>
            <a:xfrm>
              <a:off x="2133720" y="5486400"/>
              <a:ext cx="4572000" cy="380880"/>
              <a:chOff x="2133720" y="5486400"/>
              <a:chExt cx="4572000" cy="380880"/>
            </a:xfrm>
          </p:grpSpPr>
          <p:sp>
            <p:nvSpPr>
              <p:cNvPr id="127" name=""/>
              <p:cNvSpPr/>
              <p:nvPr/>
            </p:nvSpPr>
            <p:spPr>
              <a:xfrm>
                <a:off x="2133720" y="5486400"/>
                <a:ext cx="4572000" cy="3808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8" name=""/>
              <p:cNvGrpSpPr/>
              <p:nvPr/>
            </p:nvGrpSpPr>
            <p:grpSpPr>
              <a:xfrm>
                <a:off x="2133720" y="5486400"/>
                <a:ext cx="838080" cy="380880"/>
                <a:chOff x="2133720" y="5486400"/>
                <a:chExt cx="838080" cy="380880"/>
              </a:xfrm>
            </p:grpSpPr>
            <p:sp>
              <p:nvSpPr>
                <p:cNvPr id="129" name=""/>
                <p:cNvSpPr/>
                <p:nvPr/>
              </p:nvSpPr>
              <p:spPr>
                <a:xfrm>
                  <a:off x="2133720" y="548640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2210040" y="5486400"/>
                  <a:ext cx="761760" cy="30492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" name=""/>
              <p:cNvGrpSpPr/>
              <p:nvPr/>
            </p:nvGrpSpPr>
            <p:grpSpPr>
              <a:xfrm>
                <a:off x="2971800" y="5486400"/>
                <a:ext cx="838080" cy="380880"/>
                <a:chOff x="2971800" y="5486400"/>
                <a:chExt cx="838080" cy="380880"/>
              </a:xfrm>
            </p:grpSpPr>
            <p:sp>
              <p:nvSpPr>
                <p:cNvPr id="132" name=""/>
                <p:cNvSpPr/>
                <p:nvPr/>
              </p:nvSpPr>
              <p:spPr>
                <a:xfrm>
                  <a:off x="2971800" y="548640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3048120" y="5486400"/>
                  <a:ext cx="761760" cy="30708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..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4" name=""/>
              <p:cNvGrpSpPr/>
              <p:nvPr/>
            </p:nvGrpSpPr>
            <p:grpSpPr>
              <a:xfrm>
                <a:off x="4495680" y="5486400"/>
                <a:ext cx="838080" cy="380880"/>
                <a:chOff x="4495680" y="5486400"/>
                <a:chExt cx="838080" cy="38088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4495680" y="548640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4572000" y="5486400"/>
                  <a:ext cx="761760" cy="30708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..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7" name=""/>
              <p:cNvGrpSpPr/>
              <p:nvPr/>
            </p:nvGrpSpPr>
            <p:grpSpPr>
              <a:xfrm>
                <a:off x="5867280" y="5486400"/>
                <a:ext cx="838080" cy="380880"/>
                <a:chOff x="5867280" y="5486400"/>
                <a:chExt cx="838080" cy="380880"/>
              </a:xfrm>
            </p:grpSpPr>
            <p:sp>
              <p:nvSpPr>
                <p:cNvPr id="138" name=""/>
                <p:cNvSpPr/>
                <p:nvPr/>
              </p:nvSpPr>
              <p:spPr>
                <a:xfrm>
                  <a:off x="5867280" y="548640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5943600" y="5486400"/>
                  <a:ext cx="761760" cy="30708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.,.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0" name=""/>
            <p:cNvGrpSpPr/>
            <p:nvPr/>
          </p:nvGrpSpPr>
          <p:grpSpPr>
            <a:xfrm>
              <a:off x="2133720" y="3581280"/>
              <a:ext cx="4572000" cy="380880"/>
              <a:chOff x="2133720" y="3581280"/>
              <a:chExt cx="4572000" cy="380880"/>
            </a:xfrm>
          </p:grpSpPr>
          <p:sp>
            <p:nvSpPr>
              <p:cNvPr id="141" name=""/>
              <p:cNvSpPr/>
              <p:nvPr/>
            </p:nvSpPr>
            <p:spPr>
              <a:xfrm>
                <a:off x="2133720" y="3581280"/>
                <a:ext cx="4572000" cy="3808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2" name=""/>
              <p:cNvGrpSpPr/>
              <p:nvPr/>
            </p:nvGrpSpPr>
            <p:grpSpPr>
              <a:xfrm>
                <a:off x="2133720" y="3581280"/>
                <a:ext cx="838080" cy="380880"/>
                <a:chOff x="2133720" y="3581280"/>
                <a:chExt cx="838080" cy="380880"/>
              </a:xfrm>
            </p:grpSpPr>
            <p:sp>
              <p:nvSpPr>
                <p:cNvPr id="143" name=""/>
                <p:cNvSpPr/>
                <p:nvPr/>
              </p:nvSpPr>
              <p:spPr>
                <a:xfrm>
                  <a:off x="2133720" y="358128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2210040" y="358128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X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5" name=""/>
              <p:cNvGrpSpPr/>
              <p:nvPr/>
            </p:nvGrpSpPr>
            <p:grpSpPr>
              <a:xfrm>
                <a:off x="2971800" y="3581280"/>
                <a:ext cx="838080" cy="380880"/>
                <a:chOff x="2971800" y="3581280"/>
                <a:chExt cx="838080" cy="38088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2971800" y="358128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3048120" y="358128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X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8" name=""/>
              <p:cNvGrpSpPr/>
              <p:nvPr/>
            </p:nvGrpSpPr>
            <p:grpSpPr>
              <a:xfrm>
                <a:off x="4495680" y="3581280"/>
                <a:ext cx="838080" cy="380880"/>
                <a:chOff x="4495680" y="3581280"/>
                <a:chExt cx="838080" cy="380880"/>
              </a:xfrm>
            </p:grpSpPr>
            <p:sp>
              <p:nvSpPr>
                <p:cNvPr id="149" name=""/>
                <p:cNvSpPr/>
                <p:nvPr/>
              </p:nvSpPr>
              <p:spPr>
                <a:xfrm>
                  <a:off x="4495680" y="358128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4572000" y="358128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X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I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1" name=""/>
              <p:cNvGrpSpPr/>
              <p:nvPr/>
            </p:nvGrpSpPr>
            <p:grpSpPr>
              <a:xfrm>
                <a:off x="5867280" y="3581280"/>
                <a:ext cx="838080" cy="380880"/>
                <a:chOff x="5867280" y="3581280"/>
                <a:chExt cx="838080" cy="380880"/>
              </a:xfrm>
            </p:grpSpPr>
            <p:sp>
              <p:nvSpPr>
                <p:cNvPr id="152" name=""/>
                <p:cNvSpPr/>
                <p:nvPr/>
              </p:nvSpPr>
              <p:spPr>
                <a:xfrm>
                  <a:off x="5867280" y="358128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5943600" y="358128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X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N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54" name=""/>
            <p:cNvSpPr/>
            <p:nvPr/>
          </p:nvSpPr>
          <p:spPr>
            <a:xfrm>
              <a:off x="1600200" y="3581280"/>
              <a:ext cx="533520" cy="26672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flipH="1">
              <a:off x="1600200" y="39625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H="1">
              <a:off x="1600200" y="434340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>
              <a:off x="1600200" y="4724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600200" y="51055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1600200" y="548640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0" name=""/>
            <p:cNvGrpSpPr/>
            <p:nvPr/>
          </p:nvGrpSpPr>
          <p:grpSpPr>
            <a:xfrm>
              <a:off x="2133720" y="5867280"/>
              <a:ext cx="4572000" cy="380880"/>
              <a:chOff x="2133720" y="5867280"/>
              <a:chExt cx="4572000" cy="380880"/>
            </a:xfrm>
          </p:grpSpPr>
          <p:sp>
            <p:nvSpPr>
              <p:cNvPr id="161" name=""/>
              <p:cNvSpPr/>
              <p:nvPr/>
            </p:nvSpPr>
            <p:spPr>
              <a:xfrm>
                <a:off x="2133720" y="5867280"/>
                <a:ext cx="4572000" cy="3808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2" name=""/>
              <p:cNvGrpSpPr/>
              <p:nvPr/>
            </p:nvGrpSpPr>
            <p:grpSpPr>
              <a:xfrm>
                <a:off x="2133720" y="5867280"/>
                <a:ext cx="838080" cy="380880"/>
                <a:chOff x="2133720" y="5867280"/>
                <a:chExt cx="838080" cy="38088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133720" y="586728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210040" y="586728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G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5" name=""/>
              <p:cNvGrpSpPr/>
              <p:nvPr/>
            </p:nvGrpSpPr>
            <p:grpSpPr>
              <a:xfrm>
                <a:off x="2971800" y="5867280"/>
                <a:ext cx="838080" cy="380880"/>
                <a:chOff x="2971800" y="5867280"/>
                <a:chExt cx="838080" cy="38088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2971800" y="586728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3048120" y="586728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G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8" name=""/>
              <p:cNvGrpSpPr/>
              <p:nvPr/>
            </p:nvGrpSpPr>
            <p:grpSpPr>
              <a:xfrm>
                <a:off x="4495680" y="5867280"/>
                <a:ext cx="838080" cy="380880"/>
                <a:chOff x="4495680" y="5867280"/>
                <a:chExt cx="838080" cy="380880"/>
              </a:xfrm>
            </p:grpSpPr>
            <p:sp>
              <p:nvSpPr>
                <p:cNvPr id="169" name=""/>
                <p:cNvSpPr/>
                <p:nvPr/>
              </p:nvSpPr>
              <p:spPr>
                <a:xfrm>
                  <a:off x="4495680" y="586728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4572000" y="586728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G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I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1" name=""/>
              <p:cNvGrpSpPr/>
              <p:nvPr/>
            </p:nvGrpSpPr>
            <p:grpSpPr>
              <a:xfrm>
                <a:off x="5867280" y="5867280"/>
                <a:ext cx="838080" cy="380880"/>
                <a:chOff x="5867280" y="5867280"/>
                <a:chExt cx="838080" cy="380880"/>
              </a:xfrm>
            </p:grpSpPr>
            <p:sp>
              <p:nvSpPr>
                <p:cNvPr id="172" name=""/>
                <p:cNvSpPr/>
                <p:nvPr/>
              </p:nvSpPr>
              <p:spPr>
                <a:xfrm>
                  <a:off x="5867280" y="586728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5943600" y="586728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G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N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74" name=""/>
            <p:cNvSpPr/>
            <p:nvPr/>
          </p:nvSpPr>
          <p:spPr>
            <a:xfrm flipH="1">
              <a:off x="1600200" y="5867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5" name=""/>
          <p:cNvSpPr/>
          <p:nvPr/>
        </p:nvSpPr>
        <p:spPr>
          <a:xfrm flipH="1">
            <a:off x="3276720" y="2895480"/>
            <a:ext cx="914400" cy="53352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РАСПОЗНАВАНИЕ ОБРАЗ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04920" y="685800"/>
            <a:ext cx="861048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240" y="428940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240" y="41673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505320" y="297180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БАЗОВЫЕ ЗАДАЧ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33520" y="2819520"/>
            <a:ext cx="22096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Эффективность и оценк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477120" y="3200400"/>
            <a:ext cx="22096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Коррекция классификаци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62520" y="990720"/>
            <a:ext cx="16761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Априорная классификац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477120" y="1752480"/>
            <a:ext cx="22096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Априорный словарь признако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38080" y="1295280"/>
            <a:ext cx="221004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Определить полный перечень признако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752480" y="4800600"/>
            <a:ext cx="221004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Качество распознаван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6400800" y="4648320"/>
            <a:ext cx="22096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В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ыбор алгорит ма распознаван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809880" y="5715000"/>
            <a:ext cx="221004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Рабочие словари признаков и классо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 flipV="1">
            <a:off x="2819160" y="2286000"/>
            <a:ext cx="6858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 flipV="1">
            <a:off x="3200400" y="159984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638680" y="1676520"/>
            <a:ext cx="99072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6934320" y="2286000"/>
            <a:ext cx="1522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 flipH="1">
            <a:off x="6933960" y="40384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 flipH="1">
            <a:off x="5486040" y="518148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 flipH="1" flipV="1">
            <a:off x="2895480" y="5562360"/>
            <a:ext cx="60984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 flipH="1" flipV="1">
            <a:off x="1676520" y="3657240"/>
            <a:ext cx="45720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РАСПОЗНАВАНИЕ ОБРАЗ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04920" y="685800"/>
            <a:ext cx="861048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240" y="428940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240" y="41673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666880" y="76212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Грамматическое распознавание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7" name=""/>
          <p:cNvGrpSpPr/>
          <p:nvPr/>
        </p:nvGrpSpPr>
        <p:grpSpPr>
          <a:xfrm>
            <a:off x="1219320" y="1447920"/>
            <a:ext cx="2057400" cy="1828800"/>
            <a:chOff x="1219320" y="1447920"/>
            <a:chExt cx="2057400" cy="1828800"/>
          </a:xfrm>
        </p:grpSpPr>
        <p:sp>
          <p:nvSpPr>
            <p:cNvPr id="398" name=""/>
            <p:cNvSpPr/>
            <p:nvPr/>
          </p:nvSpPr>
          <p:spPr>
            <a:xfrm>
              <a:off x="1219320" y="1447920"/>
              <a:ext cx="2057400" cy="182880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676520" y="2057760"/>
              <a:ext cx="228600" cy="22860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2514600" y="2057760"/>
              <a:ext cx="228600" cy="22860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2133720" y="2133720"/>
              <a:ext cx="76320" cy="4572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1828800" y="2895840"/>
              <a:ext cx="76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1676520" y="3809880"/>
            <a:ext cx="6400800" cy="22100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Лицо(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x,y)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: 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черты лица(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x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),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голова(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y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),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внутри(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x,y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Голова(): окружность(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x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Черты лица (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x,y,z):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 глаза(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x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),нос(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y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), рот(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z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)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; = 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и (и( над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 (x,y),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над(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y,z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Глаза(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x,z): 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точка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(x),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 точка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(y),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 слева (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x,y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Нос (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x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)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: 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прямоугольник(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x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)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Рот(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x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)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: 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 отрезок_прямой(), горизонтальный(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x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4" name=""/>
          <p:cNvGrpSpPr/>
          <p:nvPr/>
        </p:nvGrpSpPr>
        <p:grpSpPr>
          <a:xfrm>
            <a:off x="3733920" y="1447920"/>
            <a:ext cx="4952880" cy="1523880"/>
            <a:chOff x="3733920" y="1447920"/>
            <a:chExt cx="4952880" cy="1523880"/>
          </a:xfrm>
        </p:grpSpPr>
        <p:sp>
          <p:nvSpPr>
            <p:cNvPr id="405" name=""/>
            <p:cNvSpPr/>
            <p:nvPr/>
          </p:nvSpPr>
          <p:spPr>
            <a:xfrm>
              <a:off x="3809880" y="1447920"/>
              <a:ext cx="4572000" cy="6858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886200" y="1523880"/>
              <a:ext cx="4419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Типы объектов : точка, прямоугольник, отрезок прямой , окружность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733920" y="2362320"/>
              <a:ext cx="4952880" cy="6094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3962520" y="2514600"/>
              <a:ext cx="4572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Предикаты : Внутри, над, слева, горизонтальный, и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РАСПОЗНАВАНИЕ ОБРАЗ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28600" y="685800"/>
            <a:ext cx="861048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3240" y="428940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240" y="41673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3" name=""/>
          <p:cNvGrpSpPr/>
          <p:nvPr/>
        </p:nvGrpSpPr>
        <p:grpSpPr>
          <a:xfrm>
            <a:off x="838080" y="1600200"/>
            <a:ext cx="1523880" cy="2211840"/>
            <a:chOff x="838080" y="1600200"/>
            <a:chExt cx="1523880" cy="2211840"/>
          </a:xfrm>
        </p:grpSpPr>
        <p:sp>
          <p:nvSpPr>
            <p:cNvPr id="414" name=""/>
            <p:cNvSpPr/>
            <p:nvPr/>
          </p:nvSpPr>
          <p:spPr>
            <a:xfrm>
              <a:off x="914400" y="167616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838080" y="190476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 flipH="1">
              <a:off x="914400" y="228564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 flipV="1">
              <a:off x="838080" y="24379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1066680" y="251424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371600" y="160020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143000" y="182844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447560" y="213336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2" name=""/>
            <p:cNvGrpSpPr/>
            <p:nvPr/>
          </p:nvGrpSpPr>
          <p:grpSpPr>
            <a:xfrm>
              <a:off x="838080" y="2971440"/>
              <a:ext cx="304920" cy="304560"/>
              <a:chOff x="838080" y="2971440"/>
              <a:chExt cx="304920" cy="304560"/>
            </a:xfrm>
          </p:grpSpPr>
          <p:sp>
            <p:nvSpPr>
              <p:cNvPr id="423" name=""/>
              <p:cNvSpPr/>
              <p:nvPr/>
            </p:nvSpPr>
            <p:spPr>
              <a:xfrm flipV="1">
                <a:off x="838080" y="297144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838080" y="2971440"/>
                <a:ext cx="304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5" name=""/>
            <p:cNvSpPr/>
            <p:nvPr/>
          </p:nvSpPr>
          <p:spPr>
            <a:xfrm>
              <a:off x="1676160" y="3504960"/>
              <a:ext cx="68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6" name=""/>
            <p:cNvGrpSpPr/>
            <p:nvPr/>
          </p:nvGrpSpPr>
          <p:grpSpPr>
            <a:xfrm>
              <a:off x="1676160" y="2971440"/>
              <a:ext cx="381240" cy="459360"/>
              <a:chOff x="1676160" y="2971440"/>
              <a:chExt cx="381240" cy="459360"/>
            </a:xfrm>
          </p:grpSpPr>
          <p:grpSp>
            <p:nvGrpSpPr>
              <p:cNvPr id="427" name=""/>
              <p:cNvGrpSpPr/>
              <p:nvPr/>
            </p:nvGrpSpPr>
            <p:grpSpPr>
              <a:xfrm>
                <a:off x="1752480" y="2971440"/>
                <a:ext cx="304920" cy="228240"/>
                <a:chOff x="1752480" y="2971440"/>
                <a:chExt cx="304920" cy="228240"/>
              </a:xfrm>
            </p:grpSpPr>
            <p:sp>
              <p:nvSpPr>
                <p:cNvPr id="428" name=""/>
                <p:cNvSpPr/>
                <p:nvPr/>
              </p:nvSpPr>
              <p:spPr>
                <a:xfrm>
                  <a:off x="1752480" y="2971440"/>
                  <a:ext cx="304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9" name=""/>
                <p:cNvSpPr/>
                <p:nvPr/>
              </p:nvSpPr>
              <p:spPr>
                <a:xfrm>
                  <a:off x="2057400" y="2971440"/>
                  <a:ext cx="0" cy="228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30" name=""/>
              <p:cNvSpPr/>
              <p:nvPr/>
            </p:nvSpPr>
            <p:spPr>
              <a:xfrm>
                <a:off x="1676160" y="3123720"/>
                <a:ext cx="304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1" name=""/>
            <p:cNvGrpSpPr/>
            <p:nvPr/>
          </p:nvGrpSpPr>
          <p:grpSpPr>
            <a:xfrm>
              <a:off x="1752120" y="3504960"/>
              <a:ext cx="304920" cy="304560"/>
              <a:chOff x="1752120" y="3504960"/>
              <a:chExt cx="304920" cy="304560"/>
            </a:xfrm>
          </p:grpSpPr>
          <p:sp>
            <p:nvSpPr>
              <p:cNvPr id="432" name=""/>
              <p:cNvSpPr/>
              <p:nvPr/>
            </p:nvSpPr>
            <p:spPr>
              <a:xfrm>
                <a:off x="2057040" y="350496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 flipH="1">
                <a:off x="1752120" y="3809520"/>
                <a:ext cx="304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4" name=""/>
            <p:cNvGrpSpPr/>
            <p:nvPr/>
          </p:nvGrpSpPr>
          <p:grpSpPr>
            <a:xfrm>
              <a:off x="838080" y="3504960"/>
              <a:ext cx="304920" cy="304560"/>
              <a:chOff x="838080" y="3504960"/>
              <a:chExt cx="304920" cy="304560"/>
            </a:xfrm>
          </p:grpSpPr>
          <p:sp>
            <p:nvSpPr>
              <p:cNvPr id="435" name=""/>
              <p:cNvSpPr/>
              <p:nvPr/>
            </p:nvSpPr>
            <p:spPr>
              <a:xfrm>
                <a:off x="838080" y="350496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838080" y="3809520"/>
                <a:ext cx="304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7" name=""/>
            <p:cNvSpPr/>
            <p:nvPr/>
          </p:nvSpPr>
          <p:spPr>
            <a:xfrm>
              <a:off x="990360" y="3124080"/>
              <a:ext cx="68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914400" y="3504960"/>
              <a:ext cx="68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3809880" y="1371600"/>
            <a:ext cx="1219320" cy="29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A::=a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F::=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B::=b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G::=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C::=c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R::=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D::=d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T::=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0" name=""/>
          <p:cNvGrpSpPr/>
          <p:nvPr/>
        </p:nvGrpSpPr>
        <p:grpSpPr>
          <a:xfrm>
            <a:off x="6019920" y="2057040"/>
            <a:ext cx="1218960" cy="991080"/>
            <a:chOff x="6019920" y="2057040"/>
            <a:chExt cx="1218960" cy="991080"/>
          </a:xfrm>
        </p:grpSpPr>
        <p:sp>
          <p:nvSpPr>
            <p:cNvPr id="441" name=""/>
            <p:cNvSpPr/>
            <p:nvPr/>
          </p:nvSpPr>
          <p:spPr>
            <a:xfrm>
              <a:off x="6019920" y="205740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324480" y="205740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933960" y="205740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238880" y="20574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238880" y="2286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238880" y="28195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 flipH="1">
              <a:off x="6933960" y="304812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 flipH="1">
              <a:off x="6019920" y="304812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 flipH="1">
              <a:off x="6629040" y="3048120"/>
              <a:ext cx="304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 flipV="1">
              <a:off x="6019920" y="274284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V="1">
              <a:off x="6019920" y="23623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V="1">
              <a:off x="6019920" y="205704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3" name=""/>
          <p:cNvSpPr/>
          <p:nvPr/>
        </p:nvSpPr>
        <p:spPr>
          <a:xfrm>
            <a:off x="1219320" y="762120"/>
            <a:ext cx="52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Формальные грамматик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РАСПОЗНАВАНИЕ ОБРАЗ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04920" y="685800"/>
            <a:ext cx="861048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240" y="428940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240" y="41673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РАСПОЗНАВАНИЕ ОБРАЗ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04920" y="685800"/>
            <a:ext cx="861048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240" y="428940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40" y="41673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2895480" y="1447560"/>
            <a:ext cx="0" cy="3733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1447920" y="5029200"/>
            <a:ext cx="167616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590920" y="5181480"/>
            <a:ext cx="5486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363840" y="1650960"/>
            <a:ext cx="1962360" cy="1333440"/>
          </a:xfrm>
          <a:custGeom>
            <a:avLst/>
            <a:gdLst/>
            <a:ahLst/>
            <a:rect l="l" t="t" r="r" b="b"/>
            <a:pathLst>
              <a:path w="1236" h="840">
                <a:moveTo>
                  <a:pt x="468" y="2"/>
                </a:moveTo>
                <a:cubicBezTo>
                  <a:pt x="435" y="8"/>
                  <a:pt x="395" y="0"/>
                  <a:pt x="368" y="21"/>
                </a:cubicBezTo>
                <a:cubicBezTo>
                  <a:pt x="313" y="64"/>
                  <a:pt x="245" y="93"/>
                  <a:pt x="203" y="149"/>
                </a:cubicBezTo>
                <a:cubicBezTo>
                  <a:pt x="127" y="249"/>
                  <a:pt x="170" y="200"/>
                  <a:pt x="75" y="295"/>
                </a:cubicBezTo>
                <a:cubicBezTo>
                  <a:pt x="61" y="381"/>
                  <a:pt x="39" y="487"/>
                  <a:pt x="11" y="569"/>
                </a:cubicBezTo>
                <a:cubicBezTo>
                  <a:pt x="14" y="600"/>
                  <a:pt x="0" y="637"/>
                  <a:pt x="20" y="661"/>
                </a:cubicBezTo>
                <a:cubicBezTo>
                  <a:pt x="36" y="680"/>
                  <a:pt x="71" y="662"/>
                  <a:pt x="94" y="670"/>
                </a:cubicBezTo>
                <a:cubicBezTo>
                  <a:pt x="342" y="757"/>
                  <a:pt x="36" y="717"/>
                  <a:pt x="386" y="734"/>
                </a:cubicBezTo>
                <a:cubicBezTo>
                  <a:pt x="632" y="840"/>
                  <a:pt x="619" y="796"/>
                  <a:pt x="980" y="779"/>
                </a:cubicBezTo>
                <a:cubicBezTo>
                  <a:pt x="1027" y="764"/>
                  <a:pt x="1040" y="716"/>
                  <a:pt x="1081" y="688"/>
                </a:cubicBezTo>
                <a:cubicBezTo>
                  <a:pt x="1088" y="645"/>
                  <a:pt x="1114" y="534"/>
                  <a:pt x="1154" y="505"/>
                </a:cubicBezTo>
                <a:cubicBezTo>
                  <a:pt x="1164" y="498"/>
                  <a:pt x="1179" y="499"/>
                  <a:pt x="1191" y="496"/>
                </a:cubicBezTo>
                <a:cubicBezTo>
                  <a:pt x="1200" y="441"/>
                  <a:pt x="1223" y="395"/>
                  <a:pt x="1236" y="341"/>
                </a:cubicBezTo>
                <a:cubicBezTo>
                  <a:pt x="1197" y="332"/>
                  <a:pt x="1156" y="333"/>
                  <a:pt x="1118" y="322"/>
                </a:cubicBezTo>
                <a:cubicBezTo>
                  <a:pt x="1110" y="320"/>
                  <a:pt x="1108" y="306"/>
                  <a:pt x="1099" y="304"/>
                </a:cubicBezTo>
                <a:cubicBezTo>
                  <a:pt x="1051" y="294"/>
                  <a:pt x="953" y="286"/>
                  <a:pt x="953" y="286"/>
                </a:cubicBezTo>
                <a:cubicBezTo>
                  <a:pt x="926" y="277"/>
                  <a:pt x="894" y="275"/>
                  <a:pt x="871" y="258"/>
                </a:cubicBezTo>
                <a:cubicBezTo>
                  <a:pt x="783" y="192"/>
                  <a:pt x="828" y="208"/>
                  <a:pt x="743" y="194"/>
                </a:cubicBezTo>
                <a:cubicBezTo>
                  <a:pt x="724" y="136"/>
                  <a:pt x="735" y="101"/>
                  <a:pt x="670" y="85"/>
                </a:cubicBezTo>
                <a:cubicBezTo>
                  <a:pt x="622" y="37"/>
                  <a:pt x="533" y="24"/>
                  <a:pt x="468" y="2"/>
                </a:cubicBez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41320" y="3409920"/>
            <a:ext cx="1457280" cy="1379520"/>
          </a:xfrm>
          <a:custGeom>
            <a:avLst/>
            <a:gdLst/>
            <a:ahLst/>
            <a:rect l="l" t="t" r="r" b="b"/>
            <a:pathLst>
              <a:path w="918" h="869">
                <a:moveTo>
                  <a:pt x="549" y="19"/>
                </a:moveTo>
                <a:cubicBezTo>
                  <a:pt x="379" y="67"/>
                  <a:pt x="534" y="0"/>
                  <a:pt x="494" y="74"/>
                </a:cubicBezTo>
                <a:cubicBezTo>
                  <a:pt x="477" y="106"/>
                  <a:pt x="448" y="131"/>
                  <a:pt x="421" y="156"/>
                </a:cubicBezTo>
                <a:cubicBezTo>
                  <a:pt x="399" y="177"/>
                  <a:pt x="371" y="191"/>
                  <a:pt x="348" y="211"/>
                </a:cubicBezTo>
                <a:cubicBezTo>
                  <a:pt x="328" y="228"/>
                  <a:pt x="316" y="253"/>
                  <a:pt x="293" y="266"/>
                </a:cubicBezTo>
                <a:cubicBezTo>
                  <a:pt x="271" y="278"/>
                  <a:pt x="244" y="276"/>
                  <a:pt x="220" y="284"/>
                </a:cubicBezTo>
                <a:cubicBezTo>
                  <a:pt x="180" y="297"/>
                  <a:pt x="141" y="316"/>
                  <a:pt x="101" y="330"/>
                </a:cubicBezTo>
                <a:cubicBezTo>
                  <a:pt x="77" y="354"/>
                  <a:pt x="47" y="374"/>
                  <a:pt x="28" y="403"/>
                </a:cubicBezTo>
                <a:cubicBezTo>
                  <a:pt x="5" y="438"/>
                  <a:pt x="8" y="555"/>
                  <a:pt x="0" y="604"/>
                </a:cubicBezTo>
                <a:cubicBezTo>
                  <a:pt x="31" y="625"/>
                  <a:pt x="58" y="653"/>
                  <a:pt x="92" y="668"/>
                </a:cubicBezTo>
                <a:cubicBezTo>
                  <a:pt x="114" y="678"/>
                  <a:pt x="143" y="666"/>
                  <a:pt x="165" y="677"/>
                </a:cubicBezTo>
                <a:cubicBezTo>
                  <a:pt x="311" y="750"/>
                  <a:pt x="138" y="709"/>
                  <a:pt x="256" y="796"/>
                </a:cubicBezTo>
                <a:cubicBezTo>
                  <a:pt x="305" y="832"/>
                  <a:pt x="426" y="858"/>
                  <a:pt x="494" y="869"/>
                </a:cubicBezTo>
                <a:cubicBezTo>
                  <a:pt x="500" y="851"/>
                  <a:pt x="510" y="833"/>
                  <a:pt x="512" y="814"/>
                </a:cubicBezTo>
                <a:cubicBezTo>
                  <a:pt x="513" y="805"/>
                  <a:pt x="495" y="792"/>
                  <a:pt x="503" y="787"/>
                </a:cubicBezTo>
                <a:cubicBezTo>
                  <a:pt x="521" y="775"/>
                  <a:pt x="545" y="779"/>
                  <a:pt x="567" y="778"/>
                </a:cubicBezTo>
                <a:cubicBezTo>
                  <a:pt x="665" y="773"/>
                  <a:pt x="762" y="772"/>
                  <a:pt x="860" y="769"/>
                </a:cubicBezTo>
                <a:cubicBezTo>
                  <a:pt x="890" y="722"/>
                  <a:pt x="905" y="677"/>
                  <a:pt x="915" y="622"/>
                </a:cubicBezTo>
                <a:cubicBezTo>
                  <a:pt x="912" y="531"/>
                  <a:pt x="916" y="439"/>
                  <a:pt x="905" y="348"/>
                </a:cubicBezTo>
                <a:cubicBezTo>
                  <a:pt x="904" y="337"/>
                  <a:pt x="885" y="339"/>
                  <a:pt x="878" y="330"/>
                </a:cubicBezTo>
                <a:cubicBezTo>
                  <a:pt x="830" y="268"/>
                  <a:pt x="918" y="333"/>
                  <a:pt x="841" y="284"/>
                </a:cubicBezTo>
                <a:cubicBezTo>
                  <a:pt x="832" y="229"/>
                  <a:pt x="806" y="173"/>
                  <a:pt x="768" y="129"/>
                </a:cubicBezTo>
                <a:cubicBezTo>
                  <a:pt x="762" y="122"/>
                  <a:pt x="749" y="124"/>
                  <a:pt x="741" y="119"/>
                </a:cubicBezTo>
                <a:cubicBezTo>
                  <a:pt x="716" y="103"/>
                  <a:pt x="692" y="83"/>
                  <a:pt x="668" y="65"/>
                </a:cubicBezTo>
                <a:cubicBezTo>
                  <a:pt x="664" y="62"/>
                  <a:pt x="551" y="20"/>
                  <a:pt x="549" y="19"/>
                </a:cubicBez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818240" y="3672000"/>
            <a:ext cx="1322280" cy="1263600"/>
          </a:xfrm>
          <a:custGeom>
            <a:avLst/>
            <a:gdLst/>
            <a:ahLst/>
            <a:rect l="l" t="t" r="r" b="b"/>
            <a:pathLst>
              <a:path w="833" h="796">
                <a:moveTo>
                  <a:pt x="46" y="9"/>
                </a:moveTo>
                <a:cubicBezTo>
                  <a:pt x="54" y="82"/>
                  <a:pt x="43" y="148"/>
                  <a:pt x="55" y="220"/>
                </a:cubicBezTo>
                <a:cubicBezTo>
                  <a:pt x="49" y="360"/>
                  <a:pt x="14" y="502"/>
                  <a:pt x="37" y="640"/>
                </a:cubicBezTo>
                <a:cubicBezTo>
                  <a:pt x="43" y="677"/>
                  <a:pt x="55" y="744"/>
                  <a:pt x="55" y="777"/>
                </a:cubicBezTo>
                <a:cubicBezTo>
                  <a:pt x="55" y="786"/>
                  <a:pt x="37" y="747"/>
                  <a:pt x="46" y="750"/>
                </a:cubicBezTo>
                <a:cubicBezTo>
                  <a:pt x="74" y="758"/>
                  <a:pt x="95" y="781"/>
                  <a:pt x="119" y="796"/>
                </a:cubicBezTo>
                <a:cubicBezTo>
                  <a:pt x="285" y="785"/>
                  <a:pt x="441" y="759"/>
                  <a:pt x="604" y="732"/>
                </a:cubicBezTo>
                <a:cubicBezTo>
                  <a:pt x="635" y="700"/>
                  <a:pt x="732" y="695"/>
                  <a:pt x="732" y="695"/>
                </a:cubicBezTo>
                <a:cubicBezTo>
                  <a:pt x="777" y="672"/>
                  <a:pt x="771" y="652"/>
                  <a:pt x="814" y="668"/>
                </a:cubicBezTo>
                <a:cubicBezTo>
                  <a:pt x="833" y="549"/>
                  <a:pt x="800" y="411"/>
                  <a:pt x="787" y="293"/>
                </a:cubicBezTo>
                <a:cubicBezTo>
                  <a:pt x="784" y="226"/>
                  <a:pt x="786" y="159"/>
                  <a:pt x="778" y="92"/>
                </a:cubicBezTo>
                <a:cubicBezTo>
                  <a:pt x="772" y="45"/>
                  <a:pt x="700" y="57"/>
                  <a:pt x="677" y="55"/>
                </a:cubicBezTo>
                <a:cubicBezTo>
                  <a:pt x="533" y="46"/>
                  <a:pt x="304" y="41"/>
                  <a:pt x="174" y="37"/>
                </a:cubicBezTo>
                <a:cubicBezTo>
                  <a:pt x="130" y="24"/>
                  <a:pt x="65" y="0"/>
                  <a:pt x="19" y="9"/>
                </a:cubicBezTo>
                <a:cubicBezTo>
                  <a:pt x="9" y="11"/>
                  <a:pt x="0" y="37"/>
                  <a:pt x="10" y="37"/>
                </a:cubicBezTo>
                <a:cubicBezTo>
                  <a:pt x="25" y="37"/>
                  <a:pt x="34" y="18"/>
                  <a:pt x="46" y="9"/>
                </a:cubicBez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219320" y="3886200"/>
            <a:ext cx="533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105520" y="4114800"/>
            <a:ext cx="83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962520" y="2057400"/>
            <a:ext cx="533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РАСПОЗНАВАНИЕ ОБРАЗ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04920" y="685800"/>
            <a:ext cx="861048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33520" y="914400"/>
            <a:ext cx="41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БАЙЕСОВСКОЕ ПРАВИЛ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990720" y="1371600"/>
            <a:ext cx="7391160" cy="18288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990720" y="1371600"/>
            <a:ext cx="3504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СОБЫТИЯ И ИХ ВЕРОЯТНОСТ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057400" y="1752480"/>
            <a:ext cx="5257800" cy="12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Pr(A) - 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вероятность появления события 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Pr(A,B) - 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вероятность совместного появления событий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A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 и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 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Pr(B|A) - 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вероятность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B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 при условии, что произощло 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Pr(A,B)= Pr(A)* Pr(B|A) = Pr(B)* Pr(A|B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990720" y="3505320"/>
            <a:ext cx="7391160" cy="2895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295280" y="3657600"/>
            <a:ext cx="342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БАЙЕСОВСКАЯ ЗАДАЧ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133720" y="4038480"/>
            <a:ext cx="4190760" cy="17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Гипотезы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{H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} - Pr(H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i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H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j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) = 0,   </a:t>
            </a:r>
            <a:r>
              <a:rPr b="1" lang="en-US" sz="1400" spc="-1" strike="noStrike">
                <a:solidFill>
                  <a:srgbClr val="ff0066"/>
                </a:solidFill>
                <a:latin typeface="Symbol"/>
                <a:ea typeface="Symbol"/>
              </a:rPr>
              <a:t>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 Pr(H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) =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Эксперименты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{E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k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}, 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причём известна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Pr(E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k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|H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Pr(E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k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|H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) </a:t>
            </a:r>
            <a:r>
              <a:rPr b="1" lang="en-US" sz="1400" spc="-1" strike="noStrike">
                <a:solidFill>
                  <a:srgbClr val="ff0066"/>
                </a:solidFill>
                <a:latin typeface="Symbol"/>
                <a:ea typeface="Symbol"/>
              </a:rPr>
              <a:t>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 0 , Pr(E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k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, E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k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|H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) = 0 </a:t>
            </a:r>
            <a:r>
              <a:rPr b="1" lang="en-US" sz="1400" spc="-1" strike="noStrike">
                <a:solidFill>
                  <a:srgbClr val="ff0066"/>
                </a:solidFill>
                <a:latin typeface="Symbol"/>
                <a:ea typeface="Symbol"/>
              </a:rPr>
              <a:t>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 Pr(E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| H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) =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Pr(E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) = </a:t>
            </a:r>
            <a:r>
              <a:rPr b="1" lang="en-US" sz="1400" spc="-1" strike="noStrike">
                <a:solidFill>
                  <a:srgbClr val="ff0066"/>
                </a:solidFill>
                <a:latin typeface="Symbol"/>
                <a:ea typeface="Symbol"/>
              </a:rPr>
              <a:t>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 Pr (E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| H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) * Pr( H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) -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РАСПОЗНАВАНИЕ ОБРАЗ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04920" y="685800"/>
            <a:ext cx="861048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33520" y="914400"/>
            <a:ext cx="495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БАЙЕСОВСКОЕ ПРАВИЛО (пример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240" y="428940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1639800" y="2000160"/>
            <a:ext cx="6437160" cy="2114640"/>
            <a:chOff x="1639800" y="2000160"/>
            <a:chExt cx="6437160" cy="2114640"/>
          </a:xfrm>
        </p:grpSpPr>
        <p:grpSp>
          <p:nvGrpSpPr>
            <p:cNvPr id="203" name=""/>
            <p:cNvGrpSpPr/>
            <p:nvPr/>
          </p:nvGrpSpPr>
          <p:grpSpPr>
            <a:xfrm>
              <a:off x="1644480" y="2004840"/>
              <a:ext cx="6427800" cy="2104920"/>
              <a:chOff x="1644480" y="2004840"/>
              <a:chExt cx="6427800" cy="2104920"/>
            </a:xfrm>
          </p:grpSpPr>
          <p:grpSp>
            <p:nvGrpSpPr>
              <p:cNvPr id="204" name=""/>
              <p:cNvGrpSpPr/>
              <p:nvPr/>
            </p:nvGrpSpPr>
            <p:grpSpPr>
              <a:xfrm>
                <a:off x="1644480" y="2004840"/>
                <a:ext cx="1434960" cy="701640"/>
                <a:chOff x="1644480" y="2004840"/>
                <a:chExt cx="1434960" cy="701640"/>
              </a:xfrm>
            </p:grpSpPr>
            <p:sp>
              <p:nvSpPr>
                <p:cNvPr id="205" name=""/>
                <p:cNvSpPr/>
                <p:nvPr/>
              </p:nvSpPr>
              <p:spPr>
                <a:xfrm>
                  <a:off x="1712880" y="200484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обозначение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1644480" y="200484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7" name=""/>
              <p:cNvGrpSpPr/>
              <p:nvPr/>
            </p:nvGrpSpPr>
            <p:grpSpPr>
              <a:xfrm>
                <a:off x="3079440" y="2004840"/>
                <a:ext cx="3557880" cy="701640"/>
                <a:chOff x="3079440" y="2004840"/>
                <a:chExt cx="3557880" cy="701640"/>
              </a:xfrm>
            </p:grpSpPr>
            <p:sp>
              <p:nvSpPr>
                <p:cNvPr id="208" name=""/>
                <p:cNvSpPr/>
                <p:nvPr/>
              </p:nvSpPr>
              <p:spPr>
                <a:xfrm>
                  <a:off x="3147840" y="2004840"/>
                  <a:ext cx="342108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пояснение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3079440" y="2004840"/>
                  <a:ext cx="355788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6637320" y="2004840"/>
                <a:ext cx="1434960" cy="701640"/>
                <a:chOff x="6637320" y="2004840"/>
                <a:chExt cx="1434960" cy="70164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6705360" y="200484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величина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6637320" y="200484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3" name=""/>
              <p:cNvGrpSpPr/>
              <p:nvPr/>
            </p:nvGrpSpPr>
            <p:grpSpPr>
              <a:xfrm>
                <a:off x="1644480" y="2706480"/>
                <a:ext cx="1434960" cy="701640"/>
                <a:chOff x="1644480" y="2706480"/>
                <a:chExt cx="1434960" cy="701640"/>
              </a:xfrm>
            </p:grpSpPr>
            <p:sp>
              <p:nvSpPr>
                <p:cNvPr id="214" name=""/>
                <p:cNvSpPr/>
                <p:nvPr/>
              </p:nvSpPr>
              <p:spPr>
                <a:xfrm>
                  <a:off x="1712880" y="270648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Pr</a:t>
                  </a:r>
                  <a:r>
                    <a:rPr b="1" lang="ru-RU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(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H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r</a:t>
                  </a:r>
                  <a:r>
                    <a:rPr b="1" lang="ru-RU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1644480" y="270648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6" name=""/>
              <p:cNvGrpSpPr/>
              <p:nvPr/>
            </p:nvGrpSpPr>
            <p:grpSpPr>
              <a:xfrm>
                <a:off x="3079440" y="2706480"/>
                <a:ext cx="3557880" cy="701640"/>
                <a:chOff x="3079440" y="2706480"/>
                <a:chExt cx="3557880" cy="701640"/>
              </a:xfrm>
            </p:grpSpPr>
            <p:sp>
              <p:nvSpPr>
                <p:cNvPr id="217" name=""/>
                <p:cNvSpPr/>
                <p:nvPr/>
              </p:nvSpPr>
              <p:spPr>
                <a:xfrm>
                  <a:off x="3147840" y="2706480"/>
                  <a:ext cx="342108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Вероятность того, что идёт дождь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3079440" y="2706480"/>
                  <a:ext cx="355788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6637320" y="2706480"/>
                <a:ext cx="1434960" cy="701640"/>
                <a:chOff x="6637320" y="2706480"/>
                <a:chExt cx="1434960" cy="701640"/>
              </a:xfrm>
            </p:grpSpPr>
            <p:sp>
              <p:nvSpPr>
                <p:cNvPr id="220" name=""/>
                <p:cNvSpPr/>
                <p:nvPr/>
              </p:nvSpPr>
              <p:spPr>
                <a:xfrm>
                  <a:off x="6705360" y="270648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0,3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6637320" y="270648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2" name=""/>
              <p:cNvGrpSpPr/>
              <p:nvPr/>
            </p:nvGrpSpPr>
            <p:grpSpPr>
              <a:xfrm>
                <a:off x="1644480" y="3408120"/>
                <a:ext cx="1434960" cy="701640"/>
                <a:chOff x="1644480" y="3408120"/>
                <a:chExt cx="1434960" cy="701640"/>
              </a:xfrm>
            </p:grpSpPr>
            <p:sp>
              <p:nvSpPr>
                <p:cNvPr id="223" name=""/>
                <p:cNvSpPr/>
                <p:nvPr/>
              </p:nvSpPr>
              <p:spPr>
                <a:xfrm>
                  <a:off x="1712880" y="340812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Pr</a:t>
                  </a:r>
                  <a:r>
                    <a:rPr b="1" lang="ru-RU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(-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H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r</a:t>
                  </a:r>
                  <a:r>
                    <a:rPr b="1" lang="ru-RU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1644480" y="340812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5" name=""/>
              <p:cNvGrpSpPr/>
              <p:nvPr/>
            </p:nvGrpSpPr>
            <p:grpSpPr>
              <a:xfrm>
                <a:off x="3079440" y="3408120"/>
                <a:ext cx="3557880" cy="701640"/>
                <a:chOff x="3079440" y="3408120"/>
                <a:chExt cx="3557880" cy="701640"/>
              </a:xfrm>
            </p:grpSpPr>
            <p:sp>
              <p:nvSpPr>
                <p:cNvPr id="226" name=""/>
                <p:cNvSpPr/>
                <p:nvPr/>
              </p:nvSpPr>
              <p:spPr>
                <a:xfrm>
                  <a:off x="3147840" y="3408120"/>
                  <a:ext cx="342108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Вероятность – «дождя нет»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3079440" y="3408120"/>
                  <a:ext cx="355788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6637320" y="3408120"/>
                <a:ext cx="1434960" cy="701640"/>
                <a:chOff x="6637320" y="3408120"/>
                <a:chExt cx="1434960" cy="70164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6705360" y="340812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0,7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6637320" y="340812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31" name=""/>
            <p:cNvSpPr/>
            <p:nvPr/>
          </p:nvSpPr>
          <p:spPr>
            <a:xfrm>
              <a:off x="1639800" y="2000160"/>
              <a:ext cx="6437160" cy="211464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3240" y="41673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РАСПОЗНАВАНИЕ ОБРАЗ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04920" y="685800"/>
            <a:ext cx="861048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240" y="428940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240" y="41673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1487520" y="1251000"/>
            <a:ext cx="6437160" cy="4921200"/>
            <a:chOff x="1487520" y="1251000"/>
            <a:chExt cx="6437160" cy="4921200"/>
          </a:xfrm>
        </p:grpSpPr>
        <p:grpSp>
          <p:nvGrpSpPr>
            <p:cNvPr id="238" name=""/>
            <p:cNvGrpSpPr/>
            <p:nvPr/>
          </p:nvGrpSpPr>
          <p:grpSpPr>
            <a:xfrm>
              <a:off x="1492200" y="1255680"/>
              <a:ext cx="6427800" cy="4911840"/>
              <a:chOff x="1492200" y="1255680"/>
              <a:chExt cx="6427800" cy="4911840"/>
            </a:xfrm>
          </p:grpSpPr>
          <p:grpSp>
            <p:nvGrpSpPr>
              <p:cNvPr id="239" name=""/>
              <p:cNvGrpSpPr/>
              <p:nvPr/>
            </p:nvGrpSpPr>
            <p:grpSpPr>
              <a:xfrm>
                <a:off x="1492200" y="1255680"/>
                <a:ext cx="1434960" cy="701640"/>
                <a:chOff x="1492200" y="1255680"/>
                <a:chExt cx="1434960" cy="701640"/>
              </a:xfrm>
            </p:grpSpPr>
            <p:sp>
              <p:nvSpPr>
                <p:cNvPr id="240" name=""/>
                <p:cNvSpPr/>
                <p:nvPr/>
              </p:nvSpPr>
              <p:spPr>
                <a:xfrm>
                  <a:off x="1560600" y="125568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обозначение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1492200" y="125568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2" name=""/>
              <p:cNvGrpSpPr/>
              <p:nvPr/>
            </p:nvGrpSpPr>
            <p:grpSpPr>
              <a:xfrm>
                <a:off x="2927160" y="1255680"/>
                <a:ext cx="3557880" cy="701640"/>
                <a:chOff x="2927160" y="1255680"/>
                <a:chExt cx="3557880" cy="701640"/>
              </a:xfrm>
            </p:grpSpPr>
            <p:sp>
              <p:nvSpPr>
                <p:cNvPr id="243" name=""/>
                <p:cNvSpPr/>
                <p:nvPr/>
              </p:nvSpPr>
              <p:spPr>
                <a:xfrm>
                  <a:off x="2995560" y="1255680"/>
                  <a:ext cx="342108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пояснение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2927160" y="1255680"/>
                  <a:ext cx="355788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5" name=""/>
              <p:cNvGrpSpPr/>
              <p:nvPr/>
            </p:nvGrpSpPr>
            <p:grpSpPr>
              <a:xfrm>
                <a:off x="6485040" y="1255680"/>
                <a:ext cx="1434960" cy="701640"/>
                <a:chOff x="6485040" y="1255680"/>
                <a:chExt cx="1434960" cy="701640"/>
              </a:xfrm>
            </p:grpSpPr>
            <p:sp>
              <p:nvSpPr>
                <p:cNvPr id="246" name=""/>
                <p:cNvSpPr/>
                <p:nvPr/>
              </p:nvSpPr>
              <p:spPr>
                <a:xfrm>
                  <a:off x="6553080" y="125568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величина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6485040" y="125568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8" name=""/>
              <p:cNvGrpSpPr/>
              <p:nvPr/>
            </p:nvGrpSpPr>
            <p:grpSpPr>
              <a:xfrm>
                <a:off x="1492200" y="1957320"/>
                <a:ext cx="1434960" cy="701640"/>
                <a:chOff x="1492200" y="1957320"/>
                <a:chExt cx="1434960" cy="701640"/>
              </a:xfrm>
            </p:grpSpPr>
            <p:sp>
              <p:nvSpPr>
                <p:cNvPr id="249" name=""/>
                <p:cNvSpPr/>
                <p:nvPr/>
              </p:nvSpPr>
              <p:spPr>
                <a:xfrm>
                  <a:off x="1560600" y="195732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Pr(E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1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Symbol"/>
                      <a:ea typeface="Symbol"/>
                    </a:rPr>
                    <a:t>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 H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r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1492200" y="195732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1" name=""/>
              <p:cNvGrpSpPr/>
              <p:nvPr/>
            </p:nvGrpSpPr>
            <p:grpSpPr>
              <a:xfrm>
                <a:off x="2927160" y="1957320"/>
                <a:ext cx="3557880" cy="701640"/>
                <a:chOff x="2927160" y="1957320"/>
                <a:chExt cx="3557880" cy="701640"/>
              </a:xfrm>
            </p:grpSpPr>
            <p:sp>
              <p:nvSpPr>
                <p:cNvPr id="252" name=""/>
                <p:cNvSpPr/>
                <p:nvPr/>
              </p:nvSpPr>
              <p:spPr>
                <a:xfrm>
                  <a:off x="2995560" y="1957320"/>
                  <a:ext cx="342108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 </a:t>
                  </a:r>
                  <a:r>
                    <a:rPr b="1" lang="ru-RU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Дождь, люди, зонтик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2927160" y="1957320"/>
                  <a:ext cx="355788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4" name=""/>
              <p:cNvGrpSpPr/>
              <p:nvPr/>
            </p:nvGrpSpPr>
            <p:grpSpPr>
              <a:xfrm>
                <a:off x="6485040" y="1957320"/>
                <a:ext cx="1434960" cy="701640"/>
                <a:chOff x="6485040" y="1957320"/>
                <a:chExt cx="1434960" cy="701640"/>
              </a:xfrm>
            </p:grpSpPr>
            <p:sp>
              <p:nvSpPr>
                <p:cNvPr id="255" name=""/>
                <p:cNvSpPr/>
                <p:nvPr/>
              </p:nvSpPr>
              <p:spPr>
                <a:xfrm>
                  <a:off x="6553080" y="195732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0,4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6485040" y="195732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7" name=""/>
              <p:cNvGrpSpPr/>
              <p:nvPr/>
            </p:nvGrpSpPr>
            <p:grpSpPr>
              <a:xfrm>
                <a:off x="1492200" y="2658960"/>
                <a:ext cx="1434960" cy="701640"/>
                <a:chOff x="1492200" y="2658960"/>
                <a:chExt cx="1434960" cy="70164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1560600" y="265896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Pr(E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1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Symbol"/>
                      <a:ea typeface="Symbol"/>
                    </a:rPr>
                    <a:t>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 -H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r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1492200" y="265896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0" name=""/>
              <p:cNvGrpSpPr/>
              <p:nvPr/>
            </p:nvGrpSpPr>
            <p:grpSpPr>
              <a:xfrm>
                <a:off x="2927160" y="2658960"/>
                <a:ext cx="3557880" cy="701640"/>
                <a:chOff x="2927160" y="2658960"/>
                <a:chExt cx="3557880" cy="7016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2995560" y="2658960"/>
                  <a:ext cx="342108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Дождь, люди, зонтов нет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2927160" y="2658960"/>
                  <a:ext cx="355788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3" name=""/>
              <p:cNvGrpSpPr/>
              <p:nvPr/>
            </p:nvGrpSpPr>
            <p:grpSpPr>
              <a:xfrm>
                <a:off x="6485040" y="2658960"/>
                <a:ext cx="1434960" cy="701640"/>
                <a:chOff x="6485040" y="2658960"/>
                <a:chExt cx="1434960" cy="701640"/>
              </a:xfrm>
            </p:grpSpPr>
            <p:sp>
              <p:nvSpPr>
                <p:cNvPr id="264" name=""/>
                <p:cNvSpPr/>
                <p:nvPr/>
              </p:nvSpPr>
              <p:spPr>
                <a:xfrm>
                  <a:off x="6553080" y="265896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0,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6485040" y="265896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6" name=""/>
              <p:cNvGrpSpPr/>
              <p:nvPr/>
            </p:nvGrpSpPr>
            <p:grpSpPr>
              <a:xfrm>
                <a:off x="1492200" y="3360600"/>
                <a:ext cx="1434960" cy="701640"/>
                <a:chOff x="1492200" y="3360600"/>
                <a:chExt cx="1434960" cy="701640"/>
              </a:xfrm>
            </p:grpSpPr>
            <p:sp>
              <p:nvSpPr>
                <p:cNvPr id="267" name=""/>
                <p:cNvSpPr/>
                <p:nvPr/>
              </p:nvSpPr>
              <p:spPr>
                <a:xfrm>
                  <a:off x="1560600" y="336060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Pr(E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2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Symbol"/>
                      <a:ea typeface="Symbol"/>
                    </a:rPr>
                    <a:t>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 H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r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1492200" y="336060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9" name=""/>
              <p:cNvGrpSpPr/>
              <p:nvPr/>
            </p:nvGrpSpPr>
            <p:grpSpPr>
              <a:xfrm>
                <a:off x="2927160" y="3360600"/>
                <a:ext cx="3557880" cy="701640"/>
                <a:chOff x="2927160" y="3360600"/>
                <a:chExt cx="3557880" cy="701640"/>
              </a:xfrm>
            </p:grpSpPr>
            <p:sp>
              <p:nvSpPr>
                <p:cNvPr id="270" name=""/>
                <p:cNvSpPr/>
                <p:nvPr/>
              </p:nvSpPr>
              <p:spPr>
                <a:xfrm>
                  <a:off x="2995560" y="3360600"/>
                  <a:ext cx="342108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Дождь, людей нет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2927160" y="3360600"/>
                  <a:ext cx="355788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2" name=""/>
              <p:cNvGrpSpPr/>
              <p:nvPr/>
            </p:nvGrpSpPr>
            <p:grpSpPr>
              <a:xfrm>
                <a:off x="6485040" y="3360600"/>
                <a:ext cx="1434960" cy="701640"/>
                <a:chOff x="6485040" y="3360600"/>
                <a:chExt cx="1434960" cy="701640"/>
              </a:xfrm>
            </p:grpSpPr>
            <p:sp>
              <p:nvSpPr>
                <p:cNvPr id="273" name=""/>
                <p:cNvSpPr/>
                <p:nvPr/>
              </p:nvSpPr>
              <p:spPr>
                <a:xfrm>
                  <a:off x="6553080" y="336060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0,4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6485040" y="336060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5" name=""/>
              <p:cNvGrpSpPr/>
              <p:nvPr/>
            </p:nvGrpSpPr>
            <p:grpSpPr>
              <a:xfrm>
                <a:off x="1492200" y="4062240"/>
                <a:ext cx="1434960" cy="701640"/>
                <a:chOff x="1492200" y="4062240"/>
                <a:chExt cx="1434960" cy="701640"/>
              </a:xfrm>
            </p:grpSpPr>
            <p:sp>
              <p:nvSpPr>
                <p:cNvPr id="276" name=""/>
                <p:cNvSpPr/>
                <p:nvPr/>
              </p:nvSpPr>
              <p:spPr>
                <a:xfrm>
                  <a:off x="1560600" y="406224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Pr(E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2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Symbol"/>
                      <a:ea typeface="Symbol"/>
                    </a:rPr>
                    <a:t>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 -H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r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1492200" y="406224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8" name=""/>
              <p:cNvGrpSpPr/>
              <p:nvPr/>
            </p:nvGrpSpPr>
            <p:grpSpPr>
              <a:xfrm>
                <a:off x="2927160" y="4062240"/>
                <a:ext cx="3557880" cy="701640"/>
                <a:chOff x="2927160" y="4062240"/>
                <a:chExt cx="3557880" cy="7016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995560" y="4062240"/>
                  <a:ext cx="342108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Нет дождя, люди, зонтик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2927160" y="4062240"/>
                  <a:ext cx="355788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1" name=""/>
              <p:cNvGrpSpPr/>
              <p:nvPr/>
            </p:nvGrpSpPr>
            <p:grpSpPr>
              <a:xfrm>
                <a:off x="6485040" y="4062240"/>
                <a:ext cx="1434960" cy="701640"/>
                <a:chOff x="6485040" y="4062240"/>
                <a:chExt cx="1434960" cy="701640"/>
              </a:xfrm>
            </p:grpSpPr>
            <p:sp>
              <p:nvSpPr>
                <p:cNvPr id="282" name=""/>
                <p:cNvSpPr/>
                <p:nvPr/>
              </p:nvSpPr>
              <p:spPr>
                <a:xfrm>
                  <a:off x="6553080" y="406224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0,05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6485040" y="406224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4" name=""/>
              <p:cNvGrpSpPr/>
              <p:nvPr/>
            </p:nvGrpSpPr>
            <p:grpSpPr>
              <a:xfrm>
                <a:off x="1492200" y="4763880"/>
                <a:ext cx="1434960" cy="702000"/>
                <a:chOff x="1492200" y="4763880"/>
                <a:chExt cx="1434960" cy="702000"/>
              </a:xfrm>
            </p:grpSpPr>
            <p:sp>
              <p:nvSpPr>
                <p:cNvPr id="285" name=""/>
                <p:cNvSpPr/>
                <p:nvPr/>
              </p:nvSpPr>
              <p:spPr>
                <a:xfrm>
                  <a:off x="1560600" y="4763880"/>
                  <a:ext cx="1298520" cy="70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Pr(E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3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Symbol"/>
                      <a:ea typeface="Symbol"/>
                    </a:rPr>
                    <a:t>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 H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r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1492200" y="4763880"/>
                  <a:ext cx="1434960" cy="70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7" name=""/>
              <p:cNvGrpSpPr/>
              <p:nvPr/>
            </p:nvGrpSpPr>
            <p:grpSpPr>
              <a:xfrm>
                <a:off x="2927160" y="4763880"/>
                <a:ext cx="3557880" cy="702000"/>
                <a:chOff x="2927160" y="4763880"/>
                <a:chExt cx="3557880" cy="702000"/>
              </a:xfrm>
            </p:grpSpPr>
            <p:sp>
              <p:nvSpPr>
                <p:cNvPr id="288" name=""/>
                <p:cNvSpPr/>
                <p:nvPr/>
              </p:nvSpPr>
              <p:spPr>
                <a:xfrm>
                  <a:off x="2995560" y="4763880"/>
                  <a:ext cx="3421080" cy="70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Нет дождя, люди, зонтов нет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>
                  <a:off x="2927160" y="4763880"/>
                  <a:ext cx="3557880" cy="70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0" name=""/>
              <p:cNvGrpSpPr/>
              <p:nvPr/>
            </p:nvGrpSpPr>
            <p:grpSpPr>
              <a:xfrm>
                <a:off x="6485040" y="4763880"/>
                <a:ext cx="1434960" cy="702000"/>
                <a:chOff x="6485040" y="4763880"/>
                <a:chExt cx="1434960" cy="702000"/>
              </a:xfrm>
            </p:grpSpPr>
            <p:sp>
              <p:nvSpPr>
                <p:cNvPr id="291" name=""/>
                <p:cNvSpPr/>
                <p:nvPr/>
              </p:nvSpPr>
              <p:spPr>
                <a:xfrm>
                  <a:off x="6553080" y="4763880"/>
                  <a:ext cx="1298520" cy="70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0,75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6485040" y="4763880"/>
                  <a:ext cx="1434960" cy="70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3" name=""/>
              <p:cNvGrpSpPr/>
              <p:nvPr/>
            </p:nvGrpSpPr>
            <p:grpSpPr>
              <a:xfrm>
                <a:off x="1492200" y="5465880"/>
                <a:ext cx="1434960" cy="701640"/>
                <a:chOff x="1492200" y="5465880"/>
                <a:chExt cx="1434960" cy="701640"/>
              </a:xfrm>
            </p:grpSpPr>
            <p:sp>
              <p:nvSpPr>
                <p:cNvPr id="294" name=""/>
                <p:cNvSpPr/>
                <p:nvPr/>
              </p:nvSpPr>
              <p:spPr>
                <a:xfrm>
                  <a:off x="1560600" y="546588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Pr(E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3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Symbol"/>
                      <a:ea typeface="Symbol"/>
                    </a:rPr>
                    <a:t>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 -H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r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1492200" y="546588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6" name=""/>
              <p:cNvGrpSpPr/>
              <p:nvPr/>
            </p:nvGrpSpPr>
            <p:grpSpPr>
              <a:xfrm>
                <a:off x="2927160" y="5465880"/>
                <a:ext cx="3557880" cy="701640"/>
                <a:chOff x="2927160" y="5465880"/>
                <a:chExt cx="3557880" cy="701640"/>
              </a:xfrm>
            </p:grpSpPr>
            <p:sp>
              <p:nvSpPr>
                <p:cNvPr id="297" name=""/>
                <p:cNvSpPr/>
                <p:nvPr/>
              </p:nvSpPr>
              <p:spPr>
                <a:xfrm>
                  <a:off x="2995560" y="5465880"/>
                  <a:ext cx="342108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Нет дождя, пусто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2927160" y="5465880"/>
                  <a:ext cx="355788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9" name=""/>
              <p:cNvGrpSpPr/>
              <p:nvPr/>
            </p:nvGrpSpPr>
            <p:grpSpPr>
              <a:xfrm>
                <a:off x="6485040" y="5465880"/>
                <a:ext cx="1434960" cy="701640"/>
                <a:chOff x="6485040" y="5465880"/>
                <a:chExt cx="1434960" cy="701640"/>
              </a:xfrm>
            </p:grpSpPr>
            <p:sp>
              <p:nvSpPr>
                <p:cNvPr id="300" name=""/>
                <p:cNvSpPr/>
                <p:nvPr/>
              </p:nvSpPr>
              <p:spPr>
                <a:xfrm>
                  <a:off x="6553080" y="546588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0,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6485040" y="546588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02" name=""/>
            <p:cNvSpPr/>
            <p:nvPr/>
          </p:nvSpPr>
          <p:spPr>
            <a:xfrm>
              <a:off x="1487520" y="1251000"/>
              <a:ext cx="6437160" cy="492120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3" name=""/>
          <p:cNvSpPr/>
          <p:nvPr/>
        </p:nvSpPr>
        <p:spPr>
          <a:xfrm>
            <a:off x="3240" y="557064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80880" y="685800"/>
            <a:ext cx="495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БАЙЕСОВСКОЕ ПРАВИЛО (пример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РАСПОЗНАВАНИЕ ОБРАЗ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04920" y="685800"/>
            <a:ext cx="861048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240" y="428940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240" y="41673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465280" y="1295280"/>
            <a:ext cx="4797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Pr(E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,H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= Pr(E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* Pr(H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|E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 = Pr(H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* Pr(E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|H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066680" y="2133720"/>
            <a:ext cx="556272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Pr(H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|E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 = (Pr(H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* Pr(E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|H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)/ Pr(E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Pr(E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 = Pr(E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|H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* P(H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+ Pr(E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i 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| -H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* Pr(-H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1219320" y="3200400"/>
            <a:ext cx="6324480" cy="862920"/>
            <a:chOff x="1219320" y="3200400"/>
            <a:chExt cx="6324480" cy="862920"/>
          </a:xfrm>
        </p:grpSpPr>
        <p:sp>
          <p:nvSpPr>
            <p:cNvPr id="312" name=""/>
            <p:cNvSpPr/>
            <p:nvPr/>
          </p:nvSpPr>
          <p:spPr>
            <a:xfrm>
              <a:off x="1219320" y="3429000"/>
              <a:ext cx="13716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Pr(H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r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|E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) 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505320" y="3200400"/>
              <a:ext cx="32004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(Pr(H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r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)* Pr(E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|H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r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)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743200" y="3657600"/>
              <a:ext cx="48006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Pr(E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|H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r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)* P(H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r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)+ Pr(E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i 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| -H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r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) Pr(|-H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r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124080" y="3581280"/>
              <a:ext cx="335304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6" name=""/>
          <p:cNvGrpSpPr/>
          <p:nvPr/>
        </p:nvGrpSpPr>
        <p:grpSpPr>
          <a:xfrm>
            <a:off x="1143000" y="4114800"/>
            <a:ext cx="6553080" cy="2286000"/>
            <a:chOff x="1143000" y="4114800"/>
            <a:chExt cx="6553080" cy="2286000"/>
          </a:xfrm>
        </p:grpSpPr>
        <p:sp>
          <p:nvSpPr>
            <p:cNvPr id="317" name=""/>
            <p:cNvSpPr/>
            <p:nvPr/>
          </p:nvSpPr>
          <p:spPr>
            <a:xfrm>
              <a:off x="1143000" y="4114800"/>
              <a:ext cx="6553080" cy="22860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752480" y="4952880"/>
              <a:ext cx="15876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Pr(H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r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|E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) 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255840" y="4724280"/>
              <a:ext cx="37036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Pr(H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r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)* Pr(E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|H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r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200400" y="5181480"/>
              <a:ext cx="36576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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Pr(E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|H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r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)* P(H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r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3657600" y="5105520"/>
              <a:ext cx="266688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РАСПОЗНАВАНИЕ ОБРАЗ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04920" y="685800"/>
            <a:ext cx="861048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240" y="428940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240" y="41673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09480" y="91440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ФОРМАЛИЗАЦ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762120" y="1676520"/>
            <a:ext cx="3733560" cy="39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{</a:t>
            </a:r>
            <a:r>
              <a:rPr b="1" lang="ru-RU" sz="1600" spc="-1" strike="noStrike">
                <a:solidFill>
                  <a:srgbClr val="ff0066"/>
                </a:solidFill>
                <a:latin typeface="Symbol"/>
                <a:ea typeface="Symbol"/>
              </a:rPr>
              <a:t>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k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}- 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состояния (классы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{</a:t>
            </a:r>
            <a:r>
              <a:rPr b="1" lang="ru-RU" sz="1600" spc="-1" strike="noStrike">
                <a:solidFill>
                  <a:srgbClr val="ff0066"/>
                </a:solidFill>
                <a:latin typeface="Symbol"/>
                <a:ea typeface="Symbol"/>
              </a:rPr>
              <a:t>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}-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действ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Symbol"/>
                <a:ea typeface="Symbol"/>
              </a:rPr>
              <a:t>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(</a:t>
            </a:r>
            <a:r>
              <a:rPr b="1" lang="ru-RU" sz="1600" spc="-1" strike="noStrike">
                <a:solidFill>
                  <a:srgbClr val="ff0066"/>
                </a:solidFill>
                <a:latin typeface="Symbol"/>
                <a:ea typeface="Symbol"/>
              </a:rPr>
              <a:t>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i 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|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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k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-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потер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x = {x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r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}-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вектор признаков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p(x |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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k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-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условные распределен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p(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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k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- 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априорные вероятност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p(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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k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|x)= [p(x |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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k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*p(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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k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]/p(x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R(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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i 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|x) = 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</a:t>
            </a:r>
            <a:r>
              <a:rPr b="1" lang="ru-RU" sz="1600" spc="-1" strike="noStrike">
                <a:solidFill>
                  <a:srgbClr val="ff0066"/>
                </a:solidFill>
                <a:latin typeface="Symbol"/>
                <a:ea typeface="Symbol"/>
              </a:rPr>
              <a:t>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(</a:t>
            </a:r>
            <a:r>
              <a:rPr b="1" lang="ru-RU" sz="1600" spc="-1" strike="noStrike">
                <a:solidFill>
                  <a:srgbClr val="ff0066"/>
                </a:solidFill>
                <a:latin typeface="Symbol"/>
                <a:ea typeface="Symbol"/>
              </a:rPr>
              <a:t>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i 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|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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k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* p(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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k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|x) 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потер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минимизац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419720" y="1523880"/>
            <a:ext cx="4190760" cy="41911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648320" y="1752480"/>
            <a:ext cx="3733560" cy="39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пример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R(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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i 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|x) = 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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* p(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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|x)+ 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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* p(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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|x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R(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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 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|x) = 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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* p(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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|x)+ 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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* p(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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|x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Выбрать </a:t>
            </a:r>
            <a:r>
              <a:rPr b="1" lang="ru-RU" sz="1600" spc="-1" strike="noStrike">
                <a:solidFill>
                  <a:srgbClr val="ff0066"/>
                </a:solidFill>
                <a:latin typeface="Symbol"/>
                <a:ea typeface="Symbol"/>
              </a:rPr>
              <a:t>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 если 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R(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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i 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|x) &lt; R(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</a:t>
            </a:r>
            <a:r>
              <a:rPr b="1" lang="ru-RU" sz="1600" spc="-1" strike="noStrike" baseline="-25000">
                <a:solidFill>
                  <a:srgbClr val="ff0066"/>
                </a:solidFill>
                <a:latin typeface="Times New Roman"/>
              </a:rPr>
              <a:t>2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|x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(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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- 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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* p(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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|x)&gt; (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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- 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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* p(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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|x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(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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- 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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* p(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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* p(x | 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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 &gt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(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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- 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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* p(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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* p(x | 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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p(x | 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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          (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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- 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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* p(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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p(x | 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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          (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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- 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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* p(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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724280" y="47242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638680" y="457200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flipH="1">
            <a:off x="5638680" y="4724280"/>
            <a:ext cx="15264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019920" y="47242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РАСПОЗНАВАНИЕ ОБРАЗ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04920" y="685800"/>
            <a:ext cx="861048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240" y="428940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240" y="41673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8" name=""/>
          <p:cNvGrpSpPr/>
          <p:nvPr/>
        </p:nvGrpSpPr>
        <p:grpSpPr>
          <a:xfrm>
            <a:off x="1371600" y="914400"/>
            <a:ext cx="6400800" cy="3657600"/>
            <a:chOff x="1371600" y="914400"/>
            <a:chExt cx="6400800" cy="3657600"/>
          </a:xfrm>
        </p:grpSpPr>
        <p:sp>
          <p:nvSpPr>
            <p:cNvPr id="339" name=""/>
            <p:cNvSpPr/>
            <p:nvPr/>
          </p:nvSpPr>
          <p:spPr>
            <a:xfrm flipV="1">
              <a:off x="1600200" y="914400"/>
              <a:ext cx="0" cy="3596400"/>
            </a:xfrm>
            <a:prstGeom prst="line">
              <a:avLst/>
            </a:prstGeom>
            <a:ln w="2844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371600" y="4327920"/>
              <a:ext cx="6400800" cy="0"/>
            </a:xfrm>
            <a:prstGeom prst="line">
              <a:avLst/>
            </a:prstGeom>
            <a:ln w="2844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3146400" y="1140480"/>
              <a:ext cx="1095480" cy="852120"/>
            </a:xfrm>
            <a:custGeom>
              <a:avLst/>
              <a:gdLst/>
              <a:ahLst/>
              <a:rect l="l" t="t" r="r" b="b"/>
              <a:pathLst>
                <a:path w="690" h="671">
                  <a:moveTo>
                    <a:pt x="136" y="0"/>
                  </a:moveTo>
                  <a:cubicBezTo>
                    <a:pt x="31" y="52"/>
                    <a:pt x="32" y="199"/>
                    <a:pt x="0" y="300"/>
                  </a:cubicBezTo>
                  <a:cubicBezTo>
                    <a:pt x="3" y="354"/>
                    <a:pt x="1" y="409"/>
                    <a:pt x="9" y="463"/>
                  </a:cubicBezTo>
                  <a:cubicBezTo>
                    <a:pt x="41" y="671"/>
                    <a:pt x="428" y="595"/>
                    <a:pt x="527" y="600"/>
                  </a:cubicBezTo>
                  <a:cubicBezTo>
                    <a:pt x="569" y="597"/>
                    <a:pt x="614" y="603"/>
                    <a:pt x="654" y="590"/>
                  </a:cubicBezTo>
                  <a:cubicBezTo>
                    <a:pt x="671" y="585"/>
                    <a:pt x="683" y="493"/>
                    <a:pt x="690" y="472"/>
                  </a:cubicBezTo>
                  <a:cubicBezTo>
                    <a:pt x="687" y="411"/>
                    <a:pt x="688" y="350"/>
                    <a:pt x="681" y="290"/>
                  </a:cubicBezTo>
                  <a:cubicBezTo>
                    <a:pt x="672" y="208"/>
                    <a:pt x="610" y="198"/>
                    <a:pt x="545" y="181"/>
                  </a:cubicBezTo>
                  <a:cubicBezTo>
                    <a:pt x="474" y="162"/>
                    <a:pt x="434" y="139"/>
                    <a:pt x="372" y="109"/>
                  </a:cubicBezTo>
                  <a:cubicBezTo>
                    <a:pt x="344" y="80"/>
                    <a:pt x="310" y="48"/>
                    <a:pt x="272" y="36"/>
                  </a:cubicBezTo>
                  <a:cubicBezTo>
                    <a:pt x="224" y="4"/>
                    <a:pt x="200" y="7"/>
                    <a:pt x="136" y="0"/>
                  </a:cubicBezTo>
                  <a:close/>
                </a:path>
              </a:pathLst>
            </a:custGeom>
            <a:solidFill>
              <a:srgbClr val="ccffff"/>
            </a:solidFill>
            <a:ln w="28440">
              <a:solidFill>
                <a:srgbClr val="cc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1913040" y="2991960"/>
              <a:ext cx="1287360" cy="848160"/>
            </a:xfrm>
            <a:custGeom>
              <a:avLst/>
              <a:gdLst/>
              <a:ahLst/>
              <a:rect l="l" t="t" r="r" b="b"/>
              <a:pathLst>
                <a:path w="1008" h="954">
                  <a:moveTo>
                    <a:pt x="686" y="57"/>
                  </a:moveTo>
                  <a:cubicBezTo>
                    <a:pt x="508" y="0"/>
                    <a:pt x="622" y="33"/>
                    <a:pt x="177" y="57"/>
                  </a:cubicBezTo>
                  <a:cubicBezTo>
                    <a:pt x="159" y="58"/>
                    <a:pt x="148" y="78"/>
                    <a:pt x="131" y="84"/>
                  </a:cubicBezTo>
                  <a:cubicBezTo>
                    <a:pt x="82" y="133"/>
                    <a:pt x="120" y="85"/>
                    <a:pt x="95" y="166"/>
                  </a:cubicBezTo>
                  <a:cubicBezTo>
                    <a:pt x="88" y="188"/>
                    <a:pt x="76" y="208"/>
                    <a:pt x="68" y="230"/>
                  </a:cubicBezTo>
                  <a:cubicBezTo>
                    <a:pt x="61" y="248"/>
                    <a:pt x="49" y="284"/>
                    <a:pt x="49" y="284"/>
                  </a:cubicBezTo>
                  <a:cubicBezTo>
                    <a:pt x="46" y="354"/>
                    <a:pt x="47" y="424"/>
                    <a:pt x="40" y="493"/>
                  </a:cubicBezTo>
                  <a:cubicBezTo>
                    <a:pt x="36" y="528"/>
                    <a:pt x="13" y="575"/>
                    <a:pt x="4" y="611"/>
                  </a:cubicBezTo>
                  <a:cubicBezTo>
                    <a:pt x="7" y="660"/>
                    <a:pt x="0" y="710"/>
                    <a:pt x="13" y="757"/>
                  </a:cubicBezTo>
                  <a:cubicBezTo>
                    <a:pt x="19" y="778"/>
                    <a:pt x="44" y="787"/>
                    <a:pt x="59" y="802"/>
                  </a:cubicBezTo>
                  <a:cubicBezTo>
                    <a:pt x="108" y="850"/>
                    <a:pt x="90" y="853"/>
                    <a:pt x="168" y="866"/>
                  </a:cubicBezTo>
                  <a:cubicBezTo>
                    <a:pt x="206" y="879"/>
                    <a:pt x="228" y="901"/>
                    <a:pt x="268" y="911"/>
                  </a:cubicBezTo>
                  <a:cubicBezTo>
                    <a:pt x="329" y="954"/>
                    <a:pt x="360" y="942"/>
                    <a:pt x="449" y="948"/>
                  </a:cubicBezTo>
                  <a:cubicBezTo>
                    <a:pt x="549" y="945"/>
                    <a:pt x="649" y="947"/>
                    <a:pt x="749" y="939"/>
                  </a:cubicBezTo>
                  <a:cubicBezTo>
                    <a:pt x="788" y="936"/>
                    <a:pt x="849" y="875"/>
                    <a:pt x="849" y="875"/>
                  </a:cubicBezTo>
                  <a:cubicBezTo>
                    <a:pt x="858" y="854"/>
                    <a:pt x="863" y="829"/>
                    <a:pt x="877" y="811"/>
                  </a:cubicBezTo>
                  <a:cubicBezTo>
                    <a:pt x="885" y="800"/>
                    <a:pt x="903" y="802"/>
                    <a:pt x="913" y="793"/>
                  </a:cubicBezTo>
                  <a:cubicBezTo>
                    <a:pt x="921" y="786"/>
                    <a:pt x="925" y="775"/>
                    <a:pt x="931" y="766"/>
                  </a:cubicBezTo>
                  <a:cubicBezTo>
                    <a:pt x="934" y="748"/>
                    <a:pt x="933" y="728"/>
                    <a:pt x="940" y="711"/>
                  </a:cubicBezTo>
                  <a:cubicBezTo>
                    <a:pt x="945" y="699"/>
                    <a:pt x="960" y="694"/>
                    <a:pt x="967" y="684"/>
                  </a:cubicBezTo>
                  <a:cubicBezTo>
                    <a:pt x="972" y="676"/>
                    <a:pt x="974" y="666"/>
                    <a:pt x="977" y="657"/>
                  </a:cubicBezTo>
                  <a:cubicBezTo>
                    <a:pt x="983" y="639"/>
                    <a:pt x="995" y="602"/>
                    <a:pt x="995" y="602"/>
                  </a:cubicBezTo>
                  <a:cubicBezTo>
                    <a:pt x="990" y="487"/>
                    <a:pt x="1008" y="226"/>
                    <a:pt x="849" y="175"/>
                  </a:cubicBezTo>
                  <a:cubicBezTo>
                    <a:pt x="823" y="135"/>
                    <a:pt x="812" y="149"/>
                    <a:pt x="777" y="121"/>
                  </a:cubicBezTo>
                  <a:cubicBezTo>
                    <a:pt x="762" y="109"/>
                    <a:pt x="757" y="85"/>
                    <a:pt x="740" y="75"/>
                  </a:cubicBezTo>
                  <a:cubicBezTo>
                    <a:pt x="724" y="65"/>
                    <a:pt x="704" y="63"/>
                    <a:pt x="686" y="57"/>
                  </a:cubicBezTo>
                  <a:close/>
                </a:path>
              </a:pathLst>
            </a:custGeom>
            <a:solidFill>
              <a:srgbClr val="ccffff"/>
            </a:solidFill>
            <a:ln w="28440">
              <a:solidFill>
                <a:srgbClr val="cc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479920" y="1828800"/>
              <a:ext cx="1225800" cy="951120"/>
            </a:xfrm>
            <a:custGeom>
              <a:avLst/>
              <a:gdLst/>
              <a:ahLst/>
              <a:rect l="l" t="t" r="r" b="b"/>
              <a:pathLst>
                <a:path w="1059" h="1085">
                  <a:moveTo>
                    <a:pt x="537" y="0"/>
                  </a:moveTo>
                  <a:cubicBezTo>
                    <a:pt x="459" y="19"/>
                    <a:pt x="389" y="60"/>
                    <a:pt x="310" y="73"/>
                  </a:cubicBezTo>
                  <a:cubicBezTo>
                    <a:pt x="195" y="157"/>
                    <a:pt x="343" y="56"/>
                    <a:pt x="237" y="109"/>
                  </a:cubicBezTo>
                  <a:cubicBezTo>
                    <a:pt x="224" y="116"/>
                    <a:pt x="214" y="128"/>
                    <a:pt x="201" y="136"/>
                  </a:cubicBezTo>
                  <a:cubicBezTo>
                    <a:pt x="35" y="234"/>
                    <a:pt x="184" y="136"/>
                    <a:pt x="101" y="191"/>
                  </a:cubicBezTo>
                  <a:cubicBezTo>
                    <a:pt x="72" y="234"/>
                    <a:pt x="71" y="287"/>
                    <a:pt x="55" y="336"/>
                  </a:cubicBezTo>
                  <a:cubicBezTo>
                    <a:pt x="40" y="456"/>
                    <a:pt x="0" y="637"/>
                    <a:pt x="55" y="746"/>
                  </a:cubicBezTo>
                  <a:cubicBezTo>
                    <a:pt x="66" y="768"/>
                    <a:pt x="103" y="802"/>
                    <a:pt x="119" y="818"/>
                  </a:cubicBezTo>
                  <a:cubicBezTo>
                    <a:pt x="128" y="836"/>
                    <a:pt x="134" y="857"/>
                    <a:pt x="146" y="873"/>
                  </a:cubicBezTo>
                  <a:cubicBezTo>
                    <a:pt x="162" y="894"/>
                    <a:pt x="197" y="907"/>
                    <a:pt x="219" y="918"/>
                  </a:cubicBezTo>
                  <a:cubicBezTo>
                    <a:pt x="288" y="953"/>
                    <a:pt x="266" y="974"/>
                    <a:pt x="373" y="1009"/>
                  </a:cubicBezTo>
                  <a:cubicBezTo>
                    <a:pt x="408" y="1021"/>
                    <a:pt x="483" y="1027"/>
                    <a:pt x="483" y="1027"/>
                  </a:cubicBezTo>
                  <a:cubicBezTo>
                    <a:pt x="565" y="1085"/>
                    <a:pt x="596" y="1049"/>
                    <a:pt x="728" y="1036"/>
                  </a:cubicBezTo>
                  <a:cubicBezTo>
                    <a:pt x="853" y="994"/>
                    <a:pt x="728" y="1045"/>
                    <a:pt x="810" y="991"/>
                  </a:cubicBezTo>
                  <a:cubicBezTo>
                    <a:pt x="829" y="978"/>
                    <a:pt x="879" y="956"/>
                    <a:pt x="901" y="946"/>
                  </a:cubicBezTo>
                  <a:cubicBezTo>
                    <a:pt x="924" y="921"/>
                    <a:pt x="948" y="916"/>
                    <a:pt x="973" y="891"/>
                  </a:cubicBezTo>
                  <a:cubicBezTo>
                    <a:pt x="982" y="870"/>
                    <a:pt x="994" y="849"/>
                    <a:pt x="1001" y="827"/>
                  </a:cubicBezTo>
                  <a:cubicBezTo>
                    <a:pt x="1012" y="791"/>
                    <a:pt x="1028" y="718"/>
                    <a:pt x="1028" y="718"/>
                  </a:cubicBezTo>
                  <a:cubicBezTo>
                    <a:pt x="1024" y="609"/>
                    <a:pt x="1059" y="274"/>
                    <a:pt x="892" y="218"/>
                  </a:cubicBezTo>
                  <a:cubicBezTo>
                    <a:pt x="857" y="185"/>
                    <a:pt x="830" y="181"/>
                    <a:pt x="782" y="173"/>
                  </a:cubicBezTo>
                  <a:cubicBezTo>
                    <a:pt x="773" y="164"/>
                    <a:pt x="766" y="152"/>
                    <a:pt x="755" y="146"/>
                  </a:cubicBezTo>
                  <a:cubicBezTo>
                    <a:pt x="738" y="137"/>
                    <a:pt x="701" y="127"/>
                    <a:pt x="701" y="127"/>
                  </a:cubicBezTo>
                  <a:cubicBezTo>
                    <a:pt x="677" y="104"/>
                    <a:pt x="665" y="83"/>
                    <a:pt x="637" y="64"/>
                  </a:cubicBezTo>
                  <a:cubicBezTo>
                    <a:pt x="634" y="55"/>
                    <a:pt x="636" y="42"/>
                    <a:pt x="628" y="36"/>
                  </a:cubicBezTo>
                  <a:cubicBezTo>
                    <a:pt x="600" y="16"/>
                    <a:pt x="562" y="25"/>
                    <a:pt x="537" y="0"/>
                  </a:cubicBezTo>
                  <a:close/>
                </a:path>
              </a:pathLst>
            </a:custGeom>
            <a:solidFill>
              <a:srgbClr val="ccffff"/>
            </a:solidFill>
            <a:ln w="28440">
              <a:solidFill>
                <a:srgbClr val="cc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1905120" y="1706400"/>
              <a:ext cx="3657600" cy="249948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flipH="1">
              <a:off x="3200400" y="1097280"/>
              <a:ext cx="2819520" cy="347472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1676520" y="2620800"/>
              <a:ext cx="5715000" cy="36576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3581280" y="1645920"/>
              <a:ext cx="152640" cy="1216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3657600" y="1828800"/>
              <a:ext cx="0" cy="2560320"/>
            </a:xfrm>
            <a:prstGeom prst="line">
              <a:avLst/>
            </a:prstGeom>
            <a:ln w="38160">
              <a:solidFill>
                <a:srgbClr val="3333cc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581280" y="2803680"/>
              <a:ext cx="152640" cy="12204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581280" y="3962160"/>
              <a:ext cx="152640" cy="12168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6172200" y="990720"/>
            <a:ext cx="23623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W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x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+ W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x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+ W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3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=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781680" y="2514600"/>
            <a:ext cx="2133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W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x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+ W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x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+ W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3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=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638680" y="3733920"/>
            <a:ext cx="23623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W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3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x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+ W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3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x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+ W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33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=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РАСПОЗНАВАНИЕ ОБРАЗ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04920" y="685800"/>
            <a:ext cx="861048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240" y="428940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240" y="41673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 flipV="1">
            <a:off x="2895480" y="1447560"/>
            <a:ext cx="0" cy="3733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1447920" y="5029200"/>
            <a:ext cx="167616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590920" y="5181480"/>
            <a:ext cx="5486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363840" y="1650960"/>
            <a:ext cx="1962360" cy="1333440"/>
          </a:xfrm>
          <a:custGeom>
            <a:avLst/>
            <a:gdLst/>
            <a:ahLst/>
            <a:rect l="l" t="t" r="r" b="b"/>
            <a:pathLst>
              <a:path w="1236" h="840">
                <a:moveTo>
                  <a:pt x="468" y="2"/>
                </a:moveTo>
                <a:cubicBezTo>
                  <a:pt x="435" y="8"/>
                  <a:pt x="395" y="0"/>
                  <a:pt x="368" y="21"/>
                </a:cubicBezTo>
                <a:cubicBezTo>
                  <a:pt x="313" y="64"/>
                  <a:pt x="245" y="93"/>
                  <a:pt x="203" y="149"/>
                </a:cubicBezTo>
                <a:cubicBezTo>
                  <a:pt x="127" y="249"/>
                  <a:pt x="170" y="200"/>
                  <a:pt x="75" y="295"/>
                </a:cubicBezTo>
                <a:cubicBezTo>
                  <a:pt x="61" y="381"/>
                  <a:pt x="39" y="487"/>
                  <a:pt x="11" y="569"/>
                </a:cubicBezTo>
                <a:cubicBezTo>
                  <a:pt x="14" y="600"/>
                  <a:pt x="0" y="637"/>
                  <a:pt x="20" y="661"/>
                </a:cubicBezTo>
                <a:cubicBezTo>
                  <a:pt x="36" y="680"/>
                  <a:pt x="71" y="662"/>
                  <a:pt x="94" y="670"/>
                </a:cubicBezTo>
                <a:cubicBezTo>
                  <a:pt x="342" y="757"/>
                  <a:pt x="36" y="717"/>
                  <a:pt x="386" y="734"/>
                </a:cubicBezTo>
                <a:cubicBezTo>
                  <a:pt x="632" y="840"/>
                  <a:pt x="619" y="796"/>
                  <a:pt x="980" y="779"/>
                </a:cubicBezTo>
                <a:cubicBezTo>
                  <a:pt x="1027" y="764"/>
                  <a:pt x="1040" y="716"/>
                  <a:pt x="1081" y="688"/>
                </a:cubicBezTo>
                <a:cubicBezTo>
                  <a:pt x="1088" y="645"/>
                  <a:pt x="1114" y="534"/>
                  <a:pt x="1154" y="505"/>
                </a:cubicBezTo>
                <a:cubicBezTo>
                  <a:pt x="1164" y="498"/>
                  <a:pt x="1179" y="499"/>
                  <a:pt x="1191" y="496"/>
                </a:cubicBezTo>
                <a:cubicBezTo>
                  <a:pt x="1200" y="441"/>
                  <a:pt x="1223" y="395"/>
                  <a:pt x="1236" y="341"/>
                </a:cubicBezTo>
                <a:cubicBezTo>
                  <a:pt x="1197" y="332"/>
                  <a:pt x="1156" y="333"/>
                  <a:pt x="1118" y="322"/>
                </a:cubicBezTo>
                <a:cubicBezTo>
                  <a:pt x="1110" y="320"/>
                  <a:pt x="1108" y="306"/>
                  <a:pt x="1099" y="304"/>
                </a:cubicBezTo>
                <a:cubicBezTo>
                  <a:pt x="1051" y="294"/>
                  <a:pt x="953" y="286"/>
                  <a:pt x="953" y="286"/>
                </a:cubicBezTo>
                <a:cubicBezTo>
                  <a:pt x="926" y="277"/>
                  <a:pt x="894" y="275"/>
                  <a:pt x="871" y="258"/>
                </a:cubicBezTo>
                <a:cubicBezTo>
                  <a:pt x="783" y="192"/>
                  <a:pt x="828" y="208"/>
                  <a:pt x="743" y="194"/>
                </a:cubicBezTo>
                <a:cubicBezTo>
                  <a:pt x="724" y="136"/>
                  <a:pt x="735" y="101"/>
                  <a:pt x="670" y="85"/>
                </a:cubicBezTo>
                <a:cubicBezTo>
                  <a:pt x="622" y="37"/>
                  <a:pt x="533" y="24"/>
                  <a:pt x="468" y="2"/>
                </a:cubicBez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841320" y="3409920"/>
            <a:ext cx="1457280" cy="1379520"/>
          </a:xfrm>
          <a:custGeom>
            <a:avLst/>
            <a:gdLst/>
            <a:ahLst/>
            <a:rect l="l" t="t" r="r" b="b"/>
            <a:pathLst>
              <a:path w="918" h="869">
                <a:moveTo>
                  <a:pt x="549" y="19"/>
                </a:moveTo>
                <a:cubicBezTo>
                  <a:pt x="379" y="67"/>
                  <a:pt x="534" y="0"/>
                  <a:pt x="494" y="74"/>
                </a:cubicBezTo>
                <a:cubicBezTo>
                  <a:pt x="477" y="106"/>
                  <a:pt x="448" y="131"/>
                  <a:pt x="421" y="156"/>
                </a:cubicBezTo>
                <a:cubicBezTo>
                  <a:pt x="399" y="177"/>
                  <a:pt x="371" y="191"/>
                  <a:pt x="348" y="211"/>
                </a:cubicBezTo>
                <a:cubicBezTo>
                  <a:pt x="328" y="228"/>
                  <a:pt x="316" y="253"/>
                  <a:pt x="293" y="266"/>
                </a:cubicBezTo>
                <a:cubicBezTo>
                  <a:pt x="271" y="278"/>
                  <a:pt x="244" y="276"/>
                  <a:pt x="220" y="284"/>
                </a:cubicBezTo>
                <a:cubicBezTo>
                  <a:pt x="180" y="297"/>
                  <a:pt x="141" y="316"/>
                  <a:pt x="101" y="330"/>
                </a:cubicBezTo>
                <a:cubicBezTo>
                  <a:pt x="77" y="354"/>
                  <a:pt x="47" y="374"/>
                  <a:pt x="28" y="403"/>
                </a:cubicBezTo>
                <a:cubicBezTo>
                  <a:pt x="5" y="438"/>
                  <a:pt x="8" y="555"/>
                  <a:pt x="0" y="604"/>
                </a:cubicBezTo>
                <a:cubicBezTo>
                  <a:pt x="31" y="625"/>
                  <a:pt x="58" y="653"/>
                  <a:pt x="92" y="668"/>
                </a:cubicBezTo>
                <a:cubicBezTo>
                  <a:pt x="114" y="678"/>
                  <a:pt x="143" y="666"/>
                  <a:pt x="165" y="677"/>
                </a:cubicBezTo>
                <a:cubicBezTo>
                  <a:pt x="311" y="750"/>
                  <a:pt x="138" y="709"/>
                  <a:pt x="256" y="796"/>
                </a:cubicBezTo>
                <a:cubicBezTo>
                  <a:pt x="305" y="832"/>
                  <a:pt x="426" y="858"/>
                  <a:pt x="494" y="869"/>
                </a:cubicBezTo>
                <a:cubicBezTo>
                  <a:pt x="500" y="851"/>
                  <a:pt x="510" y="833"/>
                  <a:pt x="512" y="814"/>
                </a:cubicBezTo>
                <a:cubicBezTo>
                  <a:pt x="513" y="805"/>
                  <a:pt x="495" y="792"/>
                  <a:pt x="503" y="787"/>
                </a:cubicBezTo>
                <a:cubicBezTo>
                  <a:pt x="521" y="775"/>
                  <a:pt x="545" y="779"/>
                  <a:pt x="567" y="778"/>
                </a:cubicBezTo>
                <a:cubicBezTo>
                  <a:pt x="665" y="773"/>
                  <a:pt x="762" y="772"/>
                  <a:pt x="860" y="769"/>
                </a:cubicBezTo>
                <a:cubicBezTo>
                  <a:pt x="890" y="722"/>
                  <a:pt x="905" y="677"/>
                  <a:pt x="915" y="622"/>
                </a:cubicBezTo>
                <a:cubicBezTo>
                  <a:pt x="912" y="531"/>
                  <a:pt x="916" y="439"/>
                  <a:pt x="905" y="348"/>
                </a:cubicBezTo>
                <a:cubicBezTo>
                  <a:pt x="904" y="337"/>
                  <a:pt x="885" y="339"/>
                  <a:pt x="878" y="330"/>
                </a:cubicBezTo>
                <a:cubicBezTo>
                  <a:pt x="830" y="268"/>
                  <a:pt x="918" y="333"/>
                  <a:pt x="841" y="284"/>
                </a:cubicBezTo>
                <a:cubicBezTo>
                  <a:pt x="832" y="229"/>
                  <a:pt x="806" y="173"/>
                  <a:pt x="768" y="129"/>
                </a:cubicBezTo>
                <a:cubicBezTo>
                  <a:pt x="762" y="122"/>
                  <a:pt x="749" y="124"/>
                  <a:pt x="741" y="119"/>
                </a:cubicBezTo>
                <a:cubicBezTo>
                  <a:pt x="716" y="103"/>
                  <a:pt x="692" y="83"/>
                  <a:pt x="668" y="65"/>
                </a:cubicBezTo>
                <a:cubicBezTo>
                  <a:pt x="664" y="62"/>
                  <a:pt x="551" y="20"/>
                  <a:pt x="549" y="19"/>
                </a:cubicBez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18240" y="3672000"/>
            <a:ext cx="1322280" cy="1263600"/>
          </a:xfrm>
          <a:custGeom>
            <a:avLst/>
            <a:gdLst/>
            <a:ahLst/>
            <a:rect l="l" t="t" r="r" b="b"/>
            <a:pathLst>
              <a:path w="833" h="796">
                <a:moveTo>
                  <a:pt x="46" y="9"/>
                </a:moveTo>
                <a:cubicBezTo>
                  <a:pt x="54" y="82"/>
                  <a:pt x="43" y="148"/>
                  <a:pt x="55" y="220"/>
                </a:cubicBezTo>
                <a:cubicBezTo>
                  <a:pt x="49" y="360"/>
                  <a:pt x="14" y="502"/>
                  <a:pt x="37" y="640"/>
                </a:cubicBezTo>
                <a:cubicBezTo>
                  <a:pt x="43" y="677"/>
                  <a:pt x="55" y="744"/>
                  <a:pt x="55" y="777"/>
                </a:cubicBezTo>
                <a:cubicBezTo>
                  <a:pt x="55" y="786"/>
                  <a:pt x="37" y="747"/>
                  <a:pt x="46" y="750"/>
                </a:cubicBezTo>
                <a:cubicBezTo>
                  <a:pt x="74" y="758"/>
                  <a:pt x="95" y="781"/>
                  <a:pt x="119" y="796"/>
                </a:cubicBezTo>
                <a:cubicBezTo>
                  <a:pt x="285" y="785"/>
                  <a:pt x="441" y="759"/>
                  <a:pt x="604" y="732"/>
                </a:cubicBezTo>
                <a:cubicBezTo>
                  <a:pt x="635" y="700"/>
                  <a:pt x="732" y="695"/>
                  <a:pt x="732" y="695"/>
                </a:cubicBezTo>
                <a:cubicBezTo>
                  <a:pt x="777" y="672"/>
                  <a:pt x="771" y="652"/>
                  <a:pt x="814" y="668"/>
                </a:cubicBezTo>
                <a:cubicBezTo>
                  <a:pt x="833" y="549"/>
                  <a:pt x="800" y="411"/>
                  <a:pt x="787" y="293"/>
                </a:cubicBezTo>
                <a:cubicBezTo>
                  <a:pt x="784" y="226"/>
                  <a:pt x="786" y="159"/>
                  <a:pt x="778" y="92"/>
                </a:cubicBezTo>
                <a:cubicBezTo>
                  <a:pt x="772" y="45"/>
                  <a:pt x="700" y="57"/>
                  <a:pt x="677" y="55"/>
                </a:cubicBezTo>
                <a:cubicBezTo>
                  <a:pt x="533" y="46"/>
                  <a:pt x="304" y="41"/>
                  <a:pt x="174" y="37"/>
                </a:cubicBezTo>
                <a:cubicBezTo>
                  <a:pt x="130" y="24"/>
                  <a:pt x="65" y="0"/>
                  <a:pt x="19" y="9"/>
                </a:cubicBezTo>
                <a:cubicBezTo>
                  <a:pt x="9" y="11"/>
                  <a:pt x="0" y="37"/>
                  <a:pt x="10" y="37"/>
                </a:cubicBezTo>
                <a:cubicBezTo>
                  <a:pt x="25" y="37"/>
                  <a:pt x="34" y="18"/>
                  <a:pt x="46" y="9"/>
                </a:cubicBez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1219320" y="3886200"/>
            <a:ext cx="533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105520" y="4114800"/>
            <a:ext cx="83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962520" y="2057400"/>
            <a:ext cx="533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334120" y="251460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419720" y="2362320"/>
            <a:ext cx="914400" cy="228600"/>
          </a:xfrm>
          <a:prstGeom prst="line">
            <a:avLst/>
          </a:prstGeom>
          <a:ln w="28440">
            <a:solidFill>
              <a:srgbClr val="000000"/>
            </a:solidFill>
            <a:prstDash val="lgDash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410080" y="2666880"/>
            <a:ext cx="0" cy="1600200"/>
          </a:xfrm>
          <a:prstGeom prst="line">
            <a:avLst/>
          </a:prstGeom>
          <a:ln w="28440">
            <a:solidFill>
              <a:srgbClr val="000000"/>
            </a:solidFill>
            <a:prstDash val="lgDash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5791320" y="2286000"/>
            <a:ext cx="2895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D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=sqrt((x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-x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</a:t>
            </a:r>
            <a:r>
              <a:rPr b="1" lang="en-US" sz="1600" spc="-1" strike="noStrike" baseline="30000">
                <a:solidFill>
                  <a:srgbClr val="ff0066"/>
                </a:solidFill>
                <a:latin typeface="Times New Roman"/>
              </a:rPr>
              <a:t>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+(y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-y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</a:t>
            </a:r>
            <a:r>
              <a:rPr b="1" lang="en-US" sz="1600" spc="-1" strike="noStrike" baseline="30000">
                <a:solidFill>
                  <a:srgbClr val="ff0066"/>
                </a:solidFill>
                <a:latin typeface="Times New Roman"/>
              </a:rPr>
              <a:t>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8T17:23:07Z</dcterms:created>
  <dc:creator>Петр Соснин</dc:creator>
  <dc:description/>
  <dc:language>en-US</dc:language>
  <cp:lastModifiedBy>Peter Sosnin</cp:lastModifiedBy>
  <dcterms:modified xsi:type="dcterms:W3CDTF">2006-05-04T15:11:01Z</dcterms:modified>
  <cp:revision>12</cp:revision>
  <dc:subject/>
  <dc:title>РАСПОЗНАВАНИЕ ОБРАЗОВ</dc:title>
</cp:coreProperties>
</file>