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B1A-9A72-4FDD-8BE1-05CEE752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D16-B3FD-45B3-BE64-9833E987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4F8B-2F87-4440-8506-B8A9F1AA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590-F645-45D7-97A2-3FD29DEE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472-C6A6-4F98-8544-99640723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F6D5-FB57-4235-B794-A5B02F29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C74-974B-4B8D-83DD-6078B376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CC9-40F4-4961-9840-D29B4335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190-D0F4-4496-8FD6-9668D016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98DC-E9AD-4B06-B833-8FF76696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F5A-409B-4B87-BDDC-53D93804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407C-9F3E-452D-AE9B-404E91E3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338D-98D8-480D-B329-A8B8338E99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43434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{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= [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3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Валерий Г. Костин</cp:lastModifiedBy>
  <dcterms:modified xsi:type="dcterms:W3CDTF">2002-12-12T13:43:15Z</dcterms:modified>
  <cp:revision>9</cp:revision>
  <dc:subject/>
  <dc:title>РАСПОЗНАВАНИЕ ОБРАЗОВ</dc:title>
</cp:coreProperties>
</file>